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1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4504-B1C3-4062-A1F3-3C989E8A87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BCD2-420D-489A-ADAF-A792F5025522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AS TRNASFERENCIAS TEM FPM, ICMS, E DEMAIS TRANSFERENCIAS – NÃO QUER DIZER PROPRIO OU VINCUL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DE1-AB2E-42C7-891F-BCF762C076D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28D7-1194-4624-B251-9E3269E47BF3}" type="slidenum">
              <a:rPr b="0" lang="pt-B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A9B9-BE42-4C7C-B2CC-56240CCE497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9629-2903-4D2B-9C5F-DEABD3F9B4E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ço Reservado para Número de Slide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A86-7321-4D09-BD9B-4E22917F8340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D26-ECA3-4B6E-8FA6-123672B5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731-8D8C-4B02-8902-8D540DDC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A23-D6AB-41DD-BE28-47448DFF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30E-CAC4-4FE8-A74B-5CE640D7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CA6-0FCE-407F-8BEF-67BD699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9170-50E6-42F3-AA96-C7E85A73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E0E-5856-48BA-BFC9-D49C4770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CC5-0863-49AB-858D-95221F4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62E-1ACC-4722-9BA4-5C0B5C0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BB0-276C-41D4-BD5B-9B784B84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50C-5E70-4CE0-8276-B88219E32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0EA5-7B9A-4787-9D4B-BB9AAD02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639E-48D8-4838-88DE-A0178E06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5B10-F543-433B-AC5F-824EC3DC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ED2D-DA51-48BD-9E8A-77E46374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37C9-FA77-420B-B755-FDEBDE37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88F6-2D17-45AE-96EE-BB5D8D15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69EB-2926-4E9D-9519-AA8B2AE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70EA-B7C1-4141-9691-7E02B77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22C6-3D02-41C2-8C4C-73BD37D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2927-D351-4F21-8BDB-5B342668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D40E-C058-4BA7-B8A1-630E938B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4707-3BF2-4CF2-936F-38BC5C49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AF8B-B1A5-4096-8712-299199F2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EFCBB-146A-42C3-A7BF-4D25598B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A3F23-8BFB-4EE3-91C6-B3F7DA2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9767-1009-4771-983C-21394943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1D463-6FAD-4F15-BDDF-5C46564F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0D9F-BA2E-4D73-A9A9-01972996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C5EB-5C24-413A-8BEB-3BE210D5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3CCC-2360-484F-9436-178819E9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BF57-FEDE-461F-8149-36D16D9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F5D9-0FF0-4F45-8401-5267B2C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98E3-B1DB-45FC-8433-24A52F87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98DA6-582F-4EF0-AEC5-C6A9691B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C119B-8010-4B97-A07E-42A9656D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F950-B966-45B8-8B8F-A0C056EB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FE2C-6F7E-4D95-B2DD-535510F6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FB8E7-1257-4C2B-8EFA-01410FA2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FD70-B6F6-4FB3-AC9D-86302D99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D930-7E57-4416-B312-55395E4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0C8F-A2EF-4088-8FAF-9B8AF06F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2F5C1-C26A-4F41-8839-A8EFA0DE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0129-8B51-4D30-A81F-DE45B3D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308EB-15FA-4185-B622-17DD436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B428-5FFD-46F4-8D9C-AAE9F906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D0FF7-723D-4034-8158-26B0B4AC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F5A10-E3E6-4A43-8670-ADEFABC5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39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40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Imagem 5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Imagem 5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82" name="Conector reto 5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Imagem 4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5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0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DB9D-5FDF-4941-92A1-B7064343B13C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D6BC-5473-4D68-9F32-5FB03BA4DBF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46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0F48-4914-45A0-8E3E-61D00169E3E9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agem 7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88" name="Imagem 3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6E25-BD50-4D0D-B3EC-31D91BB3652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992160" y="4292280"/>
            <a:ext cx="7129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LEI DE DIRETRIZ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 </a:t>
            </a: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ORÇAMENTÁR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Bookman Old Style"/>
              </a:rPr>
              <a:t>2 0 2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title"/>
          </p:nvPr>
        </p:nvSpPr>
        <p:spPr>
          <a:xfrm>
            <a:off x="1547280" y="1268280"/>
            <a:ext cx="568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30/07/2021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Text Box 11"/>
          <p:cNvSpPr/>
          <p:nvPr/>
        </p:nvSpPr>
        <p:spPr>
          <a:xfrm>
            <a:off x="2301480" y="112680"/>
            <a:ext cx="45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NICÍPIO DE BALNEÁRIO CAMBOR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ital Catarinense do Tu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270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333360"/>
            <a:ext cx="6769080" cy="6206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RECEITA “OUTRAS FONTES”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826920" y="1123920"/>
          <a:ext cx="7561440" cy="3117960"/>
        </p:xfrm>
        <a:graphic>
          <a:graphicData uri="http://schemas.openxmlformats.org/drawingml/2006/table">
            <a:tbl>
              <a:tblPr/>
              <a:tblGrid>
                <a:gridCol w="4523040"/>
                <a:gridCol w="1876320"/>
                <a:gridCol w="1162080"/>
              </a:tblGrid>
              <a:tr h="628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.654.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18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FUND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00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ÕES DE CRÉD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127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5.961.1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</a:tbl>
          </a:graphicData>
        </a:graphic>
      </p:graphicFrame>
      <p:sp>
        <p:nvSpPr>
          <p:cNvPr id="380" name="CaixaDeTexto 3"/>
          <p:cNvSpPr/>
          <p:nvPr/>
        </p:nvSpPr>
        <p:spPr>
          <a:xfrm>
            <a:off x="1222920" y="5087880"/>
            <a:ext cx="6795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ceitas “Outras Fontes” representam  32,83% do valor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1649520" y="1916280"/>
          <a:ext cx="6095880" cy="2604960"/>
        </p:xfrm>
        <a:graphic>
          <a:graphicData uri="http://schemas.openxmlformats.org/drawingml/2006/table">
            <a:tbl>
              <a:tblPr/>
              <a:tblGrid>
                <a:gridCol w="3884400"/>
                <a:gridCol w="2211480"/>
              </a:tblGrid>
              <a:tr h="51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ção F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$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00 – Recursos Ordiná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9,8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100 – Impostos 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 milhõ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5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00 – Impostos 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,5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2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RECURSOS PRÓP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,6 milh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383" name="Rectangle 3"/>
          <p:cNvSpPr/>
          <p:nvPr/>
        </p:nvSpPr>
        <p:spPr>
          <a:xfrm>
            <a:off x="1025640" y="343080"/>
            <a:ext cx="7200720" cy="10076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Saiba mais sobre a Receita do Municíp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o explicativo em elipse 4"/>
          <p:cNvSpPr/>
          <p:nvPr/>
        </p:nvSpPr>
        <p:spPr>
          <a:xfrm>
            <a:off x="7866000" y="3486240"/>
            <a:ext cx="1258920" cy="757080"/>
          </a:xfrm>
          <a:prstGeom prst="wedgeEllipseCallout">
            <a:avLst>
              <a:gd name="adj1" fmla="val -83541"/>
              <a:gd name="adj2" fmla="val 68314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f5597"/>
                </a:solidFill>
                <a:latin typeface="Calibri"/>
              </a:rPr>
              <a:t>48,43% </a:t>
            </a:r>
            <a:r>
              <a:rPr b="1" lang="pt-BR" sz="1000" spc="-1" strike="noStrike">
                <a:solidFill>
                  <a:srgbClr val="2f5597"/>
                </a:solidFill>
                <a:latin typeface="Calibri"/>
              </a:rPr>
              <a:t>do to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lipse 2"/>
          <p:cNvSpPr/>
          <p:nvPr/>
        </p:nvSpPr>
        <p:spPr>
          <a:xfrm>
            <a:off x="2754360" y="4797360"/>
            <a:ext cx="3743280" cy="1152720"/>
          </a:xfrm>
          <a:prstGeom prst="ellipse">
            <a:avLst/>
          </a:prstGeom>
          <a:solidFill>
            <a:srgbClr val="ffe88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4546a"/>
                </a:solidFill>
                <a:latin typeface="Calibri"/>
              </a:rPr>
              <a:t>51,57% do orçamento é composto p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4546a"/>
                </a:solidFill>
                <a:latin typeface="Calibri"/>
              </a:rPr>
              <a:t>recursos vincu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aixaDeTexto 3"/>
          <p:cNvSpPr/>
          <p:nvPr/>
        </p:nvSpPr>
        <p:spPr>
          <a:xfrm>
            <a:off x="1763640" y="1557360"/>
            <a:ext cx="59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tribuição da Receita de Recursos Liv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ESTIMATIVA DAS RECEITAS</a:t>
            </a:r>
            <a:br>
              <a:rPr sz="4000"/>
            </a:br>
            <a:r>
              <a:rPr b="1" lang="pt-BR" sz="1800" spc="-1" strike="noStrike">
                <a:solidFill>
                  <a:srgbClr val="3b3838"/>
                </a:solidFill>
                <a:latin typeface="Calibri Light"/>
              </a:rPr>
              <a:t>POR ENTIDADE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258920" y="1341360"/>
          <a:ext cx="6626160" cy="4506840"/>
        </p:xfrm>
        <a:graphic>
          <a:graphicData uri="http://schemas.openxmlformats.org/drawingml/2006/table">
            <a:tbl>
              <a:tblPr/>
              <a:tblGrid>
                <a:gridCol w="2760480"/>
                <a:gridCol w="2051280"/>
                <a:gridCol w="1814400"/>
              </a:tblGrid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EITU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4.910.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,7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203.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MT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56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UNSERV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32.152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6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90.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63.482.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5.6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6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BCTRÂNS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3.103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sp>
        <p:nvSpPr>
          <p:cNvPr id="390" name="Seta para a direita 1"/>
          <p:cNvSpPr/>
          <p:nvPr/>
        </p:nvSpPr>
        <p:spPr>
          <a:xfrm>
            <a:off x="8018640" y="5302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ESTIMATIVA DAS RECEITAS</a:t>
            </a:r>
            <a:br>
              <a:rPr sz="4000"/>
            </a:br>
            <a:r>
              <a:rPr b="1" lang="pt-BR" sz="1800" spc="-1" strike="noStrike">
                <a:solidFill>
                  <a:srgbClr val="3b3838"/>
                </a:solidFill>
                <a:latin typeface="Calibri Light"/>
              </a:rPr>
              <a:t>POR ENTIDADE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32000" y="1341360"/>
          <a:ext cx="6480000" cy="4535640"/>
        </p:xfrm>
        <a:graphic>
          <a:graphicData uri="http://schemas.openxmlformats.org/drawingml/2006/table">
            <a:tbl>
              <a:tblPr/>
              <a:tblGrid>
                <a:gridCol w="2560680"/>
                <a:gridCol w="2239920"/>
                <a:gridCol w="1679400"/>
              </a:tblGrid>
              <a:tr h="57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URB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1.51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FCB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72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88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PRE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939.9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9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EMA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5f3ea"/>
                          </a:solidFill>
                          <a:latin typeface="Calibri"/>
                        </a:rPr>
                        <a:t>80.762.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  <a:tr h="55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MPRE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7.600.9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394" name="Diagrama 2" descr=""/>
          <p:cNvPicPr/>
          <p:nvPr/>
        </p:nvPicPr>
        <p:blipFill>
          <a:blip r:embed="rId1"/>
          <a:stretch/>
        </p:blipFill>
        <p:spPr>
          <a:xfrm>
            <a:off x="396720" y="2809800"/>
            <a:ext cx="8423280" cy="35974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"/>
          <p:cNvPicPr/>
          <p:nvPr/>
        </p:nvPicPr>
        <p:blipFill>
          <a:blip r:embed="rId2"/>
          <a:stretch/>
        </p:blipFill>
        <p:spPr>
          <a:xfrm>
            <a:off x="182520" y="2349360"/>
            <a:ext cx="174312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15640" y="1557000"/>
            <a:ext cx="70866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DESPES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Aplicação dos Recurso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1619280" y="209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 D O - 20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010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EVOLUÇÃO DAS DESPESA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CaixaDeTexto 1"/>
          <p:cNvSpPr/>
          <p:nvPr/>
        </p:nvSpPr>
        <p:spPr>
          <a:xfrm>
            <a:off x="1190880" y="573732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Previ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971640" y="765000"/>
          <a:ext cx="7272360" cy="4915080"/>
        </p:xfrm>
        <a:graphic>
          <a:graphicData uri="http://schemas.openxmlformats.org/drawingml/2006/table">
            <a:tbl>
              <a:tblPr/>
              <a:tblGrid>
                <a:gridCol w="1409760"/>
                <a:gridCol w="2046240"/>
                <a:gridCol w="1942920"/>
                <a:gridCol w="1873440"/>
              </a:tblGrid>
              <a:tr h="104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AÇÃO ATUALIZ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ECUTADO EM RELAÇÃO AO FIX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3.949.3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1.048.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0.566.5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.991.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9.175.7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477.0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141.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.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5.700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5.323.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.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7.600.9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DESPESAS POR GRUPO - LDO 2022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826920" y="1341360"/>
          <a:ext cx="7417080" cy="3959280"/>
        </p:xfrm>
        <a:graphic>
          <a:graphicData uri="http://schemas.openxmlformats.org/drawingml/2006/table">
            <a:tbl>
              <a:tblPr/>
              <a:tblGrid>
                <a:gridCol w="3940200"/>
                <a:gridCol w="2240280"/>
                <a:gridCol w="1236600"/>
              </a:tblGrid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.674.1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.442.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.909.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6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.559.9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7.600.9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189000"/>
            <a:ext cx="639288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 Light"/>
              </a:rPr>
              <a:t>COMPARATIVO DOS INVESTIMENTOS</a:t>
            </a:r>
            <a:br>
              <a:rPr sz="2300"/>
            </a:br>
            <a:r>
              <a:rPr b="1" lang="pt-BR" sz="2300" spc="-1" strike="noStrike">
                <a:solidFill>
                  <a:srgbClr val="000000"/>
                </a:solidFill>
                <a:latin typeface="Calibri Light"/>
              </a:rPr>
              <a:t>EM RELAÇÃO A DESPESA TOTAL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826920" y="1073160"/>
          <a:ext cx="7632720" cy="4587840"/>
        </p:xfrm>
        <a:graphic>
          <a:graphicData uri="http://schemas.openxmlformats.org/drawingml/2006/table">
            <a:tbl>
              <a:tblPr/>
              <a:tblGrid>
                <a:gridCol w="1479600"/>
                <a:gridCol w="2082960"/>
                <a:gridCol w="2104920"/>
                <a:gridCol w="1965240"/>
              </a:tblGrid>
              <a:tr h="83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INVEST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A DESPES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 INVEST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4.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6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8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.9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5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6.47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1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1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9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.5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9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5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7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4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.9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7.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06" name="CaixaDeTexto 4"/>
          <p:cNvSpPr/>
          <p:nvPr/>
        </p:nvSpPr>
        <p:spPr>
          <a:xfrm>
            <a:off x="6529320" y="76500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ixaDeTexto 1"/>
          <p:cNvSpPr/>
          <p:nvPr/>
        </p:nvSpPr>
        <p:spPr>
          <a:xfrm>
            <a:off x="1119240" y="580536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Previs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696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 Light"/>
              </a:rPr>
              <a:t>Comparativo entre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 Light"/>
              </a:rPr>
              <a:t> RECEITAS e DESPESAS EXECUTADA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826920" y="1484280"/>
          <a:ext cx="7705800" cy="3781440"/>
        </p:xfrm>
        <a:graphic>
          <a:graphicData uri="http://schemas.openxmlformats.org/drawingml/2006/table">
            <a:tbl>
              <a:tblPr/>
              <a:tblGrid>
                <a:gridCol w="2065680"/>
                <a:gridCol w="1971360"/>
                <a:gridCol w="2106720"/>
                <a:gridCol w="1562040"/>
              </a:tblGrid>
              <a:tr h="82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ARRECAD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PESA EXECU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41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.880.1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1.048.2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831.9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7.067.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.991.0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076.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6.310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6.477.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33.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.767.4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053.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6.551.6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506.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3.043.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1.748.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.295.7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3.885.7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82.9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Espaço Reservado para Conteúdo 1" descr=""/>
          <p:cNvPicPr/>
          <p:nvPr/>
        </p:nvPicPr>
        <p:blipFill>
          <a:blip r:embed="rId1"/>
          <a:stretch/>
        </p:blipFill>
        <p:spPr>
          <a:xfrm>
            <a:off x="676440" y="981000"/>
            <a:ext cx="7808760" cy="52801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1225440" y="349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DO - Fundamentos Leg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57360" y="333360"/>
            <a:ext cx="5958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ÍNDICES DE APLICAÇÕES ESTIMADOS PARA 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77760" y="1773360"/>
          <a:ext cx="7429680" cy="2705040"/>
        </p:xfrm>
        <a:graphic>
          <a:graphicData uri="http://schemas.openxmlformats.org/drawingml/2006/table">
            <a:tbl>
              <a:tblPr/>
              <a:tblGrid>
                <a:gridCol w="2657520"/>
                <a:gridCol w="4772160"/>
              </a:tblGrid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Ú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%  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EDUC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9% Receita de Impos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sp>
        <p:nvSpPr>
          <p:cNvPr id="412" name="Text Box 31"/>
          <p:cNvSpPr/>
          <p:nvPr/>
        </p:nvSpPr>
        <p:spPr>
          <a:xfrm>
            <a:off x="1042920" y="48132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*Índice de pessoal está sendo revisto em razão das recentes alterações na legislação, que deverão ser aplicadas a partir do exercício de 2022, podendo ocorrer alterações até o envio do Projeto de L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57000" y="333360"/>
            <a:ext cx="6327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Calibri Light"/>
              </a:rPr>
              <a:t>Verificação do Art. 167-A CF </a:t>
            </a: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(Emenda 109/2021)</a:t>
            </a:r>
            <a:br>
              <a:rPr sz="3500"/>
            </a:br>
            <a:r>
              <a:rPr b="1" lang="pt-BR" sz="1500" spc="-1" strike="noStrike">
                <a:solidFill>
                  <a:srgbClr val="000000"/>
                </a:solidFill>
                <a:latin typeface="Calibri Light"/>
              </a:rPr>
              <a:t>Relação entre receita e despesa corrente</a:t>
            </a:r>
            <a:endParaRPr b="0" lang="en-US" sz="1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835280" y="2852640"/>
          <a:ext cx="5689440" cy="1162080"/>
        </p:xfrm>
        <a:graphic>
          <a:graphicData uri="http://schemas.openxmlformats.org/drawingml/2006/table">
            <a:tbl>
              <a:tblPr/>
              <a:tblGrid>
                <a:gridCol w="2536560"/>
                <a:gridCol w="2360880"/>
                <a:gridCol w="792000"/>
              </a:tblGrid>
              <a:tr h="771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CORREN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 CORRENT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bf7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58.793.46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67.516.71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</a:tr>
            </a:tbl>
          </a:graphicData>
        </a:graphic>
      </p:graphicFrame>
      <p:sp>
        <p:nvSpPr>
          <p:cNvPr id="417" name="CaixaDeTexto 3"/>
          <p:cNvSpPr/>
          <p:nvPr/>
        </p:nvSpPr>
        <p:spPr>
          <a:xfrm>
            <a:off x="1811160" y="4560840"/>
            <a:ext cx="56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ordo com a legislação não deve ultrapassar a 95% a relação entre a Receita corrent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pesa cor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7086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ROPOSTA DE INVESTIMENTOS</a:t>
            </a:r>
            <a:br>
              <a:rPr sz="7200"/>
            </a:b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ARA 2022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upo 5"/>
          <p:cNvGrpSpPr/>
          <p:nvPr/>
        </p:nvGrpSpPr>
        <p:grpSpPr>
          <a:xfrm>
            <a:off x="468360" y="28440"/>
            <a:ext cx="7775640" cy="812880"/>
            <a:chOff x="468360" y="28440"/>
            <a:chExt cx="7775640" cy="812880"/>
          </a:xfrm>
        </p:grpSpPr>
        <p:sp>
          <p:nvSpPr>
            <p:cNvPr id="420" name="Retângulo de cantos arredondados 6"/>
            <p:cNvSpPr/>
            <p:nvPr/>
          </p:nvSpPr>
          <p:spPr>
            <a:xfrm>
              <a:off x="468360" y="28440"/>
              <a:ext cx="7775640" cy="7225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tângulo 7"/>
            <p:cNvSpPr/>
            <p:nvPr/>
          </p:nvSpPr>
          <p:spPr>
            <a:xfrm>
              <a:off x="538200" y="28440"/>
              <a:ext cx="77058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ABINETE PREFEITO – R$ 48.221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2" name=""/>
          <p:cNvGraphicFramePr/>
          <p:nvPr/>
        </p:nvGraphicFramePr>
        <p:xfrm>
          <a:off x="466560" y="911160"/>
          <a:ext cx="7705800" cy="5219640"/>
        </p:xfrm>
        <a:graphic>
          <a:graphicData uri="http://schemas.openxmlformats.org/drawingml/2006/table">
            <a:tbl>
              <a:tblPr/>
              <a:tblGrid>
                <a:gridCol w="655920"/>
                <a:gridCol w="5600520"/>
                <a:gridCol w="1449360"/>
              </a:tblGrid>
              <a:tr h="3301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apropriações Previstas em L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e Melhorias do Prédio da Procuradoria Juríd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28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à Entidades Representativas de Clas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ateio do Consórcio CIM - 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Vice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2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86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a Sec. de Articulação Govern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os Conselh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ocuradoria Ger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.5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Precatórios e Sentenças Judici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4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mpanhas de Utilidade Pública e Institucion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ivisão de Comun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0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Junta de Serviço Milit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upo 3"/>
          <p:cNvGrpSpPr/>
          <p:nvPr/>
        </p:nvGrpSpPr>
        <p:grpSpPr>
          <a:xfrm>
            <a:off x="324000" y="115920"/>
            <a:ext cx="8351640" cy="593640"/>
            <a:chOff x="324000" y="115920"/>
            <a:chExt cx="8351640" cy="593640"/>
          </a:xfrm>
        </p:grpSpPr>
        <p:sp>
          <p:nvSpPr>
            <p:cNvPr id="424" name="Retângulo de cantos arredondados 4"/>
            <p:cNvSpPr/>
            <p:nvPr/>
          </p:nvSpPr>
          <p:spPr>
            <a:xfrm>
              <a:off x="324000" y="115920"/>
              <a:ext cx="8351640" cy="593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tângulo 5"/>
            <p:cNvSpPr/>
            <p:nvPr/>
          </p:nvSpPr>
          <p:spPr>
            <a:xfrm>
              <a:off x="361800" y="144360"/>
              <a:ext cx="82756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 – R$ 97.689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26" name=""/>
          <p:cNvGraphicFramePr/>
          <p:nvPr/>
        </p:nvGraphicFramePr>
        <p:xfrm>
          <a:off x="395280" y="836640"/>
          <a:ext cx="8242200" cy="5256360"/>
        </p:xfrm>
        <a:graphic>
          <a:graphicData uri="http://schemas.openxmlformats.org/drawingml/2006/table">
            <a:tbl>
              <a:tblPr/>
              <a:tblGrid>
                <a:gridCol w="490680"/>
                <a:gridCol w="6494400"/>
                <a:gridCol w="1257120"/>
              </a:tblGrid>
              <a:tr h="239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68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62.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Paço Municip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Estrutura Física do Data Center do Paç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odernização da Estrutura Física do D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e Área do Cemitério e Construção de Novos Blocos Vertic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Administrativa e Fiscal do Município (PNAF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Sec. de Gestão Administr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tocolo e Exped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Gestão de Pesso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2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Ger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78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e Proteção do Trabalhador - SES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trimônio Público e Serviç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mitério Públic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7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ogística e Operaçõ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9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e Inovação em Tecnologia da Inform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38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upo 5"/>
          <p:cNvGrpSpPr/>
          <p:nvPr/>
        </p:nvGrpSpPr>
        <p:grpSpPr>
          <a:xfrm>
            <a:off x="627120" y="189000"/>
            <a:ext cx="7889760" cy="679320"/>
            <a:chOff x="627120" y="189000"/>
            <a:chExt cx="7889760" cy="679320"/>
          </a:xfrm>
        </p:grpSpPr>
        <p:sp>
          <p:nvSpPr>
            <p:cNvPr id="428" name="Retângulo de cantos arredondados 6"/>
            <p:cNvSpPr/>
            <p:nvPr/>
          </p:nvSpPr>
          <p:spPr>
            <a:xfrm>
              <a:off x="627120" y="189000"/>
              <a:ext cx="7889760" cy="679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tângulo 7"/>
            <p:cNvSpPr/>
            <p:nvPr/>
          </p:nvSpPr>
          <p:spPr>
            <a:xfrm>
              <a:off x="725400" y="222120"/>
              <a:ext cx="7637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pt-BR" sz="3600" spc="-1" strike="noStrike">
                  <a:solidFill>
                    <a:srgbClr val="ffffff"/>
                  </a:solidFill>
                  <a:latin typeface="Calibri"/>
                </a:rPr>
                <a:t>FAZENDA – R$ 41.979 m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0" name=""/>
          <p:cNvGraphicFramePr/>
          <p:nvPr/>
        </p:nvGraphicFramePr>
        <p:xfrm>
          <a:off x="627120" y="1125360"/>
          <a:ext cx="7889760" cy="4607280"/>
        </p:xfrm>
        <a:graphic>
          <a:graphicData uri="http://schemas.openxmlformats.org/drawingml/2006/table">
            <a:tbl>
              <a:tblPr/>
              <a:tblGrid>
                <a:gridCol w="52560"/>
                <a:gridCol w="507600"/>
                <a:gridCol w="5704920"/>
                <a:gridCol w="1624680"/>
              </a:tblGrid>
              <a:tr h="4064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e Encargos Da Dívida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4.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08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odernização do Sistema de Administração Fazendária (PM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12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1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CON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ívida 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1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Arrecadação e Tribu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309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e Proc. Fisc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9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1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adastro Fazend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2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ontabilidade e Financeir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8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CaixaDeTexto 9"/>
          <p:cNvSpPr/>
          <p:nvPr/>
        </p:nvSpPr>
        <p:spPr>
          <a:xfrm>
            <a:off x="35784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57120" y="1268280"/>
          <a:ext cx="8393040" cy="4810320"/>
        </p:xfrm>
        <a:graphic>
          <a:graphicData uri="http://schemas.openxmlformats.org/drawingml/2006/table">
            <a:tbl>
              <a:tblPr/>
              <a:tblGrid>
                <a:gridCol w="53280"/>
                <a:gridCol w="539280"/>
                <a:gridCol w="6072480"/>
                <a:gridCol w="1728000"/>
              </a:tblGrid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Núcleos de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NEI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para os novos núcleos –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s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.9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7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Crec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9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.77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ducação Infantil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33" name="Retângulo de cantos arredondados 8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aixaDeTexto 2"/>
          <p:cNvSpPr/>
          <p:nvPr/>
        </p:nvSpPr>
        <p:spPr>
          <a:xfrm>
            <a:off x="1982520" y="8568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– R$ 273.392 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CaixaDeTexto 9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357120" y="1268280"/>
          <a:ext cx="8331120" cy="4897440"/>
        </p:xfrm>
        <a:graphic>
          <a:graphicData uri="http://schemas.openxmlformats.org/drawingml/2006/table">
            <a:tbl>
              <a:tblPr/>
              <a:tblGrid>
                <a:gridCol w="53280"/>
                <a:gridCol w="534600"/>
                <a:gridCol w="6026760"/>
                <a:gridCol w="1716480"/>
              </a:tblGrid>
              <a:tr h="408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as Unidades Escolares (CEM'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do Amanhã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8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CEM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96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9.437.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.2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9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8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– Ensino Fund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6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37" name="Retângulo de cantos arredondados 8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CaixaDeTexto 10"/>
          <p:cNvSpPr/>
          <p:nvPr/>
        </p:nvSpPr>
        <p:spPr>
          <a:xfrm>
            <a:off x="1983240" y="8568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– R$ 273.392 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CaixaDeTexto 9"/>
          <p:cNvSpPr/>
          <p:nvPr/>
        </p:nvSpPr>
        <p:spPr>
          <a:xfrm>
            <a:off x="353160" y="836640"/>
            <a:ext cx="2454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VENS E ADU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CaixaDeTexto 10"/>
          <p:cNvSpPr/>
          <p:nvPr/>
        </p:nvSpPr>
        <p:spPr>
          <a:xfrm>
            <a:off x="361440" y="2890800"/>
            <a:ext cx="1297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CaixaDeTexto 11"/>
          <p:cNvSpPr/>
          <p:nvPr/>
        </p:nvSpPr>
        <p:spPr>
          <a:xfrm>
            <a:off x="359280" y="5191200"/>
            <a:ext cx="930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39840" y="5632560"/>
          <a:ext cx="8391240" cy="576000"/>
        </p:xfrm>
        <a:graphic>
          <a:graphicData uri="http://schemas.openxmlformats.org/drawingml/2006/table">
            <a:tbl>
              <a:tblPr/>
              <a:tblGrid>
                <a:gridCol w="53280"/>
                <a:gridCol w="539280"/>
                <a:gridCol w="6071040"/>
                <a:gridCol w="1727640"/>
              </a:tblGrid>
              <a:tr h="2887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Méd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57120" y="1290600"/>
          <a:ext cx="8391600" cy="1513080"/>
        </p:xfrm>
        <a:graphic>
          <a:graphicData uri="http://schemas.openxmlformats.org/drawingml/2006/table">
            <a:tbl>
              <a:tblPr/>
              <a:tblGrid>
                <a:gridCol w="53280"/>
                <a:gridCol w="539640"/>
                <a:gridCol w="6070680"/>
                <a:gridCol w="1728000"/>
              </a:tblGrid>
              <a:tr h="378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9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J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44" name=""/>
          <p:cNvGraphicFramePr/>
          <p:nvPr/>
        </p:nvGraphicFramePr>
        <p:xfrm>
          <a:off x="353880" y="3421080"/>
          <a:ext cx="8391600" cy="1338120"/>
        </p:xfrm>
        <a:graphic>
          <a:graphicData uri="http://schemas.openxmlformats.org/drawingml/2006/table">
            <a:tbl>
              <a:tblPr/>
              <a:tblGrid>
                <a:gridCol w="53280"/>
                <a:gridCol w="539640"/>
                <a:gridCol w="6071040"/>
                <a:gridCol w="1727640"/>
              </a:tblGrid>
              <a:tr h="268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.79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stalação e Manutenção do Centro de Atendimento Especi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45" name="Retângulo de cantos arredondados 13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CaixaDeTexto 14"/>
          <p:cNvSpPr/>
          <p:nvPr/>
        </p:nvSpPr>
        <p:spPr>
          <a:xfrm>
            <a:off x="1983240" y="85680"/>
            <a:ext cx="54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– R$ 273.392 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upo 5"/>
          <p:cNvGrpSpPr/>
          <p:nvPr/>
        </p:nvGrpSpPr>
        <p:grpSpPr>
          <a:xfrm>
            <a:off x="453960" y="115920"/>
            <a:ext cx="8264520" cy="542880"/>
            <a:chOff x="453960" y="115920"/>
            <a:chExt cx="8264520" cy="542880"/>
          </a:xfrm>
        </p:grpSpPr>
        <p:sp>
          <p:nvSpPr>
            <p:cNvPr id="448" name="Retângulo de cantos arredondados 6"/>
            <p:cNvSpPr/>
            <p:nvPr/>
          </p:nvSpPr>
          <p:spPr>
            <a:xfrm>
              <a:off x="453960" y="115920"/>
              <a:ext cx="8259840" cy="542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tângulo 7"/>
            <p:cNvSpPr/>
            <p:nvPr/>
          </p:nvSpPr>
          <p:spPr>
            <a:xfrm>
              <a:off x="515520" y="142920"/>
              <a:ext cx="8202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 – R$ 273.392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CaixaDeTexto 9"/>
          <p:cNvSpPr/>
          <p:nvPr/>
        </p:nvSpPr>
        <p:spPr>
          <a:xfrm>
            <a:off x="488520" y="824040"/>
            <a:ext cx="1957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CaixaDeTexto 10"/>
          <p:cNvSpPr/>
          <p:nvPr/>
        </p:nvSpPr>
        <p:spPr>
          <a:xfrm>
            <a:off x="452880" y="4064040"/>
            <a:ext cx="37742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 DA 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53960" y="1341360"/>
          <a:ext cx="8232840" cy="2592360"/>
        </p:xfrm>
        <a:graphic>
          <a:graphicData uri="http://schemas.openxmlformats.org/drawingml/2006/table">
            <a:tbl>
              <a:tblPr/>
              <a:tblGrid>
                <a:gridCol w="53280"/>
                <a:gridCol w="528480"/>
                <a:gridCol w="5955120"/>
                <a:gridCol w="169596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 Centro Ed. de Atend.  no Contraturno - CEAC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 de Educação Multi Maker CE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30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Contra Turno Escol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A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453960" y="4583160"/>
          <a:ext cx="8232840" cy="863640"/>
        </p:xfrm>
        <a:graphic>
          <a:graphicData uri="http://schemas.openxmlformats.org/drawingml/2006/table">
            <a:tbl>
              <a:tblPr/>
              <a:tblGrid>
                <a:gridCol w="53280"/>
                <a:gridCol w="528480"/>
                <a:gridCol w="5955120"/>
                <a:gridCol w="1695960"/>
              </a:tblGrid>
              <a:tr h="4316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5"/>
          <p:cNvSpPr/>
          <p:nvPr/>
        </p:nvSpPr>
        <p:spPr>
          <a:xfrm>
            <a:off x="1547640" y="2142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Espaço Reservado para Conteúdo 4" descr=""/>
          <p:cNvPicPr/>
          <p:nvPr/>
        </p:nvPicPr>
        <p:blipFill>
          <a:blip r:embed="rId1"/>
          <a:stretch/>
        </p:blipFill>
        <p:spPr>
          <a:xfrm>
            <a:off x="603360" y="1139760"/>
            <a:ext cx="7937280" cy="47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upo 10"/>
          <p:cNvGrpSpPr/>
          <p:nvPr/>
        </p:nvGrpSpPr>
        <p:grpSpPr>
          <a:xfrm>
            <a:off x="468360" y="115920"/>
            <a:ext cx="8207280" cy="603360"/>
            <a:chOff x="468360" y="115920"/>
            <a:chExt cx="8207280" cy="603360"/>
          </a:xfrm>
        </p:grpSpPr>
        <p:sp>
          <p:nvSpPr>
            <p:cNvPr id="455" name="Retângulo de cantos arredondados 11"/>
            <p:cNvSpPr/>
            <p:nvPr/>
          </p:nvSpPr>
          <p:spPr>
            <a:xfrm>
              <a:off x="468360" y="115920"/>
              <a:ext cx="8207280" cy="603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tângulo 12"/>
            <p:cNvSpPr/>
            <p:nvPr/>
          </p:nvSpPr>
          <p:spPr>
            <a:xfrm>
              <a:off x="500040" y="145800"/>
              <a:ext cx="81439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 – R$ 61.609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7" name=""/>
          <p:cNvGraphicFramePr/>
          <p:nvPr/>
        </p:nvGraphicFramePr>
        <p:xfrm>
          <a:off x="455760" y="907920"/>
          <a:ext cx="8232480" cy="504216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5120"/>
                <a:gridCol w="1695960"/>
              </a:tblGrid>
              <a:tr h="360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aquinários para Secretaria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8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vimentação, Ampliação e Reurbanização de Ruas e Avenid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544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Rede de Iluminação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Públicos de Laz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Sec.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aisag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Limpeza Urban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07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de Drenagem Pluv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80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V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1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steio dos Serviços Administrativo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9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a Rede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276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Obras e Benfeitorias Urban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upo 10"/>
          <p:cNvGrpSpPr/>
          <p:nvPr/>
        </p:nvGrpSpPr>
        <p:grpSpPr>
          <a:xfrm>
            <a:off x="250920" y="115920"/>
            <a:ext cx="8497800" cy="603360"/>
            <a:chOff x="250920" y="115920"/>
            <a:chExt cx="8497800" cy="603360"/>
          </a:xfrm>
        </p:grpSpPr>
        <p:sp>
          <p:nvSpPr>
            <p:cNvPr id="459" name="Retângulo de cantos arredondados 11"/>
            <p:cNvSpPr/>
            <p:nvPr/>
          </p:nvSpPr>
          <p:spPr>
            <a:xfrm>
              <a:off x="466560" y="115920"/>
              <a:ext cx="8282160" cy="6033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tângulo 12"/>
            <p:cNvSpPr/>
            <p:nvPr/>
          </p:nvSpPr>
          <p:spPr>
            <a:xfrm>
              <a:off x="250920" y="145800"/>
              <a:ext cx="84661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 – R$ 69.876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1" name=""/>
          <p:cNvGraphicFramePr/>
          <p:nvPr/>
        </p:nvGraphicFramePr>
        <p:xfrm>
          <a:off x="455760" y="981000"/>
          <a:ext cx="8232480" cy="511200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5120"/>
                <a:gridCol w="1695960"/>
              </a:tblGrid>
              <a:tr h="3862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teção Costeira e Alim. Artificial da Praia Central de Balneário Cambori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1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da Orla da Praia Centr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98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5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e Abertura de Avenidas-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5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Áreas Verdes - Entorno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4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ssagem de Níivel entre 4ª Avenida e Av. Martin Luth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Gabinete da Sec. Planejamento e Gestão Orçamen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Técnicos Adm. do Planejament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8.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lanej. e Gestão Orçamentári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3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6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iscalização de Obras Urban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3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Análises e Projet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26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4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ETP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upo 10"/>
          <p:cNvGrpSpPr/>
          <p:nvPr/>
        </p:nvGrpSpPr>
        <p:grpSpPr>
          <a:xfrm>
            <a:off x="436680" y="115920"/>
            <a:ext cx="8238960" cy="1297080"/>
            <a:chOff x="436680" y="115920"/>
            <a:chExt cx="8238960" cy="1297080"/>
          </a:xfrm>
        </p:grpSpPr>
        <p:sp>
          <p:nvSpPr>
            <p:cNvPr id="463" name="Retângulo de cantos arredondados 11"/>
            <p:cNvSpPr/>
            <p:nvPr/>
          </p:nvSpPr>
          <p:spPr>
            <a:xfrm>
              <a:off x="436680" y="115920"/>
              <a:ext cx="8238960" cy="1297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tângulo 12"/>
            <p:cNvSpPr/>
            <p:nvPr/>
          </p:nvSpPr>
          <p:spPr>
            <a:xfrm>
              <a:off x="766800" y="179280"/>
              <a:ext cx="759132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E DESENV.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CONÔMICO – R$ 13.726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CaixaDeTexto 8"/>
          <p:cNvSpPr/>
          <p:nvPr/>
        </p:nvSpPr>
        <p:spPr>
          <a:xfrm>
            <a:off x="443160" y="3027240"/>
            <a:ext cx="11455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aixaDeTexto 9"/>
          <p:cNvSpPr/>
          <p:nvPr/>
        </p:nvSpPr>
        <p:spPr>
          <a:xfrm>
            <a:off x="431280" y="1616040"/>
            <a:ext cx="1704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39560" y="2060640"/>
          <a:ext cx="8232840" cy="89676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5480"/>
                <a:gridCol w="1695960"/>
              </a:tblGrid>
              <a:tr h="461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4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e Turism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7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36680" y="3500280"/>
          <a:ext cx="8231040" cy="252108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3680"/>
                <a:gridCol w="1695960"/>
              </a:tblGrid>
              <a:tr h="4431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BC 4 Estaçõ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4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e Promoção do Tur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08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MT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6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ticipação no Consórcio de Turismo Costa Verde e Mar - CITM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9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Equipamentos Públicos Turístic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upo 10"/>
          <p:cNvGrpSpPr/>
          <p:nvPr/>
        </p:nvGrpSpPr>
        <p:grpSpPr>
          <a:xfrm>
            <a:off x="468360" y="115920"/>
            <a:ext cx="8246880" cy="841320"/>
            <a:chOff x="468360" y="115920"/>
            <a:chExt cx="8246880" cy="841320"/>
          </a:xfrm>
        </p:grpSpPr>
        <p:sp>
          <p:nvSpPr>
            <p:cNvPr id="470" name="Retângulo de cantos arredondados 11"/>
            <p:cNvSpPr/>
            <p:nvPr/>
          </p:nvSpPr>
          <p:spPr>
            <a:xfrm>
              <a:off x="468360" y="115920"/>
              <a:ext cx="82468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tângulo 12"/>
            <p:cNvSpPr/>
            <p:nvPr/>
          </p:nvSpPr>
          <p:spPr>
            <a:xfrm>
              <a:off x="500040" y="156960"/>
              <a:ext cx="8183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INCLUSÃO SOCIAL – R$ 18.655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2" name=""/>
          <p:cNvGraphicFramePr/>
          <p:nvPr/>
        </p:nvGraphicFramePr>
        <p:xfrm>
          <a:off x="455760" y="1197000"/>
          <a:ext cx="8232480" cy="4896000"/>
        </p:xfrm>
        <a:graphic>
          <a:graphicData uri="http://schemas.openxmlformats.org/drawingml/2006/table">
            <a:tbl>
              <a:tblPr/>
              <a:tblGrid>
                <a:gridCol w="53280"/>
                <a:gridCol w="528120"/>
                <a:gridCol w="5955120"/>
                <a:gridCol w="1695960"/>
              </a:tblGrid>
              <a:tr h="3049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s de Centros Comunit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40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ssistência Social e Comuni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7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Marcenar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Promoção e Desenvlolvimento So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.28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Resgate Social e Controle da Migra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o Casamento Cole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tenção do Programa Municipal - ABRAÇ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Ampliação do Programa Bem Estar da Família e da Casa da Famíli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Afirmativas para Promoção da Igualdade Racial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senvolvimento Comunit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conomia Artesan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rsos Técnicos e Profissionalizantes para a Comunida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o Conselho Tutelar e de Direitos da Criança e Adolescent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4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Atividades Voltadas ao Fortalecimento da Juventud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upo 6"/>
          <p:cNvGrpSpPr/>
          <p:nvPr/>
        </p:nvGrpSpPr>
        <p:grpSpPr>
          <a:xfrm>
            <a:off x="395280" y="100080"/>
            <a:ext cx="8209080" cy="841320"/>
            <a:chOff x="395280" y="100080"/>
            <a:chExt cx="8209080" cy="841320"/>
          </a:xfrm>
        </p:grpSpPr>
        <p:sp>
          <p:nvSpPr>
            <p:cNvPr id="474" name="Retângulo de cantos arredondados 7"/>
            <p:cNvSpPr/>
            <p:nvPr/>
          </p:nvSpPr>
          <p:spPr>
            <a:xfrm>
              <a:off x="395280" y="100080"/>
              <a:ext cx="82090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tângulo 8"/>
            <p:cNvSpPr/>
            <p:nvPr/>
          </p:nvSpPr>
          <p:spPr>
            <a:xfrm>
              <a:off x="426960" y="141120"/>
              <a:ext cx="81457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GURANÇA PÚBLICA – R$ 25.73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6" name=""/>
          <p:cNvGraphicFramePr/>
          <p:nvPr/>
        </p:nvGraphicFramePr>
        <p:xfrm>
          <a:off x="455760" y="1123920"/>
          <a:ext cx="8116920" cy="4969080"/>
        </p:xfrm>
        <a:graphic>
          <a:graphicData uri="http://schemas.openxmlformats.org/drawingml/2006/table">
            <a:tbl>
              <a:tblPr/>
              <a:tblGrid>
                <a:gridCol w="53280"/>
                <a:gridCol w="520200"/>
                <a:gridCol w="5870880"/>
                <a:gridCol w="1672560"/>
              </a:tblGrid>
              <a:tr h="4111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2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de Apoio às Ações da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ec. de Seguranç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6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 e Manutenção do Sistema de Monitoramen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vênio da Radiopatrulha PMS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enção de Ocupação Irregular e Degrad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4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2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Trânsito e Engenha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de Proteção e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Patrimon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1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efesa Civ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upo 6"/>
          <p:cNvGrpSpPr/>
          <p:nvPr/>
        </p:nvGrpSpPr>
        <p:grpSpPr>
          <a:xfrm>
            <a:off x="426960" y="115920"/>
            <a:ext cx="8105760" cy="841320"/>
            <a:chOff x="426960" y="115920"/>
            <a:chExt cx="8105760" cy="841320"/>
          </a:xfrm>
        </p:grpSpPr>
        <p:sp>
          <p:nvSpPr>
            <p:cNvPr id="478" name="Retângulo de cantos arredondados 7"/>
            <p:cNvSpPr/>
            <p:nvPr/>
          </p:nvSpPr>
          <p:spPr>
            <a:xfrm>
              <a:off x="536400" y="115920"/>
              <a:ext cx="799632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tângulo 8"/>
            <p:cNvSpPr/>
            <p:nvPr/>
          </p:nvSpPr>
          <p:spPr>
            <a:xfrm>
              <a:off x="426960" y="156960"/>
              <a:ext cx="7834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ESSOA IDOSA – R$ 3.95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536400" y="1268280"/>
          <a:ext cx="7996320" cy="4303800"/>
        </p:xfrm>
        <a:graphic>
          <a:graphicData uri="http://schemas.openxmlformats.org/drawingml/2006/table">
            <a:tbl>
              <a:tblPr/>
              <a:tblGrid>
                <a:gridCol w="53280"/>
                <a:gridCol w="512280"/>
                <a:gridCol w="5784120"/>
                <a:gridCol w="1646640"/>
              </a:tblGrid>
              <a:tr h="6667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ônibus para 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7960">
                <a:tc gridSpan="3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5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P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Operacionalização das Atividades do Lar dos Ido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ção ao Idoso - S.O.S IDOS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5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o Idoso - FMI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upo 5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482" name="Retângulo de cantos arredondados 6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tângulo 7"/>
            <p:cNvSpPr/>
            <p:nvPr/>
          </p:nvSpPr>
          <p:spPr>
            <a:xfrm>
              <a:off x="701640" y="156960"/>
              <a:ext cx="79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PRAS – R$ 2.17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tângulo de cantos arredondados 11"/>
          <p:cNvSpPr/>
          <p:nvPr/>
        </p:nvSpPr>
        <p:spPr>
          <a:xfrm>
            <a:off x="468360" y="2924280"/>
            <a:ext cx="8175600" cy="12254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CONTROLE 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TRANSPARÊNCIA – R$ 1.665 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468360" y="1268280"/>
          <a:ext cx="8136000" cy="1297080"/>
        </p:xfrm>
        <a:graphic>
          <a:graphicData uri="http://schemas.openxmlformats.org/drawingml/2006/table">
            <a:tbl>
              <a:tblPr/>
              <a:tblGrid>
                <a:gridCol w="53280"/>
                <a:gridCol w="522000"/>
                <a:gridCol w="5885280"/>
                <a:gridCol w="1675440"/>
              </a:tblGrid>
              <a:tr h="6685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2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retaria de Comp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468360" y="4365720"/>
          <a:ext cx="8136000" cy="1366920"/>
        </p:xfrm>
        <a:graphic>
          <a:graphicData uri="http://schemas.openxmlformats.org/drawingml/2006/table">
            <a:tbl>
              <a:tblPr/>
              <a:tblGrid>
                <a:gridCol w="53280"/>
                <a:gridCol w="523440"/>
                <a:gridCol w="5883840"/>
                <a:gridCol w="1675440"/>
              </a:tblGrid>
              <a:tr h="704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. Controle Governamental e    Transparência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6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488" name="Retângulo de cantos arredondados 7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tângulo 8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– R$ 233.574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CaixaDeTexto 5"/>
          <p:cNvSpPr/>
          <p:nvPr/>
        </p:nvSpPr>
        <p:spPr>
          <a:xfrm>
            <a:off x="542880" y="1150920"/>
            <a:ext cx="2187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ÇÃO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39640" y="1628640"/>
          <a:ext cx="8148600" cy="4491000"/>
        </p:xfrm>
        <a:graphic>
          <a:graphicData uri="http://schemas.openxmlformats.org/drawingml/2006/table">
            <a:tbl>
              <a:tblPr/>
              <a:tblGrid>
                <a:gridCol w="53280"/>
                <a:gridCol w="523800"/>
                <a:gridCol w="5893200"/>
                <a:gridCol w="1678320"/>
              </a:tblGrid>
              <a:tr h="3481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BS - Bairro São Judas Tadeu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Básica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Segurança Nutricional e Alimentar na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s Atividades do COM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frentamento em Situações de Emergência de Saúde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0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os Serviços Públ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4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.2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Bás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.770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Estratégias da Saúde Buc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.70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armác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.89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Regulação, Controle e Avaliação da Atenção à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5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tângulo 8"/>
          <p:cNvSpPr/>
          <p:nvPr/>
        </p:nvSpPr>
        <p:spPr>
          <a:xfrm>
            <a:off x="142920" y="157320"/>
            <a:ext cx="885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Autofit/>
          </a:bodyPr>
          <a:p>
            <a:pPr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FUNDO SAÚDE – R$ 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CaixaDeTexto 5"/>
          <p:cNvSpPr/>
          <p:nvPr/>
        </p:nvSpPr>
        <p:spPr>
          <a:xfrm>
            <a:off x="522360" y="1150920"/>
            <a:ext cx="36356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E ALTA COMPLEX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495" name="Retângulo de cantos arredondados 9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tângulo 10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– R$ 233.574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7" name=""/>
          <p:cNvGraphicFramePr/>
          <p:nvPr/>
        </p:nvGraphicFramePr>
        <p:xfrm>
          <a:off x="571680" y="1628640"/>
          <a:ext cx="8032680" cy="4464360"/>
        </p:xfrm>
        <a:graphic>
          <a:graphicData uri="http://schemas.openxmlformats.org/drawingml/2006/table">
            <a:tbl>
              <a:tblPr/>
              <a:tblGrid>
                <a:gridCol w="53280"/>
                <a:gridCol w="515520"/>
                <a:gridCol w="5808960"/>
                <a:gridCol w="1654920"/>
              </a:tblGrid>
              <a:tr h="3355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PA - Bairro da Bar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ES - CAPS III e CAPS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Especializadas de Saú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o HMR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0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Especializad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5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e Atenção Psicossocial - CA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4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nto Atendimento - PA/U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.8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5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istema de Inspeção Municipal - S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2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e Rateio do Consórcio CIS-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tenças Judiciais - Internações, Tratamentos e Medicamen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Hospitalares do HMR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4.17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CaixaDeTexto 5"/>
          <p:cNvSpPr/>
          <p:nvPr/>
        </p:nvSpPr>
        <p:spPr>
          <a:xfrm>
            <a:off x="550080" y="1322280"/>
            <a:ext cx="2734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SAN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9"/>
          <p:cNvSpPr/>
          <p:nvPr/>
        </p:nvSpPr>
        <p:spPr>
          <a:xfrm>
            <a:off x="539280" y="3181320"/>
            <a:ext cx="3510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EPIDEM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upo 6"/>
          <p:cNvGrpSpPr/>
          <p:nvPr/>
        </p:nvGrpSpPr>
        <p:grpSpPr>
          <a:xfrm>
            <a:off x="539640" y="115920"/>
            <a:ext cx="8177400" cy="841320"/>
            <a:chOff x="539640" y="115920"/>
            <a:chExt cx="8177400" cy="841320"/>
          </a:xfrm>
        </p:grpSpPr>
        <p:sp>
          <p:nvSpPr>
            <p:cNvPr id="501" name="Retângulo de cantos arredondados 10"/>
            <p:cNvSpPr/>
            <p:nvPr/>
          </p:nvSpPr>
          <p:spPr>
            <a:xfrm>
              <a:off x="539640" y="115920"/>
              <a:ext cx="81774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tângulo 11"/>
            <p:cNvSpPr/>
            <p:nvPr/>
          </p:nvSpPr>
          <p:spPr>
            <a:xfrm>
              <a:off x="571320" y="156960"/>
              <a:ext cx="81140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– R$ 233.574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3" name=""/>
          <p:cNvGraphicFramePr/>
          <p:nvPr/>
        </p:nvGraphicFramePr>
        <p:xfrm>
          <a:off x="539640" y="1773360"/>
          <a:ext cx="8143920" cy="1260360"/>
        </p:xfrm>
        <a:graphic>
          <a:graphicData uri="http://schemas.openxmlformats.org/drawingml/2006/table">
            <a:tbl>
              <a:tblPr/>
              <a:tblGrid>
                <a:gridCol w="53280"/>
                <a:gridCol w="522000"/>
                <a:gridCol w="5891760"/>
                <a:gridCol w="1676880"/>
              </a:tblGrid>
              <a:tr h="630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30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Sanitária 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40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528480" y="3716280"/>
          <a:ext cx="8155080" cy="1324080"/>
        </p:xfrm>
        <a:graphic>
          <a:graphicData uri="http://schemas.openxmlformats.org/drawingml/2006/table">
            <a:tbl>
              <a:tblPr/>
              <a:tblGrid>
                <a:gridCol w="53280"/>
                <a:gridCol w="523440"/>
                <a:gridCol w="5898240"/>
                <a:gridCol w="1680120"/>
              </a:tblGrid>
              <a:tr h="6620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Vigilância Epidemiológ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39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26560" y="1125000"/>
            <a:ext cx="72010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84360" y="1521000"/>
            <a:ext cx="2592360" cy="3743280"/>
          </a:xfrm>
          <a:prstGeom prst="flowChartAlternateProcess">
            <a:avLst/>
          </a:prstGeom>
          <a:solidFill>
            <a:srgbClr val="1f4e7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 Black"/>
              </a:rPr>
              <a:t>PP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8"/>
          <p:cNvSpPr/>
          <p:nvPr/>
        </p:nvSpPr>
        <p:spPr>
          <a:xfrm>
            <a:off x="4199040" y="1568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6654960" y="1541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64000" y="184464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64000" y="282096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64000" y="375300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7"/>
          <p:cNvSpPr/>
          <p:nvPr/>
        </p:nvSpPr>
        <p:spPr>
          <a:xfrm>
            <a:off x="3564000" y="4761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940360" y="178452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940360" y="27478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3"/>
          <p:cNvSpPr/>
          <p:nvPr/>
        </p:nvSpPr>
        <p:spPr>
          <a:xfrm>
            <a:off x="5940360" y="375300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4"/>
          <p:cNvSpPr/>
          <p:nvPr/>
        </p:nvSpPr>
        <p:spPr>
          <a:xfrm>
            <a:off x="5940360" y="48070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5"/>
          <p:cNvSpPr/>
          <p:nvPr/>
        </p:nvSpPr>
        <p:spPr>
          <a:xfrm>
            <a:off x="6659640" y="35384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26"/>
          <p:cNvSpPr/>
          <p:nvPr/>
        </p:nvSpPr>
        <p:spPr>
          <a:xfrm>
            <a:off x="6654960" y="25002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898560" y="1810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o entre PPA e 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99040" y="25322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9"/>
          <p:cNvSpPr/>
          <p:nvPr/>
        </p:nvSpPr>
        <p:spPr>
          <a:xfrm>
            <a:off x="4199040" y="353844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9"/>
          <p:cNvSpPr/>
          <p:nvPr/>
        </p:nvSpPr>
        <p:spPr>
          <a:xfrm>
            <a:off x="4199040" y="45450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25"/>
          <p:cNvSpPr/>
          <p:nvPr/>
        </p:nvSpPr>
        <p:spPr>
          <a:xfrm>
            <a:off x="6647040" y="45450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upo 6"/>
          <p:cNvGrpSpPr/>
          <p:nvPr/>
        </p:nvGrpSpPr>
        <p:grpSpPr>
          <a:xfrm>
            <a:off x="330120" y="115920"/>
            <a:ext cx="8418600" cy="793800"/>
            <a:chOff x="330120" y="115920"/>
            <a:chExt cx="8418600" cy="793800"/>
          </a:xfrm>
        </p:grpSpPr>
        <p:sp>
          <p:nvSpPr>
            <p:cNvPr id="506" name="Retângulo de cantos arredondados 7"/>
            <p:cNvSpPr/>
            <p:nvPr/>
          </p:nvSpPr>
          <p:spPr>
            <a:xfrm>
              <a:off x="330120" y="115920"/>
              <a:ext cx="8418600" cy="7938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tângulo 8"/>
            <p:cNvSpPr/>
            <p:nvPr/>
          </p:nvSpPr>
          <p:spPr>
            <a:xfrm>
              <a:off x="363240" y="155520"/>
              <a:ext cx="83520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 – R$ 5.52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CaixaDeTexto 5"/>
          <p:cNvSpPr/>
          <p:nvPr/>
        </p:nvSpPr>
        <p:spPr>
          <a:xfrm>
            <a:off x="325080" y="909720"/>
            <a:ext cx="1640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9"/>
          <p:cNvSpPr/>
          <p:nvPr/>
        </p:nvSpPr>
        <p:spPr>
          <a:xfrm>
            <a:off x="331560" y="233028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363600" y="2739960"/>
          <a:ext cx="8312040" cy="3425760"/>
        </p:xfrm>
        <a:graphic>
          <a:graphicData uri="http://schemas.openxmlformats.org/drawingml/2006/table">
            <a:tbl>
              <a:tblPr/>
              <a:tblGrid>
                <a:gridCol w="52560"/>
                <a:gridCol w="533160"/>
                <a:gridCol w="6014160"/>
                <a:gridCol w="1712160"/>
              </a:tblGrid>
              <a:tr h="2858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de Educação Ambi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o Parque Natural Municipal Raimundo Gonçalez Mal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Produtos e Serviços Ambient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servação e Ampliação do Selo Internacional "Bandeira Azul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DEM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7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4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toterapia e Viveiro Mata Atlânt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stentabilidad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Terra Limp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7.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5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teção e Bem Estar Anim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63600" y="1317600"/>
          <a:ext cx="8312040" cy="973080"/>
        </p:xfrm>
        <a:graphic>
          <a:graphicData uri="http://schemas.openxmlformats.org/drawingml/2006/table">
            <a:tbl>
              <a:tblPr/>
              <a:tblGrid>
                <a:gridCol w="52560"/>
                <a:gridCol w="533160"/>
                <a:gridCol w="6014160"/>
                <a:gridCol w="1712160"/>
              </a:tblGrid>
              <a:tr h="4143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9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o Meio Amb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9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e Amparo Aos Animais - F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13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HABITAÇÃO FURBES – R$ 1.983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5" name=""/>
          <p:cNvGraphicFramePr/>
          <p:nvPr/>
        </p:nvGraphicFramePr>
        <p:xfrm>
          <a:off x="500040" y="1197000"/>
          <a:ext cx="8143920" cy="3728880"/>
        </p:xfrm>
        <a:graphic>
          <a:graphicData uri="http://schemas.openxmlformats.org/drawingml/2006/table">
            <a:tbl>
              <a:tblPr/>
              <a:tblGrid>
                <a:gridCol w="52560"/>
                <a:gridCol w="523440"/>
                <a:gridCol w="5890680"/>
                <a:gridCol w="1677240"/>
              </a:tblGrid>
              <a:tr h="4921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1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e Moradia Digna de Interesse So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9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3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Lar Legal e de Legitimação Fundiária/REUR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1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Urbanização, Regularização e Integração de Assentamentos Precári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18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2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R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3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de Promoção Hum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1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Auxílio Moradia aos Benefici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17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RIANÇA E ADOLESCENTE – R$ 6.69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500040" y="1197000"/>
          <a:ext cx="8143920" cy="3384360"/>
        </p:xfrm>
        <a:graphic>
          <a:graphicData uri="http://schemas.openxmlformats.org/drawingml/2006/table">
            <a:tbl>
              <a:tblPr/>
              <a:tblGrid>
                <a:gridCol w="52560"/>
                <a:gridCol w="523440"/>
                <a:gridCol w="5890680"/>
                <a:gridCol w="1677240"/>
              </a:tblGrid>
              <a:tr h="7110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MD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 das Atividades de Atenção à Criança e ao Adolesc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rmos de Parcerias voltadas ao bem estar da Criança e Adolesc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62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à Guarda e à Ado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upo 6"/>
          <p:cNvGrpSpPr/>
          <p:nvPr/>
        </p:nvGrpSpPr>
        <p:grpSpPr>
          <a:xfrm>
            <a:off x="395280" y="115920"/>
            <a:ext cx="8280360" cy="841320"/>
            <a:chOff x="395280" y="115920"/>
            <a:chExt cx="8280360" cy="841320"/>
          </a:xfrm>
        </p:grpSpPr>
        <p:sp>
          <p:nvSpPr>
            <p:cNvPr id="521" name="Retângulo de cantos arredondados 7"/>
            <p:cNvSpPr/>
            <p:nvPr/>
          </p:nvSpPr>
          <p:spPr>
            <a:xfrm>
              <a:off x="395280" y="115920"/>
              <a:ext cx="828036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tângulo 8"/>
            <p:cNvSpPr/>
            <p:nvPr/>
          </p:nvSpPr>
          <p:spPr>
            <a:xfrm>
              <a:off x="426960" y="156960"/>
              <a:ext cx="82170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ASSISTÊNCIA SOCIAL – R$ 3.586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3" name=""/>
          <p:cNvGraphicFramePr/>
          <p:nvPr/>
        </p:nvGraphicFramePr>
        <p:xfrm>
          <a:off x="428760" y="1125360"/>
          <a:ext cx="8215200" cy="4938840"/>
        </p:xfrm>
        <a:graphic>
          <a:graphicData uri="http://schemas.openxmlformats.org/drawingml/2006/table">
            <a:tbl>
              <a:tblPr/>
              <a:tblGrid>
                <a:gridCol w="52560"/>
                <a:gridCol w="472680"/>
                <a:gridCol w="5985360"/>
                <a:gridCol w="1704600"/>
              </a:tblGrid>
              <a:tr h="3416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ão de Acolhimento para Crianças e Adolescentes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e C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Criança Feliz - Primeira Infância no SU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8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onselho - C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Acessuas - Trabalh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5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erviço de Família Acolhedora para Crianças, Idosos e Pessoas com Deficiênc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Gestão do SUAS - IG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2.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4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IGD/ PBF e CadÚn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Especial - M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42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8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Benefícios Eventu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0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25" name="Retângulo de cantos arredondados 7"/>
            <p:cNvSpPr/>
            <p:nvPr/>
          </p:nvSpPr>
          <p:spPr>
            <a:xfrm>
              <a:off x="574560" y="115920"/>
              <a:ext cx="81010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tângulo 8"/>
            <p:cNvSpPr/>
            <p:nvPr/>
          </p:nvSpPr>
          <p:spPr>
            <a:xfrm>
              <a:off x="468360" y="156960"/>
              <a:ext cx="803916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SERVIR – R$ 31.827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627120" y="1197000"/>
          <a:ext cx="7977240" cy="3614760"/>
        </p:xfrm>
        <a:graphic>
          <a:graphicData uri="http://schemas.openxmlformats.org/drawingml/2006/table">
            <a:tbl>
              <a:tblPr/>
              <a:tblGrid>
                <a:gridCol w="52560"/>
                <a:gridCol w="512280"/>
                <a:gridCol w="5770080"/>
                <a:gridCol w="1642320"/>
              </a:tblGrid>
              <a:tr h="5443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FUNSERV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9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ões da Sede Administrativa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2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9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de Saúde do Servid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.0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upo 6"/>
          <p:cNvGrpSpPr/>
          <p:nvPr/>
        </p:nvGrpSpPr>
        <p:grpSpPr>
          <a:xfrm>
            <a:off x="539640" y="115920"/>
            <a:ext cx="8136000" cy="841320"/>
            <a:chOff x="539640" y="115920"/>
            <a:chExt cx="8136000" cy="841320"/>
          </a:xfrm>
        </p:grpSpPr>
        <p:sp>
          <p:nvSpPr>
            <p:cNvPr id="529" name="Retângulo de cantos arredondados 7"/>
            <p:cNvSpPr/>
            <p:nvPr/>
          </p:nvSpPr>
          <p:spPr>
            <a:xfrm>
              <a:off x="539640" y="115920"/>
              <a:ext cx="81360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tângulo 8"/>
            <p:cNvSpPr/>
            <p:nvPr/>
          </p:nvSpPr>
          <p:spPr>
            <a:xfrm>
              <a:off x="571320" y="156960"/>
              <a:ext cx="807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MPRESI - BOMBEIROS – R$ 2.843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1" name=""/>
          <p:cNvGraphicFramePr/>
          <p:nvPr/>
        </p:nvGraphicFramePr>
        <p:xfrm>
          <a:off x="571680" y="1125360"/>
          <a:ext cx="8072280" cy="3456000"/>
        </p:xfrm>
        <a:graphic>
          <a:graphicData uri="http://schemas.openxmlformats.org/drawingml/2006/table">
            <a:tbl>
              <a:tblPr/>
              <a:tblGrid>
                <a:gridCol w="52560"/>
                <a:gridCol w="518760"/>
                <a:gridCol w="5838120"/>
                <a:gridCol w="1662840"/>
              </a:tblGrid>
              <a:tr h="7272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1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ão do Centro de Treinamento do Corpo de Bombeir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quipamentos diversos -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28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Grupo 6"/>
          <p:cNvGrpSpPr/>
          <p:nvPr/>
        </p:nvGrpSpPr>
        <p:grpSpPr>
          <a:xfrm>
            <a:off x="468360" y="115920"/>
            <a:ext cx="8207280" cy="841320"/>
            <a:chOff x="468360" y="115920"/>
            <a:chExt cx="8207280" cy="841320"/>
          </a:xfrm>
        </p:grpSpPr>
        <p:sp>
          <p:nvSpPr>
            <p:cNvPr id="533" name="Retângulo de cantos arredondados 7"/>
            <p:cNvSpPr/>
            <p:nvPr/>
          </p:nvSpPr>
          <p:spPr>
            <a:xfrm>
              <a:off x="468360" y="115920"/>
              <a:ext cx="820728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tângulo 8"/>
            <p:cNvSpPr/>
            <p:nvPr/>
          </p:nvSpPr>
          <p:spPr>
            <a:xfrm>
              <a:off x="500040" y="156960"/>
              <a:ext cx="81439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SPORTE – FME – R$ 8.322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5" name=""/>
          <p:cNvGraphicFramePr/>
          <p:nvPr/>
        </p:nvGraphicFramePr>
        <p:xfrm>
          <a:off x="500040" y="1220760"/>
          <a:ext cx="8145360" cy="4800600"/>
        </p:xfrm>
        <a:graphic>
          <a:graphicData uri="http://schemas.openxmlformats.org/drawingml/2006/table">
            <a:tbl>
              <a:tblPr/>
              <a:tblGrid>
                <a:gridCol w="52560"/>
                <a:gridCol w="523440"/>
                <a:gridCol w="5891760"/>
                <a:gridCol w="167760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Alternativos de Espor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raça Esportiva Infant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s e Revitaliz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áticas Esportivas Para Crianças e Adolescent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e Apoio das Atividades Espor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3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9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Conserv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e Participação em Event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Bolsa Atlet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 Projetos Esportiv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upo 6"/>
          <p:cNvGrpSpPr/>
          <p:nvPr/>
        </p:nvGrpSpPr>
        <p:grpSpPr>
          <a:xfrm>
            <a:off x="395280" y="115920"/>
            <a:ext cx="8280360" cy="841320"/>
            <a:chOff x="395280" y="115920"/>
            <a:chExt cx="8280360" cy="841320"/>
          </a:xfrm>
        </p:grpSpPr>
        <p:sp>
          <p:nvSpPr>
            <p:cNvPr id="537" name="Retângulo de cantos arredondados 7"/>
            <p:cNvSpPr/>
            <p:nvPr/>
          </p:nvSpPr>
          <p:spPr>
            <a:xfrm>
              <a:off x="395280" y="115920"/>
              <a:ext cx="828036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tângulo 8"/>
            <p:cNvSpPr/>
            <p:nvPr/>
          </p:nvSpPr>
          <p:spPr>
            <a:xfrm>
              <a:off x="426960" y="156960"/>
              <a:ext cx="82170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BCTRÂNSITO – R$ 17.515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"/>
          <p:cNvGraphicFramePr/>
          <p:nvPr/>
        </p:nvGraphicFramePr>
        <p:xfrm>
          <a:off x="426960" y="1052640"/>
          <a:ext cx="8217000" cy="4968720"/>
        </p:xfrm>
        <a:graphic>
          <a:graphicData uri="http://schemas.openxmlformats.org/drawingml/2006/table">
            <a:tbl>
              <a:tblPr/>
              <a:tblGrid>
                <a:gridCol w="52560"/>
                <a:gridCol w="528480"/>
                <a:gridCol w="5942880"/>
                <a:gridCol w="1693080"/>
              </a:tblGrid>
              <a:tr h="3506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 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8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Ciclovias, Ciclofaixas, Ciclorrotas e Paracicl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BC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4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BC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Convênio de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243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8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Civil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Milit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ções de Educação para Segurança no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ciamento e Fiscalização do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4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8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genharia de Tráfego e de Ca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aptações e Manutenções da Sinalização Vi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5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0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elhorias no Transporte Coletiv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upo 6"/>
          <p:cNvGrpSpPr/>
          <p:nvPr/>
        </p:nvGrpSpPr>
        <p:grpSpPr>
          <a:xfrm>
            <a:off x="627120" y="115920"/>
            <a:ext cx="7908840" cy="841320"/>
            <a:chOff x="627120" y="115920"/>
            <a:chExt cx="7908840" cy="841320"/>
          </a:xfrm>
        </p:grpSpPr>
        <p:sp>
          <p:nvSpPr>
            <p:cNvPr id="541" name="Retângulo de cantos arredondados 7"/>
            <p:cNvSpPr/>
            <p:nvPr/>
          </p:nvSpPr>
          <p:spPr>
            <a:xfrm>
              <a:off x="627120" y="115920"/>
              <a:ext cx="790884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tângulo 8"/>
            <p:cNvSpPr/>
            <p:nvPr/>
          </p:nvSpPr>
          <p:spPr>
            <a:xfrm>
              <a:off x="657000" y="156960"/>
              <a:ext cx="78487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OCON – R$ 547 mi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627120" y="1197000"/>
          <a:ext cx="7908840" cy="3378240"/>
        </p:xfrm>
        <a:graphic>
          <a:graphicData uri="http://schemas.openxmlformats.org/drawingml/2006/table">
            <a:tbl>
              <a:tblPr/>
              <a:tblGrid>
                <a:gridCol w="52560"/>
                <a:gridCol w="52560"/>
                <a:gridCol w="490320"/>
                <a:gridCol w="5692680"/>
                <a:gridCol w="1620720"/>
              </a:tblGrid>
              <a:tr h="6760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50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Processo Eletrônico - PRO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0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464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fesa dos Direitos do Consumido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2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7644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de Seminários  e Congres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upo 6"/>
          <p:cNvGrpSpPr/>
          <p:nvPr/>
        </p:nvGrpSpPr>
        <p:grpSpPr>
          <a:xfrm>
            <a:off x="539640" y="133200"/>
            <a:ext cx="8209080" cy="841680"/>
            <a:chOff x="539640" y="133200"/>
            <a:chExt cx="8209080" cy="841680"/>
          </a:xfrm>
        </p:grpSpPr>
        <p:sp>
          <p:nvSpPr>
            <p:cNvPr id="545" name="Retângulo de cantos arredondados 7"/>
            <p:cNvSpPr/>
            <p:nvPr/>
          </p:nvSpPr>
          <p:spPr>
            <a:xfrm>
              <a:off x="539640" y="133200"/>
              <a:ext cx="8209080" cy="8416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tângulo 8"/>
            <p:cNvSpPr/>
            <p:nvPr/>
          </p:nvSpPr>
          <p:spPr>
            <a:xfrm>
              <a:off x="571320" y="174240"/>
              <a:ext cx="79725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ULTURA - FCBC – R$ 3.471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7" name=""/>
          <p:cNvGraphicFramePr/>
          <p:nvPr/>
        </p:nvGraphicFramePr>
        <p:xfrm>
          <a:off x="571680" y="1123920"/>
          <a:ext cx="8116560" cy="4897440"/>
        </p:xfrm>
        <a:graphic>
          <a:graphicData uri="http://schemas.openxmlformats.org/drawingml/2006/table">
            <a:tbl>
              <a:tblPr/>
              <a:tblGrid>
                <a:gridCol w="53280"/>
                <a:gridCol w="520200"/>
                <a:gridCol w="5870880"/>
                <a:gridCol w="167220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C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5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e Ampliação de Espaços Cultur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FC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4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Culturais e Patrimônios Cultur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5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de Valorização do Artista Local (PEVAL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Oficinas Cultur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Cultural - Lei do Mecena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4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mento Cultural - LI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6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 Projetos Artísticos e Cultur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71280" y="1988640"/>
            <a:ext cx="71578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RECEIT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Origem dos Recursos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547640" y="2286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20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upo 6"/>
          <p:cNvGrpSpPr/>
          <p:nvPr/>
        </p:nvGrpSpPr>
        <p:grpSpPr>
          <a:xfrm>
            <a:off x="468360" y="115920"/>
            <a:ext cx="8136000" cy="841320"/>
            <a:chOff x="468360" y="115920"/>
            <a:chExt cx="8136000" cy="841320"/>
          </a:xfrm>
        </p:grpSpPr>
        <p:sp>
          <p:nvSpPr>
            <p:cNvPr id="549" name="Retângulo de cantos arredondados 7"/>
            <p:cNvSpPr/>
            <p:nvPr/>
          </p:nvSpPr>
          <p:spPr>
            <a:xfrm>
              <a:off x="468360" y="115920"/>
              <a:ext cx="8136000" cy="841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tângulo 8"/>
            <p:cNvSpPr/>
            <p:nvPr/>
          </p:nvSpPr>
          <p:spPr>
            <a:xfrm>
              <a:off x="500040" y="156960"/>
              <a:ext cx="807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EVIDÊNCIA – BCPREVI – R$ 206.955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1" name=""/>
          <p:cNvGraphicFramePr/>
          <p:nvPr/>
        </p:nvGraphicFramePr>
        <p:xfrm>
          <a:off x="500040" y="1125360"/>
          <a:ext cx="8104320" cy="417528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1880"/>
                <a:gridCol w="1669320"/>
              </a:tblGrid>
              <a:tr h="6289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2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PREV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Benefício Previdenc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2.539.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Taxa de Administração do RPP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2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de Benefícios Previdenciári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7.0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0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Sentenças e Precatórios do RP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upo 6"/>
          <p:cNvGrpSpPr/>
          <p:nvPr/>
        </p:nvGrpSpPr>
        <p:grpSpPr>
          <a:xfrm>
            <a:off x="436680" y="69840"/>
            <a:ext cx="8281800" cy="839880"/>
            <a:chOff x="436680" y="69840"/>
            <a:chExt cx="8281800" cy="839880"/>
          </a:xfrm>
        </p:grpSpPr>
        <p:sp>
          <p:nvSpPr>
            <p:cNvPr id="553" name="Retângulo de cantos arredondados 7"/>
            <p:cNvSpPr/>
            <p:nvPr/>
          </p:nvSpPr>
          <p:spPr>
            <a:xfrm>
              <a:off x="436680" y="69840"/>
              <a:ext cx="82818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tângulo 8"/>
            <p:cNvSpPr/>
            <p:nvPr/>
          </p:nvSpPr>
          <p:spPr>
            <a:xfrm>
              <a:off x="498240" y="93600"/>
              <a:ext cx="82184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MASA – R$ 95.300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5" name=""/>
          <p:cNvGraphicFramePr/>
          <p:nvPr/>
        </p:nvGraphicFramePr>
        <p:xfrm>
          <a:off x="436680" y="1052640"/>
          <a:ext cx="8238960" cy="5040360"/>
        </p:xfrm>
        <a:graphic>
          <a:graphicData uri="http://schemas.openxmlformats.org/drawingml/2006/table">
            <a:tbl>
              <a:tblPr/>
              <a:tblGrid>
                <a:gridCol w="52560"/>
                <a:gridCol w="529920"/>
                <a:gridCol w="5958720"/>
                <a:gridCol w="1697760"/>
              </a:tblGrid>
              <a:tr h="2808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do Déficit Atuarial do RPP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7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na captaçã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Rios e Córreg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Reservatório para Água Tra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as Estações de Tratamento d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.317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mentação do Projeto Rio Camboriú 20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do Parque Inundá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- Praias Agres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.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Abasteciment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4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EMA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014.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catórios e Sentenças Judiciai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4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Água 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.283.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Drenagem Urb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rodutor de Água do Rio Cambori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upo 6"/>
          <p:cNvGrpSpPr/>
          <p:nvPr/>
        </p:nvGrpSpPr>
        <p:grpSpPr>
          <a:xfrm>
            <a:off x="539640" y="189000"/>
            <a:ext cx="8136000" cy="839880"/>
            <a:chOff x="539640" y="189000"/>
            <a:chExt cx="8136000" cy="839880"/>
          </a:xfrm>
        </p:grpSpPr>
        <p:sp>
          <p:nvSpPr>
            <p:cNvPr id="557" name="Retângulo de cantos arredondados 7"/>
            <p:cNvSpPr/>
            <p:nvPr/>
          </p:nvSpPr>
          <p:spPr>
            <a:xfrm>
              <a:off x="539640" y="189000"/>
              <a:ext cx="81360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tângulo 8"/>
            <p:cNvSpPr/>
            <p:nvPr/>
          </p:nvSpPr>
          <p:spPr>
            <a:xfrm>
              <a:off x="571320" y="230040"/>
              <a:ext cx="8072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ÂMARA DE VEREADORES – R$24.326 m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9" name=""/>
          <p:cNvGraphicFramePr/>
          <p:nvPr/>
        </p:nvGraphicFramePr>
        <p:xfrm>
          <a:off x="539640" y="1197000"/>
          <a:ext cx="8105760" cy="349236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3680"/>
                <a:gridCol w="1668960"/>
              </a:tblGrid>
              <a:tr h="582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Administração de Pessoal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5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ssos Administrativos do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32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 Reparos da Infraestrutur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1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Rádio e TV Câmar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col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539640" y="1052640"/>
          <a:ext cx="8105760" cy="108108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3680"/>
                <a:gridCol w="1668960"/>
              </a:tblGrid>
              <a:tr h="541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0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PM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61" name="CaixaDeTexto 3"/>
          <p:cNvSpPr/>
          <p:nvPr/>
        </p:nvSpPr>
        <p:spPr>
          <a:xfrm>
            <a:off x="598320" y="4292640"/>
            <a:ext cx="754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alibri"/>
              </a:rPr>
              <a:t>RESERVA DE CONTINGÊNCIA – R$ 100 MIL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upo 6"/>
          <p:cNvGrpSpPr/>
          <p:nvPr/>
        </p:nvGrpSpPr>
        <p:grpSpPr>
          <a:xfrm>
            <a:off x="473040" y="2717640"/>
            <a:ext cx="8136000" cy="839880"/>
            <a:chOff x="473040" y="2717640"/>
            <a:chExt cx="8136000" cy="839880"/>
          </a:xfrm>
        </p:grpSpPr>
        <p:sp>
          <p:nvSpPr>
            <p:cNvPr id="563" name="Retângulo de cantos arredondados 7"/>
            <p:cNvSpPr/>
            <p:nvPr/>
          </p:nvSpPr>
          <p:spPr>
            <a:xfrm>
              <a:off x="473040" y="2717640"/>
              <a:ext cx="81360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tângulo 17"/>
            <p:cNvSpPr/>
            <p:nvPr/>
          </p:nvSpPr>
          <p:spPr>
            <a:xfrm>
              <a:off x="504720" y="2758680"/>
              <a:ext cx="807264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AD – R$ 31.200 mi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Grupo 6"/>
          <p:cNvGrpSpPr/>
          <p:nvPr/>
        </p:nvGrpSpPr>
        <p:grpSpPr>
          <a:xfrm>
            <a:off x="490680" y="93600"/>
            <a:ext cx="8137440" cy="839880"/>
            <a:chOff x="490680" y="93600"/>
            <a:chExt cx="8137440" cy="839880"/>
          </a:xfrm>
        </p:grpSpPr>
        <p:sp>
          <p:nvSpPr>
            <p:cNvPr id="566" name="Retângulo de cantos arredondados 7"/>
            <p:cNvSpPr/>
            <p:nvPr/>
          </p:nvSpPr>
          <p:spPr>
            <a:xfrm>
              <a:off x="490680" y="93600"/>
              <a:ext cx="81374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tângulo 20"/>
            <p:cNvSpPr/>
            <p:nvPr/>
          </p:nvSpPr>
          <p:spPr>
            <a:xfrm>
              <a:off x="522360" y="134640"/>
              <a:ext cx="807408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RESERVA DE CONTINGÊNCIA – R$100 mi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8" name=""/>
          <p:cNvGraphicFramePr/>
          <p:nvPr/>
        </p:nvGraphicFramePr>
        <p:xfrm>
          <a:off x="485640" y="3687840"/>
          <a:ext cx="8094960" cy="120492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54320"/>
                <a:gridCol w="1667520"/>
              </a:tblGrid>
              <a:tr h="6030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1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ealização de Eventos pelo COM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1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“O sucesso é a soma de pequenos esforços repetidos dia após dia” Robert Collier"/>
          <p:cNvPicPr/>
          <p:nvPr/>
        </p:nvPicPr>
        <p:blipFill>
          <a:blip r:embed="rId1"/>
          <a:stretch/>
        </p:blipFill>
        <p:spPr>
          <a:xfrm>
            <a:off x="1262160" y="652320"/>
            <a:ext cx="6619680" cy="47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4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OBRIGADA PELA ATEN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826920" y="295128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Elabo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Apresent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1" descr=""/>
          <p:cNvPicPr/>
          <p:nvPr/>
        </p:nvPicPr>
        <p:blipFill>
          <a:blip r:embed="rId1"/>
          <a:stretch/>
        </p:blipFill>
        <p:spPr>
          <a:xfrm>
            <a:off x="3616200" y="2392200"/>
            <a:ext cx="2808360" cy="11192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3571920" y="3914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561840" y="4508640"/>
            <a:ext cx="346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e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e Gest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aixaDeTexto 1"/>
          <p:cNvSpPr/>
          <p:nvPr/>
        </p:nvSpPr>
        <p:spPr>
          <a:xfrm>
            <a:off x="1618920" y="567684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Liliane Maria </a:t>
            </a:r>
            <a:r>
              <a:rPr b="0" lang="pt-BR" sz="1800" spc="-1" strike="noStrike">
                <a:solidFill>
                  <a:srgbClr val="548235"/>
                </a:solidFill>
                <a:latin typeface="Tahoma"/>
                <a:ea typeface="Tahoma"/>
              </a:rPr>
              <a:t>Novaes</a:t>
            </a: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 – LLN Consultoria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70102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EVOLUÇÃO DA RECEITA TOTAL</a:t>
            </a:r>
            <a:endParaRPr b="0" lang="en-US" sz="3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55640" y="1165320"/>
          <a:ext cx="7672320" cy="4363920"/>
        </p:xfrm>
        <a:graphic>
          <a:graphicData uri="http://schemas.openxmlformats.org/drawingml/2006/table">
            <a:tbl>
              <a:tblPr/>
              <a:tblGrid>
                <a:gridCol w="808200"/>
                <a:gridCol w="1774800"/>
                <a:gridCol w="1585800"/>
                <a:gridCol w="1592280"/>
                <a:gridCol w="1911240"/>
              </a:tblGrid>
              <a:tr h="89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RRECAD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(EXECUTA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PREVIS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EVOLUÇÃO EM RELAÇÃO AO AN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.58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8.8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2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.15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7.0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17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6.3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26%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1%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4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8.0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7.6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sp>
        <p:nvSpPr>
          <p:cNvPr id="366" name="CaixaDeTexto 2"/>
          <p:cNvSpPr/>
          <p:nvPr/>
        </p:nvSpPr>
        <p:spPr>
          <a:xfrm>
            <a:off x="6739920" y="847800"/>
            <a:ext cx="1680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aixaDeTexto 2"/>
          <p:cNvSpPr/>
          <p:nvPr/>
        </p:nvSpPr>
        <p:spPr>
          <a:xfrm>
            <a:off x="664200" y="56307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  <a:ea typeface="Tahoma"/>
              </a:rPr>
              <a:t>Previsão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RECEITAS LDO 2022 </a:t>
            </a:r>
            <a:br>
              <a:rPr sz="4000"/>
            </a:br>
            <a:r>
              <a:rPr b="1" lang="pt-BR" sz="1700" spc="-1" strike="noStrike">
                <a:solidFill>
                  <a:srgbClr val="3b3838"/>
                </a:solidFill>
                <a:latin typeface="Calibri Light"/>
              </a:rPr>
              <a:t>POR CATEGORIA ECONÔMICA</a:t>
            </a:r>
            <a:endParaRPr b="0" lang="en-US" sz="17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116000" y="1557360"/>
          <a:ext cx="6913440" cy="3313080"/>
        </p:xfrm>
        <a:graphic>
          <a:graphicData uri="http://schemas.openxmlformats.org/drawingml/2006/table">
            <a:tbl>
              <a:tblPr/>
              <a:tblGrid>
                <a:gridCol w="3476520"/>
                <a:gridCol w="1941480"/>
                <a:gridCol w="1495440"/>
              </a:tblGrid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CORREN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4.201.97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01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35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-ORÇAMENTÁR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.591.48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33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DE CAPI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.807.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1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7.600.96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28"/>
          <p:cNvSpPr/>
          <p:nvPr/>
        </p:nvSpPr>
        <p:spPr>
          <a:xfrm>
            <a:off x="1434960" y="11160"/>
            <a:ext cx="61930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RECEITAS LDO 2022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b3838"/>
                </a:solidFill>
                <a:latin typeface="Arial"/>
              </a:rPr>
              <a:t>PELA ORI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39640" y="981000"/>
          <a:ext cx="7993080" cy="4896000"/>
        </p:xfrm>
        <a:graphic>
          <a:graphicData uri="http://schemas.openxmlformats.org/drawingml/2006/table">
            <a:tbl>
              <a:tblPr/>
              <a:tblGrid>
                <a:gridCol w="5040360"/>
                <a:gridCol w="1800360"/>
                <a:gridCol w="1152360"/>
              </a:tblGrid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e Tax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.249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.015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.355.9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458.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Uni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.535.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3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828.3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e Operações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.12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onvên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48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(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/OUC/ICON/ICAD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1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1c1c11"/>
                          </a:solidFill>
                          <a:latin typeface="Arial"/>
                        </a:rPr>
                        <a:t>1.297.600.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01240" y="259920"/>
            <a:ext cx="6985080" cy="6224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RECEITA PRÓPRIA MUNICIPAL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CaixaDeTexto 1"/>
          <p:cNvSpPr/>
          <p:nvPr/>
        </p:nvSpPr>
        <p:spPr>
          <a:xfrm>
            <a:off x="1524960" y="5661000"/>
            <a:ext cx="6427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Receita própria representa  67,17% do valor total previ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aixaDeTexto 1"/>
          <p:cNvSpPr/>
          <p:nvPr/>
        </p:nvSpPr>
        <p:spPr>
          <a:xfrm>
            <a:off x="1235520" y="5059440"/>
            <a:ext cx="5417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Receitas: OUC / SOLO /  ICON/ICAD (Estatuto das Cidad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900000" y="1197000"/>
          <a:ext cx="7488360" cy="3744720"/>
        </p:xfrm>
        <a:graphic>
          <a:graphicData uri="http://schemas.openxmlformats.org/drawingml/2006/table">
            <a:tbl>
              <a:tblPr/>
              <a:tblGrid>
                <a:gridCol w="4589640"/>
                <a:gridCol w="1770120"/>
                <a:gridCol w="1128600"/>
              </a:tblGrid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.249.8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015.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355.95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DE SERVIÇ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458.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28.33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ÕES DE BE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0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1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1.639.8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0cec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Juliana Elisabeth Gonçalves</cp:lastModifiedBy>
  <cp:lastPrinted>2018-07-30T19:13:03Z</cp:lastPrinted>
  <dcterms:modified xsi:type="dcterms:W3CDTF">2021-07-30T21:00:03Z</dcterms:modified>
  <cp:revision>915</cp:revision>
  <dc:subject/>
  <dc:title>AUDIÊNCIA PÚBLICA 29/09/2005</dc:title>
</cp:coreProperties>
</file>