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1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dt" idx="5"/>
          </p:nvPr>
        </p:nvSpPr>
        <p:spPr>
          <a:xfrm>
            <a:off x="385128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60800" cy="3721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sldNum" idx="6"/>
          </p:nvPr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CD94B-BA96-475B-87D2-7C976866339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DCC75-4DC6-4B22-86D6-F630569D5B4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3501E3-EE20-4880-BC00-DD87645787F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B57D4-10A9-4C8D-9526-A8E8987C695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7ABD6-8A4D-4237-A9D0-848FDC99672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FA159-7E2A-4F00-AF71-4597F308B93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61D64C-A4C1-4FC9-A38C-5EEACAF9683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A09F4-FF65-46D1-97AD-F34DC9ECA2F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FEITO EM FORMA DE ESCADA REPRESENTANDO A FORMA DE ALCANÇAR A ME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6BDF67-9C63-46B6-80EE-EBEF0960DE9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DBC4C-4CE8-4B7F-8402-509B3E5DE9C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76FCB-0673-4BE4-B9EB-1720C88174F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8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79E38-6363-43A9-BF79-23AB4554567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0" name="Text Box 2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8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1E46D-BE1C-477D-B18E-5F7E1EE7D7F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Text Box 2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69F27-6943-47EE-A37D-542C69ADE6A3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C3C67-8C97-4927-B68A-67B6B6A8E40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897CB-C1F0-4585-B05D-DC8526E1FD5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89B89-B5A5-46F8-AE93-F097CFE9BAC0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40AE6-D579-48DB-9795-AFCE9F19278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E94D9-7A93-437B-ACFB-EE0B9EBC15C3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0E5EC-B274-4CD7-BBF8-6B353974D0CC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A939B-043C-47B2-97D0-FCE9E3FBD8D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877BD-4794-489D-90BE-A0041052794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7230E-6FCE-48B3-900A-F678E90EAFA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52E3E-14D9-47F3-8B5A-3D4EC8F4C33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32A89-71B7-4140-BCBB-0CC9F94387B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627AD-E597-466D-8DBB-103D51F295D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7D90B-929A-410B-B476-1B3CDCADCD5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18E82-6E48-41B0-A20E-29C351BD9E8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CEA89-7692-4565-8BCC-41651B0A041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494E2-DC97-426A-BFB4-7974A893C36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DA5294-8B98-4C70-BDCA-E3E39339819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D66CD-FAB1-41D0-99ED-A29D026A08CC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2CF35-2D60-42ED-9FC2-F41030CF064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41513-0EB8-49B6-8012-03E0935FAE6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8FA24-D48A-4BED-A313-23990764390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CC991-7CAF-4460-9A49-166502C9021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AEFDF-31CA-4E2E-9C79-EF3296CF1CF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98D62-BD02-4C95-9C85-4F5C8683624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F68FD-A3FD-440A-9169-9D5458ACE92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B27DE-4672-4FAC-BDFF-4F2C0EA34AF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9D656-3710-4791-A0D3-481BD48C6EA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D269B-F055-4FBC-8231-55F1A0477495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3A79F-43C9-4AFE-BFBB-992759417C0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E3394-5DB0-4935-A1FC-8C38C72F24B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8FC42-CEBA-4583-BBBB-0FF2E6C50CBA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64F07-D1F6-4062-A9A2-8190A62D0DE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B8CF1-0690-41C9-8009-BAF071D9F0F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2F7F17-385E-41B7-ADA3-A826298B082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06A02-A88F-4657-9E0C-7DC87E257AE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D5402-3989-415C-8FE4-1C68A2762CE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15C1F-974E-401F-80EB-4370F34FD6E4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FA0B5-7640-4B08-B3D3-984669D9C1C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8409B-1383-4597-93D3-EB5A385EED46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966576-43AA-4CC0-A385-015D618988AF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3F05A-F4FA-43A9-AC59-76D8E26B378C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0C6F9-D566-4408-AFA9-B5E659C49C48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98398-01E4-41E4-B4E4-F7378D53C377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03D742-3A55-4AB1-99C3-95D94BCEE91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4532-C18D-42B6-9C50-903529176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D341-8295-4473-B4A7-020643CCB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74DE1-78C3-457B-B19F-AFB3BC4DB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C46B-50A8-4F72-91EA-DFE19DC04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DB20-D077-4F77-A79B-D4C97407C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DDAFB-FC35-4DAE-B194-DD0072C63A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8F9C-DF50-42DA-9E38-A803D36B00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3FE2-EC4E-4827-8C9A-09F83B2B93F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CFEB-993B-4F44-BA92-DDABE1B58A6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1EE4D-6C30-4ED9-AC67-A4072DA188B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41B58-3F42-4745-80D3-19FE9B370E6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3A44F-F9B5-4BA0-8151-DB10AA88D34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48BD6-27D5-463C-A033-F7681621B3E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9E57E-85B6-4191-BF54-94B6CF19393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EF044-062A-4DCA-94DA-AA0B7313D8C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269C4-DA8C-4C7F-ADB5-90B567B4C60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72DA6-8BB7-4619-9D83-1D31CC2D250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5D564-0C24-4C79-BD56-1A38EFE18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5CA7-6F31-4F86-B870-D391D72289A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1035-C6ED-4447-BC7A-08CFAD87321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CA64A-C758-4C70-9611-8C4737FF8D5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A5174-D5BE-4D42-93AA-05469DB5B39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332-061A-4455-BCFB-2E0FE6D59CA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42D-C52D-4A23-AE47-5547EE03A20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5D0F-86F8-41FB-8BD0-51CEB03CA60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3A2A-1F5D-4250-920B-581AC947F00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DBB-1F0E-4C0A-B230-DC9E3DD665F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2C5-769F-4A35-A6FA-7F38CDA2DD9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B129-2825-4756-B6F2-C48038BC5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1B84-4C9F-44CC-B0F3-80D0678F422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30A4-12B4-408B-9C33-98E50DC144B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0E9E-0DA0-409B-A6D0-F3DBD06ECFF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EB2-0AF6-4C0E-997F-A299025ED38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29A6-CF6C-4F04-8159-7D30C36E50F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A8C-ECB2-4A94-AAF6-73CA9569626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8C149-AC3E-4FC4-A0AB-0A971ED0F1F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77E61-28B4-4C43-A435-A4FC753DDFA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6C907-1B34-4EB4-8B96-7E36EBC6B90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94688-8F06-48CA-AE41-9CD1C2C1B15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06328-E1DB-4D06-B8CB-50A126A7E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628B-3968-4E9E-A132-F49EB9F511A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293E5-8784-437F-ABB9-598C3772529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3A9E3-20C5-4CAF-80BC-A1B95F7E328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5B69A-BB75-413E-82B5-46853DE8CBF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4124F-D3DD-4B8E-961D-A41BF2BDCB9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52123-DE39-4F09-A697-B2957E224AA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333FE-9BDD-4B18-9B17-06798D3148E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0DE87-4DFA-4B00-8A06-129E57DA2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B4BEC2-83DA-4856-B8CE-7D90C8537F36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5"/>
          <a:stretch/>
        </p:blipFill>
        <p:spPr>
          <a:xfrm>
            <a:off x="1787400" y="2503440"/>
            <a:ext cx="5569200" cy="213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5"/>
          <a:stretch/>
        </p:blipFill>
        <p:spPr>
          <a:xfrm>
            <a:off x="6319800" y="5649840"/>
            <a:ext cx="2414520" cy="928800"/>
          </a:xfrm>
          <a:prstGeom prst="rect">
            <a:avLst/>
          </a:prstGeom>
          <a:ln w="0">
            <a:noFill/>
          </a:ln>
        </p:spPr>
      </p:pic>
      <p:sp>
        <p:nvSpPr>
          <p:cNvPr id="123" name="Line 5"/>
          <p:cNvSpPr/>
          <p:nvPr/>
        </p:nvSpPr>
        <p:spPr>
          <a:xfrm>
            <a:off x="0" y="5322960"/>
            <a:ext cx="9128160" cy="12600"/>
          </a:xfrm>
          <a:prstGeom prst="line">
            <a:avLst/>
          </a:prstGeom>
          <a:ln cap="sq"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5"/>
          <a:stretch/>
        </p:blipFill>
        <p:spPr>
          <a:xfrm>
            <a:off x="1079640" y="3780000"/>
            <a:ext cx="2414520" cy="92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571500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Num" idx="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09AAA0-9012-44D8-945D-F3B09E2D64B0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571500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Num" idx="3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9EFAF3-E187-4A1C-9AF3-1B41423CDE13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3"/>
          <p:cNvSpPr/>
          <p:nvPr/>
        </p:nvSpPr>
        <p:spPr>
          <a:xfrm>
            <a:off x="571500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Num" idx="4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475DF9-CD1B-4F7D-BC7E-9CE159C0EE9F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-324000" y="3645000"/>
            <a:ext cx="97934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Orçamento Anu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Verdana"/>
              </a:rPr>
              <a:t>Exercício de 202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1547640" y="907920"/>
            <a:ext cx="5689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6800" spc="-1" strike="noStrike">
                <a:solidFill>
                  <a:srgbClr val="4472c4"/>
                </a:solidFill>
                <a:latin typeface="Arial Black"/>
              </a:rPr>
              <a:t>AUDIÊNCIA PÚBLICA</a:t>
            </a:r>
            <a:br>
              <a:rPr sz="5500"/>
            </a:br>
            <a:r>
              <a:rPr b="1" lang="pt-BR" sz="3300" spc="-1" strike="noStrike">
                <a:solidFill>
                  <a:srgbClr val="595959"/>
                </a:solidFill>
                <a:latin typeface="Arial"/>
                <a:ea typeface="Arial"/>
              </a:rPr>
              <a:t>30/09/2024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"/>
          <p:cNvSpPr/>
          <p:nvPr/>
        </p:nvSpPr>
        <p:spPr>
          <a:xfrm>
            <a:off x="971640" y="1197000"/>
            <a:ext cx="71276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2f5597"/>
                </a:solidFill>
                <a:latin typeface="Calibri Light"/>
              </a:rPr>
              <a:t>Estimativa de Receitas – LOA 2025</a:t>
            </a:r>
            <a:br>
              <a:rPr sz="4000"/>
            </a:br>
            <a:r>
              <a:rPr b="1" lang="pt-BR" sz="1600" spc="-1" strike="noStrike">
                <a:solidFill>
                  <a:srgbClr val="2f5597"/>
                </a:solidFill>
                <a:latin typeface="Calibri Light"/>
              </a:rPr>
              <a:t>POR CATEGORIA ECONÔM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395280" y="189000"/>
            <a:ext cx="8424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c000"/>
                </a:solidFill>
                <a:latin typeface="Arial"/>
              </a:rPr>
              <a:t>LOA 20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042920" y="2421000"/>
          <a:ext cx="7131240" cy="2738520"/>
        </p:xfrm>
        <a:graphic>
          <a:graphicData uri="http://schemas.openxmlformats.org/drawingml/2006/table">
            <a:tbl>
              <a:tblPr/>
              <a:tblGrid>
                <a:gridCol w="3602160"/>
                <a:gridCol w="2305080"/>
                <a:gridCol w="1224000"/>
              </a:tblGrid>
              <a:tr h="5443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323232"/>
                          </a:solidFill>
                          <a:latin typeface="Calibri"/>
                        </a:rPr>
                        <a:t>RECEITAS CORRE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23232"/>
                          </a:solidFill>
                          <a:latin typeface="Calibri"/>
                        </a:rPr>
                        <a:t>1.741.133.7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23232"/>
                          </a:solidFill>
                          <a:latin typeface="Calibri"/>
                        </a:rPr>
                        <a:t>85,5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02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323232"/>
                          </a:solidFill>
                          <a:latin typeface="Calibri"/>
                        </a:rPr>
                        <a:t>DEDUÇÕES P/FUNDE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23232"/>
                          </a:solidFill>
                          <a:latin typeface="Calibri"/>
                        </a:rPr>
                        <a:t>-67.28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23232"/>
                          </a:solidFill>
                          <a:latin typeface="Calibri"/>
                        </a:rPr>
                        <a:t>-3,3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1920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323232"/>
                          </a:solidFill>
                          <a:latin typeface="Calibri"/>
                        </a:rPr>
                        <a:t>RECEITAS INTRA-ORÇAMENTÁRI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23232"/>
                          </a:solidFill>
                          <a:latin typeface="Calibri"/>
                        </a:rPr>
                        <a:t>148.639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23232"/>
                          </a:solidFill>
                          <a:latin typeface="Calibri"/>
                        </a:rPr>
                        <a:t>7,3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02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323232"/>
                          </a:solidFill>
                          <a:latin typeface="Calibri"/>
                        </a:rPr>
                        <a:t>RECEITAS DE CAPI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23232"/>
                          </a:solidFill>
                          <a:latin typeface="Calibri"/>
                        </a:rPr>
                        <a:t>211.970.2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23232"/>
                          </a:solidFill>
                          <a:latin typeface="Calibri"/>
                        </a:rPr>
                        <a:t>10,4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44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323232"/>
                          </a:solidFill>
                          <a:latin typeface="Calibri"/>
                        </a:rPr>
                        <a:t>TOTAL GERAL LÍQUI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8568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323232"/>
                          </a:solidFill>
                          <a:latin typeface="Calibri"/>
                        </a:rPr>
                        <a:t>2.034.462.9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323232"/>
                          </a:solidFill>
                          <a:latin typeface="Calibri"/>
                        </a:rPr>
                        <a:t>100,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"/>
          <p:cNvSpPr/>
          <p:nvPr/>
        </p:nvSpPr>
        <p:spPr>
          <a:xfrm>
            <a:off x="1908000" y="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c000"/>
                </a:solidFill>
                <a:latin typeface="Arial"/>
              </a:rPr>
              <a:t>LOA 20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2141640" y="714240"/>
            <a:ext cx="4572000" cy="42912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CEITA PELA ORIGE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755640" y="1413000"/>
          <a:ext cx="7597800" cy="4163760"/>
        </p:xfrm>
        <a:graphic>
          <a:graphicData uri="http://schemas.openxmlformats.org/drawingml/2006/table">
            <a:tbl>
              <a:tblPr/>
              <a:tblGrid>
                <a:gridCol w="4487760"/>
                <a:gridCol w="1816200"/>
                <a:gridCol w="1293840"/>
              </a:tblGrid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specificaç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91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stos Taxas e Contrib. Melho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.810.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4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õ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.77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.236.6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.198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0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Corre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5.799.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Receitas Corre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678.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ão de Crédi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.00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enação de Be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0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Capi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270.26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Receitas de Capi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.500.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46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34.462.9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1908000" y="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c000"/>
                </a:solidFill>
                <a:latin typeface="Arial"/>
              </a:rPr>
              <a:t>LOA 20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1042920" y="861840"/>
            <a:ext cx="7372440" cy="36828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ceitas segundo as maiores fontes de arrecadaçã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63640" y="1413000"/>
          <a:ext cx="5977080" cy="4435200"/>
        </p:xfrm>
        <a:graphic>
          <a:graphicData uri="http://schemas.openxmlformats.org/drawingml/2006/table">
            <a:tbl>
              <a:tblPr/>
              <a:tblGrid>
                <a:gridCol w="3618000"/>
                <a:gridCol w="1468440"/>
                <a:gridCol w="890640"/>
              </a:tblGrid>
              <a:tr h="272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nte de Recurs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DE IMPOST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1.951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6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RPP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.969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E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.50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AS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.958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ÃO CRÉDIT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.00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LIVR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147.8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S (UNIÃO E ESTADO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.627.66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C  / SOL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960.5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ON/ICAD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74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6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SERVI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301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I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607.2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ÂNSIT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77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DE EDUCAÇÃ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565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A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12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IS RECURS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046.80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34.462.96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395280" y="260280"/>
            <a:ext cx="8137440" cy="100800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300" spc="-1" strike="noStrike">
                <a:solidFill>
                  <a:srgbClr val="11151a"/>
                </a:solidFill>
                <a:latin typeface="Calibri Light"/>
              </a:rPr>
              <a:t>CONDIÇÕES PARA ATINGIR A</a:t>
            </a:r>
            <a:br>
              <a:rPr sz="3300"/>
            </a:br>
            <a:r>
              <a:rPr b="1" lang="pt-BR" sz="3300" spc="-1" strike="noStrike">
                <a:solidFill>
                  <a:srgbClr val="11151a"/>
                </a:solidFill>
                <a:latin typeface="Calibri Light"/>
              </a:rPr>
              <a:t> META DA RECEITA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7" descr=""/>
          <p:cNvPicPr/>
          <p:nvPr/>
        </p:nvPicPr>
        <p:blipFill>
          <a:blip r:embed="rId1"/>
          <a:stretch/>
        </p:blipFill>
        <p:spPr>
          <a:xfrm>
            <a:off x="376200" y="1298520"/>
            <a:ext cx="8083440" cy="4362480"/>
          </a:xfrm>
          <a:prstGeom prst="rect">
            <a:avLst/>
          </a:prstGeom>
          <a:ln w="0">
            <a:noFill/>
          </a:ln>
        </p:spPr>
      </p:pic>
      <p:sp>
        <p:nvSpPr>
          <p:cNvPr id="379" name="CaixaDeTexto 2"/>
          <p:cNvSpPr/>
          <p:nvPr/>
        </p:nvSpPr>
        <p:spPr>
          <a:xfrm>
            <a:off x="1116000" y="5022720"/>
            <a:ext cx="13683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Atualizar Legislaçã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CaixaDeTexto 3"/>
          <p:cNvSpPr/>
          <p:nvPr/>
        </p:nvSpPr>
        <p:spPr>
          <a:xfrm>
            <a:off x="2367000" y="4629240"/>
            <a:ext cx="1441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Lançamento da Receit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CaixaDeTexto 4"/>
          <p:cNvSpPr/>
          <p:nvPr/>
        </p:nvSpPr>
        <p:spPr>
          <a:xfrm>
            <a:off x="3714480" y="4259160"/>
            <a:ext cx="1119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Cobranç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CaixaDeTexto 11"/>
          <p:cNvSpPr/>
          <p:nvPr/>
        </p:nvSpPr>
        <p:spPr>
          <a:xfrm>
            <a:off x="5015880" y="3860640"/>
            <a:ext cx="1374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Fiscalizaçã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CaixaDeTexto 12"/>
          <p:cNvSpPr/>
          <p:nvPr/>
        </p:nvSpPr>
        <p:spPr>
          <a:xfrm>
            <a:off x="6659640" y="3422520"/>
            <a:ext cx="1225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Captação Recurs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"/>
          <p:cNvSpPr/>
          <p:nvPr/>
        </p:nvSpPr>
        <p:spPr>
          <a:xfrm>
            <a:off x="0" y="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c000"/>
                </a:solidFill>
                <a:latin typeface="Arial"/>
              </a:rPr>
              <a:t>LOA 20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2644560" y="3500280"/>
            <a:ext cx="396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TINAÇÃO DOS RECUR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355760" y="1847880"/>
            <a:ext cx="65484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5500" spc="-1" strike="noStrike">
                <a:solidFill>
                  <a:srgbClr val="000000"/>
                </a:solidFill>
                <a:latin typeface="Arial Black"/>
              </a:rPr>
              <a:t>DESPESAS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1243080" y="733320"/>
            <a:ext cx="70102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2f5597"/>
                </a:solidFill>
                <a:latin typeface="Calibri Light"/>
              </a:rPr>
              <a:t>EVOLUÇÃO DAS DESPES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684360" y="1197000"/>
          <a:ext cx="7921440" cy="4070160"/>
        </p:xfrm>
        <a:graphic>
          <a:graphicData uri="http://schemas.openxmlformats.org/drawingml/2006/table">
            <a:tbl>
              <a:tblPr/>
              <a:tblGrid>
                <a:gridCol w="1868400"/>
                <a:gridCol w="2241360"/>
                <a:gridCol w="2060640"/>
                <a:gridCol w="1751040"/>
              </a:tblGrid>
              <a:tr h="69696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FIXADO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ATUALIZADO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EXECUTADO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EVOLUÇÃO EXECUTADO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84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797.141.24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717.713.615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6% 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84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2018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936.461.64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800.044.803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11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1.155.700.40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921.748.048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15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84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1.365.323.799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1.056.402.783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15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1.362.540.073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1.223.665.803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16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84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1.810.705.252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1.428.226.614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17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2023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1.849.092.86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1.585.870.508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11%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1.830.702.97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-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-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2.034.462.969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-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100" spc="-1" strike="noStrike">
                          <a:solidFill>
                            <a:srgbClr val="000000"/>
                          </a:solidFill>
                          <a:latin typeface="Calibri"/>
                          <a:ea typeface="Segoe UI"/>
                        </a:rPr>
                        <a:t>-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389" name="Rectangle 135"/>
          <p:cNvSpPr/>
          <p:nvPr/>
        </p:nvSpPr>
        <p:spPr>
          <a:xfrm>
            <a:off x="0" y="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c000"/>
                </a:solidFill>
                <a:latin typeface="Arial"/>
              </a:rPr>
              <a:t>LOA 20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136"/>
          <p:cNvSpPr/>
          <p:nvPr/>
        </p:nvSpPr>
        <p:spPr>
          <a:xfrm>
            <a:off x="1042920" y="5357880"/>
            <a:ext cx="7147080" cy="32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*Nota: 2024 e 2025: Valores Previstos – Demais exercícios: valores realizados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971640" y="83664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0070c0"/>
                </a:solidFill>
                <a:latin typeface="Calibri Light"/>
              </a:rPr>
              <a:t>DESPESAS</a:t>
            </a:r>
            <a:br>
              <a:rPr sz="3500"/>
            </a:br>
            <a:r>
              <a:rPr b="1" lang="pt-BR" sz="1800" spc="-1" strike="noStrike">
                <a:solidFill>
                  <a:srgbClr val="0070c0"/>
                </a:solidFill>
                <a:latin typeface="Calibri Light"/>
              </a:rPr>
              <a:t>POR  CATEGORIA ECONÔMICA DA DESPE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665280" y="2349360"/>
          <a:ext cx="8029440" cy="2040120"/>
        </p:xfrm>
        <a:graphic>
          <a:graphicData uri="http://schemas.openxmlformats.org/drawingml/2006/table">
            <a:tbl>
              <a:tblPr/>
              <a:tblGrid>
                <a:gridCol w="4424400"/>
                <a:gridCol w="2108160"/>
                <a:gridCol w="1496880"/>
              </a:tblGrid>
              <a:tr h="408240">
                <a:tc>
                  <a:txBody>
                    <a:bodyPr lIns="9360" rIns="9360" tIns="149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 Correntes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50.503.491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13%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360" rIns="9360" tIns="149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 de Capital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.220.478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69%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360" rIns="9360" tIns="149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rva RPPS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.539.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7%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360" rIns="9360" tIns="149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rva de Contingência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.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%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360" rIns="9360" tIns="149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GERAL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0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034.462.969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0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0,00%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393" name="Rectangle 86"/>
          <p:cNvSpPr/>
          <p:nvPr/>
        </p:nvSpPr>
        <p:spPr>
          <a:xfrm>
            <a:off x="0" y="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c000"/>
                </a:solidFill>
                <a:latin typeface="Arial"/>
              </a:rPr>
              <a:t>LOA 20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971640" y="836640"/>
            <a:ext cx="741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0070c0"/>
                </a:solidFill>
                <a:latin typeface="Calibri Light"/>
              </a:rPr>
              <a:t>DESPESAS</a:t>
            </a:r>
            <a:br>
              <a:rPr sz="3500"/>
            </a:br>
            <a:r>
              <a:rPr b="1" lang="pt-BR" sz="1800" spc="-1" strike="noStrike">
                <a:solidFill>
                  <a:srgbClr val="0070c0"/>
                </a:solidFill>
                <a:latin typeface="Calibri Light"/>
              </a:rPr>
              <a:t>POR GRUPOS DE DESPE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557280" y="1844640"/>
          <a:ext cx="8029440" cy="3672000"/>
        </p:xfrm>
        <a:graphic>
          <a:graphicData uri="http://schemas.openxmlformats.org/drawingml/2006/table">
            <a:tbl>
              <a:tblPr/>
              <a:tblGrid>
                <a:gridCol w="4424400"/>
                <a:gridCol w="2108160"/>
                <a:gridCol w="1496880"/>
              </a:tblGrid>
              <a:tr h="407880">
                <a:tc>
                  <a:txBody>
                    <a:bodyPr lIns="9360" rIns="9360" tIns="149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e Encargos Sociais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7.240.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03%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360" rIns="9360" tIns="149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ros e Encargos da Dívida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643.5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1%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360" rIns="9360" tIns="149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espesas Correntes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.619.991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8%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360" rIns="9360" tIns="149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mentos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.781.478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20%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360" rIns="9360" tIns="149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ões Financeiras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%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360" rIns="9360" tIns="149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a Dívida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339.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9%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360" rIns="9360" tIns="149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rva RPPS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.539.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7%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360" rIns="9360" tIns="149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rva de Contingência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.000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%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360" rIns="9360" tIns="149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GERAL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0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034.462.969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00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0,00%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1440">
                      <a:solidFill>
                        <a:srgbClr val="ffcc66"/>
                      </a:solidFill>
                    </a:lnL>
                    <a:lnR w="1440">
                      <a:solidFill>
                        <a:srgbClr val="ffcc66"/>
                      </a:solidFill>
                    </a:lnR>
                    <a:lnT w="1440">
                      <a:solidFill>
                        <a:srgbClr val="ffcc66"/>
                      </a:solidFill>
                    </a:lnT>
                    <a:lnB w="1440">
                      <a:solidFill>
                        <a:srgbClr val="ffcc66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396" name="Rectangle 86"/>
          <p:cNvSpPr/>
          <p:nvPr/>
        </p:nvSpPr>
        <p:spPr>
          <a:xfrm>
            <a:off x="0" y="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c000"/>
                </a:solidFill>
                <a:latin typeface="Arial"/>
              </a:rPr>
              <a:t>LOA 20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86"/>
          <p:cNvSpPr/>
          <p:nvPr/>
        </p:nvSpPr>
        <p:spPr>
          <a:xfrm>
            <a:off x="0" y="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c000"/>
                </a:solidFill>
                <a:latin typeface="Arial"/>
              </a:rPr>
              <a:t>LOA 20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971640" y="549360"/>
            <a:ext cx="741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0070c0"/>
                </a:solidFill>
                <a:latin typeface="Calibri Light"/>
              </a:rPr>
              <a:t>DESPESAS</a:t>
            </a:r>
            <a:br>
              <a:rPr sz="3500"/>
            </a:br>
            <a:r>
              <a:rPr b="1" lang="pt-BR" sz="1800" spc="-1" strike="noStrike">
                <a:solidFill>
                  <a:srgbClr val="0070c0"/>
                </a:solidFill>
                <a:latin typeface="Calibri Light"/>
              </a:rPr>
              <a:t>POR ÓRGÃO/ENTID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547640" y="1341360"/>
          <a:ext cx="6120000" cy="4570560"/>
        </p:xfrm>
        <a:graphic>
          <a:graphicData uri="http://schemas.openxmlformats.org/drawingml/2006/table">
            <a:tbl>
              <a:tblPr/>
              <a:tblGrid>
                <a:gridCol w="3656160"/>
                <a:gridCol w="1538280"/>
                <a:gridCol w="925560"/>
              </a:tblGrid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IDADE/ÓRGÃ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ÂMARA DE VEREADOR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799.75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FEITUR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7.689.39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1.073.5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2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ORT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842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8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RISMO (SECRETARIA + FUNDO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20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SERVI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951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7.021.12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5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IO AMBIENTE (SECRETARIA + FUNDO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44.10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CTRÂNSIT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849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4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STÊNCIA SOCIAL (SECRETARIA + FUNDO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897.5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DCA(FIA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79.1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CBC (CULTURA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17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DC (PROCON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MPRESI (BOMBEIROS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37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RB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9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CPREV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.999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0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AS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.214.5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%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333333"/>
                          </a:solidFill>
                          <a:latin typeface="Calibri"/>
                        </a:rPr>
                        <a:t>TOTAL GERA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34.462.9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333360" y="1916280"/>
            <a:ext cx="84963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7000" spc="-1" strike="noStrike">
                <a:solidFill>
                  <a:srgbClr val="595959"/>
                </a:solidFill>
                <a:latin typeface="Calibri Light"/>
              </a:rPr>
              <a:t>PROPOSTA</a:t>
            </a:r>
            <a:br>
              <a:rPr sz="7000"/>
            </a:br>
            <a:r>
              <a:rPr b="1" lang="pt-BR" sz="7000" spc="-1" strike="noStrike">
                <a:solidFill>
                  <a:srgbClr val="595959"/>
                </a:solidFill>
                <a:latin typeface="Calibri Light"/>
              </a:rPr>
              <a:t>INVESTIMENTOS</a:t>
            </a:r>
            <a:br>
              <a:rPr sz="7000"/>
            </a:br>
            <a:r>
              <a:rPr b="1" lang="pt-BR" sz="7000" spc="-1" strike="noStrike">
                <a:solidFill>
                  <a:srgbClr val="595959"/>
                </a:solidFill>
                <a:latin typeface="Calibri Light"/>
              </a:rPr>
              <a:t>PARA 2025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20520" y="18900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c000"/>
                </a:solidFill>
                <a:latin typeface="Arial"/>
              </a:rPr>
              <a:t>LOA 20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927000" y="498600"/>
            <a:ext cx="777744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53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868320"/>
                <a:tab algn="l" pos="1782720"/>
                <a:tab algn="l" pos="2697120"/>
                <a:tab algn="l" pos="3611520"/>
                <a:tab algn="l" pos="4525920"/>
                <a:tab algn="l" pos="5440320"/>
                <a:tab algn="l" pos="6354720"/>
                <a:tab algn="l" pos="7269120"/>
                <a:tab algn="l" pos="8183520"/>
                <a:tab algn="l" pos="9097920"/>
                <a:tab algn="l" pos="10012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53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868320"/>
                <a:tab algn="l" pos="1782720"/>
                <a:tab algn="l" pos="2697120"/>
                <a:tab algn="l" pos="3611520"/>
                <a:tab algn="l" pos="4525920"/>
                <a:tab algn="l" pos="5440320"/>
                <a:tab algn="l" pos="6354720"/>
                <a:tab algn="l" pos="7269120"/>
                <a:tab algn="l" pos="8183520"/>
                <a:tab algn="l" pos="9097920"/>
                <a:tab algn="l" pos="10012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2124000" y="26028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c000"/>
                </a:solidFill>
                <a:latin typeface="Arial"/>
              </a:rPr>
              <a:t>LOA 20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755640" y="1268280"/>
            <a:ext cx="777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i="1" lang="pt-BR" sz="3600" spc="-1" strike="noStrike">
                <a:solidFill>
                  <a:srgbClr val="203864"/>
                </a:solidFill>
                <a:latin typeface="Arial"/>
                <a:ea typeface="Arial"/>
              </a:rPr>
              <a:t>O </a:t>
            </a:r>
            <a:r>
              <a:rPr b="1" i="1" lang="pt-BR" sz="3600" spc="-1" strike="noStrike" u="sng">
                <a:solidFill>
                  <a:srgbClr val="203864"/>
                </a:solidFill>
                <a:uFillTx/>
                <a:latin typeface="Arial"/>
                <a:ea typeface="Arial"/>
              </a:rPr>
              <a:t>Orçamento</a:t>
            </a:r>
            <a:r>
              <a:rPr b="1" i="1" lang="pt-BR" sz="3600" spc="-1" strike="noStrike">
                <a:solidFill>
                  <a:srgbClr val="203864"/>
                </a:solidFill>
                <a:latin typeface="Arial"/>
                <a:ea typeface="Arial"/>
              </a:rPr>
              <a:t> além da previsão da arrecadação e autorizaçã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i="1" lang="pt-BR" sz="3600" spc="-1" strike="noStrike">
                <a:solidFill>
                  <a:srgbClr val="203864"/>
                </a:solidFill>
                <a:latin typeface="Arial"/>
                <a:ea typeface="Arial"/>
              </a:rPr>
              <a:t>do gasto é também um documento legal que contém </a:t>
            </a:r>
            <a:r>
              <a:rPr b="1" i="1" lang="pt-BR" sz="3600" spc="-1" strike="noStrike" u="sng">
                <a:solidFill>
                  <a:srgbClr val="203864"/>
                </a:solidFill>
                <a:uFillTx/>
                <a:latin typeface="Arial"/>
                <a:ea typeface="Arial"/>
              </a:rPr>
              <a:t>programas e ações</a:t>
            </a:r>
            <a:r>
              <a:rPr b="1" i="1" lang="pt-BR" sz="3600" spc="-1" strike="noStrike">
                <a:solidFill>
                  <a:srgbClr val="203864"/>
                </a:solidFill>
                <a:latin typeface="Arial"/>
                <a:ea typeface="Arial"/>
              </a:rPr>
              <a:t> vinculados a um </a:t>
            </a:r>
            <a:r>
              <a:rPr b="1" i="1" lang="pt-BR" sz="3600" spc="-1" strike="noStrike" u="sng">
                <a:solidFill>
                  <a:srgbClr val="203864"/>
                </a:solidFill>
                <a:uFillTx/>
                <a:latin typeface="Arial"/>
                <a:ea typeface="Arial"/>
              </a:rPr>
              <a:t>processo de planejamento público</a:t>
            </a:r>
            <a:r>
              <a:rPr b="1" i="1" lang="pt-BR" sz="3600" spc="-1" strike="noStrike">
                <a:solidFill>
                  <a:srgbClr val="203864"/>
                </a:solidFill>
                <a:latin typeface="Arial"/>
                <a:ea typeface="Arial"/>
              </a:rPr>
              <a:t>, com </a:t>
            </a:r>
            <a:r>
              <a:rPr b="1" i="1" lang="pt-BR" sz="3600" spc="-1" strike="noStrike" u="sng">
                <a:solidFill>
                  <a:srgbClr val="203864"/>
                </a:solidFill>
                <a:uFillTx/>
                <a:latin typeface="Arial"/>
                <a:ea typeface="Arial"/>
              </a:rPr>
              <a:t>objetivos e metas</a:t>
            </a:r>
            <a:r>
              <a:rPr b="1" i="1" lang="pt-BR" sz="3600" spc="-1" strike="noStrike">
                <a:solidFill>
                  <a:srgbClr val="203864"/>
                </a:solidFill>
                <a:latin typeface="Arial"/>
                <a:ea typeface="Arial"/>
              </a:rPr>
              <a:t> a alcançar no exercíc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1"/>
          <p:cNvGrpSpPr/>
          <p:nvPr/>
        </p:nvGrpSpPr>
        <p:grpSpPr>
          <a:xfrm>
            <a:off x="120600" y="52560"/>
            <a:ext cx="8697960" cy="838080"/>
            <a:chOff x="120600" y="52560"/>
            <a:chExt cx="8697960" cy="838080"/>
          </a:xfrm>
        </p:grpSpPr>
        <p:sp>
          <p:nvSpPr>
            <p:cNvPr id="403" name="AutoShape 2"/>
            <p:cNvSpPr/>
            <p:nvPr/>
          </p:nvSpPr>
          <p:spPr>
            <a:xfrm>
              <a:off x="120600" y="52560"/>
              <a:ext cx="869796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3"/>
            <p:cNvSpPr/>
            <p:nvPr/>
          </p:nvSpPr>
          <p:spPr>
            <a:xfrm>
              <a:off x="154080" y="93600"/>
              <a:ext cx="82310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LEGISLATIVO - CÂMARA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05" name=""/>
          <p:cNvGraphicFramePr/>
          <p:nvPr/>
        </p:nvGraphicFramePr>
        <p:xfrm>
          <a:off x="539640" y="1557360"/>
          <a:ext cx="7634520" cy="2419200"/>
        </p:xfrm>
        <a:graphic>
          <a:graphicData uri="http://schemas.openxmlformats.org/drawingml/2006/table">
            <a:tbl>
              <a:tblPr/>
              <a:tblGrid>
                <a:gridCol w="1008000"/>
                <a:gridCol w="4464360"/>
                <a:gridCol w="2162160"/>
              </a:tblGrid>
              <a:tr h="417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stão da Administração de Pessoal do Legislativo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cessos Administrativos do Legislativ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lhorias e Reparos da Infraestrutura do Legislativo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utenção da Rádio e TV Câma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scola do Legisla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.799.7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1"/>
          <p:cNvGrpSpPr/>
          <p:nvPr/>
        </p:nvGrpSpPr>
        <p:grpSpPr>
          <a:xfrm>
            <a:off x="468360" y="28440"/>
            <a:ext cx="7773840" cy="720720"/>
            <a:chOff x="468360" y="28440"/>
            <a:chExt cx="7773840" cy="720720"/>
          </a:xfrm>
        </p:grpSpPr>
        <p:sp>
          <p:nvSpPr>
            <p:cNvPr id="407" name="AutoShape 2"/>
            <p:cNvSpPr/>
            <p:nvPr/>
          </p:nvSpPr>
          <p:spPr>
            <a:xfrm>
              <a:off x="468360" y="28440"/>
              <a:ext cx="7773840" cy="7207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3"/>
            <p:cNvSpPr/>
            <p:nvPr/>
          </p:nvSpPr>
          <p:spPr>
            <a:xfrm>
              <a:off x="503280" y="63360"/>
              <a:ext cx="770400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GABINETE PREFEITO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09" name=""/>
          <p:cNvGraphicFramePr/>
          <p:nvPr/>
        </p:nvGraphicFramePr>
        <p:xfrm>
          <a:off x="826920" y="1125360"/>
          <a:ext cx="7345440" cy="4945320"/>
        </p:xfrm>
        <a:graphic>
          <a:graphicData uri="http://schemas.openxmlformats.org/drawingml/2006/table">
            <a:tbl>
              <a:tblPr/>
              <a:tblGrid>
                <a:gridCol w="682920"/>
                <a:gridCol w="5481360"/>
                <a:gridCol w="1181160"/>
              </a:tblGrid>
              <a:tr h="2365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RETARIA DE GABINETE – R$ 6.419.5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e Rateio do Consórcio CIM-AMFR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ão à Entidades Representativas de Class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Gabinete do Prefeit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INETE DO VICE-PREFEITO – R$ 106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Gabinete do Vice-Prefeit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ICULAÇÃO GOVERNAMENTAL – R$ 1.521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Sec.de Articulação Governamen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Casa dos Conselh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URADORIA GERAL – R$ 45.829.19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apropriações Previstas  em Le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Procuradoria Ge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amento de Precatórios e Sentenças Judiciai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orma e Melhorias do Prédio da Procuradoria Jurídic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ISÃO DE COMUNICAÇÃO – R$ 5.69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panhas de Utilidade Pública e Institucionai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Divisão de Comunicaçã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TA DE SERVIÇO MILITAR – R$ 366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Junta de Serviço Milita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931.69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Group 1"/>
          <p:cNvGrpSpPr/>
          <p:nvPr/>
        </p:nvGrpSpPr>
        <p:grpSpPr>
          <a:xfrm>
            <a:off x="324000" y="115920"/>
            <a:ext cx="8350200" cy="592200"/>
            <a:chOff x="324000" y="115920"/>
            <a:chExt cx="8350200" cy="592200"/>
          </a:xfrm>
        </p:grpSpPr>
        <p:sp>
          <p:nvSpPr>
            <p:cNvPr id="411" name="AutoShape 2"/>
            <p:cNvSpPr/>
            <p:nvPr/>
          </p:nvSpPr>
          <p:spPr>
            <a:xfrm>
              <a:off x="324000" y="115920"/>
              <a:ext cx="8350200" cy="59220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3"/>
            <p:cNvSpPr/>
            <p:nvPr/>
          </p:nvSpPr>
          <p:spPr>
            <a:xfrm>
              <a:off x="361800" y="144360"/>
              <a:ext cx="82742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GESTÃO ADMINISTRATIVA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13" name=""/>
          <p:cNvGraphicFramePr/>
          <p:nvPr/>
        </p:nvGraphicFramePr>
        <p:xfrm>
          <a:off x="324000" y="1484280"/>
          <a:ext cx="8099280" cy="3529080"/>
        </p:xfrm>
        <a:graphic>
          <a:graphicData uri="http://schemas.openxmlformats.org/drawingml/2006/table">
            <a:tbl>
              <a:tblPr/>
              <a:tblGrid>
                <a:gridCol w="896760"/>
                <a:gridCol w="6880320"/>
                <a:gridCol w="322200"/>
              </a:tblGrid>
              <a:tr h="293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INETE DA SECRETARIA DE GESTÃO ADMINISTRATIVA – R$ 11.78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Sec.de Gestão Administrativ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OCOLO E EXPEDIENTE – R$ 361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Protocolo e Expedient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DE PESSOAS – R$ 108.367.6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e Gestão de Pessoa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rgos Sociais e Previdenciários sobre Folha - Ge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tão Alimentação aos Servidor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 e Proteção do Trabalhador SESM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ão ao PASEP - PMB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o Déficit Atuarial do RPPS - PMB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o Déficit Atuarial do RPPS - Legislativ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Seta para a direita 1"/>
          <p:cNvSpPr/>
          <p:nvPr/>
        </p:nvSpPr>
        <p:spPr>
          <a:xfrm>
            <a:off x="7308720" y="5300640"/>
            <a:ext cx="978120" cy="485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1"/>
          <p:cNvGrpSpPr/>
          <p:nvPr/>
        </p:nvGrpSpPr>
        <p:grpSpPr>
          <a:xfrm>
            <a:off x="324000" y="115920"/>
            <a:ext cx="8350200" cy="592200"/>
            <a:chOff x="324000" y="115920"/>
            <a:chExt cx="8350200" cy="592200"/>
          </a:xfrm>
        </p:grpSpPr>
        <p:sp>
          <p:nvSpPr>
            <p:cNvPr id="416" name="AutoShape 2"/>
            <p:cNvSpPr/>
            <p:nvPr/>
          </p:nvSpPr>
          <p:spPr>
            <a:xfrm>
              <a:off x="324000" y="115920"/>
              <a:ext cx="8350200" cy="59220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3"/>
            <p:cNvSpPr/>
            <p:nvPr/>
          </p:nvSpPr>
          <p:spPr>
            <a:xfrm>
              <a:off x="361800" y="144360"/>
              <a:ext cx="82742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GESTÃO ADMINISTRATIVA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18" name=""/>
          <p:cNvGraphicFramePr/>
          <p:nvPr/>
        </p:nvGraphicFramePr>
        <p:xfrm>
          <a:off x="371520" y="981000"/>
          <a:ext cx="8377200" cy="4537080"/>
        </p:xfrm>
        <a:graphic>
          <a:graphicData uri="http://schemas.openxmlformats.org/drawingml/2006/table">
            <a:tbl>
              <a:tblPr/>
              <a:tblGrid>
                <a:gridCol w="896760"/>
                <a:gridCol w="6194520"/>
                <a:gridCol w="1285920"/>
              </a:tblGrid>
              <a:tr h="324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ÔNIO E SERVIÇOS PÚBLICOS – R$ 8.778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orma do Paço Municip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Patrimônio Público e Serviç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Cemitério Público Municip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pliação de Área do Cemitério e Construção de Novos Blocos Verticai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GÍSTICA E OPERAÇÕES – R$ 4.696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Logística e Operaçõ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OLOGIA DA INFORMAÇÃO – R$ 5.464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ação da Estrutura Física do Data Center do Paço Municip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orma e Modernização da Estrutura Física do DIT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ação  e Inovação em tecnologia da Informaçã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Divisão de T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ação da Gestão Administrativa e Fiscal do Município (PNAFM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STÃO ADMINISTRATIVA 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.446.6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1"/>
          <p:cNvGrpSpPr/>
          <p:nvPr/>
        </p:nvGrpSpPr>
        <p:grpSpPr>
          <a:xfrm>
            <a:off x="684360" y="63360"/>
            <a:ext cx="7989840" cy="677880"/>
            <a:chOff x="684360" y="63360"/>
            <a:chExt cx="7989840" cy="677880"/>
          </a:xfrm>
        </p:grpSpPr>
        <p:sp>
          <p:nvSpPr>
            <p:cNvPr id="420" name="AutoShape 2"/>
            <p:cNvSpPr/>
            <p:nvPr/>
          </p:nvSpPr>
          <p:spPr>
            <a:xfrm>
              <a:off x="684360" y="63360"/>
              <a:ext cx="7989840" cy="677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ectangle 3"/>
            <p:cNvSpPr/>
            <p:nvPr/>
          </p:nvSpPr>
          <p:spPr>
            <a:xfrm>
              <a:off x="717480" y="96840"/>
              <a:ext cx="792324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Autofit/>
            </a:bodyPr>
            <a:p>
              <a:pPr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600" spc="-1" strike="noStrike">
                  <a:solidFill>
                    <a:srgbClr val="ffffff"/>
                  </a:solidFill>
                  <a:latin typeface="Calibri"/>
                </a:rPr>
                <a:t>FAZENDA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2" name=""/>
          <p:cNvGraphicFramePr/>
          <p:nvPr/>
        </p:nvGraphicFramePr>
        <p:xfrm>
          <a:off x="468360" y="1052640"/>
          <a:ext cx="8175600" cy="4537080"/>
        </p:xfrm>
        <a:graphic>
          <a:graphicData uri="http://schemas.openxmlformats.org/drawingml/2006/table">
            <a:tbl>
              <a:tblPr/>
              <a:tblGrid>
                <a:gridCol w="6767640"/>
                <a:gridCol w="1407960"/>
              </a:tblGrid>
              <a:tr h="625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EC. DA FAZEN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.670.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179280" y="1019160"/>
          <a:ext cx="8175600" cy="4267080"/>
        </p:xfrm>
        <a:graphic>
          <a:graphicData uri="http://schemas.openxmlformats.org/drawingml/2006/table">
            <a:tbl>
              <a:tblPr/>
              <a:tblGrid>
                <a:gridCol w="647640"/>
                <a:gridCol w="6551640"/>
                <a:gridCol w="976320"/>
              </a:tblGrid>
              <a:tr h="285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INETE DA SECRETARIA DA FAZENDA – R$ 52.715.5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Gabinete  da SF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PROC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e Encargos da Dívida Públic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ÇÃO, TRIBUTOS E DÍVIDA ATIVA – R$ 9.655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Dívida Ativ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Arrecadação e Tribut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O E FISCALIZAÇÃO FAZENDÁRIA – R$ 9.135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Fiscalização e Proc. Fiscai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Cadastro Fazendár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ÁBIL FINANCEIRO – R$ 7.165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Contabilidade e Financeir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ção/Reforma/Instalação Sede da Contabilidad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1"/>
          <p:cNvGrpSpPr/>
          <p:nvPr/>
        </p:nvGrpSpPr>
        <p:grpSpPr>
          <a:xfrm>
            <a:off x="395280" y="250920"/>
            <a:ext cx="8207280" cy="839520"/>
            <a:chOff x="395280" y="250920"/>
            <a:chExt cx="8207280" cy="839520"/>
          </a:xfrm>
        </p:grpSpPr>
        <p:sp>
          <p:nvSpPr>
            <p:cNvPr id="425" name="AutoShape 2"/>
            <p:cNvSpPr/>
            <p:nvPr/>
          </p:nvSpPr>
          <p:spPr>
            <a:xfrm>
              <a:off x="395280" y="250920"/>
              <a:ext cx="8207280" cy="8395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Rectangle 3"/>
            <p:cNvSpPr/>
            <p:nvPr/>
          </p:nvSpPr>
          <p:spPr>
            <a:xfrm>
              <a:off x="458640" y="333360"/>
              <a:ext cx="81439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ROCON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7" name=""/>
          <p:cNvGraphicFramePr/>
          <p:nvPr/>
        </p:nvGraphicFramePr>
        <p:xfrm>
          <a:off x="642960" y="1700280"/>
          <a:ext cx="7729560" cy="1728720"/>
        </p:xfrm>
        <a:graphic>
          <a:graphicData uri="http://schemas.openxmlformats.org/drawingml/2006/table">
            <a:tbl>
              <a:tblPr/>
              <a:tblGrid>
                <a:gridCol w="6653160"/>
                <a:gridCol w="1076400"/>
              </a:tblGrid>
              <a:tr h="43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3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OC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684360" y="1773360"/>
          <a:ext cx="7634160" cy="1150920"/>
        </p:xfrm>
        <a:graphic>
          <a:graphicData uri="http://schemas.openxmlformats.org/drawingml/2006/table">
            <a:tbl>
              <a:tblPr/>
              <a:tblGrid>
                <a:gridCol w="720720"/>
                <a:gridCol w="5688000"/>
                <a:gridCol w="1225440"/>
              </a:tblGrid>
              <a:tr h="384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3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antação de Processo Eletrônico - PROCON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5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e Defesa dos Direitos do Consumid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5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ção de Seminários e Congress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1"/>
          <p:cNvGrpSpPr/>
          <p:nvPr/>
        </p:nvGrpSpPr>
        <p:grpSpPr>
          <a:xfrm>
            <a:off x="357120" y="115920"/>
            <a:ext cx="7199280" cy="541440"/>
            <a:chOff x="357120" y="115920"/>
            <a:chExt cx="7199280" cy="541440"/>
          </a:xfrm>
        </p:grpSpPr>
        <p:sp>
          <p:nvSpPr>
            <p:cNvPr id="430" name="AutoShape 2"/>
            <p:cNvSpPr/>
            <p:nvPr/>
          </p:nvSpPr>
          <p:spPr>
            <a:xfrm>
              <a:off x="357120" y="115920"/>
              <a:ext cx="7199280" cy="5414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Rectangle 3"/>
            <p:cNvSpPr/>
            <p:nvPr/>
          </p:nvSpPr>
          <p:spPr>
            <a:xfrm>
              <a:off x="382680" y="142920"/>
              <a:ext cx="7148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EDUCAÇÃO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2" name="Text Box 4"/>
          <p:cNvSpPr/>
          <p:nvPr/>
        </p:nvSpPr>
        <p:spPr>
          <a:xfrm>
            <a:off x="522360" y="755640"/>
            <a:ext cx="19317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560520" y="1413000"/>
          <a:ext cx="8115120" cy="4294080"/>
        </p:xfrm>
        <a:graphic>
          <a:graphicData uri="http://schemas.openxmlformats.org/drawingml/2006/table">
            <a:tbl>
              <a:tblPr/>
              <a:tblGrid>
                <a:gridCol w="6869160"/>
                <a:gridCol w="1245960"/>
              </a:tblGrid>
              <a:tr h="333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2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1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8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FUNDAMEN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2.692.5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595440" y="1413000"/>
          <a:ext cx="7923240" cy="3771720"/>
        </p:xfrm>
        <a:graphic>
          <a:graphicData uri="http://schemas.openxmlformats.org/drawingml/2006/table">
            <a:tbl>
              <a:tblPr/>
              <a:tblGrid>
                <a:gridCol w="736560"/>
                <a:gridCol w="6480000"/>
                <a:gridCol w="706680"/>
              </a:tblGrid>
              <a:tr h="231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pliação e Reforma das Unidades Escolares - CEM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ção da Escola do Amanhã – Ensino Funda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quisição de Parques Infantis para os CEM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zação e Inovação Tecnológica – Ensino Funda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pliação e Reforma do CEAC - Centro Educacional de Atendimento no Contratur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antação de Espaços de Educação Multi Mak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ormas de Quadras Escola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talização das Fachadas das Unidades Escola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Ensino Funda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e Contraturno Escola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mentação Escolar para o Ensino Funda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ñção e Melhorias de Quadr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mentação Escolar para o Contratur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Transporte Escolar Ensino Funda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rgos Sociais e Previdenciários  sobre Folha - Ensino Funda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ção dos Profissionais em Atividade -  Ensino Funda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quisição de Voucher Escolar – Ensino Fundamen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1"/>
          <p:cNvGrpSpPr/>
          <p:nvPr/>
        </p:nvGrpSpPr>
        <p:grpSpPr>
          <a:xfrm>
            <a:off x="357120" y="115920"/>
            <a:ext cx="7199280" cy="541440"/>
            <a:chOff x="357120" y="115920"/>
            <a:chExt cx="7199280" cy="541440"/>
          </a:xfrm>
        </p:grpSpPr>
        <p:sp>
          <p:nvSpPr>
            <p:cNvPr id="436" name="AutoShape 2"/>
            <p:cNvSpPr/>
            <p:nvPr/>
          </p:nvSpPr>
          <p:spPr>
            <a:xfrm>
              <a:off x="357120" y="115920"/>
              <a:ext cx="7199280" cy="5414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Rectangle 3"/>
            <p:cNvSpPr/>
            <p:nvPr/>
          </p:nvSpPr>
          <p:spPr>
            <a:xfrm>
              <a:off x="382680" y="142920"/>
              <a:ext cx="7148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EDUCAÇÃO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Text Box 4"/>
          <p:cNvSpPr/>
          <p:nvPr/>
        </p:nvSpPr>
        <p:spPr>
          <a:xfrm>
            <a:off x="527400" y="755640"/>
            <a:ext cx="12232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FANT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85720" y="1352520"/>
          <a:ext cx="8018640" cy="4464000"/>
        </p:xfrm>
        <a:graphic>
          <a:graphicData uri="http://schemas.openxmlformats.org/drawingml/2006/table">
            <a:tbl>
              <a:tblPr/>
              <a:tblGrid>
                <a:gridCol w="6718320"/>
                <a:gridCol w="1300320"/>
              </a:tblGrid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FANTI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.54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527040" y="1413000"/>
          <a:ext cx="7862760" cy="3217680"/>
        </p:xfrm>
        <a:graphic>
          <a:graphicData uri="http://schemas.openxmlformats.org/drawingml/2006/table">
            <a:tbl>
              <a:tblPr/>
              <a:tblGrid>
                <a:gridCol w="733320"/>
                <a:gridCol w="5867640"/>
                <a:gridCol w="1261800"/>
              </a:tblGrid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pliação e Reforma dos Núcleos de Educação Infant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quisição de Parques Infantis para os NE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zação e Inovação Tecnológica - Ed. Infant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quisição de Equipamentos para os novos Núcleos de Ed. Infant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s Crech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rgos Sociais e Previdenciários sobre Folha – Crech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mentação Escolar para a Educação Infantil – Crech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quisição de Vouchers Escolares – Crech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ção dos Profissionais em Atividade – Crech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Pré-Escol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rgos Sociais e Previdenciários sobre Folha - Pré-Esco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mentação Escolar para a Educação Infantil - Pré-Esco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ção dos Profissionais em Atividade – Pré-Esco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1"/>
          <p:cNvGrpSpPr/>
          <p:nvPr/>
        </p:nvGrpSpPr>
        <p:grpSpPr>
          <a:xfrm>
            <a:off x="357120" y="115920"/>
            <a:ext cx="7199280" cy="541440"/>
            <a:chOff x="357120" y="115920"/>
            <a:chExt cx="7199280" cy="541440"/>
          </a:xfrm>
        </p:grpSpPr>
        <p:sp>
          <p:nvSpPr>
            <p:cNvPr id="442" name="AutoShape 2"/>
            <p:cNvSpPr/>
            <p:nvPr/>
          </p:nvSpPr>
          <p:spPr>
            <a:xfrm>
              <a:off x="357120" y="115920"/>
              <a:ext cx="7199280" cy="5414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Rectangle 3"/>
            <p:cNvSpPr/>
            <p:nvPr/>
          </p:nvSpPr>
          <p:spPr>
            <a:xfrm>
              <a:off x="382680" y="142920"/>
              <a:ext cx="714852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EDUCAÇÃO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Text Box 4"/>
          <p:cNvSpPr/>
          <p:nvPr/>
        </p:nvSpPr>
        <p:spPr>
          <a:xfrm>
            <a:off x="468360" y="763560"/>
            <a:ext cx="70628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DM - JOVENS E ADULTOS – ESPECIAL  – MÉD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539640" y="5516640"/>
          <a:ext cx="8064720" cy="509400"/>
        </p:xfrm>
        <a:graphic>
          <a:graphicData uri="http://schemas.openxmlformats.org/drawingml/2006/table">
            <a:tbl>
              <a:tblPr/>
              <a:tblGrid>
                <a:gridCol w="6780240"/>
                <a:gridCol w="1284480"/>
              </a:tblGrid>
              <a:tr h="509400">
                <a:tc>
                  <a:txBody>
                    <a:bodyPr lIns="9360" rIns="9360" tIns="972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EC. DE EDUCAÇÃ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72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1.073.5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527040" y="1413000"/>
          <a:ext cx="7932600" cy="4108320"/>
        </p:xfrm>
        <a:graphic>
          <a:graphicData uri="http://schemas.openxmlformats.org/drawingml/2006/table">
            <a:tbl>
              <a:tblPr/>
              <a:tblGrid>
                <a:gridCol w="804960"/>
                <a:gridCol w="5796000"/>
                <a:gridCol w="1331640"/>
              </a:tblGrid>
              <a:tr h="296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Administrativas da S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ÉD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Transporte Escolar Ensino Médi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vens e Adul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CEJ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rgos Sociais e Previdenciários Sobre Folha - CEJ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mentação Escolar para o CEJ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ec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Educação Especi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rgos Sociais e Previdenciários Sobre Folha - Educação Especi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ção dos Profissionais em Atividade - Educação Especia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mentação Escolar para Educação Espec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7" name=""/>
          <p:cNvGraphicFramePr/>
          <p:nvPr/>
        </p:nvGraphicFramePr>
        <p:xfrm>
          <a:off x="558720" y="4575240"/>
          <a:ext cx="7758360" cy="372960"/>
        </p:xfrm>
        <a:graphic>
          <a:graphicData uri="http://schemas.openxmlformats.org/drawingml/2006/table">
            <a:tbl>
              <a:tblPr/>
              <a:tblGrid>
                <a:gridCol w="6532560"/>
                <a:gridCol w="1225800"/>
              </a:tblGrid>
              <a:tr h="372960">
                <a:tc>
                  <a:txBody>
                    <a:bodyPr lIns="9360" rIns="9360" tIns="972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Adm/EJA/Médio/Especi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72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841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1"/>
          <p:cNvGrpSpPr/>
          <p:nvPr/>
        </p:nvGrpSpPr>
        <p:grpSpPr>
          <a:xfrm>
            <a:off x="684360" y="115920"/>
            <a:ext cx="7672320" cy="601560"/>
            <a:chOff x="684360" y="115920"/>
            <a:chExt cx="7672320" cy="601560"/>
          </a:xfrm>
        </p:grpSpPr>
        <p:sp>
          <p:nvSpPr>
            <p:cNvPr id="449" name="AutoShape 2"/>
            <p:cNvSpPr/>
            <p:nvPr/>
          </p:nvSpPr>
          <p:spPr>
            <a:xfrm>
              <a:off x="684360" y="115920"/>
              <a:ext cx="7672320" cy="601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3"/>
            <p:cNvSpPr/>
            <p:nvPr/>
          </p:nvSpPr>
          <p:spPr>
            <a:xfrm>
              <a:off x="714240" y="146160"/>
              <a:ext cx="76122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OBRAS e SERVIÇOS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51" name=""/>
          <p:cNvGraphicFramePr/>
          <p:nvPr/>
        </p:nvGraphicFramePr>
        <p:xfrm>
          <a:off x="714240" y="1031760"/>
          <a:ext cx="7820280" cy="4513320"/>
        </p:xfrm>
        <a:graphic>
          <a:graphicData uri="http://schemas.openxmlformats.org/drawingml/2006/table">
            <a:tbl>
              <a:tblPr/>
              <a:tblGrid>
                <a:gridCol w="6693120"/>
                <a:gridCol w="1127160"/>
              </a:tblGrid>
              <a:tr h="266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6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714240" y="1341360"/>
          <a:ext cx="7820280" cy="3718080"/>
        </p:xfrm>
        <a:graphic>
          <a:graphicData uri="http://schemas.openxmlformats.org/drawingml/2006/table">
            <a:tbl>
              <a:tblPr/>
              <a:tblGrid>
                <a:gridCol w="689040"/>
                <a:gridCol w="6769080"/>
                <a:gridCol w="362160"/>
              </a:tblGrid>
              <a:tr h="241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INETE DA SECRETARIA DE OBRAS E SERVIÇOS URBANOS – R$ 4.16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Gabinete da Sec.de Obra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PEZA URBANA E PAISAGISMO – R$ 52.801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Paisagism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Limpeza Urba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A VIÁRIO E DRENAGEM – R$ 68.723.4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vimentação, Ampliação e Reurbanização de Ruas e Avenida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e Melhorias no Sistema de Drenagem Pluvi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e Melhorias no Sistema Viár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Seta para a direita 6"/>
          <p:cNvSpPr/>
          <p:nvPr/>
        </p:nvSpPr>
        <p:spPr>
          <a:xfrm>
            <a:off x="7308720" y="55483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927000" y="498600"/>
            <a:ext cx="733896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53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868320"/>
                <a:tab algn="l" pos="1782720"/>
                <a:tab algn="l" pos="2697120"/>
                <a:tab algn="l" pos="3611520"/>
                <a:tab algn="l" pos="4525920"/>
                <a:tab algn="l" pos="5440320"/>
                <a:tab algn="l" pos="6354720"/>
                <a:tab algn="l" pos="7269120"/>
                <a:tab algn="l" pos="8183520"/>
                <a:tab algn="l" pos="9097920"/>
                <a:tab algn="l" pos="10012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53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868320"/>
                <a:tab algn="l" pos="1782720"/>
                <a:tab algn="l" pos="2697120"/>
                <a:tab algn="l" pos="3611520"/>
                <a:tab algn="l" pos="4525920"/>
                <a:tab algn="l" pos="5440320"/>
                <a:tab algn="l" pos="6354720"/>
                <a:tab algn="l" pos="7269120"/>
                <a:tab algn="l" pos="8183520"/>
                <a:tab algn="l" pos="9097920"/>
                <a:tab algn="l" pos="10012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2124000" y="26028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c000"/>
                </a:solidFill>
                <a:latin typeface="Arial"/>
              </a:rPr>
              <a:t>LOA 20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826920" y="1020600"/>
            <a:ext cx="7417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i="1" lang="pt-BR" sz="3200" spc="-1" strike="noStrike">
                <a:solidFill>
                  <a:srgbClr val="00b0f0"/>
                </a:solidFill>
                <a:latin typeface="Arial"/>
                <a:ea typeface="Microsoft YaHei"/>
              </a:rPr>
              <a:t>Princípios orçamento púb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Exclusividade Orçamentá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Não Afetação da Recei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Anualida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Universalidade ou Integralida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Unida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Legalida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Equilíbrio Orçamentá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Especificação ou Discrimin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Orçamento Bru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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Exatidão ou Realismo Orçamentá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1"/>
          <p:cNvGrpSpPr/>
          <p:nvPr/>
        </p:nvGrpSpPr>
        <p:grpSpPr>
          <a:xfrm>
            <a:off x="684360" y="115920"/>
            <a:ext cx="7672320" cy="601560"/>
            <a:chOff x="684360" y="115920"/>
            <a:chExt cx="7672320" cy="601560"/>
          </a:xfrm>
        </p:grpSpPr>
        <p:sp>
          <p:nvSpPr>
            <p:cNvPr id="455" name="AutoShape 2"/>
            <p:cNvSpPr/>
            <p:nvPr/>
          </p:nvSpPr>
          <p:spPr>
            <a:xfrm>
              <a:off x="684360" y="115920"/>
              <a:ext cx="7672320" cy="601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Rectangle 3"/>
            <p:cNvSpPr/>
            <p:nvPr/>
          </p:nvSpPr>
          <p:spPr>
            <a:xfrm>
              <a:off x="714240" y="146160"/>
              <a:ext cx="76122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OBRAS e SERVIÇOS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57" name=""/>
          <p:cNvGraphicFramePr/>
          <p:nvPr/>
        </p:nvGraphicFramePr>
        <p:xfrm>
          <a:off x="714240" y="1268280"/>
          <a:ext cx="7820280" cy="4130640"/>
        </p:xfrm>
        <a:graphic>
          <a:graphicData uri="http://schemas.openxmlformats.org/drawingml/2006/table">
            <a:tbl>
              <a:tblPr/>
              <a:tblGrid>
                <a:gridCol w="6521760"/>
                <a:gridCol w="1298520"/>
              </a:tblGrid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237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EC. DE OBRA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.231.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714240" y="1195560"/>
          <a:ext cx="7820280" cy="3124080"/>
        </p:xfrm>
        <a:graphic>
          <a:graphicData uri="http://schemas.openxmlformats.org/drawingml/2006/table">
            <a:tbl>
              <a:tblPr/>
              <a:tblGrid>
                <a:gridCol w="617760"/>
                <a:gridCol w="6335640"/>
                <a:gridCol w="866880"/>
              </a:tblGrid>
              <a:tr h="412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UMINAÇÃO PÚBLICA MUNICIPAL – R$ 17.597.2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pliação da Rede de Iluminação Públic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steio dos Serviços Adm. de Iluminação Pública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e Melhorias na Rede de Iluminação Públic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RAS E BENFEITORIAS URBANAS – R$ 95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antação de Espaços Públicos de Laze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e Obras e Benfeitorias Urbana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1"/>
          <p:cNvGrpSpPr/>
          <p:nvPr/>
        </p:nvGrpSpPr>
        <p:grpSpPr>
          <a:xfrm>
            <a:off x="684360" y="174600"/>
            <a:ext cx="7672320" cy="601560"/>
            <a:chOff x="684360" y="174600"/>
            <a:chExt cx="7672320" cy="601560"/>
          </a:xfrm>
        </p:grpSpPr>
        <p:sp>
          <p:nvSpPr>
            <p:cNvPr id="460" name="AutoShape 2"/>
            <p:cNvSpPr/>
            <p:nvPr/>
          </p:nvSpPr>
          <p:spPr>
            <a:xfrm>
              <a:off x="684360" y="174600"/>
              <a:ext cx="7672320" cy="601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3"/>
            <p:cNvSpPr/>
            <p:nvPr/>
          </p:nvSpPr>
          <p:spPr>
            <a:xfrm>
              <a:off x="714240" y="204840"/>
              <a:ext cx="76122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LANEJAMENTO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2" name=""/>
          <p:cNvGraphicFramePr/>
          <p:nvPr/>
        </p:nvGraphicFramePr>
        <p:xfrm>
          <a:off x="684360" y="5589720"/>
          <a:ext cx="7923240" cy="403200"/>
        </p:xfrm>
        <a:graphic>
          <a:graphicData uri="http://schemas.openxmlformats.org/drawingml/2006/table">
            <a:tbl>
              <a:tblPr/>
              <a:tblGrid>
                <a:gridCol w="6770520"/>
                <a:gridCol w="1152720"/>
              </a:tblGrid>
              <a:tr h="237600">
                <a:tc>
                  <a:txBody>
                    <a:bodyPr lIns="9360" rIns="9360" tIns="900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8720">
                <a:tc>
                  <a:txBody>
                    <a:bodyPr lIns="9360" rIns="9360" tIns="900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EC. PLANEJAMENT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531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714240" y="1069920"/>
          <a:ext cx="7023240" cy="4489560"/>
        </p:xfrm>
        <a:graphic>
          <a:graphicData uri="http://schemas.openxmlformats.org/drawingml/2006/table">
            <a:tbl>
              <a:tblPr/>
              <a:tblGrid>
                <a:gridCol w="7023240"/>
              </a:tblGrid>
              <a:tr h="432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INETE SECRETARIA DE PLANEJAMENTO E GESTÃO ORÇAMENTÁRIA – R$ 5.219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Gabinete da Sec. Planejamento e Gestão Orçamentári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s Serviços Técnicos Adm. do Planejament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Contrato de Rateio CIM – AMFRI / PROMOBI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talização da Praia de Laranjeira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antação da Avenida Raposo Tavar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gação da Rua Evelon Cordeiro a Avenida Raposo Tavar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EJAMENTO E GESTÃO ORÇAMENTÁRIA – R$ 1.605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s Serviços de Planejamento e Gestão Orçamentári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SCALIZAÇÃO DE OBRAS – R$ 3.475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 Fiscalização de Obras Urbana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ES E PROJETOS – R$ 2.74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s Serviços de Análises e Projet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"/>
          <p:cNvGrpSpPr/>
          <p:nvPr/>
        </p:nvGrpSpPr>
        <p:grpSpPr>
          <a:xfrm>
            <a:off x="684360" y="115920"/>
            <a:ext cx="7672320" cy="601560"/>
            <a:chOff x="684360" y="115920"/>
            <a:chExt cx="7672320" cy="601560"/>
          </a:xfrm>
        </p:grpSpPr>
        <p:sp>
          <p:nvSpPr>
            <p:cNvPr id="465" name="AutoShape 2"/>
            <p:cNvSpPr/>
            <p:nvPr/>
          </p:nvSpPr>
          <p:spPr>
            <a:xfrm>
              <a:off x="684360" y="115920"/>
              <a:ext cx="7672320" cy="601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3"/>
            <p:cNvSpPr/>
            <p:nvPr/>
          </p:nvSpPr>
          <p:spPr>
            <a:xfrm>
              <a:off x="714240" y="146160"/>
              <a:ext cx="76122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LANEJAMENTO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67" name=""/>
          <p:cNvGraphicFramePr/>
          <p:nvPr/>
        </p:nvGraphicFramePr>
        <p:xfrm>
          <a:off x="684360" y="1268280"/>
          <a:ext cx="7923240" cy="4402440"/>
        </p:xfrm>
        <a:graphic>
          <a:graphicData uri="http://schemas.openxmlformats.org/drawingml/2006/table">
            <a:tbl>
              <a:tblPr/>
              <a:tblGrid>
                <a:gridCol w="6770520"/>
                <a:gridCol w="1152720"/>
              </a:tblGrid>
              <a:tr h="731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U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597.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534960" y="1533600"/>
          <a:ext cx="7974000" cy="2489040"/>
        </p:xfrm>
        <a:graphic>
          <a:graphicData uri="http://schemas.openxmlformats.org/drawingml/2006/table">
            <a:tbl>
              <a:tblPr/>
              <a:tblGrid>
                <a:gridCol w="723960"/>
                <a:gridCol w="6122880"/>
                <a:gridCol w="1127160"/>
              </a:tblGrid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684360" y="836640"/>
          <a:ext cx="7974000" cy="4762440"/>
        </p:xfrm>
        <a:graphic>
          <a:graphicData uri="http://schemas.openxmlformats.org/drawingml/2006/table">
            <a:tbl>
              <a:tblPr/>
              <a:tblGrid>
                <a:gridCol w="728640"/>
                <a:gridCol w="6964200"/>
                <a:gridCol w="281160"/>
              </a:tblGrid>
              <a:tr h="544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TPC - Fundo Especial de Outorga Onerosa de Transferência de Potencial Construtivo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FETP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o Acesso a BR 101 - Anel Viário Nort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longamento Av. Martin Luther – Rua Uganda até Rua Gaivota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longamento Av. Martin Luther – Rua Gaivotas até Divisa Itajaí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antação da Avenida Eco Parqu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longamento e Abertura de Avenidas - Binári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ação de Áreas Verdes - Entorno Binári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ça de Convivência junto ao Rio Camboriú - Parque Linea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rbanização da Orla da Praia Cent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1"/>
          <p:cNvGrpSpPr/>
          <p:nvPr/>
        </p:nvGrpSpPr>
        <p:grpSpPr>
          <a:xfrm>
            <a:off x="108000" y="189000"/>
            <a:ext cx="8926560" cy="880920"/>
            <a:chOff x="108000" y="189000"/>
            <a:chExt cx="8926560" cy="880920"/>
          </a:xfrm>
        </p:grpSpPr>
        <p:sp>
          <p:nvSpPr>
            <p:cNvPr id="471" name="AutoShape 2"/>
            <p:cNvSpPr/>
            <p:nvPr/>
          </p:nvSpPr>
          <p:spPr>
            <a:xfrm>
              <a:off x="115920" y="189000"/>
              <a:ext cx="8918640" cy="880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3"/>
            <p:cNvSpPr/>
            <p:nvPr/>
          </p:nvSpPr>
          <p:spPr>
            <a:xfrm>
              <a:off x="108000" y="274680"/>
              <a:ext cx="8667720" cy="7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TURISMO E DESENVOLVIMENTO ECONÔMICO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3" name=""/>
          <p:cNvGraphicFramePr/>
          <p:nvPr/>
        </p:nvGraphicFramePr>
        <p:xfrm>
          <a:off x="619200" y="1268280"/>
          <a:ext cx="7986600" cy="1495440"/>
        </p:xfrm>
        <a:graphic>
          <a:graphicData uri="http://schemas.openxmlformats.org/drawingml/2006/table">
            <a:tbl>
              <a:tblPr/>
              <a:tblGrid>
                <a:gridCol w="6835680"/>
                <a:gridCol w="1150920"/>
              </a:tblGrid>
              <a:tr h="418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1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9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74" name="Group 19"/>
          <p:cNvGrpSpPr/>
          <p:nvPr/>
        </p:nvGrpSpPr>
        <p:grpSpPr>
          <a:xfrm>
            <a:off x="395280" y="3094200"/>
            <a:ext cx="8370720" cy="717480"/>
            <a:chOff x="395280" y="3094200"/>
            <a:chExt cx="8370720" cy="717480"/>
          </a:xfrm>
        </p:grpSpPr>
        <p:sp>
          <p:nvSpPr>
            <p:cNvPr id="475" name="AutoShape 20"/>
            <p:cNvSpPr/>
            <p:nvPr/>
          </p:nvSpPr>
          <p:spPr>
            <a:xfrm>
              <a:off x="395280" y="3094200"/>
              <a:ext cx="8370720" cy="7174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Rectangle 21"/>
            <p:cNvSpPr/>
            <p:nvPr/>
          </p:nvSpPr>
          <p:spPr>
            <a:xfrm>
              <a:off x="460440" y="3259080"/>
              <a:ext cx="83055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TURISMO FUMTUR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7" name=""/>
          <p:cNvGraphicFramePr/>
          <p:nvPr/>
        </p:nvGraphicFramePr>
        <p:xfrm>
          <a:off x="628560" y="3960720"/>
          <a:ext cx="7994880" cy="2105280"/>
        </p:xfrm>
        <a:graphic>
          <a:graphicData uri="http://schemas.openxmlformats.org/drawingml/2006/table">
            <a:tbl>
              <a:tblPr/>
              <a:tblGrid>
                <a:gridCol w="6881760"/>
                <a:gridCol w="1113120"/>
              </a:tblGrid>
              <a:tr h="31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1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8" name=""/>
          <p:cNvGraphicFramePr/>
          <p:nvPr/>
        </p:nvGraphicFramePr>
        <p:xfrm>
          <a:off x="684360" y="1341360"/>
          <a:ext cx="7993080" cy="714600"/>
        </p:xfrm>
        <a:graphic>
          <a:graphicData uri="http://schemas.openxmlformats.org/drawingml/2006/table">
            <a:tbl>
              <a:tblPr/>
              <a:tblGrid>
                <a:gridCol w="660240"/>
                <a:gridCol w="6049800"/>
                <a:gridCol w="1283040"/>
              </a:tblGrid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RISMO EM GE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e Pessoal da Secretaria de Turism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611280" y="4076640"/>
          <a:ext cx="7994520" cy="1266840"/>
        </p:xfrm>
        <a:graphic>
          <a:graphicData uri="http://schemas.openxmlformats.org/drawingml/2006/table">
            <a:tbl>
              <a:tblPr/>
              <a:tblGrid>
                <a:gridCol w="714240"/>
                <a:gridCol w="6210360"/>
                <a:gridCol w="1069920"/>
              </a:tblGrid>
              <a:tr h="316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ção de Festividades Turísticas e Participação em Eventos Turístic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Administrativas do FUMTU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ção Consórcio de Turismo Costa Verde e Mar - CITMA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s Equipamentos Públicos Turístic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1"/>
          <p:cNvGrpSpPr/>
          <p:nvPr/>
        </p:nvGrpSpPr>
        <p:grpSpPr>
          <a:xfrm>
            <a:off x="250920" y="115920"/>
            <a:ext cx="8638920" cy="839880"/>
            <a:chOff x="250920" y="115920"/>
            <a:chExt cx="8638920" cy="839880"/>
          </a:xfrm>
        </p:grpSpPr>
        <p:sp>
          <p:nvSpPr>
            <p:cNvPr id="481" name="AutoShape 2"/>
            <p:cNvSpPr/>
            <p:nvPr/>
          </p:nvSpPr>
          <p:spPr>
            <a:xfrm>
              <a:off x="250920" y="115920"/>
              <a:ext cx="863892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Rectangle 3"/>
            <p:cNvSpPr/>
            <p:nvPr/>
          </p:nvSpPr>
          <p:spPr>
            <a:xfrm>
              <a:off x="284040" y="157320"/>
              <a:ext cx="85726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SEC. INCLUSÃO SOCIAL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3" name=""/>
          <p:cNvGraphicFramePr/>
          <p:nvPr/>
        </p:nvGraphicFramePr>
        <p:xfrm>
          <a:off x="395280" y="1052640"/>
          <a:ext cx="8461440" cy="5184720"/>
        </p:xfrm>
        <a:graphic>
          <a:graphicData uri="http://schemas.openxmlformats.org/drawingml/2006/table">
            <a:tbl>
              <a:tblPr/>
              <a:tblGrid>
                <a:gridCol w="7283520"/>
                <a:gridCol w="1177920"/>
              </a:tblGrid>
              <a:tr h="361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4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501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31640" y="1123920"/>
          <a:ext cx="8426520" cy="4722840"/>
        </p:xfrm>
        <a:graphic>
          <a:graphicData uri="http://schemas.openxmlformats.org/drawingml/2006/table">
            <a:tbl>
              <a:tblPr/>
              <a:tblGrid>
                <a:gridCol w="287640"/>
                <a:gridCol w="7130880"/>
                <a:gridCol w="1008000"/>
              </a:tblGrid>
              <a:tr h="199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INETE SECRETARIA DE DESENVOLVIMENTO E INCLUSÃO SOCIAL – R$ 5.751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e Assistência Social e Comunitári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Marcenaria Municip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ÇÃO SOCIAL – R$ 23.413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antação e Manutenção Centro de Convivência da Pessoa com Deficiênci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 Promoção e Desenvolvimento Soci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Resgate Social e Controle da Migraçã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stividades e Comemoração do Aniversário do Municíp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Casa da Mulher Brasileir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Programa Municipal - ABRAÇ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e Ampliação do Programa Bem Estar da Família e da Casa da Famíli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ENVOLVIMENTO COMUNITÁRIO – R$ 2.075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pliação e Reformas de Centros Comunitári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e Desenvolvimento Comunitár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BALHO, EMPREGO E RENDA – R$ 547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sos Técnicos e Profissionalizantes para a Comunidad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Economia Artesan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ISTÊNCIA A INFÂNCIA E JUVENTUDE – R$ 1.715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Conselho Tutelar e de Direitos da Criança e do Adolescent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envolvimento de Atividades Voltadas ao Fortalecimento da Juventude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1"/>
          <p:cNvGrpSpPr/>
          <p:nvPr/>
        </p:nvGrpSpPr>
        <p:grpSpPr>
          <a:xfrm>
            <a:off x="108000" y="115920"/>
            <a:ext cx="8926560" cy="839880"/>
            <a:chOff x="108000" y="115920"/>
            <a:chExt cx="8926560" cy="839880"/>
          </a:xfrm>
        </p:grpSpPr>
        <p:sp>
          <p:nvSpPr>
            <p:cNvPr id="486" name="AutoShape 2"/>
            <p:cNvSpPr/>
            <p:nvPr/>
          </p:nvSpPr>
          <p:spPr>
            <a:xfrm>
              <a:off x="108000" y="115920"/>
              <a:ext cx="892656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Rectangle 3"/>
            <p:cNvSpPr/>
            <p:nvPr/>
          </p:nvSpPr>
          <p:spPr>
            <a:xfrm>
              <a:off x="142920" y="157320"/>
              <a:ext cx="88567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ASSISTÊNCIA SOCIAL - FMAS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88" name=""/>
          <p:cNvGraphicFramePr/>
          <p:nvPr/>
        </p:nvGraphicFramePr>
        <p:xfrm>
          <a:off x="501480" y="1125360"/>
          <a:ext cx="8137800" cy="4032360"/>
        </p:xfrm>
        <a:graphic>
          <a:graphicData uri="http://schemas.openxmlformats.org/drawingml/2006/table">
            <a:tbl>
              <a:tblPr/>
              <a:tblGrid>
                <a:gridCol w="7005960"/>
                <a:gridCol w="113184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1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396.5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9" name=""/>
          <p:cNvGraphicFramePr/>
          <p:nvPr/>
        </p:nvGraphicFramePr>
        <p:xfrm>
          <a:off x="501480" y="1268280"/>
          <a:ext cx="8137800" cy="3456000"/>
        </p:xfrm>
        <a:graphic>
          <a:graphicData uri="http://schemas.openxmlformats.org/drawingml/2006/table">
            <a:tbl>
              <a:tblPr/>
              <a:tblGrid>
                <a:gridCol w="287640"/>
                <a:gridCol w="6913440"/>
                <a:gridCol w="936720"/>
              </a:tblGrid>
              <a:tr h="281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Conselho - CMA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Programa Acessuas - Trabalh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Serviço de Família Acolhedora para Crianças, Idosos e Pessoas com Deficiênci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 de Gestão do SUAS - IG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 de Proteção Social Básic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 de IGD/ PBF e CadÚnic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 de Proteção Social Especial - MA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lização de Parcerias com OSCIPs - Prot. Social Básic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lização de Parcerias com OSCIPs - Prot. Social Especi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ssão de Benefícios Eventuai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1"/>
          <p:cNvGrpSpPr/>
          <p:nvPr/>
        </p:nvGrpSpPr>
        <p:grpSpPr>
          <a:xfrm>
            <a:off x="108000" y="115920"/>
            <a:ext cx="8926560" cy="839880"/>
            <a:chOff x="108000" y="115920"/>
            <a:chExt cx="8926560" cy="839880"/>
          </a:xfrm>
        </p:grpSpPr>
        <p:sp>
          <p:nvSpPr>
            <p:cNvPr id="491" name="AutoShape 2"/>
            <p:cNvSpPr/>
            <p:nvPr/>
          </p:nvSpPr>
          <p:spPr>
            <a:xfrm>
              <a:off x="108000" y="115920"/>
              <a:ext cx="892656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Rectangle 3"/>
            <p:cNvSpPr/>
            <p:nvPr/>
          </p:nvSpPr>
          <p:spPr>
            <a:xfrm>
              <a:off x="142920" y="157320"/>
              <a:ext cx="88567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CRIANÇA E ADOLESCENTE - FMDCA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93" name=""/>
          <p:cNvGraphicFramePr/>
          <p:nvPr/>
        </p:nvGraphicFramePr>
        <p:xfrm>
          <a:off x="611280" y="1989000"/>
          <a:ext cx="8066160" cy="2160720"/>
        </p:xfrm>
        <a:graphic>
          <a:graphicData uri="http://schemas.openxmlformats.org/drawingml/2006/table">
            <a:tbl>
              <a:tblPr/>
              <a:tblGrid>
                <a:gridCol w="6943680"/>
                <a:gridCol w="1122480"/>
              </a:tblGrid>
              <a:tr h="432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79.1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4" name=""/>
          <p:cNvGraphicFramePr/>
          <p:nvPr/>
        </p:nvGraphicFramePr>
        <p:xfrm>
          <a:off x="611280" y="2060640"/>
          <a:ext cx="7994520" cy="1512720"/>
        </p:xfrm>
        <a:graphic>
          <a:graphicData uri="http://schemas.openxmlformats.org/drawingml/2006/table">
            <a:tbl>
              <a:tblPr/>
              <a:tblGrid>
                <a:gridCol w="720720"/>
                <a:gridCol w="5991120"/>
                <a:gridCol w="1282680"/>
              </a:tblGrid>
              <a:tr h="377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FMDC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e Atenção a Criança e ao Adolescent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mos de Parcerias voltadas ao bem estar da Criança e Adolescent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entivo à Guarda e a Adoçã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1"/>
          <p:cNvGrpSpPr/>
          <p:nvPr/>
        </p:nvGrpSpPr>
        <p:grpSpPr>
          <a:xfrm>
            <a:off x="108000" y="115920"/>
            <a:ext cx="8926560" cy="839880"/>
            <a:chOff x="108000" y="115920"/>
            <a:chExt cx="8926560" cy="839880"/>
          </a:xfrm>
        </p:grpSpPr>
        <p:sp>
          <p:nvSpPr>
            <p:cNvPr id="496" name="AutoShape 2"/>
            <p:cNvSpPr/>
            <p:nvPr/>
          </p:nvSpPr>
          <p:spPr>
            <a:xfrm>
              <a:off x="108000" y="115920"/>
              <a:ext cx="892656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3"/>
            <p:cNvSpPr/>
            <p:nvPr/>
          </p:nvSpPr>
          <p:spPr>
            <a:xfrm>
              <a:off x="142920" y="157320"/>
              <a:ext cx="88567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HABITAÇÃO FURBES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98" name=""/>
          <p:cNvGraphicFramePr/>
          <p:nvPr/>
        </p:nvGraphicFramePr>
        <p:xfrm>
          <a:off x="539640" y="1628640"/>
          <a:ext cx="7994880" cy="2841840"/>
        </p:xfrm>
        <a:graphic>
          <a:graphicData uri="http://schemas.openxmlformats.org/drawingml/2006/table">
            <a:tbl>
              <a:tblPr/>
              <a:tblGrid>
                <a:gridCol w="6881760"/>
                <a:gridCol w="1113120"/>
              </a:tblGrid>
              <a:tr h="351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8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9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611280" y="1700280"/>
          <a:ext cx="7923240" cy="2305080"/>
        </p:xfrm>
        <a:graphic>
          <a:graphicData uri="http://schemas.openxmlformats.org/drawingml/2006/table">
            <a:tbl>
              <a:tblPr/>
              <a:tblGrid>
                <a:gridCol w="215640"/>
                <a:gridCol w="6435720"/>
                <a:gridCol w="1271880"/>
              </a:tblGrid>
              <a:tr h="352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ção de Moradia Digna de Interesse Soci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Programa Lar Legal e de Legitimação Fundiária/REUR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de Urbanização, Regularização e Integração de Assentamentos Precári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FURB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e Ações de Promoção Huma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ssão de Auxílio Moradia aos Beneficiári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1"/>
          <p:cNvGrpSpPr/>
          <p:nvPr/>
        </p:nvGrpSpPr>
        <p:grpSpPr>
          <a:xfrm>
            <a:off x="108000" y="115920"/>
            <a:ext cx="8926560" cy="839880"/>
            <a:chOff x="108000" y="115920"/>
            <a:chExt cx="8926560" cy="839880"/>
          </a:xfrm>
        </p:grpSpPr>
        <p:sp>
          <p:nvSpPr>
            <p:cNvPr id="501" name="AutoShape 2"/>
            <p:cNvSpPr/>
            <p:nvPr/>
          </p:nvSpPr>
          <p:spPr>
            <a:xfrm>
              <a:off x="108000" y="115920"/>
              <a:ext cx="892656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Rectangle 3"/>
            <p:cNvSpPr/>
            <p:nvPr/>
          </p:nvSpPr>
          <p:spPr>
            <a:xfrm>
              <a:off x="142920" y="157320"/>
              <a:ext cx="88567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ESSOA IDOSA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03" name=""/>
          <p:cNvGraphicFramePr/>
          <p:nvPr/>
        </p:nvGraphicFramePr>
        <p:xfrm>
          <a:off x="777960" y="1341360"/>
          <a:ext cx="7584840" cy="3745080"/>
        </p:xfrm>
        <a:graphic>
          <a:graphicData uri="http://schemas.openxmlformats.org/drawingml/2006/table">
            <a:tbl>
              <a:tblPr/>
              <a:tblGrid>
                <a:gridCol w="6529320"/>
                <a:gridCol w="1055520"/>
              </a:tblGrid>
              <a:tr h="755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7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84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684360" y="1557360"/>
          <a:ext cx="7561080" cy="3187800"/>
        </p:xfrm>
        <a:graphic>
          <a:graphicData uri="http://schemas.openxmlformats.org/drawingml/2006/table">
            <a:tbl>
              <a:tblPr/>
              <a:tblGrid>
                <a:gridCol w="647640"/>
                <a:gridCol w="5700600"/>
                <a:gridCol w="1212840"/>
              </a:tblGrid>
              <a:tr h="291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RETARIA DA PESSOA IDOSA – ADMINISTRATIVO – R$ 3.26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Administrativa da SP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ÇÃO, INTEGRAÇÃO E PROTEÇÃO AO IDOSO -  R$ 4.502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quisição de Ônibus para a SP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e Operacionalização das Atividades do Lar dos Idos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e Atenção ao Idos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ção Centro Dia da Pessoa Idosa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O MUNICIPAL DO IDOSO – FMIBC -  R$ 22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Fundo Municipal do Idoso - FMIB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1"/>
          <p:cNvGrpSpPr/>
          <p:nvPr/>
        </p:nvGrpSpPr>
        <p:grpSpPr>
          <a:xfrm>
            <a:off x="179280" y="115920"/>
            <a:ext cx="8786880" cy="839880"/>
            <a:chOff x="179280" y="115920"/>
            <a:chExt cx="8786880" cy="839880"/>
          </a:xfrm>
        </p:grpSpPr>
        <p:sp>
          <p:nvSpPr>
            <p:cNvPr id="506" name="AutoShape 2"/>
            <p:cNvSpPr/>
            <p:nvPr/>
          </p:nvSpPr>
          <p:spPr>
            <a:xfrm>
              <a:off x="179280" y="115920"/>
              <a:ext cx="878688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Rectangle 3"/>
            <p:cNvSpPr/>
            <p:nvPr/>
          </p:nvSpPr>
          <p:spPr>
            <a:xfrm>
              <a:off x="179280" y="157320"/>
              <a:ext cx="875196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COMPRAS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8" name="AutoShape 4"/>
          <p:cNvSpPr/>
          <p:nvPr/>
        </p:nvSpPr>
        <p:spPr>
          <a:xfrm>
            <a:off x="179280" y="2924280"/>
            <a:ext cx="8755200" cy="9126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Calibri"/>
              </a:rPr>
              <a:t>CONTROLE E TRANSPARÊNCIA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611280" y="1413000"/>
          <a:ext cx="7923240" cy="1395360"/>
        </p:xfrm>
        <a:graphic>
          <a:graphicData uri="http://schemas.openxmlformats.org/drawingml/2006/table">
            <a:tbl>
              <a:tblPr/>
              <a:tblGrid>
                <a:gridCol w="6821280"/>
                <a:gridCol w="1101960"/>
              </a:tblGrid>
              <a:tr h="360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equações e Melhorias na Estrutura Física da SCM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1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Secretaria de Compra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Consórcio Interfederativo Santa Catarina - CINCATARI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83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611280" y="4221000"/>
          <a:ext cx="7994520" cy="1032120"/>
        </p:xfrm>
        <a:graphic>
          <a:graphicData uri="http://schemas.openxmlformats.org/drawingml/2006/table">
            <a:tbl>
              <a:tblPr/>
              <a:tblGrid>
                <a:gridCol w="6881760"/>
                <a:gridCol w="1112760"/>
              </a:tblGrid>
              <a:tr h="648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Sec. Controle Governamental e Transparência Públic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4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5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971640" y="404640"/>
            <a:ext cx="733896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53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868320"/>
                <a:tab algn="l" pos="1782720"/>
                <a:tab algn="l" pos="2697120"/>
                <a:tab algn="l" pos="3611520"/>
                <a:tab algn="l" pos="4525920"/>
                <a:tab algn="l" pos="5440320"/>
                <a:tab algn="l" pos="6354720"/>
                <a:tab algn="l" pos="7269120"/>
                <a:tab algn="l" pos="8183520"/>
                <a:tab algn="l" pos="9097920"/>
                <a:tab algn="l" pos="10012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538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868320"/>
                <a:tab algn="l" pos="1782720"/>
                <a:tab algn="l" pos="2697120"/>
                <a:tab algn="l" pos="3611520"/>
                <a:tab algn="l" pos="4525920"/>
                <a:tab algn="l" pos="5440320"/>
                <a:tab algn="l" pos="6354720"/>
                <a:tab algn="l" pos="7269120"/>
                <a:tab algn="l" pos="8183520"/>
                <a:tab algn="l" pos="9097920"/>
                <a:tab algn="l" pos="1001232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2124000" y="26028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c000"/>
                </a:solidFill>
                <a:latin typeface="Arial"/>
              </a:rPr>
              <a:t>LOA 20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826920" y="177336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i="1" lang="pt-BR" sz="3600" spc="-1" strike="noStrike" u="sng">
                <a:solidFill>
                  <a:srgbClr val="000000"/>
                </a:solidFill>
                <a:uFillTx/>
                <a:latin typeface="Arial"/>
                <a:ea typeface="Microsoft YaHei"/>
              </a:rPr>
              <a:t>PRAZO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- Audiência até 15 de Outub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- Entrega do Projeto de Lei até 31 de Outub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  <a:ea typeface="Microsoft YaHei"/>
              </a:rPr>
              <a:t>- Aprovação até 15 de Dezemb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1"/>
          <p:cNvGrpSpPr/>
          <p:nvPr/>
        </p:nvGrpSpPr>
        <p:grpSpPr>
          <a:xfrm>
            <a:off x="108000" y="115920"/>
            <a:ext cx="8926560" cy="839880"/>
            <a:chOff x="108000" y="115920"/>
            <a:chExt cx="8926560" cy="839880"/>
          </a:xfrm>
        </p:grpSpPr>
        <p:sp>
          <p:nvSpPr>
            <p:cNvPr id="512" name="AutoShape 2"/>
            <p:cNvSpPr/>
            <p:nvPr/>
          </p:nvSpPr>
          <p:spPr>
            <a:xfrm>
              <a:off x="108000" y="115920"/>
              <a:ext cx="892656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Rectangle 3"/>
            <p:cNvSpPr/>
            <p:nvPr/>
          </p:nvSpPr>
          <p:spPr>
            <a:xfrm>
              <a:off x="142920" y="157320"/>
              <a:ext cx="88567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SEGURANÇA PÚBLICA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4" name=""/>
          <p:cNvGraphicFramePr/>
          <p:nvPr/>
        </p:nvGraphicFramePr>
        <p:xfrm>
          <a:off x="501480" y="981000"/>
          <a:ext cx="8247240" cy="5256360"/>
        </p:xfrm>
        <a:graphic>
          <a:graphicData uri="http://schemas.openxmlformats.org/drawingml/2006/table">
            <a:tbl>
              <a:tblPr/>
              <a:tblGrid>
                <a:gridCol w="7099560"/>
                <a:gridCol w="1147680"/>
              </a:tblGrid>
              <a:tr h="576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3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6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0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EC. DE SEGURANÇ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024.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5" name=""/>
          <p:cNvGraphicFramePr/>
          <p:nvPr/>
        </p:nvGraphicFramePr>
        <p:xfrm>
          <a:off x="501480" y="1052640"/>
          <a:ext cx="8137800" cy="4174920"/>
        </p:xfrm>
        <a:graphic>
          <a:graphicData uri="http://schemas.openxmlformats.org/drawingml/2006/table">
            <a:tbl>
              <a:tblPr/>
              <a:tblGrid>
                <a:gridCol w="720720"/>
                <a:gridCol w="6551640"/>
                <a:gridCol w="865440"/>
              </a:tblGrid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INETE DA SECRETARIA DE SEGURANÇA – R$ 6.461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Gabinete da Sec. de Seguranç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horia e Manutenção do Sistema de Monitorament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Convênio da Radiopatrulha PMS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RDA MUNICIPAL – R$ 29.196.5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Guarda Municip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. OCUPAÇÃO IRREGULAR E DEGRADAÇÃO AMBIENTAL – R$ 381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nção de Ocupação Irregular e Degradação Ambien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ÂNSITO E ENGENHARIA – R$ 16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s Serviços de Trânsito e Engenhari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O MUNICIPAL DE PROTEÇÃO E DEFESA CIVIL – R$ 1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quisição de Equipamentos de Apoio às Ações da Defesa Civi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Fundo de Proteção da Defesa Civi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RDA PATRIMONIAL – R$ 4.49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Guarda Patrimoni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ARTAMENTO DEFESA CIVIL – R$ 1.47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Defesa Civi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1"/>
          <p:cNvGrpSpPr/>
          <p:nvPr/>
        </p:nvGrpSpPr>
        <p:grpSpPr>
          <a:xfrm>
            <a:off x="108000" y="115920"/>
            <a:ext cx="8926560" cy="839880"/>
            <a:chOff x="108000" y="115920"/>
            <a:chExt cx="8926560" cy="839880"/>
          </a:xfrm>
        </p:grpSpPr>
        <p:sp>
          <p:nvSpPr>
            <p:cNvPr id="517" name="AutoShape 2"/>
            <p:cNvSpPr/>
            <p:nvPr/>
          </p:nvSpPr>
          <p:spPr>
            <a:xfrm>
              <a:off x="108000" y="115920"/>
              <a:ext cx="892656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3"/>
            <p:cNvSpPr/>
            <p:nvPr/>
          </p:nvSpPr>
          <p:spPr>
            <a:xfrm>
              <a:off x="142920" y="157320"/>
              <a:ext cx="88567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BC TRÂNSITO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19" name=""/>
          <p:cNvGraphicFramePr/>
          <p:nvPr/>
        </p:nvGraphicFramePr>
        <p:xfrm>
          <a:off x="539640" y="1125360"/>
          <a:ext cx="7824960" cy="5151600"/>
        </p:xfrm>
        <a:graphic>
          <a:graphicData uri="http://schemas.openxmlformats.org/drawingml/2006/table">
            <a:tbl>
              <a:tblPr/>
              <a:tblGrid>
                <a:gridCol w="6735960"/>
                <a:gridCol w="1089000"/>
              </a:tblGrid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0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849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684360" y="1260360"/>
          <a:ext cx="7489800" cy="4176720"/>
        </p:xfrm>
        <a:graphic>
          <a:graphicData uri="http://schemas.openxmlformats.org/drawingml/2006/table">
            <a:tbl>
              <a:tblPr/>
              <a:tblGrid>
                <a:gridCol w="350640"/>
                <a:gridCol w="5937480"/>
                <a:gridCol w="1201680"/>
              </a:tblGrid>
              <a:tr h="251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Administrativas do BC TRÂNSIT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rgos Sociais e Previdenciários sobre Folha - BC Trânsit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tão Alimentação aos Servidores BCTRÂNSIT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ção da Escola Pública para Educação no Trânsit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Polícia Civi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Polícia Milita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do Convênio de Trânsit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ções Educação para Segurança no Trânsit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ciamento e Fiscalização do Trânsit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antação de Ciclovias, Ciclofaixas, Ciclorrotas e Paracicl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enharia de Tráfego e de Camp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aptações e Manutenções da Sinalização Viári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2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io e Melhorias no Transporte Coletivo Municip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9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ão ao Pasep - BC TRÂNSIT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Group 1"/>
          <p:cNvGrpSpPr/>
          <p:nvPr/>
        </p:nvGrpSpPr>
        <p:grpSpPr>
          <a:xfrm>
            <a:off x="108000" y="115920"/>
            <a:ext cx="8926560" cy="839880"/>
            <a:chOff x="108000" y="115920"/>
            <a:chExt cx="8926560" cy="839880"/>
          </a:xfrm>
        </p:grpSpPr>
        <p:sp>
          <p:nvSpPr>
            <p:cNvPr id="522" name="AutoShape 2"/>
            <p:cNvSpPr/>
            <p:nvPr/>
          </p:nvSpPr>
          <p:spPr>
            <a:xfrm>
              <a:off x="108000" y="115920"/>
              <a:ext cx="892656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3"/>
            <p:cNvSpPr/>
            <p:nvPr/>
          </p:nvSpPr>
          <p:spPr>
            <a:xfrm>
              <a:off x="142920" y="157320"/>
              <a:ext cx="88567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NDO SAÚDE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24" name=""/>
          <p:cNvGraphicFramePr/>
          <p:nvPr/>
        </p:nvGraphicFramePr>
        <p:xfrm>
          <a:off x="611280" y="1557360"/>
          <a:ext cx="7923240" cy="4319640"/>
        </p:xfrm>
        <a:graphic>
          <a:graphicData uri="http://schemas.openxmlformats.org/drawingml/2006/table">
            <a:tbl>
              <a:tblPr/>
              <a:tblGrid>
                <a:gridCol w="647640"/>
                <a:gridCol w="6003720"/>
                <a:gridCol w="1271880"/>
              </a:tblGrid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5" name="Text Box 4"/>
          <p:cNvSpPr/>
          <p:nvPr/>
        </p:nvSpPr>
        <p:spPr>
          <a:xfrm>
            <a:off x="167040" y="963720"/>
            <a:ext cx="40410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STÃO DA SAÚDE – ADM G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684360" y="1628640"/>
          <a:ext cx="7635600" cy="3827520"/>
        </p:xfrm>
        <a:graphic>
          <a:graphicData uri="http://schemas.openxmlformats.org/drawingml/2006/table">
            <a:tbl>
              <a:tblPr/>
              <a:tblGrid>
                <a:gridCol w="6194160"/>
                <a:gridCol w="1441440"/>
              </a:tblGrid>
              <a:tr h="46260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ção do Centro Administrativo de Saúde Municip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dos Serviços Públicos de Saúd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rgos Sociais e Previdenciários sobre Folha – Saúd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120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io as Atividades do COMU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15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15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7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502.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1"/>
          <p:cNvGrpSpPr/>
          <p:nvPr/>
        </p:nvGrpSpPr>
        <p:grpSpPr>
          <a:xfrm>
            <a:off x="108000" y="135000"/>
            <a:ext cx="8926560" cy="839880"/>
            <a:chOff x="108000" y="135000"/>
            <a:chExt cx="8926560" cy="839880"/>
          </a:xfrm>
        </p:grpSpPr>
        <p:sp>
          <p:nvSpPr>
            <p:cNvPr id="528" name="AutoShape 2"/>
            <p:cNvSpPr/>
            <p:nvPr/>
          </p:nvSpPr>
          <p:spPr>
            <a:xfrm>
              <a:off x="108000" y="135000"/>
              <a:ext cx="892656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Rectangle 3"/>
            <p:cNvSpPr/>
            <p:nvPr/>
          </p:nvSpPr>
          <p:spPr>
            <a:xfrm>
              <a:off x="142920" y="157320"/>
              <a:ext cx="88567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NDO SAÚDE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30" name=""/>
          <p:cNvGraphicFramePr/>
          <p:nvPr/>
        </p:nvGraphicFramePr>
        <p:xfrm>
          <a:off x="611280" y="1557360"/>
          <a:ext cx="7923240" cy="4319640"/>
        </p:xfrm>
        <a:graphic>
          <a:graphicData uri="http://schemas.openxmlformats.org/drawingml/2006/table">
            <a:tbl>
              <a:tblPr/>
              <a:tblGrid>
                <a:gridCol w="647640"/>
                <a:gridCol w="6003720"/>
                <a:gridCol w="1271880"/>
              </a:tblGrid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1" name=""/>
          <p:cNvGraphicFramePr/>
          <p:nvPr/>
        </p:nvGraphicFramePr>
        <p:xfrm>
          <a:off x="611280" y="1628640"/>
          <a:ext cx="7421400" cy="4152960"/>
        </p:xfrm>
        <a:graphic>
          <a:graphicData uri="http://schemas.openxmlformats.org/drawingml/2006/table">
            <a:tbl>
              <a:tblPr/>
              <a:tblGrid>
                <a:gridCol w="6006960"/>
                <a:gridCol w="1414440"/>
              </a:tblGrid>
              <a:tr h="3603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ção de UBS - Bairro São Judas Tadeu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64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orma, Ampliação e Melhorias em Unidades Básicas de Saúde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s Serviços Básicos de Saúde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Estratégias da Saúde Bucal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Sistema de Inspeção Municipal – SIM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1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ções Básicas de Vigilância Sanitária e Ambiental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ções da Vigilância Epidemiológica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ções da Segurança Nutricional e Alimentar na Saúde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 Farmácia Municipal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6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634.2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2" name="Text Box 4"/>
          <p:cNvSpPr/>
          <p:nvPr/>
        </p:nvSpPr>
        <p:spPr>
          <a:xfrm>
            <a:off x="190440" y="1052640"/>
            <a:ext cx="76849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TENÇÃO BÁSICA / ASS.FARMACÊUTICA E VIGILÂNCIA EM SAÚ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1"/>
          <p:cNvGrpSpPr/>
          <p:nvPr/>
        </p:nvGrpSpPr>
        <p:grpSpPr>
          <a:xfrm>
            <a:off x="108000" y="115920"/>
            <a:ext cx="8926560" cy="839880"/>
            <a:chOff x="108000" y="115920"/>
            <a:chExt cx="8926560" cy="839880"/>
          </a:xfrm>
        </p:grpSpPr>
        <p:sp>
          <p:nvSpPr>
            <p:cNvPr id="534" name="AutoShape 2"/>
            <p:cNvSpPr/>
            <p:nvPr/>
          </p:nvSpPr>
          <p:spPr>
            <a:xfrm>
              <a:off x="108000" y="115920"/>
              <a:ext cx="892656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Rectangle 3"/>
            <p:cNvSpPr/>
            <p:nvPr/>
          </p:nvSpPr>
          <p:spPr>
            <a:xfrm>
              <a:off x="142920" y="157320"/>
              <a:ext cx="88567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NDO SAÚDE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36" name=""/>
          <p:cNvGraphicFramePr/>
          <p:nvPr/>
        </p:nvGraphicFramePr>
        <p:xfrm>
          <a:off x="611280" y="1327320"/>
          <a:ext cx="8066160" cy="4622760"/>
        </p:xfrm>
        <a:graphic>
          <a:graphicData uri="http://schemas.openxmlformats.org/drawingml/2006/table">
            <a:tbl>
              <a:tblPr/>
              <a:tblGrid>
                <a:gridCol w="6192720"/>
                <a:gridCol w="1873440"/>
              </a:tblGrid>
              <a:tr h="420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883.8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7" name=""/>
          <p:cNvGraphicFramePr/>
          <p:nvPr/>
        </p:nvGraphicFramePr>
        <p:xfrm>
          <a:off x="684360" y="1484280"/>
          <a:ext cx="7993080" cy="4046400"/>
        </p:xfrm>
        <a:graphic>
          <a:graphicData uri="http://schemas.openxmlformats.org/drawingml/2006/table">
            <a:tbl>
              <a:tblPr/>
              <a:tblGrid>
                <a:gridCol w="361800"/>
                <a:gridCol w="6348240"/>
                <a:gridCol w="1283040"/>
              </a:tblGrid>
              <a:tr h="2739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 ESPECIALIZADOS – R$ 91.000.5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ção de UES - CAPS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orma, Ampliação e Melhorias em Unidades Especializadas de Saúde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s Serviços de Regulação, Controle e Avaliação da Atenção à Saúd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3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s Serviços Especializados de Saúde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Centro de Atenção Psicossocial – CAPS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3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s Serviços de Pronto Atendimento - PA/UPA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 e Rateio do Consórcio CIS-AMFRI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tenças Judiciais - Internações, Tratamentos e Medicamentos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360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 MUNICIPAL E MATERNIDADE RUTH CARDOSO – R$ 128.883.86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orma, Ampliação e Melhorias do HMR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5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s Serviços Hospitalares do HMR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8" name="Text Box 4"/>
          <p:cNvSpPr/>
          <p:nvPr/>
        </p:nvSpPr>
        <p:spPr>
          <a:xfrm>
            <a:off x="398520" y="955800"/>
            <a:ext cx="53881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SSISTÊNCIA HOSPITALAR E AMBULATO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"/>
          <p:cNvSpPr/>
          <p:nvPr/>
        </p:nvSpPr>
        <p:spPr>
          <a:xfrm>
            <a:off x="420840" y="157320"/>
            <a:ext cx="823572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133200" bIns="133200" anchor="ctr">
            <a:noAutofit/>
          </a:bodyPr>
          <a:p>
            <a:pPr algn="ctr">
              <a:lnSpc>
                <a:spcPct val="90000"/>
              </a:lnSpc>
              <a:spcAft>
                <a:spcPts val="15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Calibri"/>
              </a:rPr>
              <a:t>MEIO AMBIENTE – R$ 2.738 mi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AutoShape 2"/>
          <p:cNvSpPr/>
          <p:nvPr/>
        </p:nvSpPr>
        <p:spPr>
          <a:xfrm>
            <a:off x="352440" y="260280"/>
            <a:ext cx="8300880" cy="9129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</a:rPr>
              <a:t>COMAD - CONSELHO MUNICIPAL ANTIDROG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577800" y="1700280"/>
          <a:ext cx="7851960" cy="981000"/>
        </p:xfrm>
        <a:graphic>
          <a:graphicData uri="http://schemas.openxmlformats.org/drawingml/2006/table">
            <a:tbl>
              <a:tblPr/>
              <a:tblGrid>
                <a:gridCol w="6759720"/>
                <a:gridCol w="1092240"/>
              </a:tblGrid>
              <a:tr h="49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e Realização de Eventos pelo COMA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1"/>
          <p:cNvGrpSpPr/>
          <p:nvPr/>
        </p:nvGrpSpPr>
        <p:grpSpPr>
          <a:xfrm>
            <a:off x="108000" y="115920"/>
            <a:ext cx="8926560" cy="839880"/>
            <a:chOff x="108000" y="115920"/>
            <a:chExt cx="8926560" cy="839880"/>
          </a:xfrm>
        </p:grpSpPr>
        <p:sp>
          <p:nvSpPr>
            <p:cNvPr id="543" name="AutoShape 2"/>
            <p:cNvSpPr/>
            <p:nvPr/>
          </p:nvSpPr>
          <p:spPr>
            <a:xfrm>
              <a:off x="108000" y="115920"/>
              <a:ext cx="892656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Rectangle 3"/>
            <p:cNvSpPr/>
            <p:nvPr/>
          </p:nvSpPr>
          <p:spPr>
            <a:xfrm>
              <a:off x="142920" y="157320"/>
              <a:ext cx="88567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MEIO AMBIENTE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45" name=""/>
          <p:cNvGraphicFramePr/>
          <p:nvPr/>
        </p:nvGraphicFramePr>
        <p:xfrm>
          <a:off x="755640" y="1052640"/>
          <a:ext cx="7921800" cy="4895640"/>
        </p:xfrm>
        <a:graphic>
          <a:graphicData uri="http://schemas.openxmlformats.org/drawingml/2006/table">
            <a:tbl>
              <a:tblPr/>
              <a:tblGrid>
                <a:gridCol w="6819840"/>
                <a:gridCol w="1101960"/>
              </a:tblGrid>
              <a:tr h="41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84.10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755640" y="1125360"/>
          <a:ext cx="7921800" cy="4476960"/>
        </p:xfrm>
        <a:graphic>
          <a:graphicData uri="http://schemas.openxmlformats.org/drawingml/2006/table">
            <a:tbl>
              <a:tblPr/>
              <a:tblGrid>
                <a:gridCol w="431640"/>
                <a:gridCol w="6218280"/>
                <a:gridCol w="1271880"/>
              </a:tblGrid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O MUNICIPAL DE DESENVOLVIMENTO DO MEIO AMBIENT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ção do Centro de Educação Ambien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orma da Sede Administrativa – FUNDEM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talização do Parque Natural Municipal Raimundo Gonçalez Malt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envolvimento de Produtos e Serviços Ambientai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rvação e Ampliação do Selo Internacional "Bandeira Azul"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Administrativas do FUNDEM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Fiscalização Ambien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Fitoterapia e Viveiro Mata Atlântic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stentabilidade Ambien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Programa Terra Limp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Parque Raimundo Gonçalez Malt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e Proteção e Bem Estar Anim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1"/>
          <p:cNvGrpSpPr/>
          <p:nvPr/>
        </p:nvGrpSpPr>
        <p:grpSpPr>
          <a:xfrm>
            <a:off x="108000" y="115920"/>
            <a:ext cx="8926560" cy="839880"/>
            <a:chOff x="108000" y="115920"/>
            <a:chExt cx="8926560" cy="839880"/>
          </a:xfrm>
        </p:grpSpPr>
        <p:sp>
          <p:nvSpPr>
            <p:cNvPr id="548" name="AutoShape 2"/>
            <p:cNvSpPr/>
            <p:nvPr/>
          </p:nvSpPr>
          <p:spPr>
            <a:xfrm>
              <a:off x="108000" y="115920"/>
              <a:ext cx="892656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Rectangle 3"/>
            <p:cNvSpPr/>
            <p:nvPr/>
          </p:nvSpPr>
          <p:spPr>
            <a:xfrm>
              <a:off x="142920" y="157320"/>
              <a:ext cx="88567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MEIO AMBIENTE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50" name=""/>
          <p:cNvGraphicFramePr/>
          <p:nvPr/>
        </p:nvGraphicFramePr>
        <p:xfrm>
          <a:off x="684360" y="1197000"/>
          <a:ext cx="7921440" cy="1190520"/>
        </p:xfrm>
        <a:graphic>
          <a:graphicData uri="http://schemas.openxmlformats.org/drawingml/2006/table">
            <a:tbl>
              <a:tblPr/>
              <a:tblGrid>
                <a:gridCol w="6819840"/>
                <a:gridCol w="1101600"/>
              </a:tblGrid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5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1" name=""/>
          <p:cNvGraphicFramePr/>
          <p:nvPr/>
        </p:nvGraphicFramePr>
        <p:xfrm>
          <a:off x="611280" y="3068640"/>
          <a:ext cx="7921440" cy="814320"/>
        </p:xfrm>
        <a:graphic>
          <a:graphicData uri="http://schemas.openxmlformats.org/drawingml/2006/table">
            <a:tbl>
              <a:tblPr/>
              <a:tblGrid>
                <a:gridCol w="6780240"/>
                <a:gridCol w="1141200"/>
              </a:tblGrid>
              <a:tr h="576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2" name=""/>
          <p:cNvGraphicFramePr/>
          <p:nvPr/>
        </p:nvGraphicFramePr>
        <p:xfrm>
          <a:off x="684360" y="1341360"/>
          <a:ext cx="7921440" cy="647640"/>
        </p:xfrm>
        <a:graphic>
          <a:graphicData uri="http://schemas.openxmlformats.org/drawingml/2006/table">
            <a:tbl>
              <a:tblPr/>
              <a:tblGrid>
                <a:gridCol w="647640"/>
                <a:gridCol w="6002280"/>
                <a:gridCol w="1271520"/>
              </a:tblGrid>
              <a:tr h="32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RETARIA DO MEIO AMBIENT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 Folha da Secretaria do Meio Ambient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611280" y="4292640"/>
          <a:ext cx="7921440" cy="431640"/>
        </p:xfrm>
        <a:graphic>
          <a:graphicData uri="http://schemas.openxmlformats.org/drawingml/2006/table">
            <a:tbl>
              <a:tblPr/>
              <a:tblGrid>
                <a:gridCol w="6780240"/>
                <a:gridCol w="1141200"/>
              </a:tblGrid>
              <a:tr h="43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6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611280" y="3141720"/>
          <a:ext cx="7923240" cy="476280"/>
        </p:xfrm>
        <a:graphic>
          <a:graphicData uri="http://schemas.openxmlformats.org/drawingml/2006/table">
            <a:tbl>
              <a:tblPr/>
              <a:tblGrid>
                <a:gridCol w="720720"/>
                <a:gridCol w="5930640"/>
                <a:gridCol w="1271880"/>
              </a:tblGrid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O MUNICIPAL DE AMPARO AOS ANIMAIS - FAM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Fundo Municipal de Amparo aos Animais - FAM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1"/>
          <p:cNvGrpSpPr/>
          <p:nvPr/>
        </p:nvGrpSpPr>
        <p:grpSpPr>
          <a:xfrm>
            <a:off x="250920" y="115920"/>
            <a:ext cx="8640720" cy="839880"/>
            <a:chOff x="250920" y="115920"/>
            <a:chExt cx="8640720" cy="839880"/>
          </a:xfrm>
        </p:grpSpPr>
        <p:sp>
          <p:nvSpPr>
            <p:cNvPr id="556" name="AutoShape 2"/>
            <p:cNvSpPr/>
            <p:nvPr/>
          </p:nvSpPr>
          <p:spPr>
            <a:xfrm>
              <a:off x="250920" y="115920"/>
              <a:ext cx="864072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Rectangle 3"/>
            <p:cNvSpPr/>
            <p:nvPr/>
          </p:nvSpPr>
          <p:spPr>
            <a:xfrm>
              <a:off x="284040" y="157320"/>
              <a:ext cx="85741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NSERVIR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58" name=""/>
          <p:cNvGraphicFramePr/>
          <p:nvPr/>
        </p:nvGraphicFramePr>
        <p:xfrm>
          <a:off x="684360" y="1700280"/>
          <a:ext cx="7850160" cy="2592360"/>
        </p:xfrm>
        <a:graphic>
          <a:graphicData uri="http://schemas.openxmlformats.org/drawingml/2006/table">
            <a:tbl>
              <a:tblPr/>
              <a:tblGrid>
                <a:gridCol w="6757920"/>
                <a:gridCol w="1092240"/>
              </a:tblGrid>
              <a:tr h="647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951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9" name=""/>
          <p:cNvGraphicFramePr/>
          <p:nvPr/>
        </p:nvGraphicFramePr>
        <p:xfrm>
          <a:off x="684360" y="1773360"/>
          <a:ext cx="7850160" cy="1439640"/>
        </p:xfrm>
        <a:graphic>
          <a:graphicData uri="http://schemas.openxmlformats.org/drawingml/2006/table">
            <a:tbl>
              <a:tblPr/>
              <a:tblGrid>
                <a:gridCol w="647640"/>
                <a:gridCol w="5943600"/>
                <a:gridCol w="1258920"/>
              </a:tblGrid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ção e Instalações da Sede Administrativa do FUNSERVI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Administrativas do FUNSERVI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Programa de Saúde do Servido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1"/>
          <p:cNvGrpSpPr/>
          <p:nvPr/>
        </p:nvGrpSpPr>
        <p:grpSpPr>
          <a:xfrm>
            <a:off x="142920" y="115920"/>
            <a:ext cx="8891640" cy="839880"/>
            <a:chOff x="142920" y="115920"/>
            <a:chExt cx="8891640" cy="839880"/>
          </a:xfrm>
        </p:grpSpPr>
        <p:sp>
          <p:nvSpPr>
            <p:cNvPr id="561" name="AutoShape 2"/>
            <p:cNvSpPr/>
            <p:nvPr/>
          </p:nvSpPr>
          <p:spPr>
            <a:xfrm>
              <a:off x="142920" y="115920"/>
              <a:ext cx="889164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Rectangle 3"/>
            <p:cNvSpPr/>
            <p:nvPr/>
          </p:nvSpPr>
          <p:spPr>
            <a:xfrm>
              <a:off x="177840" y="157320"/>
              <a:ext cx="88218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MPRESI - BOMBEIROS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63" name=""/>
          <p:cNvGraphicFramePr/>
          <p:nvPr/>
        </p:nvGraphicFramePr>
        <p:xfrm>
          <a:off x="539640" y="1628640"/>
          <a:ext cx="7921800" cy="2016360"/>
        </p:xfrm>
        <a:graphic>
          <a:graphicData uri="http://schemas.openxmlformats.org/drawingml/2006/table">
            <a:tbl>
              <a:tblPr/>
              <a:tblGrid>
                <a:gridCol w="6819840"/>
                <a:gridCol w="1101960"/>
              </a:tblGrid>
              <a:tr h="432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37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4" name=""/>
          <p:cNvGraphicFramePr/>
          <p:nvPr/>
        </p:nvGraphicFramePr>
        <p:xfrm>
          <a:off x="539640" y="1700280"/>
          <a:ext cx="7921800" cy="1441440"/>
        </p:xfrm>
        <a:graphic>
          <a:graphicData uri="http://schemas.openxmlformats.org/drawingml/2006/table">
            <a:tbl>
              <a:tblPr/>
              <a:tblGrid>
                <a:gridCol w="647640"/>
                <a:gridCol w="6002640"/>
                <a:gridCol w="1271520"/>
              </a:tblGrid>
              <a:tr h="360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O MUNICIPAL DE PREVENÇÃO CONTRA SINISTR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ção de Garagem Operacional FUMPRES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amentos diversos para o FUMPRES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FUMPRES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609480" y="1920960"/>
            <a:ext cx="8496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EFEITURA MUNICIPAL – Diversas Unidades Orçamentárias (Secretari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undo Municipal de Assistência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undo Municipal dos Direitos da Criança e Adolesc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undo Municipal de Assistência a Saúde do Servi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undo Municipal de Saú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undo Municipal de Turis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undo Municipal Defesa dos Direitos do Consumi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undo Municipal Des. Do Meio Amb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undo Rotativo Bem Estar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undo Municipal Prevenção Contra Sinist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Câmara Municipal de Vere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609480" y="1025640"/>
            <a:ext cx="7925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Estrutura Administrativa do Orçament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943200" y="159552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Arial"/>
              </a:rPr>
              <a:t>Administração Dire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2124000" y="7128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c000"/>
                </a:solidFill>
                <a:latin typeface="Arial"/>
              </a:rPr>
              <a:t>LOA 20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1"/>
          <p:cNvGrpSpPr/>
          <p:nvPr/>
        </p:nvGrpSpPr>
        <p:grpSpPr>
          <a:xfrm>
            <a:off x="250920" y="115920"/>
            <a:ext cx="8783640" cy="839880"/>
            <a:chOff x="250920" y="115920"/>
            <a:chExt cx="8783640" cy="839880"/>
          </a:xfrm>
        </p:grpSpPr>
        <p:sp>
          <p:nvSpPr>
            <p:cNvPr id="566" name="AutoShape 2"/>
            <p:cNvSpPr/>
            <p:nvPr/>
          </p:nvSpPr>
          <p:spPr>
            <a:xfrm>
              <a:off x="250920" y="115920"/>
              <a:ext cx="878364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Rectangle 3"/>
            <p:cNvSpPr/>
            <p:nvPr/>
          </p:nvSpPr>
          <p:spPr>
            <a:xfrm>
              <a:off x="285840" y="157320"/>
              <a:ext cx="87138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ESPORTE – FME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68" name=""/>
          <p:cNvGraphicFramePr/>
          <p:nvPr/>
        </p:nvGraphicFramePr>
        <p:xfrm>
          <a:off x="611280" y="1413000"/>
          <a:ext cx="7994520" cy="2876400"/>
        </p:xfrm>
        <a:graphic>
          <a:graphicData uri="http://schemas.openxmlformats.org/drawingml/2006/table">
            <a:tbl>
              <a:tblPr/>
              <a:tblGrid>
                <a:gridCol w="6872040"/>
                <a:gridCol w="1122480"/>
              </a:tblGrid>
              <a:tr h="258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AÇÃ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Administrativas da FM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ão ao PASEP - FM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antação de Espaços Alternativos de Esport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ormas e Revitalização dos Complexos Esportiv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envolvimento e Apoio das Atividades Esportiva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e Conservação dos Complexos Esportiv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ção e Participação em Eventos Esportiv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191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9" name=""/>
          <p:cNvGraphicFramePr/>
          <p:nvPr/>
        </p:nvGraphicFramePr>
        <p:xfrm>
          <a:off x="646200" y="4437000"/>
          <a:ext cx="7994520" cy="1319400"/>
        </p:xfrm>
        <a:graphic>
          <a:graphicData uri="http://schemas.openxmlformats.org/drawingml/2006/table">
            <a:tbl>
              <a:tblPr/>
              <a:tblGrid>
                <a:gridCol w="6872040"/>
                <a:gridCol w="1122480"/>
              </a:tblGrid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ESPORT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Programa Bolsa Atleta Municip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io a Projetos Esportiv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51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1"/>
          <p:cNvGrpSpPr/>
          <p:nvPr/>
        </p:nvGrpSpPr>
        <p:grpSpPr>
          <a:xfrm>
            <a:off x="250920" y="115920"/>
            <a:ext cx="8783640" cy="839880"/>
            <a:chOff x="250920" y="115920"/>
            <a:chExt cx="8783640" cy="839880"/>
          </a:xfrm>
        </p:grpSpPr>
        <p:sp>
          <p:nvSpPr>
            <p:cNvPr id="571" name="AutoShape 2"/>
            <p:cNvSpPr/>
            <p:nvPr/>
          </p:nvSpPr>
          <p:spPr>
            <a:xfrm>
              <a:off x="250920" y="115920"/>
              <a:ext cx="878364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Rectangle 3"/>
            <p:cNvSpPr/>
            <p:nvPr/>
          </p:nvSpPr>
          <p:spPr>
            <a:xfrm>
              <a:off x="285840" y="157320"/>
              <a:ext cx="87138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CULTURA - FCBC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73" name=""/>
          <p:cNvGraphicFramePr/>
          <p:nvPr/>
        </p:nvGraphicFramePr>
        <p:xfrm>
          <a:off x="611280" y="1413000"/>
          <a:ext cx="7994520" cy="1814400"/>
        </p:xfrm>
        <a:graphic>
          <a:graphicData uri="http://schemas.openxmlformats.org/drawingml/2006/table">
            <a:tbl>
              <a:tblPr/>
              <a:tblGrid>
                <a:gridCol w="6872040"/>
                <a:gridCol w="1122480"/>
              </a:tblGrid>
              <a:tr h="258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AÇÃ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Administrativas FCB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ão ao PASEP - FCB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Culturais e Patrimônios Culturai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229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646200" y="3573360"/>
          <a:ext cx="7994520" cy="1293840"/>
        </p:xfrm>
        <a:graphic>
          <a:graphicData uri="http://schemas.openxmlformats.org/drawingml/2006/table">
            <a:tbl>
              <a:tblPr/>
              <a:tblGrid>
                <a:gridCol w="6872040"/>
                <a:gridCol w="1122480"/>
              </a:tblGrid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C – FUNDO MUNICIPAL DE CULTUR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mento Cultural - LI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io à Projetos Artísticos e Culturai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88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5" name=""/>
          <p:cNvGraphicFramePr/>
          <p:nvPr/>
        </p:nvGraphicFramePr>
        <p:xfrm>
          <a:off x="611280" y="5084640"/>
          <a:ext cx="8064360" cy="432000"/>
        </p:xfrm>
        <a:graphic>
          <a:graphicData uri="http://schemas.openxmlformats.org/drawingml/2006/table">
            <a:tbl>
              <a:tblPr/>
              <a:tblGrid>
                <a:gridCol w="6902280"/>
                <a:gridCol w="1162080"/>
              </a:tblGrid>
              <a:tr h="432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17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1"/>
          <p:cNvGrpSpPr/>
          <p:nvPr/>
        </p:nvGrpSpPr>
        <p:grpSpPr>
          <a:xfrm>
            <a:off x="250920" y="115920"/>
            <a:ext cx="8783640" cy="839880"/>
            <a:chOff x="250920" y="115920"/>
            <a:chExt cx="8783640" cy="839880"/>
          </a:xfrm>
        </p:grpSpPr>
        <p:sp>
          <p:nvSpPr>
            <p:cNvPr id="577" name="AutoShape 2"/>
            <p:cNvSpPr/>
            <p:nvPr/>
          </p:nvSpPr>
          <p:spPr>
            <a:xfrm>
              <a:off x="250920" y="115920"/>
              <a:ext cx="878364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Rectangle 3"/>
            <p:cNvSpPr/>
            <p:nvPr/>
          </p:nvSpPr>
          <p:spPr>
            <a:xfrm>
              <a:off x="285840" y="157320"/>
              <a:ext cx="871380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REVIDÊNCIA – BCPREVI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79" name=""/>
          <p:cNvGraphicFramePr/>
          <p:nvPr/>
        </p:nvGraphicFramePr>
        <p:xfrm>
          <a:off x="826920" y="1628640"/>
          <a:ext cx="7959960" cy="3629160"/>
        </p:xfrm>
        <a:graphic>
          <a:graphicData uri="http://schemas.openxmlformats.org/drawingml/2006/table">
            <a:tbl>
              <a:tblPr/>
              <a:tblGrid>
                <a:gridCol w="6851880"/>
                <a:gridCol w="1108080"/>
              </a:tblGrid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2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70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805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1.604.83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611280" y="1700280"/>
          <a:ext cx="7848360" cy="2733480"/>
        </p:xfrm>
        <a:graphic>
          <a:graphicData uri="http://schemas.openxmlformats.org/drawingml/2006/table">
            <a:tbl>
              <a:tblPr/>
              <a:tblGrid>
                <a:gridCol w="720720"/>
                <a:gridCol w="5869080"/>
                <a:gridCol w="1258560"/>
              </a:tblGrid>
              <a:tr h="338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ÇÃO E ADMINISTRAÇÃO GERAL DO BCPREVI – R$ 7.380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da Taxa de Administração do RPP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ão ao PASEP - BCPREV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EFÍCIOS PREVIDENCIÁRIOS – R$ 277.619.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amento de Benefícios Previdenciári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amentos de Sentenças e Precatórios do RP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rva Benefício Previdenciár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EV – Compensações Previdenciária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1"/>
          <p:cNvGrpSpPr/>
          <p:nvPr/>
        </p:nvGrpSpPr>
        <p:grpSpPr>
          <a:xfrm>
            <a:off x="155520" y="52560"/>
            <a:ext cx="8663040" cy="838080"/>
            <a:chOff x="155520" y="52560"/>
            <a:chExt cx="8663040" cy="838080"/>
          </a:xfrm>
        </p:grpSpPr>
        <p:sp>
          <p:nvSpPr>
            <p:cNvPr id="582" name="AutoShape 2"/>
            <p:cNvSpPr/>
            <p:nvPr/>
          </p:nvSpPr>
          <p:spPr>
            <a:xfrm>
              <a:off x="155520" y="52560"/>
              <a:ext cx="866304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Rectangle 3"/>
            <p:cNvSpPr/>
            <p:nvPr/>
          </p:nvSpPr>
          <p:spPr>
            <a:xfrm>
              <a:off x="189000" y="93600"/>
              <a:ext cx="859608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Aft>
                  <a:spcPts val="15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EMASA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84" name=""/>
          <p:cNvGraphicFramePr/>
          <p:nvPr/>
        </p:nvGraphicFramePr>
        <p:xfrm>
          <a:off x="614520" y="981000"/>
          <a:ext cx="8137440" cy="4973760"/>
        </p:xfrm>
        <a:graphic>
          <a:graphicData uri="http://schemas.openxmlformats.org/drawingml/2006/table">
            <a:tbl>
              <a:tblPr/>
              <a:tblGrid>
                <a:gridCol w="6837120"/>
                <a:gridCol w="1300320"/>
              </a:tblGrid>
              <a:tr h="263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5b9bd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4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2e75b6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.914.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e75b6"/>
                      </a:solidFill>
                    </a:lnT>
                    <a:lnB w="2880">
                      <a:solidFill>
                        <a:srgbClr val="5b9bd5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684360" y="1052640"/>
          <a:ext cx="7980120" cy="4252680"/>
        </p:xfrm>
        <a:graphic>
          <a:graphicData uri="http://schemas.openxmlformats.org/drawingml/2006/table">
            <a:tbl>
              <a:tblPr/>
              <a:tblGrid>
                <a:gridCol w="706320"/>
                <a:gridCol w="6134040"/>
                <a:gridCol w="1139760"/>
              </a:tblGrid>
              <a:tr h="279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Administrativas da EMAS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atórios e Sentenças Judiciais – EMAS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ão ao PASEP – EMAS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o Déficit Atuarial do RPPS – EMAS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horias na Captação de Água Brut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rução de Reservatório para Água Tratad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pliação e Melhorias do Sistema de Esgotamento Sanitár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pliação e Melhorias nas Estações de Tratamento de Esgot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pliação e Melhorias do Sistema de Esgotamento Sanitário - Praias Agrest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pliação e Melhorias do Sistema de Abastecimento de Águ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ão e Manutenção do Sistema de Água e Esgot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 Drenagem Urban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de Educação Ambiental da EMAS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antação do Projeto do Parque Inundáve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talização de Rios e Córreg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ção do Projeto Rio Camboriú 203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Projeto Produtor de Água do Rio Camboriú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1"/>
          <p:cNvSpPr/>
          <p:nvPr/>
        </p:nvSpPr>
        <p:spPr>
          <a:xfrm>
            <a:off x="395280" y="1989000"/>
            <a:ext cx="83534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716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8600" indent="-22716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Palatino"/>
              </a:rPr>
              <a:t>SECRETARIAS RESPONSÁVEI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716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716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alatino"/>
              </a:rPr>
              <a:t>SECRETARIA DE PLANEJAMENTO E GESTÃO ORÇAMENTÁ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716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Palatino"/>
              </a:rPr>
              <a:t>SECRETARIA DE FAZEN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716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716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716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5654"/>
                </a:solidFill>
                <a:latin typeface="Palatino"/>
              </a:rPr>
              <a:t>Apresentaçã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716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5654"/>
                </a:solidFill>
                <a:latin typeface="Palatino"/>
              </a:rPr>
              <a:t>Liliane Maria Novaes – LLN Consultoria Governamental Lt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2"/>
          <p:cNvSpPr/>
          <p:nvPr/>
        </p:nvSpPr>
        <p:spPr>
          <a:xfrm>
            <a:off x="1763640" y="26028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70c0"/>
                </a:solidFill>
                <a:latin typeface="Arial"/>
              </a:rPr>
              <a:t>AGRADECEMOS A ATENÇ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1"/>
          <a:stretch/>
        </p:blipFill>
        <p:spPr>
          <a:xfrm>
            <a:off x="7020000" y="5157720"/>
            <a:ext cx="180324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609480" y="2276640"/>
            <a:ext cx="84963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tarquia Municipal de  Trânsito – BC Trâns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stituto de Previdência Social Servidores Municipais - BCPRE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mpresa Municipal de Água e Saneamento - EMA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ação Cultural - FCB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ação Municipal de Esporte - F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633240" y="1101600"/>
            <a:ext cx="7925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Estrutura Administrativa do Orçament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867240" y="190800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Arial"/>
              </a:rPr>
              <a:t>Administração Indiret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2124000" y="71280"/>
            <a:ext cx="504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c000"/>
                </a:solidFill>
                <a:latin typeface="Arial"/>
              </a:rPr>
              <a:t>LOA 20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250920" y="333360"/>
            <a:ext cx="849636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c000"/>
                </a:solidFill>
                <a:latin typeface="Arial"/>
              </a:rPr>
              <a:t>LOA 20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3" name="Group 2"/>
          <p:cNvGrpSpPr/>
          <p:nvPr/>
        </p:nvGrpSpPr>
        <p:grpSpPr>
          <a:xfrm>
            <a:off x="1297080" y="1851120"/>
            <a:ext cx="6580080" cy="2332080"/>
            <a:chOff x="1297080" y="1851120"/>
            <a:chExt cx="6580080" cy="2332080"/>
          </a:xfrm>
        </p:grpSpPr>
        <p:pic>
          <p:nvPicPr>
            <p:cNvPr id="354" name="Picture 3" descr=""/>
            <p:cNvPicPr/>
            <p:nvPr/>
          </p:nvPicPr>
          <p:blipFill>
            <a:blip r:embed="rId1"/>
            <a:stretch/>
          </p:blipFill>
          <p:spPr>
            <a:xfrm>
              <a:off x="1328760" y="1851120"/>
              <a:ext cx="6548400" cy="23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Text Box 4"/>
            <p:cNvSpPr/>
            <p:nvPr/>
          </p:nvSpPr>
          <p:spPr>
            <a:xfrm>
              <a:off x="1297080" y="1851120"/>
              <a:ext cx="654840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5500" spc="-1" strike="noStrike">
                  <a:solidFill>
                    <a:srgbClr val="000000"/>
                  </a:solidFill>
                  <a:latin typeface="Arial Black"/>
                </a:rPr>
                <a:t>ESTIMATIVAS DE </a:t>
              </a:r>
              <a:endParaRPr b="0" lang="en-US" sz="5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t-BR" sz="5500" spc="-1" strike="noStrike">
                  <a:solidFill>
                    <a:srgbClr val="000000"/>
                  </a:solidFill>
                  <a:latin typeface="Arial Black"/>
                </a:rPr>
                <a:t>RECEITAS</a:t>
              </a:r>
              <a:endParaRPr b="0" lang="en-US" sz="5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5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6" name="Text Box 5"/>
          <p:cNvSpPr/>
          <p:nvPr/>
        </p:nvSpPr>
        <p:spPr>
          <a:xfrm>
            <a:off x="2676600" y="454032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RIGEM DOS RECUR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1042920" y="766800"/>
            <a:ext cx="7272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181717"/>
                </a:solidFill>
                <a:latin typeface="Calibri Light"/>
              </a:rPr>
              <a:t>EVOLUÇÃO DAS RECEIT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846000" y="1319040"/>
          <a:ext cx="7255080" cy="4113360"/>
        </p:xfrm>
        <a:graphic>
          <a:graphicData uri="http://schemas.openxmlformats.org/drawingml/2006/table">
            <a:tbl>
              <a:tblPr/>
              <a:tblGrid>
                <a:gridCol w="2197080"/>
                <a:gridCol w="3113280"/>
                <a:gridCol w="1944720"/>
              </a:tblGrid>
              <a:tr h="570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DE CRESCIMENT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201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758.767.489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4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201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876.551.69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16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2019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1.008.518.80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15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202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1.063.885.75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5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202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1.314.866.24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24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202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1.580.245.33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20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202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1.688.825.63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7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05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2024*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1.830.702.97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8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403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2025*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2.034.462.969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181717"/>
                          </a:solidFill>
                          <a:latin typeface="Calibri Light"/>
                        </a:rPr>
                        <a:t>11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359" name="Rectangle 116"/>
          <p:cNvSpPr/>
          <p:nvPr/>
        </p:nvSpPr>
        <p:spPr>
          <a:xfrm>
            <a:off x="0" y="4932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c000"/>
                </a:solidFill>
                <a:latin typeface="Arial"/>
              </a:rPr>
              <a:t>LOA 20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117"/>
          <p:cNvSpPr/>
          <p:nvPr/>
        </p:nvSpPr>
        <p:spPr>
          <a:xfrm>
            <a:off x="1035000" y="5657760"/>
            <a:ext cx="7073640" cy="322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Nota *: 2024 e 2025: Valores Estimados – Demais exercícios: valores realizados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1"/>
          <p:cNvSpPr/>
          <p:nvPr/>
        </p:nvSpPr>
        <p:spPr>
          <a:xfrm>
            <a:off x="-1440" y="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ffc000"/>
                </a:solidFill>
                <a:latin typeface="Arial"/>
              </a:rPr>
              <a:t>AUDIÊNCIA PÚBL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400" spc="-1" strike="noStrike">
                <a:solidFill>
                  <a:srgbClr val="ffc000"/>
                </a:solidFill>
                <a:latin typeface="Arial"/>
              </a:rPr>
              <a:t>LOA 20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6346800" y="1254240"/>
            <a:ext cx="180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2f5597"/>
                </a:solidFill>
                <a:latin typeface="Arial"/>
              </a:rPr>
              <a:t>Valores em milha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1652760" y="738360"/>
            <a:ext cx="583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2f5597"/>
                </a:solidFill>
                <a:latin typeface="Arial"/>
              </a:rPr>
              <a:t>Evolução das maiores receitas a partir de 20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809640" y="1530360"/>
          <a:ext cx="7526160" cy="3454560"/>
        </p:xfrm>
        <a:graphic>
          <a:graphicData uri="http://schemas.openxmlformats.org/drawingml/2006/table">
            <a:tbl>
              <a:tblPr/>
              <a:tblGrid>
                <a:gridCol w="1170000"/>
                <a:gridCol w="1004760"/>
                <a:gridCol w="1312920"/>
                <a:gridCol w="1174680"/>
                <a:gridCol w="1568520"/>
                <a:gridCol w="1295280"/>
              </a:tblGrid>
              <a:tr h="66816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T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B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. CORRRE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2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.0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2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.8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.2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.5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4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6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.0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.5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.8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.3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.0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2.0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.6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.8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9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1.8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1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.2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5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.7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2.66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.2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.3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.6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.0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.6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0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.72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.4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.6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9.5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9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.7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.2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.0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5.1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.4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825480" y="5516640"/>
          <a:ext cx="7526520" cy="698400"/>
        </p:xfrm>
        <a:graphic>
          <a:graphicData uri="http://schemas.openxmlformats.org/drawingml/2006/table">
            <a:tbl>
              <a:tblPr/>
              <a:tblGrid>
                <a:gridCol w="1171440"/>
                <a:gridCol w="1003320"/>
                <a:gridCol w="1312920"/>
                <a:gridCol w="1174680"/>
                <a:gridCol w="1568520"/>
                <a:gridCol w="1295640"/>
              </a:tblGrid>
              <a:tr h="349200">
                <a:tc>
                  <a:txBody>
                    <a:bodyPr lIns="9360" rIns="9360" tIns="972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4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.2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.3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.1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5.5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.7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349200">
                <a:tc>
                  <a:txBody>
                    <a:bodyPr lIns="9360" rIns="9360" tIns="972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5*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.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.2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.6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5.7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7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</a:tbl>
          </a:graphicData>
        </a:graphic>
      </p:graphicFrame>
      <p:sp>
        <p:nvSpPr>
          <p:cNvPr id="366" name="Text Box 227"/>
          <p:cNvSpPr/>
          <p:nvPr/>
        </p:nvSpPr>
        <p:spPr>
          <a:xfrm>
            <a:off x="800640" y="522936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*ESTIMATIV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9:06:37Z</dcterms:created>
  <dc:creator>adeline</dc:creator>
  <dc:description/>
  <dc:language>en-US</dc:language>
  <cp:lastModifiedBy>Adeline Poleza</cp:lastModifiedBy>
  <cp:lastPrinted>2017-10-10T17:50:51Z</cp:lastPrinted>
  <dcterms:modified xsi:type="dcterms:W3CDTF">2024-09-30T20:28:14Z</dcterms:modified>
  <cp:revision>887</cp:revision>
  <dc:subject/>
  <dc:title>AUDIÊNCIA PÚBLICA 29/09/2005</dc:title>
</cp:coreProperties>
</file>