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5092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0000" y="744480"/>
            <a:ext cx="66135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5092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694DF-D467-4256-A744-8BACEECB3D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47B0A-87B7-46C3-A33B-F1A0F8FFB5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B853E-5FBD-4083-91AE-3F046B022C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7C0DCB-1A6B-4828-A733-C0C47E76DF0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E6988-71ED-43BD-B98C-D74FE94B6F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35A53-9924-46CD-91B8-7629B31A04B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3A277-52B3-4139-9C62-851390B339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1006D-74B5-44AC-9499-AEE2DA72BCA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5DAD-675F-4053-B842-58AFC586C4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F193D-B8B1-4500-A3FB-9508BAB522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FA949-2309-4CBE-89CA-8EB805F1183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15762-2622-4DEB-B634-E58E1AA95FB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36E3D-AD17-4EAA-A9DB-60F5541A10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AEBEF-FC8D-40AB-9D5E-694A8D9CAE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977A-770E-41C9-9C4A-731A09226A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F3C70-C251-4666-A8F9-D1055785A0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8FBA7-302A-4AD9-96B5-D9E1FF541A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C4902-D0FF-45E4-8F72-185A6B53594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805F3-F037-4161-B268-F313090BB56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DF0F9-5806-4F0E-AC5D-2B2EB564AA2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8EAB2-7DDF-4796-A5D3-A9B8C1B08D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36A04-8810-4851-AD76-085F49BD8E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8B095-1FC6-4D1C-93CD-77C82F654D3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1F8E7-3A3B-4470-9D97-FF3ACFFCF06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DF433-0528-4BF4-A051-6F5848A783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BFEAB-53BE-4309-9ED0-51D39D471E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C07F-0AC0-46DF-985C-710D2A516A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B4381-E917-4619-B432-63CC3C2FF49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7D3B9-7175-40A2-80BD-A14E1B0FE9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09D4-BBE0-4B47-A309-D43A2A663BE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A67FE-2A21-4834-A61B-79DFD37EE0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4AFE-5EFE-474B-BFA1-39A0B7A2C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3CFE-CFF9-4282-ABD5-39AA49E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19395-FC0A-460A-91AF-B082AB5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859A-9121-44DA-905E-C661AB6501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7C599-C6E6-49D5-A313-253ACCD2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B0470-DE36-46AE-AF49-F874E8A2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EB78-B9C0-44D3-8CEA-CE2EEDE6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B1F2-CF2C-461B-A141-322A1CFA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1D34-B64A-4DF4-8A0D-356C8A92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9D96-9532-40A3-B0A0-92F0944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2E21-FA3F-4792-943B-C06CF6A3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0C6E-54E4-46B6-AD53-C6D0F817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1DA48-C976-420A-8D1A-B436F9AD04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145584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39960" y="1035000"/>
          <a:ext cx="8174160" cy="5138640"/>
        </p:xfrm>
        <a:graphic>
          <a:graphicData uri="http://schemas.openxmlformats.org/drawingml/2006/table">
            <a:tbl>
              <a:tblPr/>
              <a:tblGrid>
                <a:gridCol w="5616360"/>
                <a:gridCol w="1541520"/>
                <a:gridCol w="1016280"/>
              </a:tblGrid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, Taxas e Contribuição de Melh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.718.5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697.1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as Patrimoni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.729.9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030.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a Uni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388.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o Est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688.4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311.3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de Instituições Privadas e Demais Transferênci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5.9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de Créd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37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44.3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Cri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77.3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ção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91.2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ON/I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786.7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api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3.1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368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is Receitas Correntes e Capital (multas trânsito, multas diversas,  indenizações, restituições e Aportes RPP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139.4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0872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8.922.4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-316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2341440" y="115920"/>
            <a:ext cx="632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Gráfico 4" descr=""/>
          <p:cNvPicPr/>
          <p:nvPr/>
        </p:nvPicPr>
        <p:blipFill>
          <a:blip r:embed="rId2"/>
          <a:stretch/>
        </p:blipFill>
        <p:spPr>
          <a:xfrm>
            <a:off x="1414440" y="1768320"/>
            <a:ext cx="8504280" cy="3821400"/>
          </a:xfrm>
          <a:prstGeom prst="rect">
            <a:avLst/>
          </a:prstGeom>
          <a:ln w="0">
            <a:noFill/>
          </a:ln>
        </p:spPr>
      </p:pic>
      <p:sp>
        <p:nvSpPr>
          <p:cNvPr id="94" name="CaixaDeTexto 1"/>
          <p:cNvSpPr/>
          <p:nvPr/>
        </p:nvSpPr>
        <p:spPr>
          <a:xfrm>
            <a:off x="5848200" y="4581360"/>
            <a:ext cx="4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Calibri"/>
              </a:rPr>
              <a:t>23%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3200400" y="5950080"/>
            <a:ext cx="615960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Os impostos e taxas representam 40% do valor total arrecada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727280" y="81000"/>
            <a:ext cx="9212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Impostos e Taxas – até Agosto/2023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063880" y="4581360"/>
          <a:ext cx="8642160" cy="749520"/>
        </p:xfrm>
        <a:graphic>
          <a:graphicData uri="http://schemas.openxmlformats.org/drawingml/2006/table">
            <a:tbl>
              <a:tblPr/>
              <a:tblGrid>
                <a:gridCol w="1873080"/>
                <a:gridCol w="1655640"/>
                <a:gridCol w="1832040"/>
                <a:gridCol w="1552680"/>
                <a:gridCol w="1728720"/>
              </a:tblGrid>
              <a:tr h="395280"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PT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B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902.08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761.16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.060.87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403.99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82.35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98" name="Gráfico 5" descr=""/>
          <p:cNvPicPr/>
          <p:nvPr/>
        </p:nvPicPr>
        <p:blipFill>
          <a:blip r:embed="rId1"/>
          <a:stretch/>
        </p:blipFill>
        <p:spPr>
          <a:xfrm>
            <a:off x="1646280" y="768240"/>
            <a:ext cx="9266040" cy="3522600"/>
          </a:xfrm>
          <a:prstGeom prst="rect">
            <a:avLst/>
          </a:prstGeom>
          <a:ln w="0">
            <a:noFill/>
          </a:ln>
        </p:spPr>
      </p:pic>
      <p:pic>
        <p:nvPicPr>
          <p:cNvPr id="99" name="Imagem 1" descr=""/>
          <p:cNvPicPr/>
          <p:nvPr/>
        </p:nvPicPr>
        <p:blipFill>
          <a:blip r:embed="rId2"/>
          <a:stretch/>
        </p:blipFill>
        <p:spPr>
          <a:xfrm>
            <a:off x="9671040" y="5451480"/>
            <a:ext cx="103500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169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1336680" y="169920"/>
            <a:ext cx="79866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0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2º Quadrimestre 202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 liquidada: R$ 110.606.536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105720" y="5425920"/>
            <a:ext cx="5464440" cy="368280"/>
          </a:xfrm>
          <a:prstGeom prst="rect">
            <a:avLst/>
          </a:prstGeom>
          <a:solidFill>
            <a:srgbClr val="1f4e79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10% abaixo do valor estimado para o períod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68400" y="1677960"/>
          <a:ext cx="838836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8920"/>
                <a:gridCol w="2041560"/>
                <a:gridCol w="1987560"/>
              </a:tblGrid>
              <a:tr h="728640"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6.623.99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8.433.15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190.83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453.33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419.13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9.034.19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2.077.32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.852.29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7.225.03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62" descr=""/>
          <p:cNvPicPr/>
          <p:nvPr/>
        </p:nvPicPr>
        <p:blipFill>
          <a:blip r:embed="rId2"/>
          <a:stretch/>
        </p:blipFill>
        <p:spPr>
          <a:xfrm>
            <a:off x="9504360" y="4659480"/>
            <a:ext cx="2116080" cy="131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552680" y="1276200"/>
          <a:ext cx="7553160" cy="4606920"/>
        </p:xfrm>
        <a:graphic>
          <a:graphicData uri="http://schemas.openxmlformats.org/drawingml/2006/table">
            <a:tbl>
              <a:tblPr/>
              <a:tblGrid>
                <a:gridCol w="4545000"/>
                <a:gridCol w="1787400"/>
                <a:gridCol w="1220760"/>
              </a:tblGrid>
              <a:tr h="54792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8.433.15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7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.379.886,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0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96.654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256.611,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58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419.1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2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204.846,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0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14.292,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280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.852.29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8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1336680" y="169920"/>
            <a:ext cx="79866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</a:t>
            </a:r>
            <a:br>
              <a:rPr sz="4400"/>
            </a:br>
            <a:r>
              <a:rPr b="0" lang="pt-BR" sz="2000" spc="-1" strike="noStrike">
                <a:solidFill>
                  <a:srgbClr val="002060"/>
                </a:solidFill>
                <a:latin typeface="Calibri Light"/>
              </a:rPr>
              <a:t>2º Quadrimestre 202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88" descr=""/>
          <p:cNvPicPr/>
          <p:nvPr/>
        </p:nvPicPr>
        <p:blipFill>
          <a:blip r:embed="rId2"/>
          <a:stretch/>
        </p:blipFill>
        <p:spPr>
          <a:xfrm rot="1680000">
            <a:off x="9704160" y="895320"/>
            <a:ext cx="16095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7604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2"/>
          <p:cNvSpPr/>
          <p:nvPr/>
        </p:nvSpPr>
        <p:spPr>
          <a:xfrm>
            <a:off x="747720" y="403200"/>
            <a:ext cx="91724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0" lang="pt-BR" sz="1800" spc="-1" strike="noStrike">
                <a:solidFill>
                  <a:srgbClr val="002060"/>
                </a:solidFill>
                <a:latin typeface="Calibri Light"/>
              </a:rPr>
              <a:t>2º Quadrimestre – por exercício – despesa realizada por Modalidade de Aplicação</a:t>
            </a:r>
            <a:br>
              <a:rPr sz="15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47720" y="1314360"/>
          <a:ext cx="10137600" cy="4562640"/>
        </p:xfrm>
        <a:graphic>
          <a:graphicData uri="http://schemas.openxmlformats.org/drawingml/2006/table">
            <a:tbl>
              <a:tblPr/>
              <a:tblGrid>
                <a:gridCol w="3065400"/>
                <a:gridCol w="1422360"/>
                <a:gridCol w="1384560"/>
                <a:gridCol w="1387440"/>
                <a:gridCol w="1427040"/>
                <a:gridCol w="1450800"/>
              </a:tblGrid>
              <a:tr h="695520"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ALIDADE APLICAÇÃ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1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2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2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202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948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3.031.77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9.643.46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857.5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3.586.95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9.379.88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512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.5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87.64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30.2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254.2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96.6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69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361.12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438.99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.124.8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592.9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256.61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5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747.38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276.69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675.7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.486.07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204.84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ões Financeir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6.16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0.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5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2.28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.98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71.65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290.1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714.29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5520"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.390.09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793.77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.959.93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2.126.53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.852.2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2259000" y="25560"/>
            <a:ext cx="7093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920960" y="836640"/>
          <a:ext cx="8424720" cy="5835600"/>
        </p:xfrm>
        <a:graphic>
          <a:graphicData uri="http://schemas.openxmlformats.org/drawingml/2006/table">
            <a:tbl>
              <a:tblPr/>
              <a:tblGrid>
                <a:gridCol w="2706480"/>
                <a:gridCol w="1962360"/>
                <a:gridCol w="2071440"/>
                <a:gridCol w="1684440"/>
              </a:tblGrid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Legisl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4.104.3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6.064.3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960.0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Judiciá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2.636.8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.195.2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20.441.6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dministr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1.371.2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7.239.5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868.3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gurança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.481.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2.736.0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1.745.2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ssistência So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7.047.8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8.179.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132.0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Previdê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3.849.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4.251.0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401.6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93.844.6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7.583.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3.738.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rabalh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.061.6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1.488.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426.6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duc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89.653.0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14.543.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4.890.5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ul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.651.7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301.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649.8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ireitos da Cidad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157.9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193.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.3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Urban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1.451.4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6.144.7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5.306.7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Habit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7.7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5.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22.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8.858.0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7.177.7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.319.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Gestão Ambi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.830.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.496.6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666.5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omércio e Serviç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.662.9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.908.5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245.6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Desporto e Laz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.588.1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.413.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.825.2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Encargos Especi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4.817.8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6.899.2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2.081.4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TOTAL G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02.126.5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84.852.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108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2.725.7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128520" y="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614600" y="2054160"/>
          <a:ext cx="7021440" cy="2570400"/>
        </p:xfrm>
        <a:graphic>
          <a:graphicData uri="http://schemas.openxmlformats.org/drawingml/2006/table">
            <a:tbl>
              <a:tblPr/>
              <a:tblGrid>
                <a:gridCol w="2541600"/>
                <a:gridCol w="2225520"/>
                <a:gridCol w="2254320"/>
              </a:tblGrid>
              <a:tr h="57492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456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8.055.384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8.922.407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56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2.077.325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4.852.292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4636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.978.059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4.070.11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46"/>
          <p:cNvSpPr/>
          <p:nvPr/>
        </p:nvSpPr>
        <p:spPr>
          <a:xfrm>
            <a:off x="762120" y="449280"/>
            <a:ext cx="91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2000"/>
            </a:br>
            <a:r>
              <a:rPr b="0" lang="pt-BR" sz="25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25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25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25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7" descr=""/>
          <p:cNvPicPr/>
          <p:nvPr/>
        </p:nvPicPr>
        <p:blipFill>
          <a:blip r:embed="rId2"/>
          <a:stretch/>
        </p:blipFill>
        <p:spPr>
          <a:xfrm>
            <a:off x="8748720" y="3429000"/>
            <a:ext cx="2381400" cy="1476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8" descr=""/>
          <p:cNvPicPr/>
          <p:nvPr/>
        </p:nvPicPr>
        <p:blipFill>
          <a:blip r:embed="rId3"/>
          <a:stretch/>
        </p:blipFill>
        <p:spPr>
          <a:xfrm>
            <a:off x="9264600" y="2133720"/>
            <a:ext cx="1542960" cy="107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1735200" y="1792440"/>
            <a:ext cx="7532640" cy="3676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PREVISÃO PARA O EXERCÍCIO 2023: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400" spc="-1" strike="noStrike">
                <a:solidFill>
                  <a:srgbClr val="0070c0"/>
                </a:solidFill>
                <a:latin typeface="Tahoma"/>
              </a:rPr>
              <a:t>R$ 1.259.355.566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</a:rPr>
              <a:t>REALIZADA ATÉ AGOSTO DE 2023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ff9900"/>
                </a:solidFill>
                <a:latin typeface="Tahoma"/>
              </a:rPr>
              <a:t>R$ 1.294.167.499*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36840" y="6033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Oval 4"/>
          <p:cNvSpPr/>
          <p:nvPr/>
        </p:nvSpPr>
        <p:spPr>
          <a:xfrm>
            <a:off x="9408960" y="3716280"/>
            <a:ext cx="2160720" cy="1203480"/>
          </a:xfrm>
          <a:prstGeom prst="ellipse">
            <a:avLst/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Meta da RCL deve ser avaliada no encerramento do exercíci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CaixaDeTexto 1"/>
          <p:cNvSpPr/>
          <p:nvPr/>
        </p:nvSpPr>
        <p:spPr>
          <a:xfrm>
            <a:off x="1740960" y="547524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*RCL sem ajust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49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evidenciário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2º Quadrimestre 202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1679400" y="1860480"/>
          <a:ext cx="7558200" cy="2919600"/>
        </p:xfrm>
        <a:graphic>
          <a:graphicData uri="http://schemas.openxmlformats.org/drawingml/2006/table">
            <a:tbl>
              <a:tblPr/>
              <a:tblGrid>
                <a:gridCol w="1670400"/>
                <a:gridCol w="2023920"/>
                <a:gridCol w="1944720"/>
                <a:gridCol w="1919160"/>
              </a:tblGrid>
              <a:tr h="538200">
                <a:tc rowSpan="2"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40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067.02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391.9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.344.44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872.98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.843.81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251.07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94.04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.548.09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93.37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130" name="Oval 71"/>
          <p:cNvSpPr/>
          <p:nvPr/>
        </p:nvSpPr>
        <p:spPr>
          <a:xfrm>
            <a:off x="9588600" y="2540160"/>
            <a:ext cx="2146320" cy="1777680"/>
          </a:xfrm>
          <a:prstGeom prst="ellipse">
            <a:avLst/>
          </a:prstGeom>
          <a:solidFill>
            <a:srgbClr val="ffc000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800,3 milhõ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04960" y="5084640"/>
          <a:ext cx="7558200" cy="716040"/>
        </p:xfrm>
        <a:graphic>
          <a:graphicData uri="http://schemas.openxmlformats.org/drawingml/2006/table">
            <a:tbl>
              <a:tblPr/>
              <a:tblGrid>
                <a:gridCol w="5329080"/>
                <a:gridCol w="2229120"/>
              </a:tblGrid>
              <a:tr h="716040">
                <a:tc>
                  <a:txBody>
                    <a:bodyPr lIns="85680" rIns="9360" tIns="161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Aporte Déficit Atuari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265.28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293840" y="1279440"/>
            <a:ext cx="9553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AUDIÊNCIA PÚBLICA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29/09/2023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2º Quadrimestre de 2023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Primário*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440" y="1800360"/>
          <a:ext cx="7056360" cy="877680"/>
        </p:xfrm>
        <a:graphic>
          <a:graphicData uri="http://schemas.openxmlformats.org/drawingml/2006/table">
            <a:tbl>
              <a:tblPr/>
              <a:tblGrid>
                <a:gridCol w="3948120"/>
                <a:gridCol w="3108240"/>
              </a:tblGrid>
              <a:tr h="42048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Primári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4364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165.9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720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43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051.122  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792440" y="4427640"/>
          <a:ext cx="7056360" cy="879480"/>
        </p:xfrm>
        <a:graphic>
          <a:graphicData uri="http://schemas.openxmlformats.org/drawingml/2006/table">
            <a:tbl>
              <a:tblPr/>
              <a:tblGrid>
                <a:gridCol w="3948120"/>
                <a:gridCol w="3108240"/>
              </a:tblGrid>
              <a:tr h="42228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LDO – Resultado Nomin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14364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723.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45720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43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162.7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36" name="Text Box 37"/>
          <p:cNvSpPr/>
          <p:nvPr/>
        </p:nvSpPr>
        <p:spPr>
          <a:xfrm>
            <a:off x="1392120" y="3429000"/>
            <a:ext cx="85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</a:rPr>
              <a:t>Resultado Nominal*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38"/>
          <p:cNvSpPr/>
          <p:nvPr/>
        </p:nvSpPr>
        <p:spPr>
          <a:xfrm>
            <a:off x="1890720" y="5749920"/>
            <a:ext cx="4579920" cy="32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*Valor do resultado nominal e primário acima da linha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74680" y="1719360"/>
          <a:ext cx="8845560" cy="3166920"/>
        </p:xfrm>
        <a:graphic>
          <a:graphicData uri="http://schemas.openxmlformats.org/drawingml/2006/table">
            <a:tbl>
              <a:tblPr/>
              <a:tblGrid>
                <a:gridCol w="3875040"/>
                <a:gridCol w="1584360"/>
                <a:gridCol w="1914480"/>
                <a:gridCol w="1471680"/>
              </a:tblGrid>
              <a:tr h="67140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152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12/202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40.28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765.42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.905.7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976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29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223.32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243.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308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396.37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829.6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226.04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16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 PAGAR EM 31/08/202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3.61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712.4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436.04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"/>
          <p:cNvSpPr/>
          <p:nvPr/>
        </p:nvSpPr>
        <p:spPr>
          <a:xfrm>
            <a:off x="1539720" y="366840"/>
            <a:ext cx="76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Educação Básica M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49360" y="1581120"/>
          <a:ext cx="8339040" cy="3578400"/>
        </p:xfrm>
        <a:graphic>
          <a:graphicData uri="http://schemas.openxmlformats.org/drawingml/2006/table">
            <a:tbl>
              <a:tblPr/>
              <a:tblGrid>
                <a:gridCol w="5896080"/>
                <a:gridCol w="2442960"/>
              </a:tblGrid>
              <a:tr h="5493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DE CÁLCUL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.015.273,7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500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ÇÃO MÍNIMA – 25% (no ano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.753.82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APLIC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.713.2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967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 DE APLICAÇÃO JÁ ALCANÇADO NO PERÍODO (2º QUADRIMESTRE 202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16092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64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067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TOTAIS EM EDUCA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.543.663,7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41" descr=""/>
          <p:cNvPicPr/>
          <p:nvPr/>
        </p:nvPicPr>
        <p:blipFill>
          <a:blip r:embed="rId2"/>
          <a:stretch/>
        </p:blipFill>
        <p:spPr>
          <a:xfrm>
            <a:off x="10174320" y="236520"/>
            <a:ext cx="176544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Funde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58880" y="1903320"/>
          <a:ext cx="8240760" cy="3502080"/>
        </p:xfrm>
        <a:graphic>
          <a:graphicData uri="http://schemas.openxmlformats.org/drawingml/2006/table">
            <a:tbl>
              <a:tblPr/>
              <a:tblGrid>
                <a:gridCol w="5864400"/>
                <a:gridCol w="2376360"/>
              </a:tblGrid>
              <a:tr h="64296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ANTERIOR – DEZ 202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23.95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928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ÇÃO + RENDIMENTO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633.24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764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S PAG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267.58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FINANCEIRO 31/08/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9.61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1288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APLIC EM PESSOAL MAGISTÉRIO (Mínimo de 70%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,60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pic>
        <p:nvPicPr>
          <p:cNvPr id="148" name="Picture 41" descr=""/>
          <p:cNvPicPr/>
          <p:nvPr/>
        </p:nvPicPr>
        <p:blipFill>
          <a:blip r:embed="rId2"/>
          <a:stretch/>
        </p:blipFill>
        <p:spPr>
          <a:xfrm>
            <a:off x="8545680" y="210960"/>
            <a:ext cx="227160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36640" y="1773360"/>
          <a:ext cx="7888320" cy="3373200"/>
        </p:xfrm>
        <a:graphic>
          <a:graphicData uri="http://schemas.openxmlformats.org/drawingml/2006/table">
            <a:tbl>
              <a:tblPr/>
              <a:tblGrid>
                <a:gridCol w="5776920"/>
                <a:gridCol w="2111400"/>
              </a:tblGrid>
              <a:tr h="54612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DE CÁLCULO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4.632.43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872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LICAÇÃO MÍNIMA – 15% (anual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194.86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756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APLICA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.338.03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3040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CENTUAL DE APLICAÇÃO JÁ ALCANÇADO NO PERÍO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º QUADRIMESTRE 2023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1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040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TOTAIS REALIZADOS COM SAÚD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.963.5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41" descr=""/>
          <p:cNvPicPr/>
          <p:nvPr/>
        </p:nvPicPr>
        <p:blipFill>
          <a:blip r:embed="rId2"/>
          <a:stretch/>
        </p:blipFill>
        <p:spPr>
          <a:xfrm>
            <a:off x="7566120" y="260280"/>
            <a:ext cx="1836720" cy="13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2"/>
          <p:cNvSpPr/>
          <p:nvPr/>
        </p:nvSpPr>
        <p:spPr>
          <a:xfrm>
            <a:off x="1193760" y="485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Gastos com Pessoal </a:t>
            </a:r>
            <a:r>
              <a:rPr b="1" lang="pt-BR" sz="4000" spc="-1" strike="noStrike" u="sng">
                <a:solidFill>
                  <a:srgbClr val="002060"/>
                </a:solidFill>
                <a:uFillTx/>
                <a:latin typeface="Calibri Light"/>
              </a:rPr>
              <a:t>Executivo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 – LR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338120" y="2197080"/>
          <a:ext cx="8678880" cy="3073320"/>
        </p:xfrm>
        <a:graphic>
          <a:graphicData uri="http://schemas.openxmlformats.org/drawingml/2006/table">
            <a:tbl>
              <a:tblPr/>
              <a:tblGrid>
                <a:gridCol w="6286680"/>
                <a:gridCol w="2392200"/>
              </a:tblGrid>
              <a:tr h="72720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DE CÁLCULO – RCL Ajust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0.525.5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90640">
                <a:tc>
                  <a:txBody>
                    <a:bodyPr lIns="90000" rIns="90000" tIns="2134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99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ÚLTIMOS 12 MESES – DESPESA LÍQUIDA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.404.5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420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MÁXIMO (54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6.883.7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PRUDENCIAL (51,3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2.039.5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LERTA   (48,6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.195.4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6" name="Picture 34" descr=""/>
          <p:cNvPicPr/>
          <p:nvPr/>
        </p:nvPicPr>
        <p:blipFill>
          <a:blip r:embed="rId2"/>
          <a:stretch/>
        </p:blipFill>
        <p:spPr>
          <a:xfrm>
            <a:off x="9953640" y="225360"/>
            <a:ext cx="197640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1193760" y="485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Gastos com Pessoal </a:t>
            </a:r>
            <a:r>
              <a:rPr b="1" lang="pt-BR" sz="4000" spc="-1" strike="noStrike" u="sng">
                <a:solidFill>
                  <a:srgbClr val="002060"/>
                </a:solidFill>
                <a:uFillTx/>
                <a:latin typeface="Calibri Light"/>
              </a:rPr>
              <a:t>Legislativo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 – LR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8120" y="2197080"/>
          <a:ext cx="8678880" cy="3073320"/>
        </p:xfrm>
        <a:graphic>
          <a:graphicData uri="http://schemas.openxmlformats.org/drawingml/2006/table">
            <a:tbl>
              <a:tblPr/>
              <a:tblGrid>
                <a:gridCol w="6286680"/>
                <a:gridCol w="2392200"/>
              </a:tblGrid>
              <a:tr h="72720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 DE CÁLCULO – RCL Ajust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0.525.5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90640">
                <a:tc>
                  <a:txBody>
                    <a:bodyPr lIns="90000" rIns="90000" tIns="2134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1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ÚLTIMOS 12 MESES – DESPESA LÍQUIDA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12.3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420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MÁXIMO (6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431.5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PRUDENCIAL (5,7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.559.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2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 ALERTA   (5,4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.688.3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60" name="Picture 34" descr=""/>
          <p:cNvPicPr/>
          <p:nvPr/>
        </p:nvPicPr>
        <p:blipFill>
          <a:blip r:embed="rId2"/>
          <a:stretch/>
        </p:blipFill>
        <p:spPr>
          <a:xfrm>
            <a:off x="9953640" y="225360"/>
            <a:ext cx="197640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ívida Públic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136600" y="1341360"/>
          <a:ext cx="6985080" cy="2714760"/>
        </p:xfrm>
        <a:graphic>
          <a:graphicData uri="http://schemas.openxmlformats.org/drawingml/2006/table">
            <a:tbl>
              <a:tblPr/>
              <a:tblGrid>
                <a:gridCol w="4251600"/>
                <a:gridCol w="2733480"/>
              </a:tblGrid>
              <a:tr h="527040">
                <a:tc gridSpan="2">
                  <a:txBody>
                    <a:bodyPr lIns="9360" rIns="9360" tIns="1605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do da dívida em 31/08/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Dívida Consolidad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.561.205,4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Outras Dívid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4.126,0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940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Precatório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605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368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TOTAL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605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.065.33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24"/>
          <p:cNvSpPr/>
          <p:nvPr/>
        </p:nvSpPr>
        <p:spPr>
          <a:xfrm>
            <a:off x="2726640" y="4610160"/>
            <a:ext cx="5632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% Dívida Consolidada Sobre a RCL Ajustada = 13,31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tângulo 1"/>
          <p:cNvSpPr/>
          <p:nvPr/>
        </p:nvSpPr>
        <p:spPr>
          <a:xfrm>
            <a:off x="2136600" y="5254560"/>
            <a:ext cx="705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500" spc="-1" strike="noStrike">
                <a:solidFill>
                  <a:srgbClr val="0070c0"/>
                </a:solidFill>
                <a:latin typeface="Calibri"/>
              </a:rPr>
              <a:t>LIMITE DEFINIDO POR RESOLUÇÃO DO SENADO FEDERAL - 120% = R$ </a:t>
            </a:r>
            <a:r>
              <a:rPr b="0" lang="pt-BR" sz="1600" spc="-1" strike="noStrike">
                <a:solidFill>
                  <a:srgbClr val="0070c0"/>
                </a:solidFill>
                <a:latin typeface="Calibri"/>
              </a:rPr>
              <a:t>1.551.514.416,36</a:t>
            </a:r>
            <a:r>
              <a:rPr b="0" lang="pt-BR" sz="15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</a:rPr>
              <a:t>Operações de Crédito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855880" y="4437000"/>
          <a:ext cx="6624720" cy="936720"/>
        </p:xfrm>
        <a:graphic>
          <a:graphicData uri="http://schemas.openxmlformats.org/drawingml/2006/table">
            <a:tbl>
              <a:tblPr/>
              <a:tblGrid>
                <a:gridCol w="4176720"/>
                <a:gridCol w="2448000"/>
              </a:tblGrid>
              <a:tr h="691200">
                <a:tc>
                  <a:txBody>
                    <a:bodyPr tIns="7848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contraído no exercício (0,0008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7848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07880">
                <a:tc>
                  <a:txBody>
                    <a:bodyPr tIns="7632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finido pelo Senado (16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7848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868.588,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69" name="AutoShape 20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té o 2º Quadrimestre de 2023 foram liberados recursos de Operações de Crédito o valor de R$ 9</a:t>
            </a:r>
            <a:r>
              <a:rPr b="0" lang="pt-BR" sz="2800" spc="-1" strike="noStrike">
                <a:solidFill>
                  <a:srgbClr val="ffffff"/>
                </a:solidFill>
                <a:latin typeface="Calibri"/>
              </a:rPr>
              <a:t>.800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,00 conforme contratos já assinados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O valor representa 0,0008%  do limite de 16% sobre a RCL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2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Publicaçõ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208160" y="1571760"/>
            <a:ext cx="8569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Site: </a:t>
            </a:r>
            <a:r>
              <a:rPr b="0" lang="pt-BR" sz="3400" spc="-1" strike="noStrike">
                <a:solidFill>
                  <a:srgbClr val="3333cc"/>
                </a:solidFill>
                <a:latin typeface="Calibri"/>
              </a:rPr>
              <a:t>www.bc.sc.gov.br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</a:rPr>
              <a:t>DOM SC – 25/09/2023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Nº 5174361: RREO - 4° BIMESTRE 2023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Nº 5174365: RGF - 2° QUADRIMESTRE 2023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917640" y="131760"/>
            <a:ext cx="1042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81200" y="1000080"/>
            <a:ext cx="91011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LC 101/2000 - LRF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 4° - Até o final dos meses d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pt-BR" sz="2700" spc="-1" strike="noStrike" u="sng">
                <a:solidFill>
                  <a:srgbClr val="00cc99"/>
                </a:solidFill>
                <a:uFillTx/>
                <a:latin typeface="Calibri"/>
              </a:rPr>
              <a:t>setembro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</a:rPr>
              <a:t>fevereiro,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rt. 48 - São instrumentos de transparências: RREO e RGF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1º Inc. I - A transparência será assegurada... incentivo à participação popular e realização d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</a:rPr>
              <a:t>audiências públicas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1825560" y="444600"/>
            <a:ext cx="82692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Demonstração e Avaliação do Cumprimento d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</a:rPr>
              <a:t>Metas Fiscais: 2º Quadrimestre de 2023”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9900"/>
                </a:solidFill>
                <a:latin typeface="Tahoma"/>
              </a:rPr>
              <a:t>AGRADECEMOS SUA ATEN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Secretaria da Fazen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</a:rPr>
              <a:t>Departamento Contábil Financei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135080" y="494676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"/>
          <p:cNvSpPr/>
          <p:nvPr/>
        </p:nvSpPr>
        <p:spPr>
          <a:xfrm>
            <a:off x="1579680" y="4967280"/>
            <a:ext cx="37018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47 3267-70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www.bc.sc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384280" y="1195560"/>
            <a:ext cx="10303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restação de contas à população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Maior transparência dos atos do Governo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Facilitar o acesso às informações pública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Divulgação dos resultados de forma mais clara e simplifica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 rot="420000">
            <a:off x="528480" y="5551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"/>
          <p:cNvPicPr/>
          <p:nvPr/>
        </p:nvPicPr>
        <p:blipFill>
          <a:blip r:embed="rId1"/>
          <a:stretch/>
        </p:blipFill>
        <p:spPr>
          <a:xfrm>
            <a:off x="144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98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 – RREO e RGF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68520" y="3179880"/>
          <a:ext cx="2684520" cy="100476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180040" y="5081760"/>
          <a:ext cx="2135160" cy="1149120"/>
        </p:xfrm>
        <a:graphic>
          <a:graphicData uri="http://schemas.openxmlformats.org/drawingml/2006/table">
            <a:tbl>
              <a:tblPr/>
              <a:tblGrid>
                <a:gridCol w="2135160"/>
              </a:tblGrid>
              <a:tr h="114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42200" y="3067200"/>
          <a:ext cx="2684520" cy="104760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4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329080" y="1236600"/>
          <a:ext cx="1836720" cy="89712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7" name="Setas cruzadas 2"/>
          <p:cNvSpPr/>
          <p:nvPr/>
        </p:nvSpPr>
        <p:spPr>
          <a:xfrm>
            <a:off x="4253040" y="2174760"/>
            <a:ext cx="3989160" cy="2830680"/>
          </a:xfrm>
          <a:prstGeom prst="pie">
            <a:avLst/>
          </a:prstGeom>
          <a:solidFill>
            <a:srgbClr val="00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REO 2 Bim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FG 1 Quadr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232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1158840" y="131760"/>
            <a:ext cx="687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018720" y="16462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         R$ 147.365.30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875800" y="2695680"/>
            <a:ext cx="2343240" cy="1191240"/>
          </a:xfrm>
          <a:prstGeom prst="rect">
            <a:avLst/>
          </a:prstGeom>
          <a:solidFill>
            <a:srgbClr val="c55a11"/>
          </a:solidFill>
          <a:ln cap="sq"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7,36% acima da meta  estimada para o quadrimes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58920" y="1646280"/>
          <a:ext cx="7502400" cy="3125880"/>
        </p:xfrm>
        <a:graphic>
          <a:graphicData uri="http://schemas.openxmlformats.org/drawingml/2006/table">
            <a:tbl>
              <a:tblPr/>
              <a:tblGrid>
                <a:gridCol w="2533680"/>
                <a:gridCol w="1655640"/>
                <a:gridCol w="1728720"/>
                <a:gridCol w="1584360"/>
              </a:tblGrid>
              <a:tr h="574560"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2712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5.423.4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6.552.7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129.3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764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ntes de Operação Intraorçamentá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835.9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16.9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81.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66672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796.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.752.68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956.66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9840">
                <a:tc>
                  <a:txBody>
                    <a:bodyPr lIns="85680" rIns="9360" tIns="131400" bIns="0" anchor="ctr" anchorCtr="1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98.055.3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8.92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867.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76" descr=""/>
          <p:cNvPicPr/>
          <p:nvPr/>
        </p:nvPicPr>
        <p:blipFill>
          <a:blip r:embed="rId2"/>
          <a:stretch/>
        </p:blipFill>
        <p:spPr>
          <a:xfrm>
            <a:off x="9018720" y="4035600"/>
            <a:ext cx="2116080" cy="131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7147080" y="173160"/>
            <a:ext cx="135864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384120" y="255600"/>
            <a:ext cx="11425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Receita LOA – Arrecadado </a:t>
            </a:r>
            <a:r>
              <a:rPr b="0" i="1" lang="pt-BR" sz="4000" spc="-1" strike="noStrike">
                <a:solidFill>
                  <a:srgbClr val="002060"/>
                </a:solidFill>
                <a:latin typeface="Calibri Light"/>
              </a:rPr>
              <a:t>x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A arrecad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 Light"/>
              </a:rPr>
              <a:t>2º Quadrimestre de 2023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pic>
        <p:nvPicPr>
          <p:cNvPr id="79" name="Gráfico 5" descr=""/>
          <p:cNvPicPr/>
          <p:nvPr/>
        </p:nvPicPr>
        <p:blipFill>
          <a:blip r:embed="rId3"/>
          <a:stretch/>
        </p:blipFill>
        <p:spPr>
          <a:xfrm>
            <a:off x="2762280" y="1968480"/>
            <a:ext cx="666756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838080" y="108000"/>
            <a:ext cx="105156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3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68600" y="1628640"/>
          <a:ext cx="6481800" cy="4032360"/>
        </p:xfrm>
        <a:graphic>
          <a:graphicData uri="http://schemas.openxmlformats.org/drawingml/2006/table">
            <a:tbl>
              <a:tblPr/>
              <a:tblGrid>
                <a:gridCol w="2346480"/>
                <a:gridCol w="2303280"/>
                <a:gridCol w="1832040"/>
              </a:tblGrid>
              <a:tr h="507960"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da R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olução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5032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.281.3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.994.0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.282.7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.272.7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.367.4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8568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8.92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"/>
          <p:cNvSpPr/>
          <p:nvPr/>
        </p:nvSpPr>
        <p:spPr>
          <a:xfrm>
            <a:off x="371520" y="28440"/>
            <a:ext cx="11425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sp>
        <p:nvSpPr>
          <p:cNvPr id="86" name="CaixaDeTexto 1"/>
          <p:cNvSpPr/>
          <p:nvPr/>
        </p:nvSpPr>
        <p:spPr>
          <a:xfrm>
            <a:off x="1924920" y="5381640"/>
            <a:ext cx="8248680" cy="6879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Calibri"/>
              </a:rPr>
              <a:t>De modo geral a receita pública realizada até o momento apresenta-se acima da linha de tendência projetada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Calibri"/>
              </a:rPr>
              <a:t>considerando a receia realizada entre os anos de 2017 até 2023. Devemos considerar ainda, a pandemia do COVID-19,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300" spc="-1" strike="noStrike">
                <a:solidFill>
                  <a:srgbClr val="ffffff"/>
                </a:solidFill>
                <a:latin typeface="Calibri"/>
              </a:rPr>
              <a:t>entre os anos de 2020 e 2022, que afetou muito negativamente a arrecadação municipal.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Gráfico 7" descr=""/>
          <p:cNvPicPr/>
          <p:nvPr/>
        </p:nvPicPr>
        <p:blipFill>
          <a:blip r:embed="rId3"/>
          <a:stretch/>
        </p:blipFill>
        <p:spPr>
          <a:xfrm>
            <a:off x="1889280" y="1365120"/>
            <a:ext cx="8602560" cy="348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Liliane Novaes</cp:lastModifiedBy>
  <cp:lastPrinted>2017-05-25T12:03:44Z</cp:lastPrinted>
  <dcterms:modified xsi:type="dcterms:W3CDTF">2023-09-29T21:13:10Z</dcterms:modified>
  <cp:revision>392</cp:revision>
  <dc:subject/>
  <dc:title>Apresentação do PowerPoint</dc:title>
</cp:coreProperties>
</file>