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  <p:sldId id="279" r:id="rId61"/>
    <p:sldId id="280" r:id="rId62"/>
    <p:sldId id="281" r:id="rId63"/>
    <p:sldId id="282" r:id="rId64"/>
    <p:sldId id="283" r:id="rId65"/>
    <p:sldId id="284" r:id="rId66"/>
    <p:sldId id="285" r:id="rId67"/>
    <p:sldId id="286" r:id="rId68"/>
    <p:sldId id="287" r:id="rId69"/>
    <p:sldId id="288" r:id="rId70"/>
    <p:sldId id="289" r:id="rId71"/>
    <p:sldId id="290" r:id="rId72"/>
    <p:sldId id="291" r:id="rId73"/>
    <p:sldId id="292" r:id="rId74"/>
    <p:sldId id="293" r:id="rId7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slide" Target="slides/slide24.xml"/><Relationship Id="rId62" Type="http://schemas.openxmlformats.org/officeDocument/2006/relationships/slide" Target="slides/slide25.xml"/><Relationship Id="rId63" Type="http://schemas.openxmlformats.org/officeDocument/2006/relationships/slide" Target="slides/slide26.xml"/><Relationship Id="rId64" Type="http://schemas.openxmlformats.org/officeDocument/2006/relationships/slide" Target="slides/slide27.xml"/><Relationship Id="rId65" Type="http://schemas.openxmlformats.org/officeDocument/2006/relationships/slide" Target="slides/slide28.xml"/><Relationship Id="rId66" Type="http://schemas.openxmlformats.org/officeDocument/2006/relationships/slide" Target="slides/slide29.xml"/><Relationship Id="rId67" Type="http://schemas.openxmlformats.org/officeDocument/2006/relationships/slide" Target="slides/slide30.xml"/><Relationship Id="rId68" Type="http://schemas.openxmlformats.org/officeDocument/2006/relationships/slide" Target="slides/slide31.xml"/><Relationship Id="rId69" Type="http://schemas.openxmlformats.org/officeDocument/2006/relationships/slide" Target="slides/slide32.xml"/><Relationship Id="rId70" Type="http://schemas.openxmlformats.org/officeDocument/2006/relationships/slide" Target="slides/slide33.xml"/><Relationship Id="rId71" Type="http://schemas.openxmlformats.org/officeDocument/2006/relationships/slide" Target="slides/slide34.xml"/><Relationship Id="rId72" Type="http://schemas.openxmlformats.org/officeDocument/2006/relationships/slide" Target="slides/slide35.xml"/><Relationship Id="rId73" Type="http://schemas.openxmlformats.org/officeDocument/2006/relationships/slide" Target="slides/slide36.xml"/><Relationship Id="rId74" Type="http://schemas.openxmlformats.org/officeDocument/2006/relationships/slide" Target="slides/slide37.xml"/><Relationship Id="rId75" Type="http://schemas.openxmlformats.org/officeDocument/2006/relationships/slide" Target="slides/slide38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7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8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9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0" name="Text Box 4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 type="sldNum" idx="103"/>
          </p:nvPr>
        </p:nvSpPr>
        <p:spPr>
          <a:xfrm>
            <a:off x="3851280" y="942948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4F591-B6A2-4B5A-9692-AC91B987F74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65CDF-DEB1-4CC8-9693-3FE63B0A5A2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AC62D-4271-40AE-A5F4-63041D51057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1" name="Text Box 1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1F12C-C9B3-45DA-95C7-106A311D4005}" type="slidenum">
              <a:rPr b="0" lang="pt-BR" sz="1200" spc="-1" strike="noStrike">
                <a:solidFill>
                  <a:srgbClr val="000000"/>
                </a:solidFill>
                <a:latin typeface="Comic Sans MS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2ABD8-D39D-4D75-B579-FFC214CCA5E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5" name="Text Box 1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36F76-3EB8-46E6-B64F-CCB31FEBE1FD}" type="slidenum">
              <a:rPr b="0" lang="pt-BR" sz="1200" spc="-1" strike="noStrike">
                <a:solidFill>
                  <a:srgbClr val="000000"/>
                </a:solidFill>
                <a:latin typeface="Comic Sans MS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C24FC-2907-49CE-B43E-ED6A14C941F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9" name="Text Box 1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1FA05-971A-42BE-81C0-13D0A282711C}" type="slidenum">
              <a:rPr b="0" lang="pt-BR" sz="1200" spc="-1" strike="noStrike">
                <a:solidFill>
                  <a:srgbClr val="000000"/>
                </a:solidFill>
                <a:latin typeface="Comic Sans MS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2F779-7491-47D9-8950-6FA4C33802C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AA833-413C-4B41-9472-4DBC73EDF50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6A99D-CCF5-4D44-858E-97C5F65D24C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CFE62-633E-4A59-8E4D-497311D39C7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38447-C4B3-4905-A8C7-8782C2CF955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70023-DD39-411F-85B7-415C0FCA0D0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B2917-B458-43AF-B9BE-DBAE784560A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1951A-0561-4ACA-A02D-99A403106FA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464C8-5C15-4AFD-8398-B3E5CACD07B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99C00-28AB-422F-981C-3334EF8B1BA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F742D-3D42-4D35-91C1-F11FC247843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7A8B3-F2A5-4585-BFC8-0F9988988CE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861B4-F9D8-4A55-9793-9D18247E9B6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52A77-CA3E-4EF2-9BD2-5040EECC8CB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F7BFB-85D4-43B7-B91E-092508A05CD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8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BF6F0-0963-498E-8B39-24DC82F7FAE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8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7F851-A688-48CC-89F3-974CA868DB8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8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85F67-6EA2-42F4-ADE9-15841E46A77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8" name="Text Box 1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B3CC8-7389-49C7-942B-1DB8C2544EB5}" type="slidenum">
              <a:rPr b="0" lang="pt-BR" sz="1200" spc="-1" strike="noStrike">
                <a:solidFill>
                  <a:srgbClr val="000000"/>
                </a:solidFill>
                <a:latin typeface="Comic Sans MS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9" name="Text Box 2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04BB3-EDCC-43D6-9F91-4379AF1687B5}" type="slidenum">
              <a:rPr b="0" lang="pt-B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0" name="Text Box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2BD9A-4508-4D5B-AE49-95D99C7A1AAB}" type="slidenum">
              <a:rPr b="0" lang="pt-B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1" name="PlaceHolder 1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57920" cy="3719520"/>
          </a:xfrm>
          <a:prstGeom prst="rect">
            <a:avLst/>
          </a:prstGeom>
          <a:ln w="0">
            <a:noFill/>
          </a:ln>
        </p:spPr>
      </p:sp>
      <p:sp>
        <p:nvSpPr>
          <p:cNvPr id="2692" name="Text Box 5"/>
          <p:cNvSpPr/>
          <p:nvPr/>
        </p:nvSpPr>
        <p:spPr>
          <a:xfrm>
            <a:off x="907920" y="4714920"/>
            <a:ext cx="4981680" cy="44672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390ED-84C3-40FE-BF1C-56B9EA25106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69EF6-F055-4C00-9CAD-878848EDCA7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6" name="Text Box 1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49630-5666-4737-A8F5-7DABBC981494}" type="slidenum">
              <a:rPr b="0" lang="pt-BR" sz="1200" spc="-1" strike="noStrike">
                <a:solidFill>
                  <a:srgbClr val="000000"/>
                </a:solidFill>
                <a:latin typeface="Comic Sans MS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8FFE2-33D3-45C2-901A-4D84D36ECC6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0" name="Text Box 1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4F558-8DE3-4865-99FE-A922B498E2E5}" type="slidenum">
              <a:rPr b="0" lang="pt-BR" sz="1200" spc="-1" strike="noStrike">
                <a:solidFill>
                  <a:srgbClr val="000000"/>
                </a:solidFill>
                <a:latin typeface="Comic Sans MS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529BD-5EE6-472D-B557-74E0EABA78A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Rectangle 8"/>
          <p:cNvSpPr/>
          <p:nvPr/>
        </p:nvSpPr>
        <p:spPr>
          <a:xfrm>
            <a:off x="3851280" y="9429840"/>
            <a:ext cx="2943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9E72F-22A7-4F03-B45C-16D8D3CCFC5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7" name="Text Box 1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DD0EA-E585-4105-8CB0-49BE9C4E74E5}" type="slidenum">
              <a:rPr b="0" lang="pt-B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911160" y="781200"/>
            <a:ext cx="4938840" cy="370512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906480" y="4709880"/>
            <a:ext cx="4984560" cy="44859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9596E-9A8F-4BC8-9CF6-4E48FA43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7D2D0-D410-4474-AD28-01A34143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2F7F6-2BE3-4F2A-BBE9-B26436A1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C9D60-D806-40C0-B53C-13383B35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54225-044B-4292-AFBB-1E2E8F94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53B89-E3EA-4433-9E84-CF239407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DEA22-BD55-4EE5-8F0B-48AAE8BD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FC014-BC3E-4A33-ABBF-DAFAFE44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8E9E0-4A7C-41E8-97B5-8873C749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C97D3-9652-4AFE-B1CF-6182C84B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76996-64B2-46DF-BC76-7F1E7D3E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3A354-F371-44B0-B92D-A73FAE10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CA351-E6C3-453C-8568-4B80D611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2DB19-33DB-4BAD-9A12-C28D034A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D1B65-C3CA-4FC6-A5B7-5678BB01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424D1-6BC4-4FBD-B53D-B01013BB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46F5B-2D20-48D9-97E7-808E8113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6BA35-1F18-4D2B-9A3B-D03604E9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C7917-5E44-484E-B80C-9E0C1871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2B3EB-CC03-4968-850E-E02735D7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EBBCB-B370-4339-9C0A-10F21DD0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E5ADD-7AD8-4389-A20B-5E181E42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01C94-97D3-40AA-BF80-0CEFEB4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11CBC-D078-4493-9298-F7B5548E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4AB55-B055-472F-9E40-B1CA5C2E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4EA06-8BCB-4002-90D0-3CD85E33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33148-3822-4D18-8805-342263C8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66884-6540-4A7C-9B6C-FC365D65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C750C-3C49-4189-8C8B-FDC4BA85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F8DFF-3EFF-428A-8E8A-CDB91EFA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359-30CA-4577-B2F1-398CBA21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CBC47-F9DE-4B64-82AB-DF467100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904B1-F9C3-4300-B24E-7C28EF89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19D87-7067-4FD4-AE75-6307920A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300E7-9AF3-4ACC-84FC-4AAF2959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C08A7-AD56-47CF-9669-058FA56B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AC4B2-AE3E-4DC4-BCD8-61F67747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EB085-777C-4530-A311-F2497E8C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DAE69-1B74-40C6-8BA1-DA1452D3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13C02-3E7A-4F6B-A018-04F8F31E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26C91-DFD5-460F-A53E-97D806AA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CE2-F13F-442F-B9F7-58409C5B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F4F45-669E-478A-87ED-5999891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AC55E-CA50-41B2-8828-1EA69F1A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C62AB-189C-4764-8022-DFB08E74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33E8A-CC69-480B-9036-E8BDDF5C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D4248-121F-4FB7-9927-3C059805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CDDE2-F44C-415F-90C7-25400C73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7D14B-9BB2-4A6A-A38D-8E30B7A7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9CA88-E380-402B-A4D2-76569D11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3D289-3494-4FF5-B802-FE46BDFB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412FF-F67D-4D9E-B560-8EFC73C3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70D-C1BC-4650-8211-0E100145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ACB05-D960-46AF-B046-5827AB78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B260E-12E0-4E0A-B201-9142CE29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F2DC5-EB96-4772-BAC2-68B8FA09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A8403-AC71-4B70-B1A2-E6D5BE85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A4CED-E868-43FA-9FDC-4EACE74D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B0A55-573C-4923-A4CA-31E5F004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4CCC0-4928-455B-872C-599B5EB1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37338-FCC6-4887-A708-BB212BEA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FF981-D8BB-4DDC-B10C-05C4F2DF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AB0B1-D85C-4276-8C23-66BA4D9A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61D-FF2C-438F-85D1-C4738181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C6F53-E555-49EA-97F9-12F3A569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05C81-EA56-4EA6-BA1F-D738320B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BCA6D-FC68-48B2-A273-BB277838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AAC02-0E32-44EB-AC2D-895F31E6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DC70D-FE8A-4914-867E-8EDDCABA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10C12-D7F5-4F76-891E-8ECBA069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2025B-28CF-42B7-88D3-3FD092BD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ED418-CD85-4747-99DD-98000902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37999-5D4B-473F-82B5-A15037A6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2F13F-C765-4BF8-9ECA-A22863A3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6B7-E1F9-40B9-9606-02B65B5D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F5CEE-17C1-44BE-A024-2081DEFF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C2A6D-D339-484F-BFE5-CF6CB48C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C4D064-3E4E-4CD3-9BE3-66750CEF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A46AD-D656-4516-9725-CA333B96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880B7-2104-46BC-902D-F1B4FAAA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0FD79-79B2-4E08-A990-5B0C4C05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601C1-446A-4DA4-B972-9036DF55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B4064-7C72-47C5-B0F6-B77DBCAD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3AE85-74E3-498A-BC63-4FBC5FEE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73A79-8024-4AF6-A274-B66E0A72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7CF-C0F2-43A2-818E-ADF61801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A7501-38C7-4FC0-859C-C84B141C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BE358-40B3-497C-9274-9471A791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19305-D707-47E5-91F3-9E342272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CF68A-AF40-4C9D-8DB9-FFC2AC14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927D8-AA93-4758-AE2D-8662F012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06623-5BCF-41AA-8E18-1A7D72BE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9EA2A-4570-4533-998D-B9D119DD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DC0204-6EC0-4FE0-80AA-844730F5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08AF09-948D-49B8-838C-A0C2DB6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662DE-557D-4B7B-A327-936BE9DF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2C5-E0B1-4EB1-BD5A-C9FE2247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3FC9AE-3A32-4C4D-9576-907834F6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84120-73E0-48D2-B648-3465E74D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F0759-F317-4D58-84AA-E4233317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E54A2-79F9-45D0-B8CD-BFFCB693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A0FAF-417B-4489-BEF4-436C21B9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3CBC7C-3255-4016-BE8D-EE22701F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F769C0-0088-4C16-B892-609E0788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18588-19BB-4C7A-829D-1ACA1055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94A86-DCFC-40A9-866A-3C5A38FF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FCCCA-D9B6-4A78-8625-6220811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FCA-5508-4AB8-8DFE-9673CDC5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FCF01-FEDF-4845-A21B-495C95D5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288DA-5AFE-4D42-8E61-6E4655F2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7C1DF-F90A-4A43-BC70-F26FC4D3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2A799A-AD8C-402F-967F-FE63C4DF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EFE5A-3F3A-4C91-B842-138F593F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59F9D-C2DD-4E7D-A7D5-887C2075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CFE82-3E23-4D3F-B030-EFA0A38A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51875-27A1-46BF-931A-1E0E8BB6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62FFAF-C52A-49EC-982E-44B422BC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2A47D-7069-45C4-ABC2-AD69F0CA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3B0-E6B4-4FC8-A6B0-4D671FD6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C6939-6445-4CF2-9411-A62344A7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EABD6A-4F4E-4BB1-8944-AAA06B65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32D4D4-4FDB-4BD3-93E7-EF6D3944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7D698-8A5F-4AE2-9647-291A167B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B8979-9D17-4558-AFEB-07167EBE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B6EF8-8B7A-462F-BE66-9BF0AF83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30203-B013-46D0-9A4C-28FAF7C1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1508C-7A2A-49DF-913C-93B112F4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E13EF-D91D-4BA6-9FD1-0E0DCBB0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15F14-16A1-4E75-AD11-5A910A77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298-92F9-468F-B2E5-8C886D6C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A6675-BF4F-4A56-A4F3-3F0B5E67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1AD49-B37F-439A-8229-D904FCD4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500CB-1C3E-4D76-A92C-7EDA60DD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DE91D-E8AF-477D-AC43-CAD3C8D1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4D52A1-D537-46DF-96AC-D5F05EC3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C17213-732E-4E4E-AE41-AC6D21F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64CE9-F225-455A-8558-D9C94690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9BC42-AA12-4C72-A9B4-745625C5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30BF8-8F16-4CBA-8C42-27B2C968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916FC-7648-4364-88B6-0FCED785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CA6-CD4C-4C36-AE7C-FF5B2C51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E7F28-7915-4AFA-80C1-9E52AA9C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5FF3C0-C513-4FAD-819A-B4A7050A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380758-F9F6-4BAE-84ED-E3C183F2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5DFDEF-8A53-4929-8A68-A4D8367E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ED5A6B-003F-4B82-B2A6-008A9923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A97063-C328-40A4-AFF2-9CD9E700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0A048-D6D3-4D7C-BCE0-BA7F5210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4932A-AD19-4E69-AD04-CDF0E774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A04D0-0652-4E24-83E2-2C49AB71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94BE7C-F961-4B64-A7F2-3A2BB25C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4F2-6070-4FF1-89BC-0925AE6B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DB3FA-1C81-407D-9408-96C7C169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3D076-6BFF-4A76-BE39-0E54C3AD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FCB9BE-5638-4267-B2AE-94909313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5042D-B999-49FD-8837-E06CD66B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9AB322-A439-4F4A-BEEF-0AE50A93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F4B6FB-5CCE-497F-A1AE-7556722A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524C74-EB3E-49F7-B5F9-73A5AFF7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A65C9B-2E2E-418C-B800-81702590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4FCD31-2702-49FE-BF5D-1C8D17B4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CBE4AA-1219-4486-9A4E-BE88407F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5D7E-D010-43AA-ACA0-9400F516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D370FC-A166-45C2-96AE-F76B64B1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055D7E-E46D-4880-9499-0FE8D419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8FDBE-CD76-4008-9ABB-D96BA787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899769-385D-4A6B-9E76-975F39A5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EA71A7-27AA-4B45-9E98-53132A84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2E8C23-6890-4A0B-9532-01B26AB6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B4C7B8-0E68-4FB2-82C0-0D386519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2B6F73-A4B3-4CD3-B8B4-E387AD10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456317-45CF-449F-A9B9-481F8A8B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F07A05-9322-4D21-8E61-438D002E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663E-9BDC-490E-97CE-081DFE06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7C58C5-D6BE-488B-BA30-AAE556D2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9712F8-4B46-428C-B22A-1B48C772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59BC3E-95FA-4317-83A3-C8525CE5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C0448A-6835-4E6A-B41D-B7193258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E05BE5-51EF-43B7-9A90-17AAE720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C6303A-4D47-41E4-90BD-012DA7B4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5111B8-916A-4909-95B8-1E5C82F2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D4E66F-F745-40C5-BE94-494E9970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936729-FCB4-461A-8D31-E4B97476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37B7A4-B715-47F3-845B-D12F5625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167F-EFFA-4A18-ABCE-0EA4F57C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7B1BCF-B5B8-433A-8A94-30C860A3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302AE4-44F3-4601-ACD7-4161101C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8B33F4-EB03-404D-887E-CBE82055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A57199-ED1A-441F-AD1A-AC5E406B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363E0E-9203-4A57-93E9-FACF12E7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1F038B-FFC5-4EC8-9BE3-87A3A5B5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A27E03-B753-40BF-9A9D-45335004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23A462-FCF6-462F-B253-B84BA6AB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3FDB84-3F26-4114-B310-32EC72EA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C536E5-18A4-47A2-82C7-F839251F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6528-96F1-4A47-A672-E44A7004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5AA67C-5D19-41A2-BC84-CC2ADEE9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7AB34B-71DC-463B-A452-D69AD0A6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3A9529-FA5F-4575-9BD0-14A12F23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C56451-8E95-4447-929C-A05ABDC8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D437CA-1CF3-48FD-9F98-0E19898E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D1DA4B-EB69-4446-923A-0DDFD349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CADBC3-E4DD-4A5E-8DDE-F470E170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BD60DF-64A7-45AA-9AC1-ECD46510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FD64A6-994D-4C16-9567-30B820B7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53EEF8-8558-4A10-9922-F4B978D6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4E52-ED40-4A2C-A254-5B345674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D4BA1B-574D-49BC-9889-F4CDD10B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F29047-399C-480A-AC3B-6FE83D31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A51437-274D-4B0B-B806-CF19EE7F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905190-67EE-4A41-8B56-32040444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DCE8D8-2C25-42A7-9332-8990F7D1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D9FB1F-07F5-464E-BDE3-5035B63A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43596D-091D-425F-985D-5D5A5326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DE2D4C-2B07-4217-B5C3-AF00689C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67605C-283A-4B1D-9520-FFF1F402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EA4F7B-B8C3-48ED-9D8E-21D218C2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C920-F628-49EF-BD43-4BD6BFDE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C99851-0F0A-4CD0-9793-913F1D18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25C83A-306F-447A-886D-521E4301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A1E9D6-D430-4B9C-9321-516F79A2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05648B-A27E-4868-AF50-FB6BC4EB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C89056-3F54-4D13-9605-B1FED460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DA19D8-39C8-4B6C-AF6C-471297F3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088CBA-5955-43D5-BBFC-8C1C6E7C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D40032-3B02-4E74-9F7B-28613D71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3DF47B-DE68-44D2-8DF3-05900300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B7A3E7-1476-49EE-8B9B-70A2E251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685D-8438-401B-A097-5955E778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A7271F-FCE1-467D-B856-3B560536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4E6E49-ED2B-406E-82BC-3B274147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817AC8-731E-4997-90DF-7832DC8B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43D370-39BA-43DB-9C24-05AC1A58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E8D5E7-49E4-4341-88F7-4945F1DD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1FE6B1-5FED-4EEE-A068-13745884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8FDAE0-E1F7-4161-B815-D9AF4860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2C2230-BF91-4F2B-B7B6-75EDD2D7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ACA359-CC57-434E-A06F-4F74B789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390950-E69F-4005-B013-ADA8852A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A119-999F-4D83-8EF6-3F1D16E7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914C46-E244-4202-A162-CA0672E5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F714BD-A18B-4FE9-AD72-E42244DF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361CF3-ABD8-4E9B-90F6-C80B000F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EA9BDD-D394-480C-8B2C-3E2768AD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354706-75A9-4774-9167-1BD594EF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E53EAE-9CD7-44FB-8302-ACAC9B88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0DEFE1-3049-43B6-95EE-58D8A001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A6EC21-0060-4918-B290-16E42B90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568D56-EECA-419C-9EDA-3908E061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EC1034-EAB5-4071-A071-1DE6919C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48CE-D58C-4A77-B4DA-2CC4788C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FD08BB-0033-4275-8C55-09AFAB55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B1C1E8-33F9-4659-A6CD-71D4CAE2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135A90-9A41-4733-B39D-1EE19361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60CF24-7CEA-424D-A1E3-9F8BA7E5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4D7DEB-083D-4FE4-A960-D452D6D5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BFEBF2-8F5F-4CB5-BF8D-072C1094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5FB25A-F3C5-45D5-BB45-B1601E97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47DC9C-60FF-40FB-BE52-627BC10B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533552-51EC-4497-99AB-37442CED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C413F0-9979-445B-A614-DDFFDFFA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01BF-CFA2-46FA-8CD0-D98BA8B9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1795CD-B66E-41FF-B4D6-42382C0E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51B0EC-3BB1-42DB-B22E-5F0E9995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85410B-B6EC-4454-8A7C-A0C5A9CD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829858-1A8F-445A-B833-9ADC5F07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670816-4A9C-4917-A0D1-7D643F90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B06A97-29F9-45FF-8C87-BAFEE1DC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081D43-2892-4C06-AB5D-0F99949A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17EEEC-BB46-4228-BBBA-EE90CC40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0DA5C1-D76C-4550-B196-0CC37AA3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9B60C8-7024-475D-8438-CCA352B5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AD7A-0736-4186-87F1-529D8478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6FD041-87BA-44E5-921A-4A05B36F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AD0A4C-7A3D-4EDE-8FEB-EDE05F2A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47D0EF-777D-4835-8D30-9FF2B8CD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AEB51B-9EC9-4C26-98A5-8177EEA8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62EFDF-67DB-40F8-80D6-0DCC6E22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923669-0EEF-48C8-AC84-31504CCB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A91D49-EE72-4D52-B1AA-D5FA775E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0AAB87-3916-4EC5-AD36-55038751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762878-A6AA-4BB3-B4A1-FC5459CA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3B4F68-FFBA-4710-9A3E-2F5B3774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A7A6-EEAA-40BB-8314-4F2AD295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29CB42-99F0-494D-AF8A-031B0846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9393B8-F22D-4D84-B29F-E7DE6D4D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F21174-4524-49A2-8F4B-30F01282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6BD4E7-86FB-489E-AA1F-3C5480F7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8E10C3-F67F-46D1-9325-FC65F73A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FE8CAF-1139-4E80-9926-5BF9F84B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6360FE-D56F-4661-9E9E-B426F9D3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D162F5-C589-4CFB-9543-9DD331C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9FD8FF-B95F-4DBE-897B-31A22D2F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105234-BCE8-4437-BB54-BE133E87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AA4F-3D42-47F0-BCE5-827A046F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A5BB2E-3AB5-4C7C-AEA4-43A244E0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6FE3B9-3017-4857-9647-06B7EFC4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E52F6D-4E10-4E63-AEC6-DF07F79C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0352D7-9EF8-4C7A-A34C-151B7D13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C8DC71-D33F-4843-8CC8-5166146C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2A7BD7-2CC9-4B21-B594-7AEDEE78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E5D924-E924-419F-8894-897438B7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A0521C-0E97-468F-B44B-D55E2E69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33340A-22B2-4253-B943-3E6FCC69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039293-357E-4FA2-B596-820C7680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F9CB-82F9-4CF2-8D3B-C6B56AB9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881CA3-2598-47DF-A7B6-E47C695F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BA14A3-059C-44BF-9FB3-613726F6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07FDD8-9E78-4C11-BF9A-28C4905E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663B3E-7B4C-4863-AB1D-89862201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44698F-21FD-41C4-8532-68A4A2B0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F1B059-BBF0-49A4-8AFC-16456690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2B8059-C2D7-4828-BA01-2597FEAA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7B1FA6-87E9-4779-ABAA-B45010B0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A3453B-DA6A-41D2-B800-CDAF52EB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CFDCBE-9E13-4590-85D0-8B644278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37F3-AEE2-42BB-9D43-7DB3D557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185592-466B-4A74-8266-A413DC57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A92ED0-E7B9-48C1-9781-946A83A6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703466-E8B0-4E2F-935B-8FEA5B73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BB1490-BC2B-416B-AF03-0E55AD3F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FBF9450-5BCF-4827-85D1-8D2315A5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979C8C-FD9B-41BA-9130-D6F1D75E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6D48BA-45DA-4F14-92AB-6C54C7CA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718D96-C108-4466-B68B-31BFEC75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BA3996-7760-40BB-8F8D-CD79BB88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7B5AF3-08D8-4CD6-BB7D-85A02B84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EA30-EACB-4FBB-965B-3C744729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5E66B9-9BAB-4982-8BCE-0004833C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2A783D-6505-4CA8-ADE6-2C93DB01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EEDBB7-0449-45BE-A192-93704365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CEFEB3-9D85-4B71-86C8-F55452B0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7A5869-E29C-4500-AA8D-15F65A9D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9A45FF-DDA3-419A-958F-EC029F61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6873D4-C5B0-4A46-BA17-CD260DCA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7A3F92-2FC2-4817-8D91-278FB285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8380F7-C36D-4254-9730-A90D3596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E4A581-55D1-433F-806D-92B22BEC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61CB4-A24E-40B9-8842-670C95D9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9047BF-643E-44B3-A53F-B0F61CB9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DDB3CF-1563-4568-96C4-6F8B07C5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2313EC-5D9B-44AD-A0FA-EEB8441C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7E8F1B-4EC3-48E9-B320-1F2D91E4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EDA6A0-AD70-4EE3-88A2-2C565314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19FC93-5794-4785-88BC-68106B24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7AFD01-416F-4E73-8A3F-03126AF0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554BAF-85CA-4B50-B84A-1AD54B08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C65C9C-281B-4862-BC84-CBBA4B89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0595DE-F522-44B9-9163-9C6DCD53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93FD-DF9A-458B-B39A-CC795032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4DC997-D88D-4DCE-AED6-35355FF4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7E6C3-8FAB-45E2-BE8A-E00B7255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06B5-9AD9-44E4-AE47-6D002FCF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61A5-6B13-4C50-BC27-FE00CD7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C40A-F6F8-4C4E-ADDE-98D66724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77B31-5666-43D1-B6FF-D3A7E354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94877-7601-4FC5-BA40-D33315DD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4147-42C9-48BB-A995-C5015D7B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14843-9112-4260-9585-20BF8961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57F1E-F211-4A40-A7AA-5E61B0B5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127E-E160-400F-A187-AEF598F3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6C43-2DD7-4DFC-9B40-AF224556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469B-3228-4E06-B404-A0342F60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F8793-283E-484C-8BB9-3C36557E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7D62B-BF2A-48B8-9D23-309FEBA0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E83CD-1BC8-4A5D-9965-1D78C8DB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D5C74-34F8-40A0-A12B-31C0578F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0F04-4034-446C-B938-1B50EB03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DCA70-A382-4BA0-8D54-EC3F01FD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7B1A6-8C4C-4F0C-9C26-E1A74B0B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65FC7-0DE8-4BA6-949F-3F351321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222C8-08A8-4B71-A636-F7B524A8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1FA21-4F84-47B3-BD14-188BB425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17416-A4F4-43BE-B6D6-9F5D49DF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C7A18-116B-400F-A1BB-2B94F7D2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F0BC1-90D6-4DAE-8AC6-9C9FAEEB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85E86-737B-4D39-9BBF-44519688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0EBD8-E546-495F-A416-A0B61D9D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4E5B4-912B-4D6F-A9B3-3137B803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978AE-6345-4883-805F-7ADAA2D4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0F567-9CD3-48C9-9B80-4D307480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2F243-A38F-44E3-B8AD-9A021E02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4D5A4-C887-4B5D-B393-61C92919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27E8F-D686-4996-BC40-3BCC896A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1EC26-5000-4C31-9819-92AD082B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2E888-5525-4065-B289-6A24C76A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719EA-88CC-4318-AE6A-CB203E1E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01305-745D-4806-9B88-A1527157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ED70E-BA13-4B31-9ACE-2F31EA61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053A6-2637-4484-A2BC-931C9F21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319C8-8C94-4BD9-9A50-C399F060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734E8-6F13-4F41-9269-47B5C07B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CB1F7-71BC-441D-BC05-F50D3773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85D4-5D05-453A-A0CA-E5C035D6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2F133-7C20-4512-9D49-C373071F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D3920-7BBA-4B4E-BE4E-573818AF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E8391-007C-4675-A3F9-C71B93B5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06C1E-9871-4485-B604-111BE1C0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89132-7227-402D-91DE-2D7D7154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CCC97-B0C1-4CA6-97D0-0928B541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3D5AB-B96A-496A-9B06-6BD93BFC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9692-4A2B-4FC3-8501-2D3B74D4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B601A-630C-4145-B062-FF803ECF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D9718-7431-402B-A61B-B4997EC2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009E0-6173-4810-B441-2FA683CD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26468-64B3-4566-B9B0-41693BA5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44156-8686-427D-82AF-65EDE304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95617-B838-4DDF-8D67-EA725ED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tretch/>
        </p:blipFill>
        <p:spPr>
          <a:xfrm>
            <a:off x="6319800" y="5649840"/>
            <a:ext cx="2414520" cy="928800"/>
          </a:xfrm>
          <a:prstGeom prst="rect">
            <a:avLst/>
          </a:prstGeom>
          <a:ln w="0">
            <a:noFill/>
          </a:ln>
        </p:spPr>
      </p:pic>
      <p:sp>
        <p:nvSpPr>
          <p:cNvPr id="5" name="Line 6"/>
          <p:cNvSpPr/>
          <p:nvPr/>
        </p:nvSpPr>
        <p:spPr>
          <a:xfrm>
            <a:off x="0" y="5322960"/>
            <a:ext cx="9128160" cy="12600"/>
          </a:xfrm>
          <a:prstGeom prst="line">
            <a:avLst/>
          </a:prstGeom>
          <a:ln cap="sq"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79218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0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2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0BD7D9-DAD7-48ED-BACF-8B206FAFBE4F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6D584F-BAEF-4A58-A10A-65F6134BCDEE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3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4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4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5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33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6ED311-9F5A-41B4-8C90-3C5C1E2139EF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0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1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1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2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8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415852-EB80-49C8-BF51-78C1DA3F4951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7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8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8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9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7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9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3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369E2D-9C69-4A2B-9F3E-31E59E827B44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4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5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5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5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6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A46E47-B3BB-4D89-86DA-40AA1C1B39DD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1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2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2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3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8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9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14F418-2F1E-41A1-841A-86C14D25C3D3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8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9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48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693ADA-F1B9-40F3-BBC7-D41611FFA65A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5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1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6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8DF01C-2D8A-4638-A52D-CD65447B4D52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2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3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3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4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8D3658-BDC1-4E43-A5EA-D659CEB130ED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93F63B-ACD0-40AD-B3CB-600D6990D4FA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8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0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57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2B2451-2C48-41A0-B67B-6E9785E8D7E5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7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 type="sldNum" idx="6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A263B4-8082-4B2B-9860-78A9E56E1B8D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2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3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4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5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5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5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6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485145-E3E0-4381-A8C6-D944638E652F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5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0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 type="sldNum" idx="6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6AB8BA-772D-44C8-8829-AF4620CBFC1A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6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57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7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8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9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 type="sldNum" idx="6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49D2EE-8CE1-4ED1-BF50-2BBDBB874EEA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63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64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4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5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 type="sldNum" idx="7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478657-2278-4CC1-A4C0-9DCF0F772619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70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71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71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1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72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 type="dt" idx="7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 type="ftr" idx="7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 type="sldNum" idx="7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A6939A-9FFE-4859-A939-2059F08461A0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7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7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78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8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8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8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9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9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7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 type="dt" idx="7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 type="ftr" idx="7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 type="sldNum" idx="7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63524B-C817-4775-875D-A6D6E65383A9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84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5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85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86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 type="dt" idx="7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 type="ftr" idx="8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PlaceHolder 5"/>
          <p:cNvSpPr>
            <a:spLocks noGrp="1"/>
          </p:cNvSpPr>
          <p:nvPr>
            <p:ph type="sldNum" idx="8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121F34-E1D0-4142-97EA-1102D74180D9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91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2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92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3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3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3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3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3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3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 type="dt" idx="8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 type="ftr" idx="8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 type="sldNum" idx="84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AA4C38-1B78-45AB-86F1-2336D2B4FAA0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9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DB7ABA-F302-40F4-ADBA-7075916668B3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9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99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dt" idx="8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 type="ftr" idx="8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 type="sldNum" idx="87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19A96A-82F2-436B-8DBD-08FA1819C8BC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5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06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06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7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 type="dt" idx="8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 type="ftr" idx="8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1" name="PlaceHolder 5"/>
          <p:cNvSpPr>
            <a:spLocks noGrp="1"/>
          </p:cNvSpPr>
          <p:nvPr>
            <p:ph type="sldNum" idx="9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8B7489-06DF-4091-826D-ACF18CD7C0BC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11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13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13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4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4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4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4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4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 type="dt" idx="9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 type="ftr" idx="9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 type="sldNum" idx="93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0A6F4A-038D-4A5E-932B-FB99695593F7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1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2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2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9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ftr" idx="9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sldNum" idx="96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EE20E7-50AB-47FB-B4EC-E7BE8C0A48FA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2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2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 type="dt" idx="9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 type="ftr" idx="9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0" name="PlaceHolder 5"/>
          <p:cNvSpPr>
            <a:spLocks noGrp="1"/>
          </p:cNvSpPr>
          <p:nvPr>
            <p:ph type="sldNum" idx="9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856F93-A3CB-403F-97EA-2E09A0126B68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32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4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4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5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5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5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35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 type="dt" idx="10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 type="ftr" idx="10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 type="sldNum" idx="10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8D6510-00B3-4DEA-A04D-E819F3E0B792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8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9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9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730EFF-FA18-40C5-87B5-7E2FC0CC004E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6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F7253C-41DB-49DC-B3B8-6A487ED4C6B9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1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3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3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4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9CF141-0111-4885-ACA7-2796F4D29666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0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B1D275-EE59-4FDA-B326-2D5D6C704275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5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6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7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8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1392F0-D552-4FE8-84BA-A1EBF46A0B37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7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2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1f497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3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5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f81bd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000" spc="-1" strike="noStrike">
                <a:solidFill>
                  <a:srgbClr val="fe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A0912B-9D8D-4942-8DB9-CABEC90ECAD0}" type="slidenum">
              <a:rPr b="0" lang="pt-BR" sz="2000" spc="-1" strike="noStrike">
                <a:solidFill>
                  <a:srgbClr val="feffff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Text Box 1"/>
          <p:cNvSpPr/>
          <p:nvPr/>
        </p:nvSpPr>
        <p:spPr>
          <a:xfrm>
            <a:off x="857160" y="287280"/>
            <a:ext cx="741672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6000" spc="-1" strike="noStrike">
                <a:solidFill>
                  <a:srgbClr val="ffffff"/>
                </a:solidFill>
                <a:latin typeface="Verdana"/>
              </a:rPr>
              <a:t>AUDIÊNCIA PÚBLIC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6000" spc="-1" strike="noStrike">
                <a:solidFill>
                  <a:srgbClr val="ffffff"/>
                </a:solidFill>
                <a:latin typeface="Arial Narrow"/>
              </a:rPr>
              <a:t>P P A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6000" spc="-1" strike="noStrike">
                <a:solidFill>
                  <a:srgbClr val="ffffff"/>
                </a:solidFill>
                <a:latin typeface="Arial Narrow"/>
              </a:rPr>
              <a:t>2026  A  2029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6" name="Text Box 2"/>
          <p:cNvSpPr/>
          <p:nvPr/>
        </p:nvSpPr>
        <p:spPr>
          <a:xfrm>
            <a:off x="4075920" y="477216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omic Sans MS"/>
              </a:rPr>
              <a:t>30/05/2025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Text Box 1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9" name="Rectangle 2"/>
          <p:cNvSpPr/>
          <p:nvPr/>
        </p:nvSpPr>
        <p:spPr>
          <a:xfrm>
            <a:off x="1801800" y="152280"/>
            <a:ext cx="5614920" cy="1161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Brush Script MT"/>
              </a:rPr>
              <a:t>Saiba mais sobre a Receita do Município</a:t>
            </a:r>
            <a:endParaRPr b="0" lang="en-US" sz="35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70" name=""/>
          <p:cNvGraphicFramePr/>
          <p:nvPr/>
        </p:nvGraphicFramePr>
        <p:xfrm>
          <a:off x="5330880" y="2868480"/>
          <a:ext cx="3097080" cy="2289240"/>
        </p:xfrm>
        <a:graphic>
          <a:graphicData uri="http://schemas.openxmlformats.org/drawingml/2006/table">
            <a:tbl>
              <a:tblPr/>
              <a:tblGrid>
                <a:gridCol w="1008000"/>
                <a:gridCol w="2089080"/>
              </a:tblGrid>
              <a:tr h="4096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8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77ba9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48.074.5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77ba9"/>
                    </a:solidFill>
                  </a:tcPr>
                </a:tc>
              </a:tr>
              <a:tr h="40176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7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322.610.9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4096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8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7ba9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390.837.8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7ba9"/>
                    </a:solidFill>
                  </a:tcPr>
                </a:tc>
              </a:tr>
              <a:tr h="6062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9</a:t>
                      </a: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539.600.5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sp>
        <p:nvSpPr>
          <p:cNvPr id="2471" name="Text Box 31"/>
          <p:cNvSpPr/>
          <p:nvPr/>
        </p:nvSpPr>
        <p:spPr>
          <a:xfrm>
            <a:off x="5313240" y="1968480"/>
            <a:ext cx="29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3f50"/>
                </a:solidFill>
                <a:latin typeface="Comic Sans MS"/>
              </a:rPr>
              <a:t>ESTIMATIVAS PARA OS EXERCÍCIOS DO PPA**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2" name="Text Box 32"/>
          <p:cNvSpPr/>
          <p:nvPr/>
        </p:nvSpPr>
        <p:spPr>
          <a:xfrm>
            <a:off x="565200" y="1808280"/>
            <a:ext cx="29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33f50"/>
                </a:solidFill>
                <a:latin typeface="Comic Sans MS"/>
              </a:rPr>
              <a:t>EXERCÍCIOS ANTERIORES E ATUA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3" name="Text Box 33"/>
          <p:cNvSpPr/>
          <p:nvPr/>
        </p:nvSpPr>
        <p:spPr>
          <a:xfrm>
            <a:off x="826920" y="5661000"/>
            <a:ext cx="35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*Valores previsto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mic Sans MS"/>
              </a:rPr>
              <a:t>**valores ainda em elaboraçã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74" name="Picture 34" descr=""/>
          <p:cNvPicPr/>
          <p:nvPr/>
        </p:nvPicPr>
        <p:blipFill>
          <a:blip r:embed="rId1"/>
          <a:stretch/>
        </p:blipFill>
        <p:spPr>
          <a:xfrm>
            <a:off x="6251400" y="5713560"/>
            <a:ext cx="12542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5" name=""/>
          <p:cNvGraphicFramePr/>
          <p:nvPr/>
        </p:nvGraphicFramePr>
        <p:xfrm>
          <a:off x="565200" y="2575080"/>
          <a:ext cx="2967120" cy="2730240"/>
        </p:xfrm>
        <a:graphic>
          <a:graphicData uri="http://schemas.openxmlformats.org/drawingml/2006/table">
            <a:tbl>
              <a:tblPr/>
              <a:tblGrid>
                <a:gridCol w="1047600"/>
                <a:gridCol w="1919520"/>
              </a:tblGrid>
              <a:tr h="49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77ba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63.885.7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77ba9"/>
                    </a:solidFill>
                  </a:tcPr>
                </a:tc>
              </a:tr>
              <a:tr h="34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14.866.2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34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7ba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580.245.3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7ba9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718.040.5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7ba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975.407.9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7ba9"/>
                    </a:solidFill>
                  </a:tcPr>
                </a:tc>
              </a:tr>
              <a:tr h="34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070.901.3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pic>
        <p:nvPicPr>
          <p:cNvPr id="2476" name="Picture 6" descr=""/>
          <p:cNvPicPr/>
          <p:nvPr/>
        </p:nvPicPr>
        <p:blipFill>
          <a:blip r:embed="rId2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Text Box 1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8" name="Rectangle 2"/>
          <p:cNvSpPr/>
          <p:nvPr/>
        </p:nvSpPr>
        <p:spPr>
          <a:xfrm>
            <a:off x="1403280" y="147600"/>
            <a:ext cx="6134040" cy="1161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Brush Script MT"/>
              </a:rPr>
              <a:t>Saiba mais sobre a Receita do Município</a:t>
            </a:r>
            <a:endParaRPr b="0" lang="en-US" sz="3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79" name="Picture 34" descr=""/>
          <p:cNvPicPr/>
          <p:nvPr/>
        </p:nvPicPr>
        <p:blipFill>
          <a:blip r:embed="rId1"/>
          <a:stretch/>
        </p:blipFill>
        <p:spPr>
          <a:xfrm>
            <a:off x="6910560" y="6024600"/>
            <a:ext cx="1253880" cy="539640"/>
          </a:xfrm>
          <a:prstGeom prst="rect">
            <a:avLst/>
          </a:prstGeom>
          <a:ln w="0">
            <a:noFill/>
          </a:ln>
        </p:spPr>
      </p:pic>
      <p:sp>
        <p:nvSpPr>
          <p:cNvPr id="2480" name="Espaço Reservado para Conteúdo 2"/>
          <p:cNvSpPr/>
          <p:nvPr/>
        </p:nvSpPr>
        <p:spPr>
          <a:xfrm>
            <a:off x="1403280" y="1886040"/>
            <a:ext cx="753912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Gothic"/>
              </a:rPr>
              <a:t>A previsão das receitas é analisada de forma individual e por entidade;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Gothic"/>
              </a:rPr>
              <a:t>Leva em consideração o valor arrecadado nos últimos exercícios e sua evolução;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Gothic"/>
              </a:rPr>
              <a:t>Considera os aspectos econômicos, financeiros e legais da atualidade sempre que possível;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Gothic"/>
              </a:rPr>
              <a:t>Previsões de Operações de Créditos, Convênios, Transferências Especiais e Emendas Parlamentares;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Gothic"/>
              </a:rPr>
              <a:t>Os valores previstos para o Quadriênio 26/29 ainda podem sofrer alterações até a entrega do PL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81" name="Picture 6" descr=""/>
          <p:cNvPicPr/>
          <p:nvPr/>
        </p:nvPicPr>
        <p:blipFill>
          <a:blip r:embed="rId2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Text Box 1"/>
          <p:cNvSpPr/>
          <p:nvPr/>
        </p:nvSpPr>
        <p:spPr>
          <a:xfrm>
            <a:off x="2340000" y="630864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3" name="Text Box 2"/>
          <p:cNvSpPr/>
          <p:nvPr/>
        </p:nvSpPr>
        <p:spPr>
          <a:xfrm>
            <a:off x="468360" y="302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Miriam"/>
              </a:rPr>
              <a:t>APRESENTAÇÃO DAS PROPOSTA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Miriam"/>
              </a:rPr>
              <a:t>PROGRAMAS FINALÍSTICO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84" name="AutoShape 3" descr=""/>
          <p:cNvPicPr/>
          <p:nvPr/>
        </p:nvPicPr>
        <p:blipFill>
          <a:blip r:embed="rId1"/>
          <a:stretch/>
        </p:blipFill>
        <p:spPr>
          <a:xfrm>
            <a:off x="2041560" y="981000"/>
            <a:ext cx="5170320" cy="4114800"/>
          </a:xfrm>
          <a:prstGeom prst="rect">
            <a:avLst/>
          </a:prstGeom>
          <a:ln w="0">
            <a:noFill/>
          </a:ln>
        </p:spPr>
      </p:pic>
      <p:pic>
        <p:nvPicPr>
          <p:cNvPr id="2485" name="Picture 6" descr=""/>
          <p:cNvPicPr/>
          <p:nvPr/>
        </p:nvPicPr>
        <p:blipFill>
          <a:blip r:embed="rId2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  <p:sp>
        <p:nvSpPr>
          <p:cNvPr id="2486" name="CaixaDeTexto 1"/>
          <p:cNvSpPr/>
          <p:nvPr/>
        </p:nvSpPr>
        <p:spPr>
          <a:xfrm>
            <a:off x="1498680" y="5405400"/>
            <a:ext cx="6319440" cy="6415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SERÃO APRESENTADOS APENAS OS PROJETOS E AÇÕES DE MAIOR RELEVÂNC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AÇÕES CONTÍNUAS, DE ATIVIDADES MEIO E NECESSÁRIAS AO DESENVOLVIMENT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DA GESTÃO NÃO SERÃO DEMONSTRADA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Text Box 1"/>
          <p:cNvSpPr/>
          <p:nvPr/>
        </p:nvSpPr>
        <p:spPr>
          <a:xfrm>
            <a:off x="1042920" y="1557360"/>
            <a:ext cx="778212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0" bIns="0" anchor="t">
            <a:noAutofit/>
          </a:bodyPr>
          <a:p>
            <a:pPr marL="228600" indent="-228600">
              <a:lnSpc>
                <a:spcPct val="83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mpliação da sede do legislativ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estão publicidade e propaganda, rádio e tv câmar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estão da escola do legislativ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Gestão da infraestrutura do legislativ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8" name="Text Box 2"/>
          <p:cNvSpPr/>
          <p:nvPr/>
        </p:nvSpPr>
        <p:spPr>
          <a:xfrm>
            <a:off x="723960" y="111240"/>
            <a:ext cx="7200720" cy="45972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e7e6e6"/>
                </a:solidFill>
                <a:latin typeface="Comic Sans MS"/>
              </a:rPr>
              <a:t>Legislativo Moderno, Transparente e Atuan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9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0" name="Text Box 6"/>
          <p:cNvSpPr/>
          <p:nvPr/>
        </p:nvSpPr>
        <p:spPr>
          <a:xfrm>
            <a:off x="1547640" y="3497400"/>
            <a:ext cx="6253200" cy="79452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300" spc="-1" strike="noStrike">
                <a:solidFill>
                  <a:srgbClr val="e7e6e6"/>
                </a:solidFill>
                <a:latin typeface="Comic Sans MS"/>
              </a:rPr>
              <a:t>Fortalecimento da Gestão Jurídica Municipal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1" name="Text Box 7"/>
          <p:cNvSpPr/>
          <p:nvPr/>
        </p:nvSpPr>
        <p:spPr>
          <a:xfrm>
            <a:off x="971640" y="4653000"/>
            <a:ext cx="8086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forma do prédio da PGM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92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Text Box 2"/>
          <p:cNvSpPr/>
          <p:nvPr/>
        </p:nvSpPr>
        <p:spPr>
          <a:xfrm>
            <a:off x="1116000" y="109440"/>
            <a:ext cx="6480360" cy="52056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e7e6e6"/>
                </a:solidFill>
                <a:latin typeface="Comic Sans MS"/>
              </a:rPr>
              <a:t>BC Bem Informad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4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5" name="Text Box 1"/>
          <p:cNvSpPr/>
          <p:nvPr/>
        </p:nvSpPr>
        <p:spPr>
          <a:xfrm>
            <a:off x="860400" y="1414440"/>
            <a:ext cx="8151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  <a:ea typeface="Calibri"/>
              </a:rPr>
              <a:t>Publicidade e propaganda governamental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6" name="Text Box 2"/>
          <p:cNvSpPr/>
          <p:nvPr/>
        </p:nvSpPr>
        <p:spPr>
          <a:xfrm>
            <a:off x="1116000" y="2506680"/>
            <a:ext cx="6480360" cy="52056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e7e6e6"/>
                </a:solidFill>
                <a:latin typeface="Comic Sans MS"/>
              </a:rPr>
              <a:t>Servidor Valorizad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7" name="Text Box 1"/>
          <p:cNvSpPr/>
          <p:nvPr/>
        </p:nvSpPr>
        <p:spPr>
          <a:xfrm>
            <a:off x="841320" y="3413160"/>
            <a:ext cx="8151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  <a:ea typeface="Calibri"/>
              </a:rPr>
              <a:t>Formação contínua para excelência no serviço público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  <a:ea typeface="Calibri"/>
              </a:rPr>
              <a:t>Saúde e proteção do trabalhador – SESMT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98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0" name="Text Box 5"/>
          <p:cNvSpPr/>
          <p:nvPr/>
        </p:nvSpPr>
        <p:spPr>
          <a:xfrm>
            <a:off x="1187280" y="109440"/>
            <a:ext cx="6543720" cy="52056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e7e6e6"/>
                </a:solidFill>
                <a:latin typeface="Comic Sans MS"/>
              </a:rPr>
              <a:t>Educação com Excelênc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1" name="Text Box 6"/>
          <p:cNvSpPr/>
          <p:nvPr/>
        </p:nvSpPr>
        <p:spPr>
          <a:xfrm>
            <a:off x="826920" y="1292400"/>
            <a:ext cx="7678800" cy="63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cuperação e melhorias das unidades escolares (CEMS)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mpliação e reforma das unidades escolares (CEMS)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construção e implantação do CIEP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Implantação de escola cívico militar – SEDUC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vitalização e aquisição de parques infantis para os CEM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ransformação digital e inovação tecnológic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Implantação de espeço de educação Multi Maker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vitalização de quadras escolare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Volta do Programa Leite Amigo Pão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Novos Programas: Planeta Escola, Hortas pedagógicas, Cartão Escola Forte e Pátria na Escol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2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Text Box 5"/>
          <p:cNvSpPr/>
          <p:nvPr/>
        </p:nvSpPr>
        <p:spPr>
          <a:xfrm>
            <a:off x="1300320" y="189000"/>
            <a:ext cx="654336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Viver com Dignidade: Idoso Ativo e Feliz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4" name="Text Box 6"/>
          <p:cNvSpPr/>
          <p:nvPr/>
        </p:nvSpPr>
        <p:spPr>
          <a:xfrm>
            <a:off x="900000" y="1484280"/>
            <a:ext cx="76788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quisição de terreno onde está a sede da SPI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forma na sede da SPI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quisição de veículos diversos para SPI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estruturação mobiliária da SPI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mpliação e reforma do lar São Vicente de Paul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o Centro Dia da Pessoa Idos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5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  <p:sp>
        <p:nvSpPr>
          <p:cNvPr id="2506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Text Box 5"/>
          <p:cNvSpPr/>
          <p:nvPr/>
        </p:nvSpPr>
        <p:spPr>
          <a:xfrm>
            <a:off x="1300320" y="189000"/>
            <a:ext cx="654336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Desenvolvimento Urbano de Qualidade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8" name="Text Box 6"/>
          <p:cNvSpPr/>
          <p:nvPr/>
        </p:nvSpPr>
        <p:spPr>
          <a:xfrm>
            <a:off x="900000" y="1484280"/>
            <a:ext cx="7678800" cy="59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e parques para cães - DogPark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urbanização de praças e calçadas em áreas pública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vimentação e reurbanização de vias urbanas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xpansão de galerias entre municípios BC e Camboriú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e novos parque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Implantação de novos canteiro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e pontos de ônibu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jeto arborização urban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o setor de paisagismo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Operação tapa buraco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9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  <p:sp>
        <p:nvSpPr>
          <p:cNvPr id="2510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Text Box 2"/>
          <p:cNvSpPr/>
          <p:nvPr/>
        </p:nvSpPr>
        <p:spPr>
          <a:xfrm>
            <a:off x="1476360" y="260280"/>
            <a:ext cx="6480360" cy="82548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e7e6e6"/>
                </a:solidFill>
                <a:latin typeface="Comic Sans MS"/>
              </a:rPr>
              <a:t>Fazenda Forte: Modernização e Resultado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2" name="Text Box 3"/>
          <p:cNvSpPr/>
          <p:nvPr/>
        </p:nvSpPr>
        <p:spPr>
          <a:xfrm>
            <a:off x="755640" y="1571760"/>
            <a:ext cx="8064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/Reforma no prédio da secretaria da fazend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odernização no sistema de administração fazendári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3" name="Text Box 4"/>
          <p:cNvSpPr/>
          <p:nvPr/>
        </p:nvSpPr>
        <p:spPr>
          <a:xfrm>
            <a:off x="1521000" y="3013200"/>
            <a:ext cx="6389640" cy="82548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e7e6e6"/>
                </a:solidFill>
                <a:latin typeface="Comic Sans MS"/>
              </a:rPr>
              <a:t>Empreender com Sustentabilidade, Crescer com Responsabilid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4" name="Text Box 5"/>
          <p:cNvSpPr/>
          <p:nvPr/>
        </p:nvSpPr>
        <p:spPr>
          <a:xfrm>
            <a:off x="755640" y="4292640"/>
            <a:ext cx="8048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cidade empreendedora – Parcerias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jeto mulher empreendedora – Capacitação e protagonismo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5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  <p:sp>
        <p:nvSpPr>
          <p:cNvPr id="2516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Text Box 1"/>
          <p:cNvSpPr/>
          <p:nvPr/>
        </p:nvSpPr>
        <p:spPr>
          <a:xfrm>
            <a:off x="9144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longamento Av. Prefeito Meirinho Trecho l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arque Linear do canal Marambai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longamento Av. Martin Luther Trecho ll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longamento Antônio Raposo Tavares Trecho l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mplantação Avenida Contorno Cristo Luz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ojeto, prolongamento e abertura de avenidas e binári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urbanização etapa Barra Sul – Rua 3920 até Barra Su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urbanização etapa Sul – Rua 3300 até 392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urbanização etapa Barra Norte – Rua 1501 até Barra Nor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urbanização etapa Centro Norte – Rua 1501 até 5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urbanização Etapa Centro Sul – Rua 1500 até 330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crodrenagem da Orla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nutenção do contrato de rateio CIM - AMFRI / PROMOB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8" name="Text Box 2"/>
          <p:cNvSpPr/>
          <p:nvPr/>
        </p:nvSpPr>
        <p:spPr>
          <a:xfrm>
            <a:off x="1332000" y="111240"/>
            <a:ext cx="6338880" cy="52056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e7e6e6"/>
                </a:solidFill>
                <a:latin typeface="Comic Sans MS"/>
              </a:rPr>
              <a:t>BC em Movimento (OUC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9" name="Text Box 1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20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Text Box 1"/>
          <p:cNvSpPr/>
          <p:nvPr/>
        </p:nvSpPr>
        <p:spPr>
          <a:xfrm>
            <a:off x="865080" y="3995640"/>
            <a:ext cx="7488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ffc000"/>
                </a:solidFill>
                <a:latin typeface="DilleniaUPC"/>
              </a:rPr>
              <a:t>PLANO PLURIANUAL</a:t>
            </a:r>
            <a:endParaRPr b="0" lang="en-US" sz="3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 Narrow"/>
              </a:rPr>
              <a:t>Plano de governo que define a programação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 Narrow"/>
              </a:rPr>
              <a:t>por um período de quatro ano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8" name="Text Box 2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9" name="Picture 3" descr=""/>
          <p:cNvPicPr/>
          <p:nvPr/>
        </p:nvPicPr>
        <p:blipFill>
          <a:blip r:embed="rId1"/>
          <a:stretch/>
        </p:blipFill>
        <p:spPr>
          <a:xfrm>
            <a:off x="1733400" y="512640"/>
            <a:ext cx="5675400" cy="3241800"/>
          </a:xfrm>
          <a:prstGeom prst="rect">
            <a:avLst/>
          </a:prstGeom>
          <a:ln w="0">
            <a:noFill/>
          </a:ln>
        </p:spPr>
      </p:pic>
      <p:sp>
        <p:nvSpPr>
          <p:cNvPr id="2410" name="Text Box 5"/>
          <p:cNvSpPr/>
          <p:nvPr/>
        </p:nvSpPr>
        <p:spPr>
          <a:xfrm>
            <a:off x="3743280" y="2492280"/>
            <a:ext cx="16556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6165d"/>
                </a:solidFill>
                <a:latin typeface="Comic Sans MS"/>
              </a:rPr>
              <a:t>2026 A 2029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1" name="CaixaDeTexto 1"/>
          <p:cNvSpPr/>
          <p:nvPr/>
        </p:nvSpPr>
        <p:spPr>
          <a:xfrm>
            <a:off x="2714400" y="308916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Compromisso para Governar BC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Text Box 2"/>
          <p:cNvSpPr/>
          <p:nvPr/>
        </p:nvSpPr>
        <p:spPr>
          <a:xfrm>
            <a:off x="1332000" y="115920"/>
            <a:ext cx="6338880" cy="52056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e7e6e6"/>
                </a:solidFill>
                <a:latin typeface="Comic Sans MS"/>
              </a:rPr>
              <a:t>Iluminando o Futur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2" name="Text Box 1"/>
          <p:cNvSpPr/>
          <p:nvPr/>
        </p:nvSpPr>
        <p:spPr>
          <a:xfrm>
            <a:off x="826920" y="1341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mpliação da rede de iluminação públic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baixamento de rede de iluminação públic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3" name="Text Box 4"/>
          <p:cNvSpPr/>
          <p:nvPr/>
        </p:nvSpPr>
        <p:spPr>
          <a:xfrm>
            <a:off x="1376280" y="3197160"/>
            <a:ext cx="6391440" cy="45972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e7e6e6"/>
                </a:solidFill>
                <a:latin typeface="Comic Sans MS"/>
              </a:rPr>
              <a:t>BC Pela Inclusão Social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4" name="Text Box 5"/>
          <p:cNvSpPr/>
          <p:nvPr/>
        </p:nvSpPr>
        <p:spPr>
          <a:xfrm>
            <a:off x="917640" y="4149720"/>
            <a:ext cx="8048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asamento coletivo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Oficinas de convivência e fortalecimento de vínculo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mpliação e reforma dos centros comunitários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25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  <p:sp>
        <p:nvSpPr>
          <p:cNvPr id="2526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Text Box 5"/>
          <p:cNvSpPr/>
          <p:nvPr/>
        </p:nvSpPr>
        <p:spPr>
          <a:xfrm>
            <a:off x="1300320" y="189000"/>
            <a:ext cx="654336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BC Mais Esporte para Todo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8" name="Text Box 6"/>
          <p:cNvSpPr/>
          <p:nvPr/>
        </p:nvSpPr>
        <p:spPr>
          <a:xfrm>
            <a:off x="900000" y="1484280"/>
            <a:ext cx="76788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Implantação de novos espaços esportivo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forma de complexos esportivo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e instalação de complexos esportivo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e novos espações esportivos comunitários - Novo PAC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Desenvolvimento do programa TEATIVO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orneios regionais de futebol amador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esporte e lazer da cidade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29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  <p:sp>
        <p:nvSpPr>
          <p:cNvPr id="2530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Text Box 1"/>
          <p:cNvSpPr/>
          <p:nvPr/>
        </p:nvSpPr>
        <p:spPr>
          <a:xfrm>
            <a:off x="749160" y="1628640"/>
            <a:ext cx="80074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rticipação no consórcio de turismo costa verde e mar – CITMAR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dução de festividades turísticas e participação em eventos turístico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dução das festividades de final de ano – Natal e Réveillon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moção da comunicação turística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jeto Balneário Camboriú com vida Convention e Visitors Bureau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2" name="Text Box 2"/>
          <p:cNvSpPr/>
          <p:nvPr/>
        </p:nvSpPr>
        <p:spPr>
          <a:xfrm>
            <a:off x="1440000" y="111240"/>
            <a:ext cx="6338880" cy="52056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e7e6e6"/>
                </a:solidFill>
                <a:latin typeface="Comic Sans MS"/>
              </a:rPr>
              <a:t>BC Turismo 360°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3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34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Text Box 2"/>
          <p:cNvSpPr/>
          <p:nvPr/>
        </p:nvSpPr>
        <p:spPr>
          <a:xfrm>
            <a:off x="1116000" y="138240"/>
            <a:ext cx="648036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Foco Total no Social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6" name="Text Box 3"/>
          <p:cNvSpPr/>
          <p:nvPr/>
        </p:nvSpPr>
        <p:spPr>
          <a:xfrm>
            <a:off x="692280" y="1160640"/>
            <a:ext cx="80643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e instalação de unidades de proteção social básica CRA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mpliação e reforma de equipamentos da proteção social básica – CRA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mpliação e Reformas de equipamentos de atendimento da proteção básica especial de passagem do migrante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mpliação e Reformas de equipamentos de atendimento da proteção básica especial lar da criança e do adolescente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e instalação de unidades de proteção social especial – CREAS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e instalação de unidades de proteção social especial cento dia para pessoa com deficiência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7" name="Text Box 1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38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Text Box 3"/>
          <p:cNvSpPr/>
          <p:nvPr/>
        </p:nvSpPr>
        <p:spPr>
          <a:xfrm>
            <a:off x="900000" y="1133640"/>
            <a:ext cx="8064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e instalação de unidades de proteção social especial centro POP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e instalação de unidades de proteção social especial de passagem de famílias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ormalização de parcerias com OSC’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0" name="Text Box 2"/>
          <p:cNvSpPr/>
          <p:nvPr/>
        </p:nvSpPr>
        <p:spPr>
          <a:xfrm>
            <a:off x="1116000" y="138240"/>
            <a:ext cx="648036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Foco Total no Social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41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  <p:sp>
        <p:nvSpPr>
          <p:cNvPr id="2542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Text Box 1"/>
          <p:cNvSpPr/>
          <p:nvPr/>
        </p:nvSpPr>
        <p:spPr>
          <a:xfrm>
            <a:off x="826920" y="1557360"/>
            <a:ext cx="80074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ões de educação para segurança no trânsito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oliciamento e fiscalização do trânsito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Implantação de ciclovias, ciclofaixas, ciclorrotas e paraciclos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ngenharia de tráfego e de campo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daptações e manutenções da sinalização viária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poio e melhorias no transporte coletivo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e manutenção da nova sede da secretaria de segurança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4" name="Text Box 2"/>
          <p:cNvSpPr/>
          <p:nvPr/>
        </p:nvSpPr>
        <p:spPr>
          <a:xfrm>
            <a:off x="1414440" y="111240"/>
            <a:ext cx="6389640" cy="82548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e7e6e6"/>
                </a:solidFill>
                <a:latin typeface="Comic Sans MS"/>
              </a:rPr>
              <a:t>Ordem Pública BC – Proteção e Segurança em Todo Lug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5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46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Text Box 1"/>
          <p:cNvSpPr/>
          <p:nvPr/>
        </p:nvSpPr>
        <p:spPr>
          <a:xfrm>
            <a:off x="849240" y="1268280"/>
            <a:ext cx="80074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elhorias na captação de água bruta;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e reservatórios para água tratada; 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mpliação e melhorias no sistema de esgotamento sanitário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mpliação e melhorias do sistema de tratamento de esgoto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mpliação e melhorias do sistema de abastecimento de água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Implantação do projeto parque inundável;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vitalização de rios e córregos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Implantação do projeto Rio Camboriú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8" name="Text Box 2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9" name="Text Box 6"/>
          <p:cNvSpPr/>
          <p:nvPr/>
        </p:nvSpPr>
        <p:spPr>
          <a:xfrm>
            <a:off x="849240" y="173160"/>
            <a:ext cx="691200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BC Saudável – Saneamento para Todo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50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Text Box 1"/>
          <p:cNvSpPr/>
          <p:nvPr/>
        </p:nvSpPr>
        <p:spPr>
          <a:xfrm>
            <a:off x="858960" y="1341360"/>
            <a:ext cx="752796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ortalecimento dos eventos e festas culturais;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ortalecimento da lei de incentivo á cultura;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poio a projetos e convênios com entidades de caráter cultural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municipal de animadores culturais e pontos de cultura;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olítica nacional Aldir Blanc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2" name="Text Box 2"/>
          <p:cNvSpPr/>
          <p:nvPr/>
        </p:nvSpPr>
        <p:spPr>
          <a:xfrm>
            <a:off x="1144440" y="111240"/>
            <a:ext cx="660564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Cultura Viva, Viva Cultur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3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54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6" name="Text Box 4"/>
          <p:cNvSpPr/>
          <p:nvPr/>
        </p:nvSpPr>
        <p:spPr>
          <a:xfrm>
            <a:off x="911160" y="92160"/>
            <a:ext cx="6951600" cy="52056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e7e6e6"/>
                </a:solidFill>
                <a:latin typeface="Comic Sans MS"/>
              </a:rPr>
              <a:t>Vidas Alheias e Riquezas a Salv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7" name="Text Box 5"/>
          <p:cNvSpPr/>
          <p:nvPr/>
        </p:nvSpPr>
        <p:spPr>
          <a:xfrm>
            <a:off x="911160" y="1413000"/>
            <a:ext cx="80074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e postos de guarda vidas;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quipamentos diversos para FUMPRESI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a sede do 13° Batalhão na região sul;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quisição de viaturas de emergência para  13° Batalhão;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Instalação de energia solar na sede do 13° Batalhão;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estruturação da rede lógica da sede do 13° Batalhão.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58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Text Box 2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0" name="Text Box 4"/>
          <p:cNvSpPr/>
          <p:nvPr/>
        </p:nvSpPr>
        <p:spPr>
          <a:xfrm>
            <a:off x="826920" y="111240"/>
            <a:ext cx="705672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Saúde – Um Novo Tempo Para Cuidar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1" name="Text Box 5"/>
          <p:cNvSpPr/>
          <p:nvPr/>
        </p:nvSpPr>
        <p:spPr>
          <a:xfrm>
            <a:off x="892080" y="1484280"/>
            <a:ext cx="7056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complexo de saúde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UBS São Judas Tadeu e farmácia sul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UBS Nações e farmácia norte 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UBS Iate Clube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UBS Schultz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UBS Taquaras;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UBS Estaleirinho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forma, ampliação e melhorias de unidade básica de saúde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forma, ampliação e melhorias de saúde bucal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62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Text Box 1"/>
          <p:cNvSpPr/>
          <p:nvPr/>
        </p:nvSpPr>
        <p:spPr>
          <a:xfrm>
            <a:off x="611280" y="1557360"/>
            <a:ext cx="79232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egundo Art. 48 da Lei de Responsabilidade Fiscal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65040" indent="-253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65040" indent="-2538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São instrumentos de transparência da gestão fiscal, aos quais será dada ampla divulgação...: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os plan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orçamentos e leis de diretrizes orçamentárias...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65040" indent="-2538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65040" indent="-2538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050840"/>
                <a:tab algn="l" pos="1965240"/>
                <a:tab algn="l" pos="2879640"/>
                <a:tab algn="l" pos="3794040"/>
                <a:tab algn="l" pos="4708440"/>
                <a:tab algn="l" pos="5622840"/>
                <a:tab algn="l" pos="6537240"/>
                <a:tab algn="l" pos="7451640"/>
                <a:tab algn="l" pos="8366040"/>
                <a:tab algn="l" pos="9280440"/>
                <a:tab algn="l" pos="1019484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arágrafo único: A transparência será assegurada também mediante incentivo à participação popular e realização de audiências públicas,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durante o processo de elaboração e de discussão dos plan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, leis de diretrizes orçamentárias e orçamento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3" name="Text Box 2"/>
          <p:cNvSpPr/>
          <p:nvPr/>
        </p:nvSpPr>
        <p:spPr>
          <a:xfrm>
            <a:off x="2268360" y="692280"/>
            <a:ext cx="4391280" cy="474840"/>
          </a:xfrm>
          <a:prstGeom prst="rect">
            <a:avLst/>
          </a:prstGeom>
          <a:solidFill>
            <a:srgbClr val="2e75b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omic Sans MS"/>
                <a:ea typeface="Arial"/>
              </a:rPr>
              <a:t>PARTICIPAÇÃO POPULAR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4" name="Text Box 1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15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Text Box 5"/>
          <p:cNvSpPr/>
          <p:nvPr/>
        </p:nvSpPr>
        <p:spPr>
          <a:xfrm>
            <a:off x="1187280" y="981000"/>
            <a:ext cx="7056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o CAPS II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o CAPS IJ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o centro de práticas integrativas em saúde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a policlínica (Centro de imagem, ambulatorial de especialidades médicas, ambulatório psicossocial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a clínica da mulher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formas, ampliações e melhorias de unidade especializada de saúde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formas, ampliações e melhorias de UPAS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4" name="Text Box 4"/>
          <p:cNvSpPr/>
          <p:nvPr/>
        </p:nvSpPr>
        <p:spPr>
          <a:xfrm>
            <a:off x="826920" y="111240"/>
            <a:ext cx="705672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Saúde – Um Novo Tempo Para Cuidar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65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  <p:sp>
        <p:nvSpPr>
          <p:cNvPr id="2566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Text Box 5"/>
          <p:cNvSpPr/>
          <p:nvPr/>
        </p:nvSpPr>
        <p:spPr>
          <a:xfrm>
            <a:off x="1258920" y="898560"/>
            <a:ext cx="7056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formas, ampliações e melhorias de CAPS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formas, ampliações e melhorias de assistência farmacêutica;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formas, ampliações e melhorias do HMRC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8" name="Text Box 2"/>
          <p:cNvSpPr/>
          <p:nvPr/>
        </p:nvSpPr>
        <p:spPr>
          <a:xfrm>
            <a:off x="2087640" y="3213000"/>
            <a:ext cx="4967280" cy="76428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e7e6e6"/>
                </a:solidFill>
                <a:latin typeface="Comic Sans MS"/>
              </a:rPr>
              <a:t>Fortalecimento a Rede de Proteção á Criança e Adolescente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9" name="Text Box 1"/>
          <p:cNvSpPr/>
          <p:nvPr/>
        </p:nvSpPr>
        <p:spPr>
          <a:xfrm>
            <a:off x="1116000" y="4281480"/>
            <a:ext cx="74772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rcerias com OSC’S voltadas ao bem estar da criança e ao adolescente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Incentivo a adoção.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70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  <p:sp>
        <p:nvSpPr>
          <p:cNvPr id="2571" name="Text Box 4"/>
          <p:cNvSpPr/>
          <p:nvPr/>
        </p:nvSpPr>
        <p:spPr>
          <a:xfrm>
            <a:off x="826920" y="111240"/>
            <a:ext cx="705672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Saúde – Um Novo Tempo Para Cuidar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2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Text Box 1"/>
          <p:cNvSpPr/>
          <p:nvPr/>
        </p:nvSpPr>
        <p:spPr>
          <a:xfrm>
            <a:off x="971640" y="1341360"/>
            <a:ext cx="800712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o Centro de Educação Ambiental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forma da Sede administrativa do FUNDEMA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vitalização do parque Raimundo Malta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eservação e ampliação do selo internacional “ Bandeira Azul”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stentabilidade ambiental e desenvolvimento de produtos e serviços ambientais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stentabilidade Ambiental.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4" name="Text Box 2"/>
          <p:cNvSpPr/>
          <p:nvPr/>
        </p:nvSpPr>
        <p:spPr>
          <a:xfrm>
            <a:off x="826920" y="111240"/>
            <a:ext cx="667728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BC Verde: Meio Ambiente em Movimento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5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76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Text Box 1"/>
          <p:cNvSpPr/>
          <p:nvPr/>
        </p:nvSpPr>
        <p:spPr>
          <a:xfrm>
            <a:off x="1042920" y="1541520"/>
            <a:ext cx="80074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istema de processos eletrônicos – PROCON 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alização de seminários e congressos;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quisição e instalações próprias – PROCON. 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8" name="Text Box 2"/>
          <p:cNvSpPr/>
          <p:nvPr/>
        </p:nvSpPr>
        <p:spPr>
          <a:xfrm>
            <a:off x="1835280" y="111240"/>
            <a:ext cx="5256000" cy="85572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Procon Atuante = Consumidor Protegido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9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0" name="Text Box 2"/>
          <p:cNvSpPr/>
          <p:nvPr/>
        </p:nvSpPr>
        <p:spPr>
          <a:xfrm>
            <a:off x="1943280" y="3357720"/>
            <a:ext cx="5256000" cy="82548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e7e6e6"/>
                </a:solidFill>
                <a:latin typeface="Comic Sans MS"/>
              </a:rPr>
              <a:t>FUNSERVIR + Saúde: Cuidando de Quem Serv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1" name="Text Box 1"/>
          <p:cNvSpPr/>
          <p:nvPr/>
        </p:nvSpPr>
        <p:spPr>
          <a:xfrm>
            <a:off x="988920" y="4653000"/>
            <a:ext cx="8007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e instalação da sede administrativa do FUNSERVIR.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2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Text Box 2"/>
          <p:cNvSpPr/>
          <p:nvPr/>
        </p:nvSpPr>
        <p:spPr>
          <a:xfrm>
            <a:off x="1943280" y="189000"/>
            <a:ext cx="5256000" cy="85572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e7e6e6"/>
                </a:solidFill>
                <a:latin typeface="Comic Sans MS"/>
              </a:rPr>
              <a:t>Autonomia e Desenvolvimento para a Região Sul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4" name="Text Box 1"/>
          <p:cNvSpPr/>
          <p:nvPr/>
        </p:nvSpPr>
        <p:spPr>
          <a:xfrm>
            <a:off x="900000" y="1484280"/>
            <a:ext cx="80074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mpliação e melhorias no cemitério municipal da R. Sul - BC;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forma na subprefeitura de obras da R. Sul – BC;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quisição de veículo utilitário para subprefeitura da R. Sul - BC;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jeto sementeira reativação da horta da colônia de pescadores;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Criação de escola do mar na região sul  - BC;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quisição de instrumentos para escola de música da R. Sul - BC;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Crianção de espaços de convivências para jogos socioculturais da R. Sul; 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jeto sombreiro – Arborização da praça Bento Cunha da R. Sul – BC;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Construção da subprefeitura da região sul;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5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  <p:sp>
        <p:nvSpPr>
          <p:cNvPr id="2586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Text Box 1"/>
          <p:cNvSpPr/>
          <p:nvPr/>
        </p:nvSpPr>
        <p:spPr>
          <a:xfrm>
            <a:off x="1006560" y="1244520"/>
            <a:ext cx="70578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quisição de imóvel sede BCPREVI – Casa do servidor;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serva de benefícios previdenciário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8" name="Text Box 2"/>
          <p:cNvSpPr/>
          <p:nvPr/>
        </p:nvSpPr>
        <p:spPr>
          <a:xfrm>
            <a:off x="1332000" y="117360"/>
            <a:ext cx="6192720" cy="76428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e7e6e6"/>
                </a:solidFill>
                <a:latin typeface="Comic Sans MS"/>
              </a:rPr>
              <a:t>RPPS Sustentável – Aposentadoria Garantid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9" name="Text Box 3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0" name="AutoShape 5"/>
          <p:cNvSpPr/>
          <p:nvPr/>
        </p:nvSpPr>
        <p:spPr>
          <a:xfrm>
            <a:off x="1058760" y="4921200"/>
            <a:ext cx="7417080" cy="1176480"/>
          </a:xfrm>
          <a:prstGeom prst="roundRect">
            <a:avLst>
              <a:gd name="adj" fmla="val 16667"/>
            </a:avLst>
          </a:prstGeom>
          <a:solidFill>
            <a:srgbClr val="ffe699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Calibri"/>
              </a:rPr>
              <a:t>AÇÕES QUE NÃO SOFRERAM MUDANÇAS SIGNIFICATIVAS NÃO FORAM CITADAS POIS PERMANECEM INALTERADAS NESTE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Calibri"/>
              </a:rPr>
              <a:t>PLANO PLURIANUAL (2026-2029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1" name="Text Box 2"/>
          <p:cNvSpPr/>
          <p:nvPr/>
        </p:nvSpPr>
        <p:spPr>
          <a:xfrm>
            <a:off x="1332000" y="2995560"/>
            <a:ext cx="6192720" cy="42912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e7e6e6"/>
                </a:solidFill>
                <a:latin typeface="Comic Sans MS"/>
              </a:rPr>
              <a:t>FURBES: Construindo Futuro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2" name="Text Box 1"/>
          <p:cNvSpPr/>
          <p:nvPr/>
        </p:nvSpPr>
        <p:spPr>
          <a:xfrm>
            <a:off x="1077840" y="3659040"/>
            <a:ext cx="70581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onstrução de unidades habitacionai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uxílio Moradi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93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ff6"/>
            </a:gs>
            <a:gs pos="100000">
              <a:srgbClr val="606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tângulo 2"/>
          <p:cNvSpPr/>
          <p:nvPr/>
        </p:nvSpPr>
        <p:spPr>
          <a:xfrm>
            <a:off x="1547640" y="836640"/>
            <a:ext cx="659304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3500" spc="-1" strike="noStrike">
                <a:solidFill>
                  <a:srgbClr val="000000"/>
                </a:solidFill>
                <a:latin typeface="quote-cjk-patch"/>
              </a:rPr>
              <a:t>"O desenvolvimento que queremos não acontece por acaso, ele é fruto de escolhas estratégicas feitas hoje. </a:t>
            </a:r>
            <a:endParaRPr b="0" lang="en-US" sz="3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BR" sz="3500" spc="-1" strike="noStrike">
                <a:solidFill>
                  <a:srgbClr val="000000"/>
                </a:solidFill>
                <a:latin typeface="quote-cjk-patch"/>
              </a:rPr>
              <a:t>O futuro do nosso município começa com as decisões que tomamos agora."</a:t>
            </a:r>
            <a:endParaRPr b="0" lang="en-US" sz="3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95" name="Picture 6" descr=""/>
          <p:cNvPicPr/>
          <p:nvPr/>
        </p:nvPicPr>
        <p:blipFill>
          <a:blip r:embed="rId1"/>
          <a:stretch/>
        </p:blipFill>
        <p:spPr>
          <a:xfrm>
            <a:off x="3851280" y="5005440"/>
            <a:ext cx="1882800" cy="10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6" name="Picture 1" descr=""/>
          <p:cNvPicPr/>
          <p:nvPr/>
        </p:nvPicPr>
        <p:blipFill>
          <a:blip r:embed="rId1"/>
          <a:stretch/>
        </p:blipFill>
        <p:spPr>
          <a:xfrm>
            <a:off x="4943520" y="4941720"/>
            <a:ext cx="2424240" cy="966960"/>
          </a:xfrm>
          <a:prstGeom prst="rect">
            <a:avLst/>
          </a:prstGeom>
          <a:ln w="0">
            <a:noFill/>
          </a:ln>
        </p:spPr>
      </p:pic>
      <p:sp>
        <p:nvSpPr>
          <p:cNvPr id="2597" name="Text Box 2"/>
          <p:cNvSpPr/>
          <p:nvPr/>
        </p:nvSpPr>
        <p:spPr>
          <a:xfrm>
            <a:off x="1979640" y="3645000"/>
            <a:ext cx="259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Elaboração: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Apresentação: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8" name="Text Box 3"/>
          <p:cNvSpPr/>
          <p:nvPr/>
        </p:nvSpPr>
        <p:spPr>
          <a:xfrm>
            <a:off x="4788000" y="2565360"/>
            <a:ext cx="2279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omic Sans MS"/>
              </a:rPr>
              <a:t>SEFAZ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omic Sans MS"/>
              </a:rPr>
              <a:t>SEGOV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99" name="Picture 6" descr=""/>
          <p:cNvPicPr/>
          <p:nvPr/>
        </p:nvPicPr>
        <p:blipFill>
          <a:blip r:embed="rId2"/>
          <a:stretch/>
        </p:blipFill>
        <p:spPr>
          <a:xfrm>
            <a:off x="3367080" y="260280"/>
            <a:ext cx="2560680" cy="1395360"/>
          </a:xfrm>
          <a:prstGeom prst="rect">
            <a:avLst/>
          </a:prstGeom>
          <a:ln w="0">
            <a:noFill/>
          </a:ln>
        </p:spPr>
      </p:pic>
      <p:sp>
        <p:nvSpPr>
          <p:cNvPr id="2600" name="Chave esquerda 1"/>
          <p:cNvSpPr/>
          <p:nvPr/>
        </p:nvSpPr>
        <p:spPr>
          <a:xfrm>
            <a:off x="4356000" y="2503440"/>
            <a:ext cx="719280" cy="3544920"/>
          </a:xfrm>
          <a:custGeom>
            <a:avLst/>
            <a:gdLst>
              <a:gd name="textAreaLeft" fmla="*/ 459720 w 719280"/>
              <a:gd name="textAreaRight" fmla="*/ 719640 w 719280"/>
              <a:gd name="textAreaTop" fmla="*/ 18720 h 3544920"/>
              <a:gd name="textAreaBottom" fmla="*/ 3526200 h 354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6"/>
                </a:cubicBezTo>
                <a:lnTo>
                  <a:pt x="10800" y="10434"/>
                </a:lnTo>
                <a:cubicBezTo>
                  <a:pt x="10800" y="10617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6"/>
                </a:cubicBezTo>
                <a:lnTo>
                  <a:pt x="10800" y="21234"/>
                </a:lnTo>
                <a:cubicBezTo>
                  <a:pt x="10800" y="21417"/>
                  <a:pt x="16200" y="21600"/>
                  <a:pt x="21600" y="21600"/>
                </a:cubicBezTo>
              </a:path>
            </a:pathLst>
          </a:custGeom>
          <a:noFill/>
          <a:ln cap="rnd" w="9360">
            <a:solidFill>
              <a:srgbClr val="4b7b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1" name="Imagem 4" descr="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2602" name=""/>
          <p:cNvSpPr txBox="1"/>
          <p:nvPr/>
        </p:nvSpPr>
        <p:spPr>
          <a:xfrm>
            <a:off x="1184040" y="5300280"/>
            <a:ext cx="590868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entury Gothic"/>
              </a:rPr>
              <a:t>47 </a:t>
            </a:r>
            <a:r>
              <a:rPr b="1" lang="pt-BR" sz="1400" spc="-1" strike="noStrike">
                <a:solidFill>
                  <a:srgbClr val="ffffff"/>
                </a:solidFill>
                <a:latin typeface="Century Gothic"/>
              </a:rPr>
              <a:t>3267-7000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entury Gothic"/>
              </a:rPr>
              <a:t>www.balneariocamboriu.sc.gov.br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entury Gothic"/>
              </a:rPr>
              <a:t>Rua Dinamarca, 320 - Paço Municipal Prefeito Aldo Novaes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entury Gothic"/>
              </a:rPr>
              <a:t>88338-900 - Balneário Camboriú - SC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Text Box 1"/>
          <p:cNvSpPr/>
          <p:nvPr/>
        </p:nvSpPr>
        <p:spPr>
          <a:xfrm>
            <a:off x="503280" y="1773360"/>
            <a:ext cx="82296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049400"/>
                <a:tab algn="l" pos="1963800"/>
                <a:tab algn="l" pos="2878200"/>
                <a:tab algn="l" pos="3792600"/>
                <a:tab algn="l" pos="4707000"/>
                <a:tab algn="l" pos="5621400"/>
                <a:tab algn="l" pos="6535800"/>
                <a:tab algn="l" pos="7450200"/>
                <a:tab algn="l" pos="8364600"/>
                <a:tab algn="l" pos="9279000"/>
                <a:tab algn="l" pos="10193400"/>
                <a:tab algn="l" pos="10333080"/>
                <a:tab algn="l" pos="1078236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ART. 165, § 1º e 4º</a:t>
            </a:r>
            <a:r>
              <a:rPr b="1" lang="pt-BR" sz="2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da CF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PA estabelecerá objetivos e metas d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ministração Pública para despesas de capital e outras delas decorrentes e para as relativas aos programas de duração continuada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63600" indent="-255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049400"/>
                <a:tab algn="l" pos="1963800"/>
                <a:tab algn="l" pos="2878200"/>
                <a:tab algn="l" pos="3792600"/>
                <a:tab algn="l" pos="4707000"/>
                <a:tab algn="l" pos="5621400"/>
                <a:tab algn="l" pos="6535800"/>
                <a:tab algn="l" pos="7450200"/>
                <a:tab algn="l" pos="8364600"/>
                <a:tab algn="l" pos="9279000"/>
                <a:tab algn="l" pos="10193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63600" indent="-255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049400"/>
                <a:tab algn="l" pos="1963800"/>
                <a:tab algn="l" pos="2878200"/>
                <a:tab algn="l" pos="3792600"/>
                <a:tab algn="l" pos="4707000"/>
                <a:tab algn="l" pos="5621400"/>
                <a:tab algn="l" pos="6535800"/>
                <a:tab algn="l" pos="7450200"/>
                <a:tab algn="l" pos="8364600"/>
                <a:tab algn="l" pos="9279000"/>
                <a:tab algn="l" pos="10193400"/>
                <a:tab algn="l" pos="10333080"/>
                <a:tab algn="l" pos="10782360"/>
              </a:tabLst>
            </a:pPr>
            <a:r>
              <a:rPr b="1" lang="pt-BR" sz="2600" spc="-1" strike="noStrike" u="sng">
                <a:solidFill>
                  <a:srgbClr val="000000"/>
                </a:solidFill>
                <a:uFillTx/>
                <a:latin typeface="Calibri"/>
              </a:rPr>
              <a:t>ART. 166, § 3º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</a:t>
            </a:r>
            <a:r>
              <a:rPr b="1" lang="pt-BR" sz="2600" spc="-1" strike="noStrike" u="sng">
                <a:solidFill>
                  <a:srgbClr val="000000"/>
                </a:solidFill>
                <a:uFillTx/>
                <a:latin typeface="Calibri"/>
              </a:rPr>
              <a:t> 4º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da CF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mendas a LDO e LOA soment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rão realizadas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quando compatíveis com o PPA.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63600" indent="-255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049400"/>
                <a:tab algn="l" pos="1963800"/>
                <a:tab algn="l" pos="2878200"/>
                <a:tab algn="l" pos="3792600"/>
                <a:tab algn="l" pos="4707000"/>
                <a:tab algn="l" pos="5621400"/>
                <a:tab algn="l" pos="6535800"/>
                <a:tab algn="l" pos="7450200"/>
                <a:tab algn="l" pos="8364600"/>
                <a:tab algn="l" pos="9279000"/>
                <a:tab algn="l" pos="10193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63600" indent="-255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049400"/>
                <a:tab algn="l" pos="1963800"/>
                <a:tab algn="l" pos="2878200"/>
                <a:tab algn="l" pos="3792600"/>
                <a:tab algn="l" pos="4707000"/>
                <a:tab algn="l" pos="5621400"/>
                <a:tab algn="l" pos="6535800"/>
                <a:tab algn="l" pos="7450200"/>
                <a:tab algn="l" pos="8364600"/>
                <a:tab algn="l" pos="9279000"/>
                <a:tab algn="l" pos="10193400"/>
                <a:tab algn="l" pos="10333080"/>
                <a:tab algn="l" pos="10782360"/>
              </a:tabLst>
            </a:pPr>
            <a:r>
              <a:rPr b="1" lang="pt-BR" sz="2600" spc="-1" strike="noStrike" u="sng">
                <a:solidFill>
                  <a:srgbClr val="000000"/>
                </a:solidFill>
                <a:uFillTx/>
                <a:latin typeface="Calibri"/>
              </a:rPr>
              <a:t>Art. 5º da LRF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reitera a necessária compatibilidade entre o PPA, a LDO e a LOA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63600" indent="-255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049400"/>
                <a:tab algn="l" pos="1963800"/>
                <a:tab algn="l" pos="2878200"/>
                <a:tab algn="l" pos="3792600"/>
                <a:tab algn="l" pos="4707000"/>
                <a:tab algn="l" pos="5621400"/>
                <a:tab algn="l" pos="6535800"/>
                <a:tab algn="l" pos="7450200"/>
                <a:tab algn="l" pos="8364600"/>
                <a:tab algn="l" pos="9279000"/>
                <a:tab algn="l" pos="10193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63600" indent="-255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049400"/>
                <a:tab algn="l" pos="1963800"/>
                <a:tab algn="l" pos="2878200"/>
                <a:tab algn="l" pos="3792600"/>
                <a:tab algn="l" pos="4707000"/>
                <a:tab algn="l" pos="5621400"/>
                <a:tab algn="l" pos="6535800"/>
                <a:tab algn="l" pos="7450200"/>
                <a:tab algn="l" pos="8364600"/>
                <a:tab algn="l" pos="9279000"/>
                <a:tab algn="l" pos="10193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7" name="Text Box 2"/>
          <p:cNvSpPr/>
          <p:nvPr/>
        </p:nvSpPr>
        <p:spPr>
          <a:xfrm>
            <a:off x="2340000" y="692280"/>
            <a:ext cx="455616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omic Sans MS"/>
                <a:ea typeface="Arial"/>
              </a:rPr>
              <a:t>FUNDAMENTOS LEGAIS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8" name="Text Box 1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19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Text Box 1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1" name="Rectangle 2"/>
          <p:cNvSpPr/>
          <p:nvPr/>
        </p:nvSpPr>
        <p:spPr>
          <a:xfrm>
            <a:off x="971640" y="1125360"/>
            <a:ext cx="694692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700" spc="-1" strike="noStrike">
                <a:solidFill>
                  <a:srgbClr val="002060"/>
                </a:solidFill>
                <a:latin typeface="Calibri Light"/>
              </a:rPr>
              <a:t>O Plano Plurianual (PPA) é o principal instrumento de planejamento de médio prazo de ações do governo, abrangendo de forma regionalizada, as diretrizes, os objetivos e as metas da administração pública para as despesas de capital e outras delas decorrentes e para as relativas aos programas de duração continuada. 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700" spc="-1" strike="noStrike">
                <a:solidFill>
                  <a:srgbClr val="002060"/>
                </a:solidFill>
                <a:latin typeface="Calibri Light"/>
              </a:rPr>
              <a:t>O PPA estabelece as medidas, gastos e objetivos a serem seguidos pelo governo ao longo de um período de quatro anos. </a:t>
            </a:r>
            <a:endParaRPr b="0" lang="en-US" sz="2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2" name="Text Box 4"/>
          <p:cNvSpPr/>
          <p:nvPr/>
        </p:nvSpPr>
        <p:spPr>
          <a:xfrm>
            <a:off x="2166840" y="333360"/>
            <a:ext cx="455616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omic Sans MS"/>
                <a:ea typeface="Arial"/>
              </a:rPr>
              <a:t>Conceituando o PP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23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Text Box 1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5" name="Text Box 4"/>
          <p:cNvSpPr/>
          <p:nvPr/>
        </p:nvSpPr>
        <p:spPr>
          <a:xfrm>
            <a:off x="2166840" y="333360"/>
            <a:ext cx="455616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omic Sans MS"/>
                <a:ea typeface="Arial"/>
              </a:rPr>
              <a:t>O QUE É O PP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6" name="Espaço Reservado para Conteúdo 2"/>
          <p:cNvSpPr/>
          <p:nvPr/>
        </p:nvSpPr>
        <p:spPr>
          <a:xfrm>
            <a:off x="201600" y="1341360"/>
            <a:ext cx="87408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Lei ordinária de iniciativa do Poder Executivo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Elaborada no primeiro ano da gestão para o ano seguinte e os próximos três subsequentes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Tem por base o plano de governo do candidato eleito chefe do Poder Executivo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entury Gothic"/>
              </a:rPr>
              <a:t>Estruturado por programas que deverão contemplar todas as despesas associadas ao atendimento de seus objetivos, ou seja, as despesas de capital e outras de caráter continuado delas decorrent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27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Text Box 1"/>
          <p:cNvSpPr/>
          <p:nvPr/>
        </p:nvSpPr>
        <p:spPr>
          <a:xfrm>
            <a:off x="179280" y="1413000"/>
            <a:ext cx="82915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rganizar em programas as ações de que resultem oferta de bens ou serviços que atendam as demandas da sociedade;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definir com clareza as metas e prioridades da administração;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estabelecer a necessária relação entre os programas a serem executados e a orientação estratégica do governo;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dar transparência à aplicação de recursos e resultados obtidos;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tear a alocação de recursos nos orçamentos anuais compatível com as metas e recursos do plano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tegrar ações desenvolvidas pela União, Estados e Município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847800" indent="-45720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9" name="Text Box 2"/>
          <p:cNvSpPr/>
          <p:nvPr/>
        </p:nvSpPr>
        <p:spPr>
          <a:xfrm>
            <a:off x="2340000" y="404640"/>
            <a:ext cx="360036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omic Sans MS"/>
                <a:ea typeface="Arial"/>
              </a:rPr>
              <a:t>OBJETIVOS DO PP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0" name="Text Box 1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31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Line 1"/>
          <p:cNvSpPr/>
          <p:nvPr/>
        </p:nvSpPr>
        <p:spPr>
          <a:xfrm>
            <a:off x="5715000" y="4648320"/>
            <a:ext cx="144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33" name="Group 2"/>
          <p:cNvGrpSpPr/>
          <p:nvPr/>
        </p:nvGrpSpPr>
        <p:grpSpPr>
          <a:xfrm>
            <a:off x="324000" y="3284640"/>
            <a:ext cx="8567280" cy="531720"/>
            <a:chOff x="324000" y="3284640"/>
            <a:chExt cx="8567280" cy="531720"/>
          </a:xfrm>
        </p:grpSpPr>
        <p:sp>
          <p:nvSpPr>
            <p:cNvPr id="2434" name="Line 3"/>
            <p:cNvSpPr/>
            <p:nvPr/>
          </p:nvSpPr>
          <p:spPr>
            <a:xfrm>
              <a:off x="398520" y="3513240"/>
              <a:ext cx="8492760" cy="0"/>
            </a:xfrm>
            <a:prstGeom prst="line">
              <a:avLst/>
            </a:prstGeom>
            <a:ln cap="sq"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5" name="Line 4"/>
            <p:cNvSpPr/>
            <p:nvPr/>
          </p:nvSpPr>
          <p:spPr>
            <a:xfrm>
              <a:off x="324000" y="3284640"/>
              <a:ext cx="0" cy="455400"/>
            </a:xfrm>
            <a:prstGeom prst="line">
              <a:avLst/>
            </a:prstGeom>
            <a:ln cap="sq"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6" name="Line 5"/>
            <p:cNvSpPr/>
            <p:nvPr/>
          </p:nvSpPr>
          <p:spPr>
            <a:xfrm>
              <a:off x="2053080" y="3284640"/>
              <a:ext cx="0" cy="455400"/>
            </a:xfrm>
            <a:prstGeom prst="line">
              <a:avLst/>
            </a:prstGeom>
            <a:ln cap="sq"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7" name="Line 6"/>
            <p:cNvSpPr/>
            <p:nvPr/>
          </p:nvSpPr>
          <p:spPr>
            <a:xfrm>
              <a:off x="3708720" y="3284640"/>
              <a:ext cx="0" cy="455400"/>
            </a:xfrm>
            <a:prstGeom prst="line">
              <a:avLst/>
            </a:prstGeom>
            <a:ln cap="sq"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8" name="Line 7"/>
            <p:cNvSpPr/>
            <p:nvPr/>
          </p:nvSpPr>
          <p:spPr>
            <a:xfrm>
              <a:off x="5361840" y="3284640"/>
              <a:ext cx="0" cy="531720"/>
            </a:xfrm>
            <a:prstGeom prst="line">
              <a:avLst/>
            </a:prstGeom>
            <a:ln cap="sq"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9" name="Line 8"/>
            <p:cNvSpPr/>
            <p:nvPr/>
          </p:nvSpPr>
          <p:spPr>
            <a:xfrm>
              <a:off x="6941520" y="3284640"/>
              <a:ext cx="0" cy="455400"/>
            </a:xfrm>
            <a:prstGeom prst="line">
              <a:avLst/>
            </a:prstGeom>
            <a:ln cap="sq"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0" name="Line 9"/>
            <p:cNvSpPr/>
            <p:nvPr/>
          </p:nvSpPr>
          <p:spPr>
            <a:xfrm>
              <a:off x="8594640" y="3284640"/>
              <a:ext cx="0" cy="455400"/>
            </a:xfrm>
            <a:prstGeom prst="line">
              <a:avLst/>
            </a:prstGeom>
            <a:ln cap="sq"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441" name="Text Box 10"/>
          <p:cNvSpPr/>
          <p:nvPr/>
        </p:nvSpPr>
        <p:spPr>
          <a:xfrm>
            <a:off x="5322960" y="2637000"/>
            <a:ext cx="152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2f5597"/>
                </a:solidFill>
                <a:latin typeface="Comic Sans MS"/>
              </a:rPr>
              <a:t>2028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2" name="Rectangle 11"/>
          <p:cNvSpPr/>
          <p:nvPr/>
        </p:nvSpPr>
        <p:spPr>
          <a:xfrm>
            <a:off x="3759120" y="261936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2f5597"/>
                </a:solidFill>
                <a:latin typeface="Comic Sans MS"/>
              </a:rPr>
              <a:t>2027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3" name="Rectangle 12"/>
          <p:cNvSpPr/>
          <p:nvPr/>
        </p:nvSpPr>
        <p:spPr>
          <a:xfrm>
            <a:off x="7176960" y="2592360"/>
            <a:ext cx="152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9933"/>
                </a:solidFill>
                <a:latin typeface="Comic Sans MS"/>
              </a:rPr>
              <a:t>2029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4" name="Rectangle 13"/>
          <p:cNvSpPr/>
          <p:nvPr/>
        </p:nvSpPr>
        <p:spPr>
          <a:xfrm>
            <a:off x="2195640" y="2637000"/>
            <a:ext cx="152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2f5597"/>
                </a:solidFill>
                <a:latin typeface="Comic Sans MS"/>
              </a:rPr>
              <a:t>202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5" name="Rectangle 14"/>
          <p:cNvSpPr/>
          <p:nvPr/>
        </p:nvSpPr>
        <p:spPr>
          <a:xfrm>
            <a:off x="468360" y="2637000"/>
            <a:ext cx="152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202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6" name="Rectangle 15"/>
          <p:cNvSpPr/>
          <p:nvPr/>
        </p:nvSpPr>
        <p:spPr>
          <a:xfrm>
            <a:off x="214200" y="44640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Comic Sans MS"/>
              </a:rPr>
              <a:t>ELABORAÇÃ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7" name="Rectangle 16"/>
          <p:cNvSpPr/>
          <p:nvPr/>
        </p:nvSpPr>
        <p:spPr>
          <a:xfrm>
            <a:off x="3759120" y="446076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2f5597"/>
                </a:solidFill>
                <a:latin typeface="Comic Sans MS"/>
              </a:rPr>
              <a:t>VIGÊNC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8" name="AutoShape 17"/>
          <p:cNvSpPr/>
          <p:nvPr/>
        </p:nvSpPr>
        <p:spPr>
          <a:xfrm rot="16140000">
            <a:off x="982440" y="3176280"/>
            <a:ext cx="455400" cy="1687320"/>
          </a:xfrm>
          <a:custGeom>
            <a:avLst/>
            <a:gdLst>
              <a:gd name="textAreaLeft" fmla="*/ 290880 w 455400"/>
              <a:gd name="textAreaRight" fmla="*/ 455760 w 455400"/>
              <a:gd name="textAreaTop" fmla="*/ 35640 h 1687320"/>
              <a:gd name="textAreaBottom" fmla="*/ 1651680 h 168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1"/>
                  <a:pt x="10800" y="1462"/>
                </a:cubicBezTo>
                <a:lnTo>
                  <a:pt x="10800" y="9338"/>
                </a:lnTo>
                <a:cubicBezTo>
                  <a:pt x="10800" y="10069"/>
                  <a:pt x="5400" y="10800"/>
                  <a:pt x="0" y="10800"/>
                </a:cubicBezTo>
                <a:cubicBezTo>
                  <a:pt x="5400" y="10800"/>
                  <a:pt x="10800" y="11531"/>
                  <a:pt x="10800" y="12262"/>
                </a:cubicBezTo>
                <a:lnTo>
                  <a:pt x="10800" y="20138"/>
                </a:lnTo>
                <a:cubicBezTo>
                  <a:pt x="10800" y="20869"/>
                  <a:pt x="16200" y="21600"/>
                  <a:pt x="21600" y="21600"/>
                </a:cubicBezTo>
              </a:path>
            </a:pathLst>
          </a:cu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9" name="AutoShape 18"/>
          <p:cNvSpPr/>
          <p:nvPr/>
        </p:nvSpPr>
        <p:spPr>
          <a:xfrm rot="16200000">
            <a:off x="5422680" y="923760"/>
            <a:ext cx="303120" cy="6326280"/>
          </a:xfrm>
          <a:custGeom>
            <a:avLst/>
            <a:gdLst>
              <a:gd name="textAreaLeft" fmla="*/ 193680 w 303120"/>
              <a:gd name="textAreaRight" fmla="*/ 303480 w 303120"/>
              <a:gd name="textAreaTop" fmla="*/ 164880 h 6326280"/>
              <a:gd name="textAreaBottom" fmla="*/ 6161400 h 632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0" name="AutoShape 19"/>
          <p:cNvSpPr/>
          <p:nvPr/>
        </p:nvSpPr>
        <p:spPr>
          <a:xfrm rot="5400000">
            <a:off x="3556080" y="-758880"/>
            <a:ext cx="304560" cy="6400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66680 h 6400800"/>
              <a:gd name="textAreaBottom" fmla="*/ 6234120 h 640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1" name="Text Box 20"/>
          <p:cNvSpPr/>
          <p:nvPr/>
        </p:nvSpPr>
        <p:spPr>
          <a:xfrm>
            <a:off x="1130400" y="1601640"/>
            <a:ext cx="525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44546a"/>
                </a:solidFill>
                <a:latin typeface="Arial"/>
              </a:rPr>
              <a:t>MANDAT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2" name="AutoShape 21"/>
          <p:cNvSpPr/>
          <p:nvPr/>
        </p:nvSpPr>
        <p:spPr>
          <a:xfrm rot="16140000">
            <a:off x="7949160" y="3794400"/>
            <a:ext cx="230040" cy="1371600"/>
          </a:xfrm>
          <a:custGeom>
            <a:avLst/>
            <a:gdLst>
              <a:gd name="textAreaLeft" fmla="*/ 146880 w 230040"/>
              <a:gd name="textAreaRight" fmla="*/ 230400 w 2300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3" name="Rectangle 22"/>
          <p:cNvSpPr/>
          <p:nvPr/>
        </p:nvSpPr>
        <p:spPr>
          <a:xfrm>
            <a:off x="6859440" y="4762440"/>
            <a:ext cx="2409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9933"/>
                </a:solidFill>
                <a:latin typeface="Comic Sans MS"/>
              </a:rPr>
              <a:t>ELABORAÇÃ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4" name="Text Box 23"/>
          <p:cNvSpPr/>
          <p:nvPr/>
        </p:nvSpPr>
        <p:spPr>
          <a:xfrm>
            <a:off x="2467800" y="836640"/>
            <a:ext cx="4105080" cy="47484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omic Sans MS"/>
                <a:ea typeface="Arial"/>
              </a:rPr>
              <a:t>Elaboração e Vigência PPA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5" name="Rectangle 24"/>
          <p:cNvSpPr/>
          <p:nvPr/>
        </p:nvSpPr>
        <p:spPr>
          <a:xfrm>
            <a:off x="36684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44546a"/>
                </a:solidFill>
                <a:latin typeface="Arial Black"/>
              </a:rPr>
              <a:t>PPA – 2026 A 2029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6" name="Text Box 25"/>
          <p:cNvSpPr/>
          <p:nvPr/>
        </p:nvSpPr>
        <p:spPr>
          <a:xfrm>
            <a:off x="1770120" y="5529240"/>
            <a:ext cx="5753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44546a"/>
                </a:solidFill>
                <a:latin typeface="Arial Rounded MT Bold"/>
              </a:rPr>
              <a:t>Elaborado no primeiro exercício de governo para vigência a partir do segundo até o primeiro ano do mandato seguinte.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7" name="Text Box 1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58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Retângulo: Cantos Arredondados 3"/>
          <p:cNvSpPr/>
          <p:nvPr/>
        </p:nvSpPr>
        <p:spPr>
          <a:xfrm>
            <a:off x="1371600" y="2349360"/>
            <a:ext cx="1701720" cy="2246400"/>
          </a:xfrm>
          <a:custGeom>
            <a:avLst/>
            <a:gdLst>
              <a:gd name="textAreaLeft" fmla="*/ 82800 w 1701720"/>
              <a:gd name="textAreaRight" fmla="*/ 1618920 w 1701720"/>
              <a:gd name="textAreaTop" fmla="*/ 82800 h 2246400"/>
              <a:gd name="textAreaBottom" fmla="*/ 2163600 h 2246400"/>
            </a:gdLst>
            <a:ahLst/>
            <a:rect l="textAreaLeft" t="textAreaTop" r="textAreaRight" b="textAreaBottom"/>
            <a:pathLst>
              <a:path w="21600" h="28512">
                <a:moveTo>
                  <a:pt x="3600" y="0"/>
                </a:moveTo>
                <a:arcTo wR="3600" hR="3600" stAng="16200000" swAng="-5400000"/>
                <a:lnTo>
                  <a:pt x="0" y="24912"/>
                </a:lnTo>
                <a:arcTo wR="3600" hR="3600" stAng="10800000" swAng="-5400000"/>
                <a:lnTo>
                  <a:pt x="18000" y="28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cap="rnd" w="15840">
            <a:solidFill>
              <a:srgbClr val="236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entury Gothic"/>
              </a:rPr>
              <a:t>PP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entury Gothic"/>
              </a:rPr>
              <a:t>PLANO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entury Gothic"/>
              </a:rPr>
              <a:t>PLURIANUAL</a:t>
            </a: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0" name="Retângulo: Cantos Arredondados 4"/>
          <p:cNvSpPr/>
          <p:nvPr/>
        </p:nvSpPr>
        <p:spPr>
          <a:xfrm>
            <a:off x="3816360" y="2349360"/>
            <a:ext cx="1719360" cy="2246400"/>
          </a:xfrm>
          <a:custGeom>
            <a:avLst/>
            <a:gdLst>
              <a:gd name="textAreaLeft" fmla="*/ 83880 w 1719360"/>
              <a:gd name="textAreaRight" fmla="*/ 1635480 w 1719360"/>
              <a:gd name="textAreaTop" fmla="*/ 83880 h 2246400"/>
              <a:gd name="textAreaBottom" fmla="*/ 2162520 h 2246400"/>
            </a:gdLst>
            <a:ahLst/>
            <a:rect l="textAreaLeft" t="textAreaTop" r="textAreaRight" b="textAreaBottom"/>
            <a:pathLst>
              <a:path w="21600" h="28220">
                <a:moveTo>
                  <a:pt x="3600" y="0"/>
                </a:moveTo>
                <a:arcTo wR="3600" hR="3600" stAng="16200000" swAng="-5400000"/>
                <a:lnTo>
                  <a:pt x="0" y="24620"/>
                </a:lnTo>
                <a:arcTo wR="3600" hR="3600" stAng="10800000" swAng="-5400000"/>
                <a:lnTo>
                  <a:pt x="18000" y="282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eb4e3"/>
          </a:solidFill>
          <a:ln cap="rnd" w="15840">
            <a:solidFill>
              <a:srgbClr val="236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entury Gothic"/>
              </a:rPr>
              <a:t>LDO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entury Gothic"/>
              </a:rPr>
              <a:t>LEI D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entury Gothic"/>
              </a:rPr>
              <a:t>DIRETRIZ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entury Gothic"/>
              </a:rPr>
              <a:t>ORÇAMENTÁRIA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1" name="Retângulo: Cantos Arredondados 5"/>
          <p:cNvSpPr/>
          <p:nvPr/>
        </p:nvSpPr>
        <p:spPr>
          <a:xfrm>
            <a:off x="6261120" y="2349360"/>
            <a:ext cx="1663560" cy="2246400"/>
          </a:xfrm>
          <a:custGeom>
            <a:avLst/>
            <a:gdLst>
              <a:gd name="textAreaLeft" fmla="*/ 81000 w 1663560"/>
              <a:gd name="textAreaRight" fmla="*/ 1582560 w 1663560"/>
              <a:gd name="textAreaTop" fmla="*/ 81000 h 2246400"/>
              <a:gd name="textAreaBottom" fmla="*/ 2165400 h 2246400"/>
            </a:gdLst>
            <a:ahLst/>
            <a:rect l="textAreaLeft" t="textAreaTop" r="textAreaRight" b="textAreaBottom"/>
            <a:pathLst>
              <a:path w="21600" h="29166">
                <a:moveTo>
                  <a:pt x="3600" y="0"/>
                </a:moveTo>
                <a:arcTo wR="3600" hR="3600" stAng="16200000" swAng="-5400000"/>
                <a:lnTo>
                  <a:pt x="0" y="25566"/>
                </a:lnTo>
                <a:arcTo wR="3600" hR="3600" stAng="10800000" swAng="-5400000"/>
                <a:lnTo>
                  <a:pt x="18000" y="29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bbb59"/>
          </a:solidFill>
          <a:ln cap="rnd" w="15840">
            <a:solidFill>
              <a:srgbClr val="236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entury Gothic"/>
              </a:rPr>
              <a:t>LO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entury Gothic"/>
              </a:rPr>
              <a:t>LEI ORÇAMENTÁRIA ANUA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2" name="Seta: para a Direita 6"/>
          <p:cNvSpPr/>
          <p:nvPr/>
        </p:nvSpPr>
        <p:spPr>
          <a:xfrm>
            <a:off x="3176640" y="3225960"/>
            <a:ext cx="534960" cy="40608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b9cde5"/>
          </a:solidFill>
          <a:ln cap="rnd" w="15840">
            <a:solidFill>
              <a:srgbClr val="236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1774800" y="93240"/>
            <a:ext cx="5802480" cy="787320"/>
          </a:xfrm>
          <a:prstGeom prst="rect">
            <a:avLst/>
          </a:prstGeom>
          <a:solidFill>
            <a:srgbClr val="2e75b6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omic Sans MS"/>
                <a:ea typeface="Arial"/>
              </a:rPr>
              <a:t>INSTRUMENTOS DE PLANEJAMENTO</a:t>
            </a:r>
            <a:endParaRPr b="0" lang="en-US" sz="2500" spc="-1" strike="noStrike">
              <a:solidFill>
                <a:srgbClr val="953735"/>
              </a:solidFill>
              <a:latin typeface="Century Gothic"/>
            </a:endParaRPr>
          </a:p>
        </p:txBody>
      </p:sp>
      <p:sp>
        <p:nvSpPr>
          <p:cNvPr id="2464" name="Seta: para a Direita 6"/>
          <p:cNvSpPr/>
          <p:nvPr/>
        </p:nvSpPr>
        <p:spPr>
          <a:xfrm>
            <a:off x="5638680" y="3200400"/>
            <a:ext cx="536760" cy="40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b9cde5"/>
          </a:solidFill>
          <a:ln cap="rnd" w="15840">
            <a:solidFill>
              <a:srgbClr val="236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5" name="CaixaDeTexto 1"/>
          <p:cNvSpPr/>
          <p:nvPr/>
        </p:nvSpPr>
        <p:spPr>
          <a:xfrm>
            <a:off x="3287880" y="14842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7f7f7f"/>
                </a:solidFill>
                <a:latin typeface="Comic Sans MS"/>
              </a:rPr>
              <a:t>COMPATIBILIDAD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6" name="Text Box 1"/>
          <p:cNvSpPr/>
          <p:nvPr/>
        </p:nvSpPr>
        <p:spPr>
          <a:xfrm>
            <a:off x="2340000" y="6381720"/>
            <a:ext cx="4538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Equipe de Elaboração do PPA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67" name="Picture 6" descr=""/>
          <p:cNvPicPr/>
          <p:nvPr/>
        </p:nvPicPr>
        <p:blipFill>
          <a:blip r:embed="rId1"/>
          <a:stretch/>
        </p:blipFill>
        <p:spPr>
          <a:xfrm>
            <a:off x="8061480" y="176040"/>
            <a:ext cx="946080" cy="51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8:56:21Z</dcterms:created>
  <dc:creator>Liliane Maria Novaes</dc:creator>
  <dc:description/>
  <dc:language>en-US</dc:language>
  <cp:lastModifiedBy>Adeline Poleza</cp:lastModifiedBy>
  <cp:lastPrinted>2017-05-30T14:04:38Z</cp:lastPrinted>
  <dcterms:modified xsi:type="dcterms:W3CDTF">2025-05-29T21:44:35Z</dcterms:modified>
  <cp:revision>356</cp:revision>
  <dc:subject>CURSO PPA</dc:subject>
  <dc:title>PPA</dc:title>
</cp:coreProperties>
</file>