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E65-08B3-49F5-96D6-49C0873C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798-7E31-444F-954C-EF34A0A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0D7-9B4E-4948-890E-166A29C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C0F-FAD6-4917-BEBC-47CE4F46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EB3-DC4D-43E9-88D7-C613ED9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4AD-C9D4-4925-96FC-8281132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CBC-190E-46DC-87FC-B7BF2EA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3D5-ACFC-4E5E-8157-86337DC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E26-858A-48A5-BA65-72A6556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F62-9E54-42FA-8612-E20D190F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C59-26ED-40AA-9173-44E4A77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CEB-3233-49BE-BF7E-C2542A7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3D5-8C26-4D1A-8B7A-9310EA1198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c.sc.gov.br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34648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1"/>
          <p:cNvSpPr/>
          <p:nvPr/>
        </p:nvSpPr>
        <p:spPr>
          <a:xfrm>
            <a:off x="6335640" y="4497480"/>
            <a:ext cx="555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Calibri"/>
                <a:ea typeface="Arial"/>
              </a:rPr>
              <a:t>23%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Gráfico 5" descr=""/>
          <p:cNvPicPr/>
          <p:nvPr/>
        </p:nvPicPr>
        <p:blipFill>
          <a:blip r:embed="rId2"/>
          <a:stretch/>
        </p:blipFill>
        <p:spPr>
          <a:xfrm>
            <a:off x="2471760" y="1292400"/>
            <a:ext cx="7602480" cy="3549600"/>
          </a:xfrm>
          <a:prstGeom prst="rect">
            <a:avLst/>
          </a:prstGeom>
          <a:ln w="0">
            <a:noFill/>
          </a:ln>
        </p:spPr>
      </p:pic>
      <p:sp>
        <p:nvSpPr>
          <p:cNvPr id="83" name="CaixaDeTexto 1"/>
          <p:cNvSpPr/>
          <p:nvPr/>
        </p:nvSpPr>
        <p:spPr>
          <a:xfrm>
            <a:off x="6486480" y="3954600"/>
            <a:ext cx="405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"/>
          <p:cNvPicPr/>
          <p:nvPr/>
        </p:nvPicPr>
        <p:blipFill>
          <a:blip r:embed="rId1"/>
          <a:stretch/>
        </p:blipFill>
        <p:spPr>
          <a:xfrm>
            <a:off x="77760" y="2376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890800" y="4468680"/>
          <a:ext cx="6872400" cy="941400"/>
        </p:xfrm>
        <a:graphic>
          <a:graphicData uri="http://schemas.openxmlformats.org/drawingml/2006/table">
            <a:tbl>
              <a:tblPr/>
              <a:tblGrid>
                <a:gridCol w="1487520"/>
                <a:gridCol w="1347840"/>
                <a:gridCol w="1339920"/>
                <a:gridCol w="1385640"/>
                <a:gridCol w="1311480"/>
              </a:tblGrid>
              <a:tr h="384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5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572.9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62.7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814.3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824.3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70.0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6" name="CaixaDeTexto 3"/>
          <p:cNvSpPr/>
          <p:nvPr/>
        </p:nvSpPr>
        <p:spPr>
          <a:xfrm>
            <a:off x="1916280" y="5635800"/>
            <a:ext cx="882000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Os impostos e taxas representam 45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%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 do valor total  arrecadado n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27280" y="232920"/>
            <a:ext cx="94996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Impostos e Taxas Arrecadados  –</a:t>
            </a:r>
            <a:br>
              <a:rPr sz="3800"/>
            </a:b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Janeiro a Abril/2023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Gráfico 6" descr=""/>
          <p:cNvPicPr/>
          <p:nvPr/>
        </p:nvPicPr>
        <p:blipFill>
          <a:blip r:embed="rId2"/>
          <a:stretch/>
        </p:blipFill>
        <p:spPr>
          <a:xfrm>
            <a:off x="1627200" y="927000"/>
            <a:ext cx="850428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Gráfico 7" descr=""/>
          <p:cNvPicPr/>
          <p:nvPr/>
        </p:nvPicPr>
        <p:blipFill>
          <a:blip r:embed="rId3"/>
          <a:stretch/>
        </p:blipFill>
        <p:spPr>
          <a:xfrm>
            <a:off x="1403280" y="968400"/>
            <a:ext cx="938376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6680" y="169560"/>
            <a:ext cx="88264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3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CaixaDeTexto 5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s correntes (liquidada): R$ 100.721.8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8"/>
          <p:cNvSpPr/>
          <p:nvPr/>
        </p:nvSpPr>
        <p:spPr>
          <a:xfrm>
            <a:off x="3298320" y="5319720"/>
            <a:ext cx="5141520" cy="36828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83,22%  do valor estimado para o perí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68400" y="1677960"/>
          <a:ext cx="838692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7480"/>
                <a:gridCol w="2041560"/>
                <a:gridCol w="1987560"/>
              </a:tblGrid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.394.561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.839.4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.555.1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726.6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48.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.678.65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.121.2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887.4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1.233.7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33" descr=""/>
          <p:cNvPicPr/>
          <p:nvPr/>
        </p:nvPicPr>
        <p:blipFill>
          <a:blip r:embed="rId2"/>
          <a:stretch/>
        </p:blipFill>
        <p:spPr>
          <a:xfrm>
            <a:off x="9504360" y="4659480"/>
            <a:ext cx="211608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6" descr=""/>
          <p:cNvPicPr/>
          <p:nvPr/>
        </p:nvPicPr>
        <p:blipFill>
          <a:blip r:embed="rId1"/>
          <a:stretch/>
        </p:blipFill>
        <p:spPr>
          <a:xfrm>
            <a:off x="11160" y="111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62280" y="0"/>
            <a:ext cx="7092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43160" y="1311120"/>
          <a:ext cx="8715240" cy="4507200"/>
        </p:xfrm>
        <a:graphic>
          <a:graphicData uri="http://schemas.openxmlformats.org/drawingml/2006/table">
            <a:tbl>
              <a:tblPr/>
              <a:tblGrid>
                <a:gridCol w="3530520"/>
                <a:gridCol w="1711440"/>
                <a:gridCol w="880920"/>
                <a:gridCol w="1701720"/>
                <a:gridCol w="890640"/>
              </a:tblGrid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 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2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.394.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.839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427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697.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.168.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5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91.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497.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278.6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726.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48.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425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40.9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26.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307.0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.121.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887.4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99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2"/>
          <a:stretch/>
        </p:blipFill>
        <p:spPr>
          <a:xfrm>
            <a:off x="10058400" y="119160"/>
            <a:ext cx="1739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06400" y="213840"/>
            <a:ext cx="633564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1º Quadrimestre – por exercício – despesa realiz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MODALIDADE DE APLICAÇÃO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73280" y="1465200"/>
          <a:ext cx="8628120" cy="4489560"/>
        </p:xfrm>
        <a:graphic>
          <a:graphicData uri="http://schemas.openxmlformats.org/drawingml/2006/table">
            <a:tbl>
              <a:tblPr/>
              <a:tblGrid>
                <a:gridCol w="3382920"/>
                <a:gridCol w="1747800"/>
                <a:gridCol w="1749600"/>
                <a:gridCol w="1747800"/>
              </a:tblGrid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.474.4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392.9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.168.8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7.3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94.2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91.95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808.7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.098.3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278.6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71.7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80.8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40.9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6.1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35.0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51.5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307.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417.2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.553.9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887.4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58640" y="301320"/>
            <a:ext cx="709308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03480" y="1112760"/>
          <a:ext cx="5335560" cy="4988160"/>
        </p:xfrm>
        <a:graphic>
          <a:graphicData uri="http://schemas.openxmlformats.org/drawingml/2006/table">
            <a:tbl>
              <a:tblPr/>
              <a:tblGrid>
                <a:gridCol w="2351160"/>
                <a:gridCol w="1476360"/>
                <a:gridCol w="1508040"/>
              </a:tblGrid>
              <a:tr h="252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.703.5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9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97.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4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6.936.0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1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.197.5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2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865.3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4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.634.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3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4.605.1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4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081.3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2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5.867.4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8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37.1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2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80.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.893.6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9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.929.9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,9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413.1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71.1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4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273.2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8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.194.0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,7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02.887.4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1560" y="317520"/>
            <a:ext cx="87408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3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58960" y="2235240"/>
          <a:ext cx="7583400" cy="2998800"/>
        </p:xfrm>
        <a:graphic>
          <a:graphicData uri="http://schemas.openxmlformats.org/drawingml/2006/table">
            <a:tbl>
              <a:tblPr/>
              <a:tblGrid>
                <a:gridCol w="2746440"/>
                <a:gridCol w="2508120"/>
                <a:gridCol w="2328840"/>
              </a:tblGrid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.485.211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4.144.806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.121.228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887.437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8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363.9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257.3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6" descr=""/>
          <p:cNvPicPr/>
          <p:nvPr/>
        </p:nvPicPr>
        <p:blipFill>
          <a:blip r:embed="rId2"/>
          <a:stretch/>
        </p:blipFill>
        <p:spPr>
          <a:xfrm>
            <a:off x="9342360" y="325440"/>
            <a:ext cx="2206800" cy="1405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3"/>
          <a:stretch/>
        </p:blipFill>
        <p:spPr>
          <a:xfrm>
            <a:off x="9504360" y="3757680"/>
            <a:ext cx="23814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087640" y="1787400"/>
            <a:ext cx="7762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2700" spc="-1" strike="noStrike">
                <a:solidFill>
                  <a:srgbClr val="00b0f0"/>
                </a:solidFill>
                <a:latin typeface="Tahoma"/>
                <a:ea typeface="Arial"/>
              </a:rPr>
              <a:t>R$ 1.259.355.56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REALIZADA ATÉ ABRIL DE 202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ff9900"/>
                </a:solidFill>
                <a:latin typeface="Tahoma"/>
                <a:ea typeface="Arial"/>
              </a:rPr>
              <a:t>R$ 1.260.959.46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AJUSTADA ATÉ ABRIL DE 202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548235"/>
                </a:solidFill>
                <a:latin typeface="Tahoma"/>
                <a:ea typeface="Arial"/>
              </a:rPr>
              <a:t>R$ 1.257.015.87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36840" y="603360"/>
            <a:ext cx="80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Meta 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3" descr=""/>
          <p:cNvPicPr/>
          <p:nvPr/>
        </p:nvPicPr>
        <p:blipFill>
          <a:blip r:embed="rId2"/>
          <a:stretch/>
        </p:blipFill>
        <p:spPr>
          <a:xfrm>
            <a:off x="9917280" y="375768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063800" y="2128680"/>
          <a:ext cx="8356320" cy="2919600"/>
        </p:xfrm>
        <a:graphic>
          <a:graphicData uri="http://schemas.openxmlformats.org/drawingml/2006/table">
            <a:tbl>
              <a:tblPr/>
              <a:tblGrid>
                <a:gridCol w="2538360"/>
                <a:gridCol w="1998720"/>
                <a:gridCol w="1909440"/>
                <a:gridCol w="1909800"/>
              </a:tblGrid>
              <a:tr h="5382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4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861.26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63.7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668.8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74.0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922.0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34.6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87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741.6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34.2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122" name="Elipse 4"/>
          <p:cNvSpPr/>
          <p:nvPr/>
        </p:nvSpPr>
        <p:spPr>
          <a:xfrm>
            <a:off x="9588600" y="2540160"/>
            <a:ext cx="2381040" cy="1777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$ 740 milhõ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 </a:t>
            </a: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(acima da linh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66800" y="1689120"/>
          <a:ext cx="8377200" cy="1179360"/>
        </p:xfrm>
        <a:graphic>
          <a:graphicData uri="http://schemas.openxmlformats.org/drawingml/2006/table">
            <a:tbl>
              <a:tblPr/>
              <a:tblGrid>
                <a:gridCol w="4686480"/>
                <a:gridCol w="3690720"/>
              </a:tblGrid>
              <a:tr h="56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165.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396.73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792440" y="4427640"/>
          <a:ext cx="8251560" cy="1017360"/>
        </p:xfrm>
        <a:graphic>
          <a:graphicData uri="http://schemas.openxmlformats.org/drawingml/2006/table">
            <a:tbl>
              <a:tblPr/>
              <a:tblGrid>
                <a:gridCol w="4616280"/>
                <a:gridCol w="3635280"/>
              </a:tblGrid>
              <a:tr h="48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723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.473.7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3"/>
          <p:cNvSpPr/>
          <p:nvPr/>
        </p:nvSpPr>
        <p:spPr>
          <a:xfrm>
            <a:off x="1392120" y="3429000"/>
            <a:ext cx="85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</a:t>
            </a: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1500" spc="-1" strike="noStrike">
                <a:solidFill>
                  <a:srgbClr val="002060"/>
                </a:solidFill>
                <a:latin typeface="Calibri"/>
              </a:rPr>
              <a:t>(abaixo da linh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3" descr=""/>
          <p:cNvPicPr/>
          <p:nvPr/>
        </p:nvPicPr>
        <p:blipFill>
          <a:blip r:embed="rId2"/>
          <a:stretch/>
        </p:blipFill>
        <p:spPr>
          <a:xfrm>
            <a:off x="9861480" y="299880"/>
            <a:ext cx="1968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1279080"/>
            <a:ext cx="9553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19/05/202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1º Quadrimestre de 2023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30200" y="1585800"/>
          <a:ext cx="9063000" cy="3387960"/>
        </p:xfrm>
        <a:graphic>
          <a:graphicData uri="http://schemas.openxmlformats.org/drawingml/2006/table">
            <a:tbl>
              <a:tblPr/>
              <a:tblGrid>
                <a:gridCol w="4097520"/>
                <a:gridCol w="1673280"/>
                <a:gridCol w="1736640"/>
                <a:gridCol w="1555560"/>
              </a:tblGrid>
              <a:tr h="725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40.2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765.4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905.7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77.3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94.4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5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73.1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404.9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778.1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0/04/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9.9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83.1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33.13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39720" y="366840"/>
            <a:ext cx="7672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68600" y="1935000"/>
          <a:ext cx="8337240" cy="3829320"/>
        </p:xfrm>
        <a:graphic>
          <a:graphicData uri="http://schemas.openxmlformats.org/drawingml/2006/table">
            <a:tbl>
              <a:tblPr/>
              <a:tblGrid>
                <a:gridCol w="5460840"/>
                <a:gridCol w="2876400"/>
              </a:tblGrid>
              <a:tr h="530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9.430.65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1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25%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857.66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176.81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08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812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EM 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.867.45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24" descr=""/>
          <p:cNvPicPr/>
          <p:nvPr/>
        </p:nvPicPr>
        <p:blipFill>
          <a:blip r:embed="rId2"/>
          <a:stretch/>
        </p:blipFill>
        <p:spPr>
          <a:xfrm>
            <a:off x="9786960" y="23652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58880" y="1903320"/>
          <a:ext cx="8237520" cy="3471840"/>
        </p:xfrm>
        <a:graphic>
          <a:graphicData uri="http://schemas.openxmlformats.org/drawingml/2006/table">
            <a:tbl>
              <a:tblPr/>
              <a:tblGrid>
                <a:gridCol w="5861160"/>
                <a:gridCol w="2376360"/>
              </a:tblGrid>
              <a:tr h="65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ANTERIOR – DEZ 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.523.9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RRECADAÇÃO + RENDIM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36.956.3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DESPESAS PA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33.330.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FINANCEIRO 30/04/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5.150.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% APLIC EM PESSOAL MAGISTÉRIO (Mínimo de 7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,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39" name="Picture 107" descr="MCj04348100000[1]"/>
          <p:cNvPicPr/>
          <p:nvPr/>
        </p:nvPicPr>
        <p:blipFill>
          <a:blip r:embed="rId2"/>
          <a:stretch/>
        </p:blipFill>
        <p:spPr>
          <a:xfrm rot="1902600">
            <a:off x="10815120" y="1441440"/>
            <a:ext cx="1109880" cy="110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"/>
          <p:cNvPicPr/>
          <p:nvPr/>
        </p:nvPicPr>
        <p:blipFill>
          <a:blip r:embed="rId3"/>
          <a:stretch/>
        </p:blipFill>
        <p:spPr>
          <a:xfrm>
            <a:off x="8682120" y="142920"/>
            <a:ext cx="2428920" cy="1666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3" descr=""/>
          <p:cNvPicPr/>
          <p:nvPr/>
        </p:nvPicPr>
        <p:blipFill>
          <a:blip r:embed="rId4"/>
          <a:stretch/>
        </p:blipFill>
        <p:spPr>
          <a:xfrm>
            <a:off x="10018800" y="4930920"/>
            <a:ext cx="14335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m 6" descr=""/>
          <p:cNvPicPr/>
          <p:nvPr/>
        </p:nvPicPr>
        <p:blipFill>
          <a:blip r:embed="rId1"/>
          <a:stretch/>
        </p:blipFill>
        <p:spPr>
          <a:xfrm>
            <a:off x="0" y="666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65240" y="1996920"/>
          <a:ext cx="7674120" cy="347508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9.424.04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913.60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  1º Quad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.194.28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6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537.09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"/>
          <p:cNvPicPr/>
          <p:nvPr/>
        </p:nvPicPr>
        <p:blipFill>
          <a:blip r:embed="rId3"/>
          <a:stretch/>
        </p:blipFill>
        <p:spPr>
          <a:xfrm>
            <a:off x="9917280" y="375768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Execu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25600" y="1427040"/>
          <a:ext cx="9529560" cy="3286080"/>
        </p:xfrm>
        <a:graphic>
          <a:graphicData uri="http://schemas.openxmlformats.org/drawingml/2006/table">
            <a:tbl>
              <a:tblPr/>
              <a:tblGrid>
                <a:gridCol w="6900840"/>
                <a:gridCol w="2628720"/>
              </a:tblGrid>
              <a:tr h="8193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257.015.87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7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8,08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604.396.3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682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644.849.14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48,6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610.909.71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0" name="Picture 18" descr=""/>
          <p:cNvPicPr/>
          <p:nvPr/>
        </p:nvPicPr>
        <p:blipFill>
          <a:blip r:embed="rId2"/>
          <a:stretch/>
        </p:blipFill>
        <p:spPr>
          <a:xfrm>
            <a:off x="9462960" y="338040"/>
            <a:ext cx="1576440" cy="725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"/>
          <p:cNvPicPr/>
          <p:nvPr/>
        </p:nvPicPr>
        <p:blipFill>
          <a:blip r:embed="rId3"/>
          <a:stretch/>
        </p:blipFill>
        <p:spPr>
          <a:xfrm>
            <a:off x="8778960" y="4740120"/>
            <a:ext cx="1968480" cy="12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Legisla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3760" y="1419120"/>
          <a:ext cx="9139320" cy="3286080"/>
        </p:xfrm>
        <a:graphic>
          <a:graphicData uri="http://schemas.openxmlformats.org/drawingml/2006/table">
            <a:tbl>
              <a:tblPr/>
              <a:tblGrid>
                <a:gridCol w="6618240"/>
                <a:gridCol w="2521080"/>
              </a:tblGrid>
              <a:tr h="81936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.257.015.87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7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,4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8.775.04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682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,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649.90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5,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878.85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5" name="Picture 18" descr=""/>
          <p:cNvPicPr/>
          <p:nvPr/>
        </p:nvPicPr>
        <p:blipFill>
          <a:blip r:embed="rId2"/>
          <a:stretch/>
        </p:blipFill>
        <p:spPr>
          <a:xfrm>
            <a:off x="9937800" y="338040"/>
            <a:ext cx="1576440" cy="72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3" descr=""/>
          <p:cNvPicPr/>
          <p:nvPr/>
        </p:nvPicPr>
        <p:blipFill>
          <a:blip r:embed="rId3"/>
          <a:stretch/>
        </p:blipFill>
        <p:spPr>
          <a:xfrm>
            <a:off x="8236080" y="491652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ixaDeTexto 1"/>
          <p:cNvSpPr/>
          <p:nvPr/>
        </p:nvSpPr>
        <p:spPr>
          <a:xfrm>
            <a:off x="3305160" y="4749840"/>
            <a:ext cx="42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% DC SOBRE A RCL AJUSTADA = 13,9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65280" y="1593720"/>
          <a:ext cx="7772400" cy="2868840"/>
        </p:xfrm>
        <a:graphic>
          <a:graphicData uri="http://schemas.openxmlformats.org/drawingml/2006/table">
            <a:tbl>
              <a:tblPr/>
              <a:tblGrid>
                <a:gridCol w="5653080"/>
                <a:gridCol w="2119320"/>
              </a:tblGrid>
              <a:tr h="1005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0/04/202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924.4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2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ívi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05.1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129.5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61" name="CaixaDeTexto 3"/>
          <p:cNvSpPr/>
          <p:nvPr/>
        </p:nvSpPr>
        <p:spPr>
          <a:xfrm>
            <a:off x="3267000" y="5383080"/>
            <a:ext cx="4518000" cy="368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mite definido pelo Senado  = 120,00% da R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3" descr=""/>
          <p:cNvPicPr/>
          <p:nvPr/>
        </p:nvPicPr>
        <p:blipFill>
          <a:blip r:embed="rId2"/>
          <a:stretch/>
        </p:blipFill>
        <p:spPr>
          <a:xfrm>
            <a:off x="7927920" y="4835520"/>
            <a:ext cx="1968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3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39880" y="4260960"/>
          <a:ext cx="8690040" cy="164916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4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(0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9.8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201.529.1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66" name="Retângulo de cantos arredondados 3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No 1º Quadrimestre de 2023 foram liberados recursos de Operações de Crédito o valor de R$ 9.800, conforme contratos já assinad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08160" y="1571760"/>
            <a:ext cx="10077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3400" spc="-1" strike="noStrike">
                <a:solidFill>
                  <a:srgbClr val="002060"/>
                </a:solidFill>
                <a:latin typeface="Calibri"/>
              </a:rPr>
              <a:t>Diário Oficial dos Municípi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aixaDeTexto 1"/>
          <p:cNvSpPr/>
          <p:nvPr/>
        </p:nvSpPr>
        <p:spPr>
          <a:xfrm>
            <a:off x="1853280" y="4765680"/>
            <a:ext cx="39052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Publicações serão feitas até 30/05/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825560" y="444600"/>
            <a:ext cx="82692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1º Quadrimestre de 2023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AGRADECEMOS SUA ATEN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Imagem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74" name="CaixaDeTexto 1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-11304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681200" y="1000080"/>
            <a:ext cx="9101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LC 101/2000 - LR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 4° - Até o final dos meses de </a:t>
            </a:r>
            <a:r>
              <a:rPr b="1" lang="pt-BR" sz="2700" spc="-1" strike="noStrike" u="sng">
                <a:solidFill>
                  <a:srgbClr val="ff0000"/>
                </a:solidFill>
                <a:uFillTx/>
                <a:latin typeface="Calibri Light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, setembro e fevereiro,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48 - São instrumentos de transparências: RREO e RGF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1º Inc. I - A transparência será assegurada... incentivo à participação popular e realização de audiências públicas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579320" y="496692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84280" y="1195560"/>
            <a:ext cx="8969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Maior transparência dos ato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socied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e compreensão dos resultados obti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 – RREO e RGF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66720" y="3179880"/>
          <a:ext cx="2684520" cy="100476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178600" y="5081760"/>
          <a:ext cx="2135160" cy="1149120"/>
        </p:xfrm>
        <a:graphic>
          <a:graphicData uri="http://schemas.openxmlformats.org/drawingml/2006/table">
            <a:tbl>
              <a:tblPr/>
              <a:tblGrid>
                <a:gridCol w="2135160"/>
              </a:tblGrid>
              <a:tr h="114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240760" y="3067200"/>
          <a:ext cx="2684520" cy="104760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4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27640" y="1236600"/>
          <a:ext cx="1836720" cy="89712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830680"/>
          </a:xfrm>
          <a:prstGeom prst="pie">
            <a:avLst/>
          </a:prstGeom>
          <a:solidFill>
            <a:srgbClr val="333f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REO 2 Bi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FG 1 Quad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9144000" y="17938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R$ 161.036.201,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9001080" y="2828880"/>
            <a:ext cx="2343240" cy="119124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 9,09% acima do valor esperado para o quad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44600" y="2079720"/>
          <a:ext cx="7246800" cy="2876400"/>
        </p:xfrm>
        <a:graphic>
          <a:graphicData uri="http://schemas.openxmlformats.org/drawingml/2006/table">
            <a:tbl>
              <a:tblPr/>
              <a:tblGrid>
                <a:gridCol w="2043000"/>
                <a:gridCol w="1984680"/>
                <a:gridCol w="1581120"/>
                <a:gridCol w="163800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.264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.241.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977.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14.4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05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1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706.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397.8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91.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.485.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4.144.8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659.5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4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2"/>
          <a:stretch/>
        </p:blipFill>
        <p:spPr>
          <a:xfrm>
            <a:off x="9169560" y="328680"/>
            <a:ext cx="2031840" cy="113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3"/>
          <a:stretch/>
        </p:blipFill>
        <p:spPr>
          <a:xfrm>
            <a:off x="7945560" y="4956120"/>
            <a:ext cx="17017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-42840"/>
            <a:ext cx="10515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36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67160" y="1157400"/>
          <a:ext cx="7034040" cy="4543200"/>
        </p:xfrm>
        <a:graphic>
          <a:graphicData uri="http://schemas.openxmlformats.org/drawingml/2006/table">
            <a:tbl>
              <a:tblPr/>
              <a:tblGrid>
                <a:gridCol w="2546280"/>
                <a:gridCol w="2498760"/>
                <a:gridCol w="1989000"/>
              </a:tblGrid>
              <a:tr h="76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.1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70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7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.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4.14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6" descr=""/>
          <p:cNvPicPr/>
          <p:nvPr/>
        </p:nvPicPr>
        <p:blipFill>
          <a:blip r:embed="rId1"/>
          <a:stretch/>
        </p:blipFill>
        <p:spPr>
          <a:xfrm>
            <a:off x="22320" y="648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573480" y="648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Gráfico 6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sp>
        <p:nvSpPr>
          <p:cNvPr id="74" name="Explosão 1 2"/>
          <p:cNvSpPr/>
          <p:nvPr/>
        </p:nvSpPr>
        <p:spPr>
          <a:xfrm>
            <a:off x="8820000" y="1133640"/>
            <a:ext cx="2908440" cy="2692080"/>
          </a:xfrm>
          <a:prstGeom prst="irregularSeal1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c55a11"/>
                </a:solidFill>
                <a:latin typeface="Calibri"/>
              </a:rPr>
              <a:t>Valor realizado foi acima da linha de tendência para o exercício de 202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áfico 9" descr=""/>
          <p:cNvPicPr/>
          <p:nvPr/>
        </p:nvPicPr>
        <p:blipFill>
          <a:blip r:embed="rId3"/>
          <a:stretch/>
        </p:blipFill>
        <p:spPr>
          <a:xfrm>
            <a:off x="1000080" y="1779480"/>
            <a:ext cx="78199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6480" y="0"/>
            <a:ext cx="8221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- 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3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06560" y="868320"/>
          <a:ext cx="8116920" cy="4935600"/>
        </p:xfrm>
        <a:graphic>
          <a:graphicData uri="http://schemas.openxmlformats.org/drawingml/2006/table">
            <a:tbl>
              <a:tblPr/>
              <a:tblGrid>
                <a:gridCol w="5349960"/>
                <a:gridCol w="1806480"/>
                <a:gridCol w="960480"/>
              </a:tblGrid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Taxas e Contrib melhori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746.1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887.7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469.9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968.3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984.3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o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78.5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19.7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 / Es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Transf. Instituições Privadas, Pessoas e Multi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.14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64.3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15.9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09.4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98.2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multas diversas,  indenizações, restituições e aport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77.0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CEITA ARRECAD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4.144.8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Liliane Maria Novaes</cp:lastModifiedBy>
  <cp:lastPrinted>2017-05-25T12:03:44Z</cp:lastPrinted>
  <dcterms:modified xsi:type="dcterms:W3CDTF">2023-05-19T20:36:12Z</dcterms:modified>
  <cp:revision>341</cp:revision>
  <dc:subject/>
  <dc:title>Apresentação do PowerPoint</dc:title>
</cp:coreProperties>
</file>