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03AB-008C-4458-8344-07F57CEFD78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8B03-3FC9-4A92-9F0B-492D9A7EC62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AS TRNASFERENCIAS TEM FPM, ICMS, E DEMAIS TRANSFERENCIAS – NÃO QUER DIZER PROPRIO OU VINCUL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8C4C-C8E2-47C0-9400-60F57FBA180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AEFE-9EA9-48F8-A1EE-5C38B3EE0887}" type="slidenum">
              <a:rPr b="0" lang="pt-B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EITO EM FORMA DE ESCADA REPRESENTANDO A FORMA DE ALCANÇAR A 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3DE4-71C8-4EF4-BD04-E0F4947F3F8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5151-4BEA-47A5-B7BE-2E65E244334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E562-839E-404B-9484-4BC3E9BAACB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19C-8571-44FD-A3DA-B5C868FA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65C-18FE-421E-B1BE-B99E2A1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ED2-7591-4B54-93A0-C3F1A84C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80C-E114-4784-90AB-DBA9A1A7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113-371C-407B-A71E-466DE3C4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2C9-0633-4DE0-8ADA-BE522437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997-9EDE-4581-AA85-D35CAF83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3A3-EAEA-45D1-95CE-53CE7F7C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3E6-843A-46E6-B8ED-F4CB0339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061-39CB-474B-B2D0-DD2580C7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C7D-66C1-4741-AD97-58F983B5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BB9-E013-46C0-B9F6-7FF429C3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240D-857F-4922-98DC-5EB3A856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78C9-9915-459C-BB19-53D4D288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1BE8-4F09-4F61-970A-20156457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E31A-2723-49AC-8CFC-2791EAB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5E5B-2634-4D19-BE12-00593277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B5E8-8625-428B-ADA9-45A80877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545A-6AFC-4945-9BA2-0DF08509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EFEC-8678-40FF-8E5F-31C50553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636C-E725-41E3-8CA7-116DF8A7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4DFD-A914-48B9-9E37-839569CC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DC0D-682A-494D-AFBE-7405EFA0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F7DA-394C-43F4-BB42-2ED29BB0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0B9C-7752-4FD8-9341-6BFA6656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E05B2-15C1-47B6-8737-428EDC19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E3E2-BCA9-4DEC-A51D-358049A6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4608-03F0-4FD8-AF4B-A77BE421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43DB-7462-4312-BC91-AB6F185A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0808-74EA-4812-8F62-78281715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E38E-7196-47B7-B82A-6C985EF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640F-D0D6-476B-AD60-7613FAFD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4FF3-8854-428B-8319-3A82AC77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0869-DEE7-4ACF-A105-C43FD3CA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C11E-D632-4CA4-A8D4-32EFDD2E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7582-EDA9-435E-9E45-F409986D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A5E7-7452-4AA8-90BE-AD099F5C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86E2-489D-4470-B243-E972C388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E0800-B3A6-41F6-B747-75F61608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8A0C0-02CB-46EE-87CC-AE05FC80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1B791-3B14-4553-ABB6-3A0CC95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11AE-6B35-4758-B368-0CD2C4E4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7EBD-B784-401D-A7B6-152EBF7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EF2E-3132-4DD5-B0E1-BBA89BD3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A8629-2EE1-44C2-81D5-7359E916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6952-B03B-4203-A6B4-0EDFC57B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0602-C9FE-414C-B8CC-182E9804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F566-3D10-4862-9302-7C490B0A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39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40" name="Imagem 4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Imagem 5" descr=""/>
          <p:cNvPicPr/>
          <p:nvPr/>
        </p:nvPicPr>
        <p:blipFill>
          <a:blip r:embed="rId5"/>
          <a:stretch/>
        </p:blipFill>
        <p:spPr>
          <a:xfrm>
            <a:off x="1787400" y="2503440"/>
            <a:ext cx="5569200" cy="21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Imagem 4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Imagem 5" descr=""/>
          <p:cNvPicPr/>
          <p:nvPr/>
        </p:nvPicPr>
        <p:blipFill>
          <a:blip r:embed="rId5"/>
          <a:stretch/>
        </p:blipFill>
        <p:spPr>
          <a:xfrm>
            <a:off x="6319800" y="5649840"/>
            <a:ext cx="2414520" cy="928800"/>
          </a:xfrm>
          <a:prstGeom prst="rect">
            <a:avLst/>
          </a:prstGeom>
          <a:ln w="0">
            <a:noFill/>
          </a:ln>
        </p:spPr>
      </p:pic>
      <p:sp>
        <p:nvSpPr>
          <p:cNvPr id="82" name="Conector reto 5"/>
          <p:cNvSpPr/>
          <p:nvPr/>
        </p:nvSpPr>
        <p:spPr>
          <a:xfrm>
            <a:off x="0" y="5322960"/>
            <a:ext cx="9128160" cy="1260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Imagem 4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5" descr=""/>
          <p:cNvPicPr/>
          <p:nvPr/>
        </p:nvPicPr>
        <p:blipFill>
          <a:blip r:embed="rId5"/>
          <a:stretch/>
        </p:blipFill>
        <p:spPr>
          <a:xfrm>
            <a:off x="1079640" y="3780000"/>
            <a:ext cx="2414520" cy="92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60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B79D-64F2-4E9A-859D-6689A85BFE7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02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3AF0-3BB9-478A-A6C4-4D0292669F1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46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58BF-C612-48C9-8148-8256BBACBB7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88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0818-15C5-4653-BE1E-DFF579F3835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992160" y="4292280"/>
            <a:ext cx="7129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b3838"/>
                </a:solidFill>
                <a:latin typeface="Bookman Old Style"/>
              </a:rPr>
              <a:t>LEI DE DIRETRIZ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b3838"/>
                </a:solidFill>
                <a:latin typeface="Bookman Old Style"/>
              </a:rPr>
              <a:t> </a:t>
            </a:r>
            <a:r>
              <a:rPr b="0" lang="pt-BR" sz="4000" spc="-1" strike="noStrike">
                <a:solidFill>
                  <a:srgbClr val="3b3838"/>
                </a:solidFill>
                <a:latin typeface="Bookman Old Style"/>
              </a:rPr>
              <a:t>ORÇAMENTÁR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Bookman Old Style"/>
              </a:rPr>
              <a:t>2 0 2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5689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800" spc="-1" strike="noStrike">
                <a:solidFill>
                  <a:srgbClr val="000000"/>
                </a:solidFill>
                <a:latin typeface="Arial Black"/>
              </a:rPr>
              <a:t>AUDIÊNCIA PÚBLICA</a:t>
            </a:r>
            <a:br>
              <a:rPr sz="5500"/>
            </a:br>
            <a:r>
              <a:rPr b="1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01/08/2022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2301480" y="112680"/>
            <a:ext cx="45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NICÍPIO DE BALNEÁRIO CAMBORI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pital Catarinense do Tu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270036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6769080" cy="6206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RECEITA “OUTRAS FONTES”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826920" y="1123920"/>
          <a:ext cx="7561440" cy="3117960"/>
        </p:xfrm>
        <a:graphic>
          <a:graphicData uri="http://schemas.openxmlformats.org/drawingml/2006/table">
            <a:tbl>
              <a:tblPr/>
              <a:tblGrid>
                <a:gridCol w="4523040"/>
                <a:gridCol w="1876320"/>
                <a:gridCol w="1162080"/>
              </a:tblGrid>
              <a:tr h="628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A UNIÃ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910.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8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O 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1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O FUND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ÕES DE CRÉD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7.040.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</a:tbl>
          </a:graphicData>
        </a:graphic>
      </p:graphicFrame>
      <p:sp>
        <p:nvSpPr>
          <p:cNvPr id="381" name="CaixaDeTexto 3"/>
          <p:cNvSpPr/>
          <p:nvPr/>
        </p:nvSpPr>
        <p:spPr>
          <a:xfrm>
            <a:off x="1351440" y="5087880"/>
            <a:ext cx="6795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ceitas “Outras Fontes” representam  27,52% do valor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1025640" y="343080"/>
            <a:ext cx="7200720" cy="10076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Saiba mais sobre a Receita do Municíp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 explicativo em elipse 4"/>
          <p:cNvSpPr/>
          <p:nvPr/>
        </p:nvSpPr>
        <p:spPr>
          <a:xfrm>
            <a:off x="7866000" y="3486240"/>
            <a:ext cx="1258920" cy="757080"/>
          </a:xfrm>
          <a:prstGeom prst="wedgeEllipseCallout">
            <a:avLst>
              <a:gd name="adj1" fmla="val -83541"/>
              <a:gd name="adj2" fmla="val 68314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f5597"/>
                </a:solidFill>
                <a:latin typeface="Calibri"/>
              </a:rPr>
              <a:t>61,51% </a:t>
            </a:r>
            <a:r>
              <a:rPr b="1" lang="pt-BR" sz="1000" spc="-1" strike="noStrike">
                <a:solidFill>
                  <a:srgbClr val="2f5597"/>
                </a:solidFill>
                <a:latin typeface="Calibri"/>
              </a:rPr>
              <a:t>do total de receitas previs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lipse 2"/>
          <p:cNvSpPr/>
          <p:nvPr/>
        </p:nvSpPr>
        <p:spPr>
          <a:xfrm>
            <a:off x="2754360" y="4797360"/>
            <a:ext cx="3743280" cy="1152720"/>
          </a:xfrm>
          <a:prstGeom prst="ellipse">
            <a:avLst/>
          </a:prstGeom>
          <a:solidFill>
            <a:srgbClr val="ffe88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4546a"/>
                </a:solidFill>
                <a:latin typeface="Calibri"/>
              </a:rPr>
              <a:t>61,51% do orçamento é composto p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4546a"/>
                </a:solidFill>
                <a:latin typeface="Calibri"/>
              </a:rPr>
              <a:t>recursos vincu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aixaDeTexto 3"/>
          <p:cNvSpPr/>
          <p:nvPr/>
        </p:nvSpPr>
        <p:spPr>
          <a:xfrm>
            <a:off x="1763640" y="1557360"/>
            <a:ext cx="59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ribuição da Receita de Recursos Ordinários e FUND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016000" y="2235240"/>
          <a:ext cx="5399280" cy="1946160"/>
        </p:xfrm>
        <a:graphic>
          <a:graphicData uri="http://schemas.openxmlformats.org/drawingml/2006/table">
            <a:tbl>
              <a:tblPr/>
              <a:tblGrid>
                <a:gridCol w="3240360"/>
                <a:gridCol w="215892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ção 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2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0 – Recursos Ordiná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7,2 milh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100 – Impostos 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,2 milhõ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200 – Impostos 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,3 milh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800 – FUNDEB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0 milhõ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,7 milh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389" name="CaixaDeTexto 5"/>
          <p:cNvSpPr/>
          <p:nvPr/>
        </p:nvSpPr>
        <p:spPr>
          <a:xfrm>
            <a:off x="2001240" y="4254480"/>
            <a:ext cx="45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FUNDEB: utilizado exclusivamente para pagamento de despesas de pesso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36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3b3838"/>
                </a:solidFill>
                <a:latin typeface="Arial"/>
              </a:rPr>
              <a:t>ESTIMATIVA DAS RECEITAS</a:t>
            </a:r>
            <a:br>
              <a:rPr sz="4000"/>
            </a:br>
            <a:r>
              <a:rPr b="1" lang="pt-BR" sz="1800" spc="-1" strike="noStrike">
                <a:solidFill>
                  <a:srgbClr val="3b3838"/>
                </a:solidFill>
                <a:latin typeface="Calibri Light"/>
              </a:rPr>
              <a:t>POR ENTIDADE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258920" y="1341360"/>
          <a:ext cx="6626160" cy="4506840"/>
        </p:xfrm>
        <a:graphic>
          <a:graphicData uri="http://schemas.openxmlformats.org/drawingml/2006/table">
            <a:tbl>
              <a:tblPr/>
              <a:tblGrid>
                <a:gridCol w="2760480"/>
                <a:gridCol w="2051280"/>
                <a:gridCol w="1814400"/>
              </a:tblGrid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FEITU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5.888.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3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F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51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MTU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FUNSERV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33.419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9.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64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FM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47.381.0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5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.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64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BC TÂNS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1.627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392" name="Seta para a direita 1"/>
          <p:cNvSpPr/>
          <p:nvPr/>
        </p:nvSpPr>
        <p:spPr>
          <a:xfrm>
            <a:off x="8018640" y="5302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36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3b3838"/>
                </a:solidFill>
                <a:latin typeface="Arial"/>
              </a:rPr>
              <a:t>ESTIMATIVA DAS RECEITAS</a:t>
            </a:r>
            <a:br>
              <a:rPr sz="4000"/>
            </a:br>
            <a:r>
              <a:rPr b="1" lang="pt-BR" sz="1800" spc="-1" strike="noStrike">
                <a:solidFill>
                  <a:srgbClr val="3b3838"/>
                </a:solidFill>
                <a:latin typeface="Calibri Light"/>
              </a:rPr>
              <a:t>POR ENTIDADE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332000" y="1341360"/>
          <a:ext cx="6480000" cy="4535640"/>
        </p:xfrm>
        <a:graphic>
          <a:graphicData uri="http://schemas.openxmlformats.org/drawingml/2006/table">
            <a:tbl>
              <a:tblPr/>
              <a:tblGrid>
                <a:gridCol w="2560680"/>
                <a:gridCol w="2239920"/>
                <a:gridCol w="1679400"/>
              </a:tblGrid>
              <a:tr h="574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D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7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FURB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15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7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D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7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FCB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1.145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88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PREV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308.5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36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EMA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117.306.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5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MPRES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5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9.128.2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100800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CONDIÇÕES PARA ATINGIR A</a:t>
            </a:r>
            <a:br>
              <a:rPr sz="3300"/>
            </a:b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 META DA RECEIT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96" name="Diagrama 2" descr=""/>
          <p:cNvPicPr/>
          <p:nvPr/>
        </p:nvPicPr>
        <p:blipFill>
          <a:blip r:embed="rId1"/>
          <a:stretch/>
        </p:blipFill>
        <p:spPr>
          <a:xfrm>
            <a:off x="463680" y="1987560"/>
            <a:ext cx="8418240" cy="360216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174312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5640" y="1557000"/>
            <a:ext cx="7086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7200" spc="-1" strike="noStrike">
                <a:solidFill>
                  <a:srgbClr val="3b3838"/>
                </a:solidFill>
                <a:latin typeface="Calibri Light"/>
              </a:rPr>
              <a:t>METAS DE DESPESAS</a:t>
            </a:r>
            <a:br>
              <a:rPr sz="7200"/>
            </a:b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Aplicação dos Recurso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619280" y="2095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 D O - 20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0102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Calibri Light"/>
              </a:rPr>
              <a:t>EVOLUÇÃO DAS DESPESA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CaixaDeTexto 1"/>
          <p:cNvSpPr/>
          <p:nvPr/>
        </p:nvSpPr>
        <p:spPr>
          <a:xfrm>
            <a:off x="1190880" y="573732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Previ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971640" y="765000"/>
          <a:ext cx="7272360" cy="4915080"/>
        </p:xfrm>
        <a:graphic>
          <a:graphicData uri="http://schemas.openxmlformats.org/drawingml/2006/table">
            <a:tbl>
              <a:tblPr/>
              <a:tblGrid>
                <a:gridCol w="1409760"/>
                <a:gridCol w="2046240"/>
                <a:gridCol w="1942920"/>
                <a:gridCol w="1873440"/>
              </a:tblGrid>
              <a:tr h="104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TAÇÃO ATUALIZ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EXECU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EXECUTADO EM RELAÇÃO AO FIX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.566.5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.991.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9.175.7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6.477.0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141.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713.6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.168.3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.044.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5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55.700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5.323.7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6.402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2.540.0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3.665.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2.629.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9.128.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12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Calibri Light"/>
              </a:rPr>
              <a:t>DESPESAS POR GRUPO - LDO 2023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826920" y="1341360"/>
          <a:ext cx="7417080" cy="3959280"/>
        </p:xfrm>
        <a:graphic>
          <a:graphicData uri="http://schemas.openxmlformats.org/drawingml/2006/table">
            <a:tbl>
              <a:tblPr/>
              <a:tblGrid>
                <a:gridCol w="3940200"/>
                <a:gridCol w="2240280"/>
                <a:gridCol w="1236600"/>
              </a:tblGrid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5.3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4.4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.228.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7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ERAL LÍQU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9.128.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406" name="CaixaDeTexto 1"/>
          <p:cNvSpPr/>
          <p:nvPr/>
        </p:nvSpPr>
        <p:spPr>
          <a:xfrm>
            <a:off x="853200" y="5270400"/>
            <a:ext cx="569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Despesas com investimentos ainda em análise, podendo sofrer variações até a entrega do PL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4680" y="189000"/>
            <a:ext cx="639288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 Light"/>
              </a:rPr>
              <a:t>COMPARATIVO DOS INVESTIMENTOS</a:t>
            </a:r>
            <a:br>
              <a:rPr sz="2300"/>
            </a:br>
            <a:r>
              <a:rPr b="1" lang="pt-BR" sz="2300" spc="-1" strike="noStrike">
                <a:solidFill>
                  <a:srgbClr val="000000"/>
                </a:solidFill>
                <a:latin typeface="Calibri Light"/>
              </a:rPr>
              <a:t>EM RELAÇÃO A DESPESA TOTAL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826920" y="1073160"/>
          <a:ext cx="7632720" cy="4587840"/>
        </p:xfrm>
        <a:graphic>
          <a:graphicData uri="http://schemas.openxmlformats.org/drawingml/2006/table">
            <a:tbl>
              <a:tblPr/>
              <a:tblGrid>
                <a:gridCol w="1479600"/>
                <a:gridCol w="2082960"/>
                <a:gridCol w="2104920"/>
                <a:gridCol w="1965240"/>
              </a:tblGrid>
              <a:tr h="834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INVESTIM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A DESPE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E INVESTIM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8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.9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5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1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6.47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3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7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1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.0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96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.5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6.4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8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3.6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9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59.6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DEFINI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3.1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CaixaDeTexto 4"/>
          <p:cNvSpPr/>
          <p:nvPr/>
        </p:nvSpPr>
        <p:spPr>
          <a:xfrm>
            <a:off x="6529320" y="76500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alores em mil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aixaDeTexto 1"/>
          <p:cNvSpPr/>
          <p:nvPr/>
        </p:nvSpPr>
        <p:spPr>
          <a:xfrm>
            <a:off x="1139760" y="5732640"/>
            <a:ext cx="570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Anos de 2022 e 2023 são valores de p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ram excluídos da despesa total prevista os valor de reserva de contingência e reserva do RP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696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 Light"/>
              </a:rPr>
              <a:t>Comparativo entre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 Light"/>
              </a:rPr>
              <a:t> RECEITAS e DESPESAS EXECUTADA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826920" y="1484280"/>
          <a:ext cx="7705800" cy="3781440"/>
        </p:xfrm>
        <a:graphic>
          <a:graphicData uri="http://schemas.openxmlformats.org/drawingml/2006/table">
            <a:tbl>
              <a:tblPr/>
              <a:tblGrid>
                <a:gridCol w="2065680"/>
                <a:gridCol w="1971360"/>
                <a:gridCol w="2106720"/>
                <a:gridCol w="1562040"/>
              </a:tblGrid>
              <a:tr h="82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 EXECUT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41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7.067.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.991.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076.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6.310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.477.0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833.0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.767.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7.713.6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053.8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6.551.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.044.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506.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3.043.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1.748.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295.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3.885.7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6.402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82.9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4.866.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23.665.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200.4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Espaço Reservado para Conteúdo 1" descr=""/>
          <p:cNvPicPr/>
          <p:nvPr/>
        </p:nvPicPr>
        <p:blipFill>
          <a:blip r:embed="rId1"/>
          <a:stretch/>
        </p:blipFill>
        <p:spPr>
          <a:xfrm>
            <a:off x="682560" y="981000"/>
            <a:ext cx="7802640" cy="5280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1225440" y="34920"/>
            <a:ext cx="67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LDO - Fundamentos Leg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57360" y="333360"/>
            <a:ext cx="5958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 Light"/>
              </a:rPr>
              <a:t>ÍNDICES DE APLICAÇÕES ESTIMADOS PARA 202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77760" y="1773360"/>
          <a:ext cx="7429680" cy="2705040"/>
        </p:xfrm>
        <a:graphic>
          <a:graphicData uri="http://schemas.openxmlformats.org/drawingml/2006/table">
            <a:tbl>
              <a:tblPr/>
              <a:tblGrid>
                <a:gridCol w="2657520"/>
                <a:gridCol w="4772160"/>
              </a:tblGrid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Ú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%  Receita de Impos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EDU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30% Receita de Impos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sp>
        <p:nvSpPr>
          <p:cNvPr id="415" name="Text Box 31"/>
          <p:cNvSpPr/>
          <p:nvPr/>
        </p:nvSpPr>
        <p:spPr>
          <a:xfrm>
            <a:off x="1258920" y="4724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Índices poderão sofrer alterações até o envio do PL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57000" y="333360"/>
            <a:ext cx="6327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 Light"/>
              </a:rPr>
              <a:t>Verificação do Art. 167-A CF </a:t>
            </a:r>
            <a:r>
              <a:rPr b="1" lang="pt-BR" sz="3500" spc="-1" strike="noStrike">
                <a:solidFill>
                  <a:srgbClr val="000000"/>
                </a:solidFill>
                <a:latin typeface="Calibri Light"/>
              </a:rPr>
              <a:t>(Emenda 109/2021)</a:t>
            </a:r>
            <a:br>
              <a:rPr sz="3500"/>
            </a:br>
            <a:r>
              <a:rPr b="1" lang="pt-BR" sz="1500" spc="-1" strike="noStrike">
                <a:solidFill>
                  <a:srgbClr val="000000"/>
                </a:solidFill>
                <a:latin typeface="Calibri Light"/>
              </a:rPr>
              <a:t>Relação entre receita e despesa corrente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835280" y="2852640"/>
          <a:ext cx="5689440" cy="1162080"/>
        </p:xfrm>
        <a:graphic>
          <a:graphicData uri="http://schemas.openxmlformats.org/drawingml/2006/table">
            <a:tbl>
              <a:tblPr/>
              <a:tblGrid>
                <a:gridCol w="2536560"/>
                <a:gridCol w="2360880"/>
                <a:gridCol w="792000"/>
              </a:tblGrid>
              <a:tr h="771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CORREN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 CORREN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23.008.2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49.100.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1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</a:tr>
            </a:tbl>
          </a:graphicData>
        </a:graphic>
      </p:graphicFrame>
      <p:sp>
        <p:nvSpPr>
          <p:cNvPr id="420" name="CaixaDeTexto 3"/>
          <p:cNvSpPr/>
          <p:nvPr/>
        </p:nvSpPr>
        <p:spPr>
          <a:xfrm>
            <a:off x="1811160" y="456084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ordo com a legislação a Despesa 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deve ultrapassar a 95% da Receita Corr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71280" y="1125000"/>
            <a:ext cx="7086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PROPOSTA DE INVESTIMENTOS</a:t>
            </a:r>
            <a:br>
              <a:rPr sz="7200"/>
            </a:b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PARA 2023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upo 5"/>
          <p:cNvGrpSpPr/>
          <p:nvPr/>
        </p:nvGrpSpPr>
        <p:grpSpPr>
          <a:xfrm>
            <a:off x="468360" y="28440"/>
            <a:ext cx="7775640" cy="812880"/>
            <a:chOff x="468360" y="28440"/>
            <a:chExt cx="7775640" cy="812880"/>
          </a:xfrm>
        </p:grpSpPr>
        <p:sp>
          <p:nvSpPr>
            <p:cNvPr id="423" name="Retângulo de cantos arredondados 6"/>
            <p:cNvSpPr/>
            <p:nvPr/>
          </p:nvSpPr>
          <p:spPr>
            <a:xfrm>
              <a:off x="468360" y="28440"/>
              <a:ext cx="7775640" cy="7225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tângulo 7"/>
            <p:cNvSpPr/>
            <p:nvPr/>
          </p:nvSpPr>
          <p:spPr>
            <a:xfrm>
              <a:off x="538200" y="28440"/>
              <a:ext cx="77058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ABINETE DO PREFEITO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5" name=""/>
          <p:cNvGraphicFramePr/>
          <p:nvPr/>
        </p:nvGraphicFramePr>
        <p:xfrm>
          <a:off x="466560" y="911160"/>
          <a:ext cx="7777440" cy="4908600"/>
        </p:xfrm>
        <a:graphic>
          <a:graphicData uri="http://schemas.openxmlformats.org/drawingml/2006/table">
            <a:tbl>
              <a:tblPr/>
              <a:tblGrid>
                <a:gridCol w="814680"/>
                <a:gridCol w="6962760"/>
              </a:tblGrid>
              <a:tr h="3096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apropriações Previstas em L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e Melhorias do Prédio da Procuradoria Juríd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28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à Entidades Representativas de Class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o Prefe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5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Rateio do Consórcio CIM - AMF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o Vice Prefe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78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. da Sec. de Articulação Governam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6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asa dos Conselh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rocuradoria Ger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4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s de Precatórios e Sentenças Judici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6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mpanhas de Utilidade Pública e Institucion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4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ivisão de Comunicaçã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Junta de Serviço Milita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upo 3"/>
          <p:cNvGrpSpPr/>
          <p:nvPr/>
        </p:nvGrpSpPr>
        <p:grpSpPr>
          <a:xfrm>
            <a:off x="324000" y="115920"/>
            <a:ext cx="8351640" cy="593640"/>
            <a:chOff x="324000" y="115920"/>
            <a:chExt cx="8351640" cy="593640"/>
          </a:xfrm>
        </p:grpSpPr>
        <p:sp>
          <p:nvSpPr>
            <p:cNvPr id="427" name="Retângulo de cantos arredondados 4"/>
            <p:cNvSpPr/>
            <p:nvPr/>
          </p:nvSpPr>
          <p:spPr>
            <a:xfrm>
              <a:off x="324000" y="115920"/>
              <a:ext cx="8351640" cy="5936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tângulo 5"/>
            <p:cNvSpPr/>
            <p:nvPr/>
          </p:nvSpPr>
          <p:spPr>
            <a:xfrm>
              <a:off x="361800" y="144360"/>
              <a:ext cx="82756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ESTÃO ADMINISTRATIV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9" name=""/>
          <p:cNvGraphicFramePr/>
          <p:nvPr/>
        </p:nvGraphicFramePr>
        <p:xfrm>
          <a:off x="395280" y="836640"/>
          <a:ext cx="8064360" cy="4968720"/>
        </p:xfrm>
        <a:graphic>
          <a:graphicData uri="http://schemas.openxmlformats.org/drawingml/2006/table">
            <a:tbl>
              <a:tblPr/>
              <a:tblGrid>
                <a:gridCol w="566640"/>
                <a:gridCol w="7497720"/>
              </a:tblGrid>
              <a:tr h="225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ao PASEP - PM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- PM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- Legislativ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do Paço Municip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Estrutura Física do Data Center do Paço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e Modernização da Estrutura Física do D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e Área do Cemitério e Construção de Novos Blocos Vertic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Gestão Administrativa e Fiscal do Município (PNAFM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Sec. de Gestão Administrativ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rotocolo e Expedient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68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Gestão de Pesso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- Ger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ão Alimentação aos Servidores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 e Proteção do Trabalhador - SES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atrimônio Público e Serviç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Cemitério Público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Logística e Operaçõ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68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e Inovação em Tecnologia da Inform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Divisão de 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upo 5"/>
          <p:cNvGrpSpPr/>
          <p:nvPr/>
        </p:nvGrpSpPr>
        <p:grpSpPr>
          <a:xfrm>
            <a:off x="627120" y="189000"/>
            <a:ext cx="7889760" cy="679320"/>
            <a:chOff x="627120" y="189000"/>
            <a:chExt cx="7889760" cy="679320"/>
          </a:xfrm>
        </p:grpSpPr>
        <p:sp>
          <p:nvSpPr>
            <p:cNvPr id="431" name="Retângulo de cantos arredondados 6"/>
            <p:cNvSpPr/>
            <p:nvPr/>
          </p:nvSpPr>
          <p:spPr>
            <a:xfrm>
              <a:off x="627120" y="189000"/>
              <a:ext cx="7889760" cy="679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tângulo 7"/>
            <p:cNvSpPr/>
            <p:nvPr/>
          </p:nvSpPr>
          <p:spPr>
            <a:xfrm>
              <a:off x="725400" y="222120"/>
              <a:ext cx="7637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pt-BR" sz="3600" spc="-1" strike="noStrike">
                  <a:solidFill>
                    <a:srgbClr val="ffffff"/>
                  </a:solidFill>
                  <a:latin typeface="Calibri"/>
                </a:rPr>
                <a:t>FAZEND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3" name=""/>
          <p:cNvGraphicFramePr/>
          <p:nvPr/>
        </p:nvGraphicFramePr>
        <p:xfrm>
          <a:off x="1042920" y="1125360"/>
          <a:ext cx="7201080" cy="4032360"/>
        </p:xfrm>
        <a:graphic>
          <a:graphicData uri="http://schemas.openxmlformats.org/drawingml/2006/table">
            <a:tbl>
              <a:tblPr/>
              <a:tblGrid>
                <a:gridCol w="52560"/>
                <a:gridCol w="582480"/>
                <a:gridCol w="6566040"/>
              </a:tblGrid>
              <a:tr h="3556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tização e Encargos Da Dívida Públ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odernização do Sistema de Administração Fazendária (PM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a S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CON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4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ívida Ativ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Arrecadação e Tribut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scalização e Proc. Fisc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adastro Fazendári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4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ontabilidade e Financeir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CaixaDeTexto 9"/>
          <p:cNvSpPr/>
          <p:nvPr/>
        </p:nvSpPr>
        <p:spPr>
          <a:xfrm>
            <a:off x="357840" y="779400"/>
            <a:ext cx="1197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FA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55640" y="1120680"/>
          <a:ext cx="6662880" cy="4810320"/>
        </p:xfrm>
        <a:graphic>
          <a:graphicData uri="http://schemas.openxmlformats.org/drawingml/2006/table">
            <a:tbl>
              <a:tblPr/>
              <a:tblGrid>
                <a:gridCol w="53280"/>
                <a:gridCol w="539280"/>
                <a:gridCol w="6070320"/>
              </a:tblGrid>
              <a:tr h="300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os Núcleos de Ed. Infant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Parques Infantis para os NEI'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ormatização e Inovação Tecnológica - Ed. Infant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Mobiliários para os N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s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Infantil - Crech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ouchers Escolares -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ré Esco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Pré Escol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Infantil - Pré Esco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ducação Infantil - Pré Escol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Pré Escol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36" name="Retângulo de cantos arredondados 8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CaixaDeTexto 2"/>
          <p:cNvSpPr/>
          <p:nvPr/>
        </p:nvSpPr>
        <p:spPr>
          <a:xfrm>
            <a:off x="1968120" y="8568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CaixaDeTexto 9"/>
          <p:cNvSpPr/>
          <p:nvPr/>
        </p:nvSpPr>
        <p:spPr>
          <a:xfrm>
            <a:off x="357120" y="766800"/>
            <a:ext cx="2016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57120" y="1268280"/>
          <a:ext cx="7383600" cy="4705560"/>
        </p:xfrm>
        <a:graphic>
          <a:graphicData uri="http://schemas.openxmlformats.org/drawingml/2006/table">
            <a:tbl>
              <a:tblPr/>
              <a:tblGrid>
                <a:gridCol w="53280"/>
                <a:gridCol w="598320"/>
                <a:gridCol w="6732000"/>
              </a:tblGrid>
              <a:tr h="3366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as Unidades Escolares (CEM'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a Escola do Amanhã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Parques Infantis para os CEM'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ormatização e Inovação Tecnológica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as fachadas das unidades escolares com identidade vis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e Quadras Escola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4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ouchers Escolares – Ensino Fundam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40" name="Retângulo de cantos arredondados 8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aixaDeTexto 10"/>
          <p:cNvSpPr/>
          <p:nvPr/>
        </p:nvSpPr>
        <p:spPr>
          <a:xfrm>
            <a:off x="1968840" y="8568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CaixaDeTexto 9"/>
          <p:cNvSpPr/>
          <p:nvPr/>
        </p:nvSpPr>
        <p:spPr>
          <a:xfrm>
            <a:off x="353160" y="836640"/>
            <a:ext cx="24544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OVENS E ADU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aixaDeTexto 10"/>
          <p:cNvSpPr/>
          <p:nvPr/>
        </p:nvSpPr>
        <p:spPr>
          <a:xfrm>
            <a:off x="361440" y="2890800"/>
            <a:ext cx="12978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CaixaDeTexto 11"/>
          <p:cNvSpPr/>
          <p:nvPr/>
        </p:nvSpPr>
        <p:spPr>
          <a:xfrm>
            <a:off x="359280" y="5191200"/>
            <a:ext cx="9306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39840" y="5632560"/>
          <a:ext cx="6661080" cy="576000"/>
        </p:xfrm>
        <a:graphic>
          <a:graphicData uri="http://schemas.openxmlformats.org/drawingml/2006/table">
            <a:tbl>
              <a:tblPr/>
              <a:tblGrid>
                <a:gridCol w="53280"/>
                <a:gridCol w="538920"/>
                <a:gridCol w="6068880"/>
              </a:tblGrid>
              <a:tr h="2887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nsino Méd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357120" y="1290600"/>
          <a:ext cx="6735960" cy="1274760"/>
        </p:xfrm>
        <a:graphic>
          <a:graphicData uri="http://schemas.openxmlformats.org/drawingml/2006/table">
            <a:tbl>
              <a:tblPr/>
              <a:tblGrid>
                <a:gridCol w="53280"/>
                <a:gridCol w="543960"/>
                <a:gridCol w="6138720"/>
              </a:tblGrid>
              <a:tr h="3189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EJ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CE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o CE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353880" y="3421080"/>
          <a:ext cx="6661440" cy="1606680"/>
        </p:xfrm>
        <a:graphic>
          <a:graphicData uri="http://schemas.openxmlformats.org/drawingml/2006/table">
            <a:tbl>
              <a:tblPr/>
              <a:tblGrid>
                <a:gridCol w="53280"/>
                <a:gridCol w="539280"/>
                <a:gridCol w="6068880"/>
              </a:tblGrid>
              <a:tr h="2682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Educação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Educação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Educação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stalação e Manutenção do Centro de Atendimento Especializ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Espe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48" name="Retângulo de cantos arredondados 13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aixaDeTexto 14"/>
          <p:cNvSpPr/>
          <p:nvPr/>
        </p:nvSpPr>
        <p:spPr>
          <a:xfrm>
            <a:off x="1968120" y="8568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upo 5"/>
          <p:cNvGrpSpPr/>
          <p:nvPr/>
        </p:nvGrpSpPr>
        <p:grpSpPr>
          <a:xfrm>
            <a:off x="453960" y="115920"/>
            <a:ext cx="8264520" cy="542880"/>
            <a:chOff x="453960" y="115920"/>
            <a:chExt cx="8264520" cy="542880"/>
          </a:xfrm>
        </p:grpSpPr>
        <p:sp>
          <p:nvSpPr>
            <p:cNvPr id="451" name="Retângulo de cantos arredondados 6"/>
            <p:cNvSpPr/>
            <p:nvPr/>
          </p:nvSpPr>
          <p:spPr>
            <a:xfrm>
              <a:off x="453960" y="115920"/>
              <a:ext cx="8259840" cy="542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tângulo 7"/>
            <p:cNvSpPr/>
            <p:nvPr/>
          </p:nvSpPr>
          <p:spPr>
            <a:xfrm>
              <a:off x="515520" y="142920"/>
              <a:ext cx="8202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DUCAÇÃO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CaixaDeTexto 9"/>
          <p:cNvSpPr/>
          <p:nvPr/>
        </p:nvSpPr>
        <p:spPr>
          <a:xfrm>
            <a:off x="488520" y="824040"/>
            <a:ext cx="19576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A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CaixaDeTexto 10"/>
          <p:cNvSpPr/>
          <p:nvPr/>
        </p:nvSpPr>
        <p:spPr>
          <a:xfrm>
            <a:off x="452880" y="3789360"/>
            <a:ext cx="37742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 DA SECRET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53960" y="1341360"/>
          <a:ext cx="6534360" cy="2160720"/>
        </p:xfrm>
        <a:graphic>
          <a:graphicData uri="http://schemas.openxmlformats.org/drawingml/2006/table">
            <a:tbl>
              <a:tblPr/>
              <a:tblGrid>
                <a:gridCol w="53280"/>
                <a:gridCol w="528120"/>
                <a:gridCol w="5952960"/>
              </a:tblGrid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 de Educação Multi Ma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Contra Turno Escola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o CEA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453960" y="4192560"/>
          <a:ext cx="6534360" cy="1727280"/>
        </p:xfrm>
        <a:graphic>
          <a:graphicData uri="http://schemas.openxmlformats.org/drawingml/2006/table">
            <a:tbl>
              <a:tblPr/>
              <a:tblGrid>
                <a:gridCol w="53280"/>
                <a:gridCol w="528120"/>
                <a:gridCol w="5952960"/>
              </a:tblGrid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amento dos Indicadores do ID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a Inteligência Emocional na Esc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5"/>
          <p:cNvSpPr/>
          <p:nvPr/>
        </p:nvSpPr>
        <p:spPr>
          <a:xfrm>
            <a:off x="1547640" y="2142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Espaço Reservado para Conteúdo 4" descr=""/>
          <p:cNvPicPr/>
          <p:nvPr/>
        </p:nvPicPr>
        <p:blipFill>
          <a:blip r:embed="rId1"/>
          <a:stretch/>
        </p:blipFill>
        <p:spPr>
          <a:xfrm>
            <a:off x="590400" y="1139760"/>
            <a:ext cx="795024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upo 10"/>
          <p:cNvGrpSpPr/>
          <p:nvPr/>
        </p:nvGrpSpPr>
        <p:grpSpPr>
          <a:xfrm>
            <a:off x="468360" y="115920"/>
            <a:ext cx="8207280" cy="603360"/>
            <a:chOff x="468360" y="115920"/>
            <a:chExt cx="8207280" cy="603360"/>
          </a:xfrm>
        </p:grpSpPr>
        <p:sp>
          <p:nvSpPr>
            <p:cNvPr id="458" name="Retângulo de cantos arredondados 11"/>
            <p:cNvSpPr/>
            <p:nvPr/>
          </p:nvSpPr>
          <p:spPr>
            <a:xfrm>
              <a:off x="468360" y="115920"/>
              <a:ext cx="8207280" cy="6033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tângulo 12"/>
            <p:cNvSpPr/>
            <p:nvPr/>
          </p:nvSpPr>
          <p:spPr>
            <a:xfrm>
              <a:off x="500040" y="145800"/>
              <a:ext cx="81439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OBRAS e SERVIÇO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0" name=""/>
          <p:cNvGraphicFramePr/>
          <p:nvPr/>
        </p:nvGraphicFramePr>
        <p:xfrm>
          <a:off x="455760" y="907920"/>
          <a:ext cx="6534000" cy="5042160"/>
        </p:xfrm>
        <a:graphic>
          <a:graphicData uri="http://schemas.openxmlformats.org/drawingml/2006/table">
            <a:tbl>
              <a:tblPr/>
              <a:tblGrid>
                <a:gridCol w="53280"/>
                <a:gridCol w="527760"/>
                <a:gridCol w="5952960"/>
              </a:tblGrid>
              <a:tr h="3603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Maquinários para Secretaria de Obr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vimentação, Ampliação e Reurbanização de Ruas e Avenid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da Rede de Iluminação Públ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s Públicos de Laz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Sec. de Obr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aisagism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Limpeza Urban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o Sistema de Drenagem Pluv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o Sistema Viá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usteio dos Serviços Administrativo de Iluminação Públ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a Rede de Iluminação Públ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Obras e Benfeitorias Urban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upo 10"/>
          <p:cNvGrpSpPr/>
          <p:nvPr/>
        </p:nvGrpSpPr>
        <p:grpSpPr>
          <a:xfrm>
            <a:off x="250920" y="115920"/>
            <a:ext cx="8497800" cy="603360"/>
            <a:chOff x="250920" y="115920"/>
            <a:chExt cx="8497800" cy="603360"/>
          </a:xfrm>
        </p:grpSpPr>
        <p:sp>
          <p:nvSpPr>
            <p:cNvPr id="462" name="Retângulo de cantos arredondados 11"/>
            <p:cNvSpPr/>
            <p:nvPr/>
          </p:nvSpPr>
          <p:spPr>
            <a:xfrm>
              <a:off x="466560" y="115920"/>
              <a:ext cx="8282160" cy="6033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tângulo 12"/>
            <p:cNvSpPr/>
            <p:nvPr/>
          </p:nvSpPr>
          <p:spPr>
            <a:xfrm>
              <a:off x="250920" y="145800"/>
              <a:ext cx="84661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LANEJAMEN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4" name=""/>
          <p:cNvGraphicFramePr/>
          <p:nvPr/>
        </p:nvGraphicFramePr>
        <p:xfrm>
          <a:off x="826920" y="981000"/>
          <a:ext cx="7140600" cy="4248360"/>
        </p:xfrm>
        <a:graphic>
          <a:graphicData uri="http://schemas.openxmlformats.org/drawingml/2006/table">
            <a:tbl>
              <a:tblPr/>
              <a:tblGrid>
                <a:gridCol w="53280"/>
                <a:gridCol w="577440"/>
                <a:gridCol w="6509880"/>
              </a:tblGrid>
              <a:tr h="327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a Avenida Eco Par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urbanização da Orla da Praia Central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longamento e Abertura de Avenidas- Binário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iação de Áreas Verdes - Entorno Binário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aça de Convivência junto ao Rio Cambori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a Avenida da Lagoa da Em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a Avenida Raposo Tav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o Acesso a BR 1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Av. Martin Luther – Rua Uganda até Rua Gaivo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Av. Martin Luther – Rua Gaivotas até Divisa Itaja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pavimentação da Avenida Inter Pra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talização da Praia de Laranjei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upo 10"/>
          <p:cNvGrpSpPr/>
          <p:nvPr/>
        </p:nvGrpSpPr>
        <p:grpSpPr>
          <a:xfrm>
            <a:off x="250920" y="115920"/>
            <a:ext cx="8497800" cy="603360"/>
            <a:chOff x="250920" y="115920"/>
            <a:chExt cx="8497800" cy="603360"/>
          </a:xfrm>
        </p:grpSpPr>
        <p:sp>
          <p:nvSpPr>
            <p:cNvPr id="466" name="Retângulo de cantos arredondados 11"/>
            <p:cNvSpPr/>
            <p:nvPr/>
          </p:nvSpPr>
          <p:spPr>
            <a:xfrm>
              <a:off x="466560" y="115920"/>
              <a:ext cx="8282160" cy="6033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tângulo 12"/>
            <p:cNvSpPr/>
            <p:nvPr/>
          </p:nvSpPr>
          <p:spPr>
            <a:xfrm>
              <a:off x="250920" y="145800"/>
              <a:ext cx="84661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LANEJAMEN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8" name=""/>
          <p:cNvGraphicFramePr/>
          <p:nvPr/>
        </p:nvGraphicFramePr>
        <p:xfrm>
          <a:off x="826920" y="981000"/>
          <a:ext cx="7140600" cy="2287800"/>
        </p:xfrm>
        <a:graphic>
          <a:graphicData uri="http://schemas.openxmlformats.org/drawingml/2006/table">
            <a:tbl>
              <a:tblPr/>
              <a:tblGrid>
                <a:gridCol w="53280"/>
                <a:gridCol w="577440"/>
                <a:gridCol w="6509880"/>
              </a:tblGrid>
              <a:tr h="327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Gabinete da Sec. Planejamento e Gestão Orçamentá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Técnicos Adm. do Planejamento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lanej. e Gestão Orçamentári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Fiscalização de Obras Urban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Análises e Projeto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ETP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upo 10"/>
          <p:cNvGrpSpPr/>
          <p:nvPr/>
        </p:nvGrpSpPr>
        <p:grpSpPr>
          <a:xfrm>
            <a:off x="436680" y="115920"/>
            <a:ext cx="8238960" cy="865080"/>
            <a:chOff x="436680" y="115920"/>
            <a:chExt cx="8238960" cy="865080"/>
          </a:xfrm>
        </p:grpSpPr>
        <p:sp>
          <p:nvSpPr>
            <p:cNvPr id="470" name="Retângulo de cantos arredondados 11"/>
            <p:cNvSpPr/>
            <p:nvPr/>
          </p:nvSpPr>
          <p:spPr>
            <a:xfrm>
              <a:off x="436680" y="115920"/>
              <a:ext cx="8238960" cy="865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tângulo 12"/>
            <p:cNvSpPr/>
            <p:nvPr/>
          </p:nvSpPr>
          <p:spPr>
            <a:xfrm>
              <a:off x="766800" y="158040"/>
              <a:ext cx="759132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TURISMO E DESENV. ECONÔMIC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CaixaDeTexto 8"/>
          <p:cNvSpPr/>
          <p:nvPr/>
        </p:nvSpPr>
        <p:spPr>
          <a:xfrm>
            <a:off x="443160" y="2781360"/>
            <a:ext cx="11455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aixaDeTexto 9"/>
          <p:cNvSpPr/>
          <p:nvPr/>
        </p:nvSpPr>
        <p:spPr>
          <a:xfrm>
            <a:off x="431280" y="1255680"/>
            <a:ext cx="17046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CRET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436680" y="1652760"/>
          <a:ext cx="6534000" cy="896760"/>
        </p:xfrm>
        <a:graphic>
          <a:graphicData uri="http://schemas.openxmlformats.org/drawingml/2006/table">
            <a:tbl>
              <a:tblPr/>
              <a:tblGrid>
                <a:gridCol w="53280"/>
                <a:gridCol w="527760"/>
                <a:gridCol w="5952960"/>
              </a:tblGrid>
              <a:tr h="461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Pessoal da Secretaria de Turism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436680" y="3151080"/>
          <a:ext cx="6532560" cy="2521080"/>
        </p:xfrm>
        <a:graphic>
          <a:graphicData uri="http://schemas.openxmlformats.org/drawingml/2006/table">
            <a:tbl>
              <a:tblPr/>
              <a:tblGrid>
                <a:gridCol w="53280"/>
                <a:gridCol w="527760"/>
                <a:gridCol w="5951520"/>
              </a:tblGrid>
              <a:tr h="4413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jeto BC 4 Estaçõ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5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e Promoção do Turism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5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MT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6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rticipação no Consórcio de Turismo Costa Verde e Mar - CITM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5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Equipamentos Públicos Turístic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upo 10"/>
          <p:cNvGrpSpPr/>
          <p:nvPr/>
        </p:nvGrpSpPr>
        <p:grpSpPr>
          <a:xfrm>
            <a:off x="468360" y="115920"/>
            <a:ext cx="8246880" cy="841320"/>
            <a:chOff x="468360" y="115920"/>
            <a:chExt cx="8246880" cy="841320"/>
          </a:xfrm>
        </p:grpSpPr>
        <p:sp>
          <p:nvSpPr>
            <p:cNvPr id="477" name="Retângulo de cantos arredondados 11"/>
            <p:cNvSpPr/>
            <p:nvPr/>
          </p:nvSpPr>
          <p:spPr>
            <a:xfrm>
              <a:off x="468360" y="115920"/>
              <a:ext cx="82468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tângulo 12"/>
            <p:cNvSpPr/>
            <p:nvPr/>
          </p:nvSpPr>
          <p:spPr>
            <a:xfrm>
              <a:off x="500040" y="156960"/>
              <a:ext cx="8183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INCLUSÃO SOCIAL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9" name=""/>
          <p:cNvGraphicFramePr/>
          <p:nvPr/>
        </p:nvGraphicFramePr>
        <p:xfrm>
          <a:off x="468360" y="957240"/>
          <a:ext cx="7788240" cy="4818240"/>
        </p:xfrm>
        <a:graphic>
          <a:graphicData uri="http://schemas.openxmlformats.org/drawingml/2006/table">
            <a:tbl>
              <a:tblPr/>
              <a:tblGrid>
                <a:gridCol w="53280"/>
                <a:gridCol w="630360"/>
                <a:gridCol w="7104600"/>
              </a:tblGrid>
              <a:tr h="2826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e Instalação da Casa da Mulher Brasilei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ssistência Social e Comunitá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Marcenaria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Promoção e Desenvlolvimento So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Resgate Social e Controle da Migraçã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1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moção do Casamento Cole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Desenvolvimento Comunitári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Economia Artesan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e Manutenção Centro de Convivência da Pessoa com Deficiê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ursos Técnicos e Profissionalizantes para a Comunida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Municipal - ABRAÇ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Ampliação do Programa Bem Estar da Família e da Casa da Famíli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Ações Afirmativas para Promoção da Igualdade Raci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. do Conselho Tutelar e de Direitos da Criança e Adolescent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1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e Atividades Voltadas ao Fortalecimento da Juventud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upo 6"/>
          <p:cNvGrpSpPr/>
          <p:nvPr/>
        </p:nvGrpSpPr>
        <p:grpSpPr>
          <a:xfrm>
            <a:off x="395280" y="100080"/>
            <a:ext cx="8209080" cy="841320"/>
            <a:chOff x="395280" y="100080"/>
            <a:chExt cx="8209080" cy="841320"/>
          </a:xfrm>
        </p:grpSpPr>
        <p:sp>
          <p:nvSpPr>
            <p:cNvPr id="481" name="Retângulo de cantos arredondados 7"/>
            <p:cNvSpPr/>
            <p:nvPr/>
          </p:nvSpPr>
          <p:spPr>
            <a:xfrm>
              <a:off x="395280" y="100080"/>
              <a:ext cx="82090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tângulo 8"/>
            <p:cNvSpPr/>
            <p:nvPr/>
          </p:nvSpPr>
          <p:spPr>
            <a:xfrm>
              <a:off x="426960" y="141120"/>
              <a:ext cx="81457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EGURANÇA PÚBLIC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3" name=""/>
          <p:cNvGraphicFramePr/>
          <p:nvPr/>
        </p:nvGraphicFramePr>
        <p:xfrm>
          <a:off x="455760" y="1123920"/>
          <a:ext cx="7645320" cy="4321080"/>
        </p:xfrm>
        <a:graphic>
          <a:graphicData uri="http://schemas.openxmlformats.org/drawingml/2006/table">
            <a:tbl>
              <a:tblPr/>
              <a:tblGrid>
                <a:gridCol w="53280"/>
                <a:gridCol w="618840"/>
                <a:gridCol w="6973200"/>
              </a:tblGrid>
              <a:tr h="3589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Equipamentos de Apoio às Ações da Defesa Civi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0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a Sec. de Seguranç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 e Manutenção do Sistema de Monitoramen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onvênio da Radiopatrulha PMS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Guarda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enção de Ocupação Irregular e Degradação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Trânsito e Engenha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de Proteção e Defesa Civi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Guarda Patrimon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efesa Civ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upo 6"/>
          <p:cNvGrpSpPr/>
          <p:nvPr/>
        </p:nvGrpSpPr>
        <p:grpSpPr>
          <a:xfrm>
            <a:off x="426960" y="115920"/>
            <a:ext cx="8105760" cy="841320"/>
            <a:chOff x="426960" y="115920"/>
            <a:chExt cx="8105760" cy="841320"/>
          </a:xfrm>
        </p:grpSpPr>
        <p:sp>
          <p:nvSpPr>
            <p:cNvPr id="485" name="Retângulo de cantos arredondados 7"/>
            <p:cNvSpPr/>
            <p:nvPr/>
          </p:nvSpPr>
          <p:spPr>
            <a:xfrm>
              <a:off x="536400" y="115920"/>
              <a:ext cx="799632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tângulo 8"/>
            <p:cNvSpPr/>
            <p:nvPr/>
          </p:nvSpPr>
          <p:spPr>
            <a:xfrm>
              <a:off x="426960" y="156960"/>
              <a:ext cx="7834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ESSOA IDOS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536400" y="1268280"/>
          <a:ext cx="7491600" cy="3610080"/>
        </p:xfrm>
        <a:graphic>
          <a:graphicData uri="http://schemas.openxmlformats.org/drawingml/2006/table">
            <a:tbl>
              <a:tblPr/>
              <a:tblGrid>
                <a:gridCol w="53280"/>
                <a:gridCol w="606240"/>
                <a:gridCol w="6832080"/>
              </a:tblGrid>
              <a:tr h="5572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ônibus para 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5240">
                <a:tc gridSpan="3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SP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3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Operacionalização das Atividades do Lar dos Idos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2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para o Envelhecimento Ativo e Saud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3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Municipal do Idoso - FMI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upo 5"/>
          <p:cNvGrpSpPr/>
          <p:nvPr/>
        </p:nvGrpSpPr>
        <p:grpSpPr>
          <a:xfrm>
            <a:off x="468360" y="115920"/>
            <a:ext cx="8207280" cy="720720"/>
            <a:chOff x="468360" y="115920"/>
            <a:chExt cx="8207280" cy="720720"/>
          </a:xfrm>
        </p:grpSpPr>
        <p:sp>
          <p:nvSpPr>
            <p:cNvPr id="489" name="Retângulo de cantos arredondados 6"/>
            <p:cNvSpPr/>
            <p:nvPr/>
          </p:nvSpPr>
          <p:spPr>
            <a:xfrm>
              <a:off x="468360" y="115920"/>
              <a:ext cx="8207280" cy="7207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tângulo 7"/>
            <p:cNvSpPr/>
            <p:nvPr/>
          </p:nvSpPr>
          <p:spPr>
            <a:xfrm>
              <a:off x="701640" y="151200"/>
              <a:ext cx="794232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EC DE COMPRA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Retângulo de cantos arredondados 11"/>
          <p:cNvSpPr/>
          <p:nvPr/>
        </p:nvSpPr>
        <p:spPr>
          <a:xfrm>
            <a:off x="444600" y="3716280"/>
            <a:ext cx="8175600" cy="612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CONTROLE E TRANSPARÊNC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39640" y="861840"/>
          <a:ext cx="6458040" cy="2552760"/>
        </p:xfrm>
        <a:graphic>
          <a:graphicData uri="http://schemas.openxmlformats.org/drawingml/2006/table">
            <a:tbl>
              <a:tblPr/>
              <a:tblGrid>
                <a:gridCol w="53280"/>
                <a:gridCol w="521640"/>
                <a:gridCol w="5883120"/>
              </a:tblGrid>
              <a:tr h="6685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/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Secretaria de Compr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as Salas de Licita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equações e Modernização do Arquivo da 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468360" y="4365720"/>
          <a:ext cx="6458040" cy="1366920"/>
        </p:xfrm>
        <a:graphic>
          <a:graphicData uri="http://schemas.openxmlformats.org/drawingml/2006/table">
            <a:tbl>
              <a:tblPr/>
              <a:tblGrid>
                <a:gridCol w="53280"/>
                <a:gridCol w="523080"/>
                <a:gridCol w="5881680"/>
              </a:tblGrid>
              <a:tr h="704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Sec. Controle Governamental e    Transparência Públ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upo 6"/>
          <p:cNvGrpSpPr/>
          <p:nvPr/>
        </p:nvGrpSpPr>
        <p:grpSpPr>
          <a:xfrm>
            <a:off x="539640" y="115920"/>
            <a:ext cx="8177400" cy="841320"/>
            <a:chOff x="539640" y="115920"/>
            <a:chExt cx="8177400" cy="841320"/>
          </a:xfrm>
        </p:grpSpPr>
        <p:sp>
          <p:nvSpPr>
            <p:cNvPr id="495" name="Retângulo de cantos arredondados 7"/>
            <p:cNvSpPr/>
            <p:nvPr/>
          </p:nvSpPr>
          <p:spPr>
            <a:xfrm>
              <a:off x="539640" y="115920"/>
              <a:ext cx="817740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tângulo 8"/>
            <p:cNvSpPr/>
            <p:nvPr/>
          </p:nvSpPr>
          <p:spPr>
            <a:xfrm>
              <a:off x="571320" y="156960"/>
              <a:ext cx="81140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CaixaDeTexto 5"/>
          <p:cNvSpPr/>
          <p:nvPr/>
        </p:nvSpPr>
        <p:spPr>
          <a:xfrm>
            <a:off x="542880" y="1150920"/>
            <a:ext cx="2187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ÇÃO 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539640" y="1628640"/>
          <a:ext cx="7272360" cy="4470480"/>
        </p:xfrm>
        <a:graphic>
          <a:graphicData uri="http://schemas.openxmlformats.org/drawingml/2006/table">
            <a:tbl>
              <a:tblPr/>
              <a:tblGrid>
                <a:gridCol w="53280"/>
                <a:gridCol w="588600"/>
                <a:gridCol w="6630480"/>
              </a:tblGrid>
              <a:tr h="3052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BS - Bairro São Judas Tadeu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8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o Centro Administrativo de Saúde Muni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em Unidades Básica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8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Ponto de Apoio para atendimento aos usuários U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a Segurança Nutricional e Alimentar na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8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às Atividades do COM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frentamento em Situações de Emergência de Saúde Púb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os Serviços Público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8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Básico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Estratégias da Saúde Buc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8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Farmácia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5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Regulação, Controle e Avaliação da Atenção à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tângulo 8"/>
          <p:cNvSpPr/>
          <p:nvPr/>
        </p:nvSpPr>
        <p:spPr>
          <a:xfrm>
            <a:off x="142920" y="157320"/>
            <a:ext cx="8858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noAutofit/>
          </a:bodyPr>
          <a:p>
            <a:pPr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FUNDO SAÚDE – R$ 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5"/>
          <p:cNvSpPr/>
          <p:nvPr/>
        </p:nvSpPr>
        <p:spPr>
          <a:xfrm>
            <a:off x="522360" y="1150920"/>
            <a:ext cx="36356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E ALTA COMPLEX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upo 6"/>
          <p:cNvGrpSpPr/>
          <p:nvPr/>
        </p:nvGrpSpPr>
        <p:grpSpPr>
          <a:xfrm>
            <a:off x="539640" y="115920"/>
            <a:ext cx="8177400" cy="841320"/>
            <a:chOff x="539640" y="115920"/>
            <a:chExt cx="8177400" cy="841320"/>
          </a:xfrm>
        </p:grpSpPr>
        <p:sp>
          <p:nvSpPr>
            <p:cNvPr id="502" name="Retângulo de cantos arredondados 9"/>
            <p:cNvSpPr/>
            <p:nvPr/>
          </p:nvSpPr>
          <p:spPr>
            <a:xfrm>
              <a:off x="539640" y="115920"/>
              <a:ext cx="817740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tângulo 10"/>
            <p:cNvSpPr/>
            <p:nvPr/>
          </p:nvSpPr>
          <p:spPr>
            <a:xfrm>
              <a:off x="571320" y="156960"/>
              <a:ext cx="81140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4" name=""/>
          <p:cNvGraphicFramePr/>
          <p:nvPr/>
        </p:nvGraphicFramePr>
        <p:xfrm>
          <a:off x="571680" y="1628640"/>
          <a:ext cx="7456320" cy="4497480"/>
        </p:xfrm>
        <a:graphic>
          <a:graphicData uri="http://schemas.openxmlformats.org/drawingml/2006/table">
            <a:tbl>
              <a:tblPr/>
              <a:tblGrid>
                <a:gridCol w="53280"/>
                <a:gridCol w="604800"/>
                <a:gridCol w="6798240"/>
              </a:tblGrid>
              <a:tr h="3207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PA - Bairro da Bar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PINH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ES - CAPS III e CAPS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em Unidades Especializadas de Saú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do HMR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22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Especializado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entro de Atenção Psicossocial - CA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2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ronto Atendimento - PA/UP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Sistema de Inspeção Municipal - SI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e Rateio do Consórcio CIS-AMF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tenças Judiciais - Internações, Tratamentos e Medicament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Hospitalares do HMR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26560" y="1125000"/>
            <a:ext cx="72010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84360" y="1521000"/>
            <a:ext cx="2592360" cy="3743280"/>
          </a:xfrm>
          <a:prstGeom prst="flowChartAlternateProcess">
            <a:avLst/>
          </a:prstGeom>
          <a:solidFill>
            <a:srgbClr val="1f4e79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Arial Black"/>
              </a:rPr>
              <a:t>PP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8"/>
          <p:cNvSpPr/>
          <p:nvPr/>
        </p:nvSpPr>
        <p:spPr>
          <a:xfrm>
            <a:off x="4199040" y="156852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6654960" y="154152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3564000" y="1844640"/>
            <a:ext cx="431640" cy="21744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3564000" y="2820960"/>
            <a:ext cx="431640" cy="21744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3564000" y="3753000"/>
            <a:ext cx="431640" cy="21744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7"/>
          <p:cNvSpPr/>
          <p:nvPr/>
        </p:nvSpPr>
        <p:spPr>
          <a:xfrm>
            <a:off x="3564000" y="476100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940360" y="178452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940360" y="274788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3"/>
          <p:cNvSpPr/>
          <p:nvPr/>
        </p:nvSpPr>
        <p:spPr>
          <a:xfrm>
            <a:off x="5940360" y="375300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4"/>
          <p:cNvSpPr/>
          <p:nvPr/>
        </p:nvSpPr>
        <p:spPr>
          <a:xfrm>
            <a:off x="5940360" y="480708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5"/>
          <p:cNvSpPr/>
          <p:nvPr/>
        </p:nvSpPr>
        <p:spPr>
          <a:xfrm>
            <a:off x="6659640" y="353844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6"/>
          <p:cNvSpPr/>
          <p:nvPr/>
        </p:nvSpPr>
        <p:spPr>
          <a:xfrm>
            <a:off x="6654960" y="25002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898560" y="1810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 </a:t>
            </a: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Elo entre PPA e 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4199040" y="253224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9"/>
          <p:cNvSpPr/>
          <p:nvPr/>
        </p:nvSpPr>
        <p:spPr>
          <a:xfrm>
            <a:off x="4199040" y="353844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9"/>
          <p:cNvSpPr/>
          <p:nvPr/>
        </p:nvSpPr>
        <p:spPr>
          <a:xfrm>
            <a:off x="4199040" y="45450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5"/>
          <p:cNvSpPr/>
          <p:nvPr/>
        </p:nvSpPr>
        <p:spPr>
          <a:xfrm>
            <a:off x="6647040" y="45450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CaixaDeTexto 5"/>
          <p:cNvSpPr/>
          <p:nvPr/>
        </p:nvSpPr>
        <p:spPr>
          <a:xfrm>
            <a:off x="550080" y="1322280"/>
            <a:ext cx="2734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ILÂNCIA SANI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9"/>
          <p:cNvSpPr/>
          <p:nvPr/>
        </p:nvSpPr>
        <p:spPr>
          <a:xfrm>
            <a:off x="539280" y="3181320"/>
            <a:ext cx="3510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ILÂNCIA EPIDEM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upo 6"/>
          <p:cNvGrpSpPr/>
          <p:nvPr/>
        </p:nvGrpSpPr>
        <p:grpSpPr>
          <a:xfrm>
            <a:off x="539640" y="115920"/>
            <a:ext cx="8177400" cy="841320"/>
            <a:chOff x="539640" y="115920"/>
            <a:chExt cx="8177400" cy="841320"/>
          </a:xfrm>
        </p:grpSpPr>
        <p:sp>
          <p:nvSpPr>
            <p:cNvPr id="508" name="Retângulo de cantos arredondados 10"/>
            <p:cNvSpPr/>
            <p:nvPr/>
          </p:nvSpPr>
          <p:spPr>
            <a:xfrm>
              <a:off x="539640" y="115920"/>
              <a:ext cx="817740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tângulo 11"/>
            <p:cNvSpPr/>
            <p:nvPr/>
          </p:nvSpPr>
          <p:spPr>
            <a:xfrm>
              <a:off x="571320" y="156960"/>
              <a:ext cx="81140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0" name=""/>
          <p:cNvGraphicFramePr/>
          <p:nvPr/>
        </p:nvGraphicFramePr>
        <p:xfrm>
          <a:off x="539640" y="1773360"/>
          <a:ext cx="6464520" cy="1260360"/>
        </p:xfrm>
        <a:graphic>
          <a:graphicData uri="http://schemas.openxmlformats.org/drawingml/2006/table">
            <a:tbl>
              <a:tblPr/>
              <a:tblGrid>
                <a:gridCol w="53280"/>
                <a:gridCol w="521640"/>
                <a:gridCol w="5889600"/>
              </a:tblGrid>
              <a:tr h="630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Básicas de Vigilância Sanitária e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528480" y="3716280"/>
          <a:ext cx="6472440" cy="1324080"/>
        </p:xfrm>
        <a:graphic>
          <a:graphicData uri="http://schemas.openxmlformats.org/drawingml/2006/table">
            <a:tbl>
              <a:tblPr/>
              <a:tblGrid>
                <a:gridCol w="53280"/>
                <a:gridCol w="523080"/>
                <a:gridCol w="5896080"/>
              </a:tblGrid>
              <a:tr h="6620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a Vigilância Epidemiológ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upo 6"/>
          <p:cNvGrpSpPr/>
          <p:nvPr/>
        </p:nvGrpSpPr>
        <p:grpSpPr>
          <a:xfrm>
            <a:off x="330120" y="115920"/>
            <a:ext cx="8418600" cy="793800"/>
            <a:chOff x="330120" y="115920"/>
            <a:chExt cx="8418600" cy="793800"/>
          </a:xfrm>
        </p:grpSpPr>
        <p:sp>
          <p:nvSpPr>
            <p:cNvPr id="513" name="Retângulo de cantos arredondados 7"/>
            <p:cNvSpPr/>
            <p:nvPr/>
          </p:nvSpPr>
          <p:spPr>
            <a:xfrm>
              <a:off x="330120" y="115920"/>
              <a:ext cx="8418600" cy="7938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tângulo 8"/>
            <p:cNvSpPr/>
            <p:nvPr/>
          </p:nvSpPr>
          <p:spPr>
            <a:xfrm>
              <a:off x="363240" y="155520"/>
              <a:ext cx="83520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MEIO AMBIENT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CaixaDeTexto 5"/>
          <p:cNvSpPr/>
          <p:nvPr/>
        </p:nvSpPr>
        <p:spPr>
          <a:xfrm>
            <a:off x="325080" y="909720"/>
            <a:ext cx="16408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aixaDeTexto 9"/>
          <p:cNvSpPr/>
          <p:nvPr/>
        </p:nvSpPr>
        <p:spPr>
          <a:xfrm>
            <a:off x="331560" y="2060640"/>
            <a:ext cx="13100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63600" y="2430360"/>
          <a:ext cx="6729480" cy="3753000"/>
        </p:xfrm>
        <a:graphic>
          <a:graphicData uri="http://schemas.openxmlformats.org/drawingml/2006/table">
            <a:tbl>
              <a:tblPr/>
              <a:tblGrid>
                <a:gridCol w="52560"/>
                <a:gridCol w="544320"/>
                <a:gridCol w="6132600"/>
              </a:tblGrid>
              <a:tr h="2509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o Centro de Educação Ambi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a Sede Administr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o Parque Natural Municipal Raimundo Gonçalez Mal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e Produtos e Serviços Ambient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servação e Ampliação do Selo Internacional "Bandeira Azul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NDEM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scalização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toterapia e Viveiro Mata Atlânt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stentabilidade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Terra Limp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Proteção e Bem Estar Anim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arque Raimundo Gonçalez M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Licenciamento Ambi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363600" y="1317600"/>
          <a:ext cx="6656400" cy="728640"/>
        </p:xfrm>
        <a:graphic>
          <a:graphicData uri="http://schemas.openxmlformats.org/drawingml/2006/table">
            <a:tbl>
              <a:tblPr/>
              <a:tblGrid>
                <a:gridCol w="52560"/>
                <a:gridCol w="537840"/>
                <a:gridCol w="6066000"/>
              </a:tblGrid>
              <a:tr h="2854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Pessoal da Secretaria do Meio Ambient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1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Municipal de Amparo Aos Animais - F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upo 6"/>
          <p:cNvGrpSpPr/>
          <p:nvPr/>
        </p:nvGrpSpPr>
        <p:grpSpPr>
          <a:xfrm>
            <a:off x="468360" y="115920"/>
            <a:ext cx="8207280" cy="841320"/>
            <a:chOff x="468360" y="115920"/>
            <a:chExt cx="8207280" cy="841320"/>
          </a:xfrm>
        </p:grpSpPr>
        <p:sp>
          <p:nvSpPr>
            <p:cNvPr id="520" name="Retângulo de cantos arredondados 7"/>
            <p:cNvSpPr/>
            <p:nvPr/>
          </p:nvSpPr>
          <p:spPr>
            <a:xfrm>
              <a:off x="468360" y="115920"/>
              <a:ext cx="82072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tângulo 8"/>
            <p:cNvSpPr/>
            <p:nvPr/>
          </p:nvSpPr>
          <p:spPr>
            <a:xfrm>
              <a:off x="500040" y="156960"/>
              <a:ext cx="81439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HABITAÇÃO FURB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2" name=""/>
          <p:cNvGraphicFramePr/>
          <p:nvPr/>
        </p:nvGraphicFramePr>
        <p:xfrm>
          <a:off x="684360" y="1484280"/>
          <a:ext cx="7272360" cy="3600360"/>
        </p:xfrm>
        <a:graphic>
          <a:graphicData uri="http://schemas.openxmlformats.org/drawingml/2006/table">
            <a:tbl>
              <a:tblPr/>
              <a:tblGrid>
                <a:gridCol w="52560"/>
                <a:gridCol w="588600"/>
                <a:gridCol w="6631200"/>
              </a:tblGrid>
              <a:tr h="4762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moção de Moradia Digna de Interesse So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Lar Legal e de Legitimação Fundiária/REUR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de Urbanização, Regularização e Integração de Assentamentos Precári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78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URB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Ações de Promoção Huma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ssão de Auxílio Moradia aos Beneficiári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upo 6"/>
          <p:cNvGrpSpPr/>
          <p:nvPr/>
        </p:nvGrpSpPr>
        <p:grpSpPr>
          <a:xfrm>
            <a:off x="468360" y="115920"/>
            <a:ext cx="8207280" cy="841320"/>
            <a:chOff x="468360" y="115920"/>
            <a:chExt cx="8207280" cy="841320"/>
          </a:xfrm>
        </p:grpSpPr>
        <p:sp>
          <p:nvSpPr>
            <p:cNvPr id="524" name="Retângulo de cantos arredondados 7"/>
            <p:cNvSpPr/>
            <p:nvPr/>
          </p:nvSpPr>
          <p:spPr>
            <a:xfrm>
              <a:off x="468360" y="115920"/>
              <a:ext cx="82072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tângulo 8"/>
            <p:cNvSpPr/>
            <p:nvPr/>
          </p:nvSpPr>
          <p:spPr>
            <a:xfrm>
              <a:off x="500040" y="156960"/>
              <a:ext cx="81439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RIANÇA E ADOLESCENT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6" name=""/>
          <p:cNvGraphicFramePr/>
          <p:nvPr/>
        </p:nvGraphicFramePr>
        <p:xfrm>
          <a:off x="539640" y="1628640"/>
          <a:ext cx="7272360" cy="2664000"/>
        </p:xfrm>
        <a:graphic>
          <a:graphicData uri="http://schemas.openxmlformats.org/drawingml/2006/table">
            <a:tbl>
              <a:tblPr/>
              <a:tblGrid>
                <a:gridCol w="52560"/>
                <a:gridCol w="588600"/>
                <a:gridCol w="6631200"/>
              </a:tblGrid>
              <a:tr h="5605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MD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7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 das Atividades de Atenção à Criança e ao Adolescent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rmos de Parcerias voltadas ao bem estar da Criança e Adolesc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centivo à Guarda e à Adoçã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upo 6"/>
          <p:cNvGrpSpPr/>
          <p:nvPr/>
        </p:nvGrpSpPr>
        <p:grpSpPr>
          <a:xfrm>
            <a:off x="395280" y="115920"/>
            <a:ext cx="8280360" cy="841320"/>
            <a:chOff x="395280" y="115920"/>
            <a:chExt cx="8280360" cy="841320"/>
          </a:xfrm>
        </p:grpSpPr>
        <p:sp>
          <p:nvSpPr>
            <p:cNvPr id="528" name="Retângulo de cantos arredondados 7"/>
            <p:cNvSpPr/>
            <p:nvPr/>
          </p:nvSpPr>
          <p:spPr>
            <a:xfrm>
              <a:off x="395280" y="115920"/>
              <a:ext cx="828036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tângulo 8"/>
            <p:cNvSpPr/>
            <p:nvPr/>
          </p:nvSpPr>
          <p:spPr>
            <a:xfrm>
              <a:off x="426960" y="156960"/>
              <a:ext cx="821700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ASSISTÊNCIA SOCIAL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0" name=""/>
          <p:cNvGraphicFramePr/>
          <p:nvPr/>
        </p:nvGraphicFramePr>
        <p:xfrm>
          <a:off x="428760" y="1125360"/>
          <a:ext cx="6508440" cy="4938840"/>
        </p:xfrm>
        <a:graphic>
          <a:graphicData uri="http://schemas.openxmlformats.org/drawingml/2006/table">
            <a:tbl>
              <a:tblPr/>
              <a:tblGrid>
                <a:gridCol w="52560"/>
                <a:gridCol w="472680"/>
                <a:gridCol w="5983200"/>
              </a:tblGrid>
              <a:tr h="3416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e Instalação de Acolhimento para Crianças e Adolescentes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e C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Criança Feliz - Primeira Infância no SU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onselho - CM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Acessuas - Trabalh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5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Serviço de Família Acolhedora para Crianças, Idosos e Pessoas com Deficiênc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Gestão do SUAS - IG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Proteção Social Bás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IGD/ PBF e CadÚn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Proteção Social Especial - M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lização de Parcerias com OSCIPs - Prot. Social Bás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lização de Parcerias com OSCIPs - Prot. Social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ssão De Benefícios Eventu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upo 6"/>
          <p:cNvGrpSpPr/>
          <p:nvPr/>
        </p:nvGrpSpPr>
        <p:grpSpPr>
          <a:xfrm>
            <a:off x="468360" y="115920"/>
            <a:ext cx="8207280" cy="841320"/>
            <a:chOff x="468360" y="115920"/>
            <a:chExt cx="8207280" cy="841320"/>
          </a:xfrm>
        </p:grpSpPr>
        <p:sp>
          <p:nvSpPr>
            <p:cNvPr id="532" name="Retângulo de cantos arredondados 7"/>
            <p:cNvSpPr/>
            <p:nvPr/>
          </p:nvSpPr>
          <p:spPr>
            <a:xfrm>
              <a:off x="574560" y="115920"/>
              <a:ext cx="81010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tângulo 8"/>
            <p:cNvSpPr/>
            <p:nvPr/>
          </p:nvSpPr>
          <p:spPr>
            <a:xfrm>
              <a:off x="468360" y="156960"/>
              <a:ext cx="8039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SERVIR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4" name=""/>
          <p:cNvGraphicFramePr/>
          <p:nvPr/>
        </p:nvGraphicFramePr>
        <p:xfrm>
          <a:off x="627120" y="1197000"/>
          <a:ext cx="6332400" cy="3614760"/>
        </p:xfrm>
        <a:graphic>
          <a:graphicData uri="http://schemas.openxmlformats.org/drawingml/2006/table">
            <a:tbl>
              <a:tblPr/>
              <a:tblGrid>
                <a:gridCol w="52560"/>
                <a:gridCol w="511920"/>
                <a:gridCol w="5767920"/>
              </a:tblGrid>
              <a:tr h="5443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Contingência - FUNSERV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30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e Instalações da Sede Administrativa do FUNSERVI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12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NSERVI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1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de Saúde do Servid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upo 6"/>
          <p:cNvGrpSpPr/>
          <p:nvPr/>
        </p:nvGrpSpPr>
        <p:grpSpPr>
          <a:xfrm>
            <a:off x="539640" y="115920"/>
            <a:ext cx="8136000" cy="841320"/>
            <a:chOff x="539640" y="115920"/>
            <a:chExt cx="8136000" cy="841320"/>
          </a:xfrm>
        </p:grpSpPr>
        <p:sp>
          <p:nvSpPr>
            <p:cNvPr id="536" name="Retângulo de cantos arredondados 7"/>
            <p:cNvSpPr/>
            <p:nvPr/>
          </p:nvSpPr>
          <p:spPr>
            <a:xfrm>
              <a:off x="539640" y="115920"/>
              <a:ext cx="813600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tângulo 8"/>
            <p:cNvSpPr/>
            <p:nvPr/>
          </p:nvSpPr>
          <p:spPr>
            <a:xfrm>
              <a:off x="571320" y="156960"/>
              <a:ext cx="80726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MPRESI - BOMBEIRO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8" name=""/>
          <p:cNvGraphicFramePr/>
          <p:nvPr/>
        </p:nvGraphicFramePr>
        <p:xfrm>
          <a:off x="571680" y="1125360"/>
          <a:ext cx="6406920" cy="3456000"/>
        </p:xfrm>
        <a:graphic>
          <a:graphicData uri="http://schemas.openxmlformats.org/drawingml/2006/table">
            <a:tbl>
              <a:tblPr/>
              <a:tblGrid>
                <a:gridCol w="52560"/>
                <a:gridCol w="518400"/>
                <a:gridCol w="5835960"/>
              </a:tblGrid>
              <a:tr h="7272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e Instalação do Centro de Treinamento do Corpo de Bombeir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25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UMPRE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2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quipamentos diversos - FUMPRE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upo 6"/>
          <p:cNvGrpSpPr/>
          <p:nvPr/>
        </p:nvGrpSpPr>
        <p:grpSpPr>
          <a:xfrm>
            <a:off x="468360" y="115920"/>
            <a:ext cx="8207280" cy="841320"/>
            <a:chOff x="468360" y="115920"/>
            <a:chExt cx="8207280" cy="841320"/>
          </a:xfrm>
        </p:grpSpPr>
        <p:sp>
          <p:nvSpPr>
            <p:cNvPr id="540" name="Retângulo de cantos arredondados 7"/>
            <p:cNvSpPr/>
            <p:nvPr/>
          </p:nvSpPr>
          <p:spPr>
            <a:xfrm>
              <a:off x="468360" y="115920"/>
              <a:ext cx="82072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tângulo 8"/>
            <p:cNvSpPr/>
            <p:nvPr/>
          </p:nvSpPr>
          <p:spPr>
            <a:xfrm>
              <a:off x="500040" y="156960"/>
              <a:ext cx="81439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SPORTE – FM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2" name=""/>
          <p:cNvGraphicFramePr/>
          <p:nvPr/>
        </p:nvGraphicFramePr>
        <p:xfrm>
          <a:off x="500040" y="1220760"/>
          <a:ext cx="6465960" cy="4800600"/>
        </p:xfrm>
        <a:graphic>
          <a:graphicData uri="http://schemas.openxmlformats.org/drawingml/2006/table">
            <a:tbl>
              <a:tblPr/>
              <a:tblGrid>
                <a:gridCol w="52560"/>
                <a:gridCol w="523440"/>
                <a:gridCol w="5889960"/>
              </a:tblGrid>
              <a:tr h="3636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F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s Alternativos de Esport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 e Instalação de Complexo e Centro Adm F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s e Revitalização dos Complexos Esportiv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áticas Esportivas Para Crianças e Adolescent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e Apoio das Atividades Espor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F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Conservação dos Complexos Esportiv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ização e Participação em Eventos Esportiv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Bolsa Atlet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 Projetos Esportiv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upo 6"/>
          <p:cNvGrpSpPr/>
          <p:nvPr/>
        </p:nvGrpSpPr>
        <p:grpSpPr>
          <a:xfrm>
            <a:off x="395280" y="115920"/>
            <a:ext cx="8280360" cy="841320"/>
            <a:chOff x="395280" y="115920"/>
            <a:chExt cx="8280360" cy="841320"/>
          </a:xfrm>
        </p:grpSpPr>
        <p:sp>
          <p:nvSpPr>
            <p:cNvPr id="544" name="Retângulo de cantos arredondados 7"/>
            <p:cNvSpPr/>
            <p:nvPr/>
          </p:nvSpPr>
          <p:spPr>
            <a:xfrm>
              <a:off x="395280" y="115920"/>
              <a:ext cx="828036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tângulo 8"/>
            <p:cNvSpPr/>
            <p:nvPr/>
          </p:nvSpPr>
          <p:spPr>
            <a:xfrm>
              <a:off x="426960" y="156960"/>
              <a:ext cx="821700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BCTRÂNSI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6" name=""/>
          <p:cNvGraphicFramePr/>
          <p:nvPr/>
        </p:nvGraphicFramePr>
        <p:xfrm>
          <a:off x="426960" y="1052640"/>
          <a:ext cx="6666120" cy="4752720"/>
        </p:xfrm>
        <a:graphic>
          <a:graphicData uri="http://schemas.openxmlformats.org/drawingml/2006/table">
            <a:tbl>
              <a:tblPr/>
              <a:tblGrid>
                <a:gridCol w="52560"/>
                <a:gridCol w="539280"/>
                <a:gridCol w="6074280"/>
              </a:tblGrid>
              <a:tr h="3142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BC TRÂ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Ciclovias, Ciclofaixas, Ciclorrotas e Paracicl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a Escola Pública para Educação no Trâ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BC Trâns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BC Trânsi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e Convênio de Trânsi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olícia Civil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olícia Milit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ções de Educação para Segurança no Trânsi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iciamento e Fiscalização do Trâns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genharia de Tráfego e de Camp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aptações e Manutenções da Sinalização Viá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Melhorias no Transporte Coletivo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upo 6"/>
          <p:cNvGrpSpPr/>
          <p:nvPr/>
        </p:nvGrpSpPr>
        <p:grpSpPr>
          <a:xfrm>
            <a:off x="627120" y="115920"/>
            <a:ext cx="7908840" cy="841320"/>
            <a:chOff x="627120" y="115920"/>
            <a:chExt cx="7908840" cy="841320"/>
          </a:xfrm>
        </p:grpSpPr>
        <p:sp>
          <p:nvSpPr>
            <p:cNvPr id="548" name="Retângulo de cantos arredondados 7"/>
            <p:cNvSpPr/>
            <p:nvPr/>
          </p:nvSpPr>
          <p:spPr>
            <a:xfrm>
              <a:off x="627120" y="115920"/>
              <a:ext cx="790884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tângulo 8"/>
            <p:cNvSpPr/>
            <p:nvPr/>
          </p:nvSpPr>
          <p:spPr>
            <a:xfrm>
              <a:off x="657000" y="156960"/>
              <a:ext cx="78487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ROCON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0" name=""/>
          <p:cNvGraphicFramePr/>
          <p:nvPr/>
        </p:nvGraphicFramePr>
        <p:xfrm>
          <a:off x="627120" y="1197000"/>
          <a:ext cx="6281640" cy="3378240"/>
        </p:xfrm>
        <a:graphic>
          <a:graphicData uri="http://schemas.openxmlformats.org/drawingml/2006/table">
            <a:tbl>
              <a:tblPr/>
              <a:tblGrid>
                <a:gridCol w="52560"/>
                <a:gridCol w="52560"/>
                <a:gridCol w="489960"/>
                <a:gridCol w="5686560"/>
              </a:tblGrid>
              <a:tr h="6760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00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Processo Eletrônico - PROC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60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3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Defesa dos Direitos do Consumido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644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ização de Seminários  e Congress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71280" y="1988640"/>
            <a:ext cx="71578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3b3838"/>
                </a:solidFill>
                <a:latin typeface="Calibri Light"/>
              </a:rPr>
              <a:t>METAS DE RECEITAS</a:t>
            </a:r>
            <a:br>
              <a:rPr sz="7200"/>
            </a:b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Origem dos Recurso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547640" y="2286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20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upo 6"/>
          <p:cNvGrpSpPr/>
          <p:nvPr/>
        </p:nvGrpSpPr>
        <p:grpSpPr>
          <a:xfrm>
            <a:off x="539640" y="133200"/>
            <a:ext cx="8209080" cy="841680"/>
            <a:chOff x="539640" y="133200"/>
            <a:chExt cx="8209080" cy="841680"/>
          </a:xfrm>
        </p:grpSpPr>
        <p:sp>
          <p:nvSpPr>
            <p:cNvPr id="552" name="Retângulo de cantos arredondados 7"/>
            <p:cNvSpPr/>
            <p:nvPr/>
          </p:nvSpPr>
          <p:spPr>
            <a:xfrm>
              <a:off x="539640" y="133200"/>
              <a:ext cx="8209080" cy="8416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tângulo 8"/>
            <p:cNvSpPr/>
            <p:nvPr/>
          </p:nvSpPr>
          <p:spPr>
            <a:xfrm>
              <a:off x="571320" y="174240"/>
              <a:ext cx="79725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ULTURA - FCBC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4" name=""/>
          <p:cNvGraphicFramePr/>
          <p:nvPr/>
        </p:nvGraphicFramePr>
        <p:xfrm>
          <a:off x="395280" y="1197000"/>
          <a:ext cx="4435560" cy="4173480"/>
        </p:xfrm>
        <a:graphic>
          <a:graphicData uri="http://schemas.openxmlformats.org/drawingml/2006/table">
            <a:tbl>
              <a:tblPr/>
              <a:tblGrid>
                <a:gridCol w="53280"/>
                <a:gridCol w="357120"/>
                <a:gridCol w="4025160"/>
              </a:tblGrid>
              <a:tr h="3618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specia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FCB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iação e Ampliação de Espaços Culturai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FCB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Culturais e Patrimônios Culturai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de Valorização do Artista Local (PEV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e Oficinas Culturai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centivo Cultural - Lei do Mecenato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mento Cultural - L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0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à Projetos Artísticos e Culturai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555" name="Picture 65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179880" cy="3705120"/>
          </a:xfrm>
          <a:prstGeom prst="rect">
            <a:avLst/>
          </a:prstGeom>
          <a:ln w="0">
            <a:noFill/>
          </a:ln>
        </p:spPr>
      </p:pic>
      <p:sp>
        <p:nvSpPr>
          <p:cNvPr id="556" name="CaixaDeTexto 2"/>
          <p:cNvSpPr/>
          <p:nvPr/>
        </p:nvSpPr>
        <p:spPr>
          <a:xfrm>
            <a:off x="5515920" y="1378080"/>
            <a:ext cx="2771640" cy="322200"/>
          </a:xfrm>
          <a:prstGeom prst="rect">
            <a:avLst/>
          </a:prstGeom>
          <a:solidFill>
            <a:srgbClr val="ffe8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talhamento da Ação 2.15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upo 6"/>
          <p:cNvGrpSpPr/>
          <p:nvPr/>
        </p:nvGrpSpPr>
        <p:grpSpPr>
          <a:xfrm>
            <a:off x="468360" y="115920"/>
            <a:ext cx="8136000" cy="841320"/>
            <a:chOff x="468360" y="115920"/>
            <a:chExt cx="8136000" cy="841320"/>
          </a:xfrm>
        </p:grpSpPr>
        <p:sp>
          <p:nvSpPr>
            <p:cNvPr id="558" name="Retângulo de cantos arredondados 7"/>
            <p:cNvSpPr/>
            <p:nvPr/>
          </p:nvSpPr>
          <p:spPr>
            <a:xfrm>
              <a:off x="468360" y="115920"/>
              <a:ext cx="813600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tângulo 8"/>
            <p:cNvSpPr/>
            <p:nvPr/>
          </p:nvSpPr>
          <p:spPr>
            <a:xfrm>
              <a:off x="500040" y="156960"/>
              <a:ext cx="80726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REVIDÊNCIA – BCPREV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0" name=""/>
          <p:cNvGraphicFramePr/>
          <p:nvPr/>
        </p:nvGraphicFramePr>
        <p:xfrm>
          <a:off x="500040" y="1125360"/>
          <a:ext cx="6432480" cy="4175280"/>
        </p:xfrm>
        <a:graphic>
          <a:graphicData uri="http://schemas.openxmlformats.org/drawingml/2006/table">
            <a:tbl>
              <a:tblPr/>
              <a:tblGrid>
                <a:gridCol w="52560"/>
                <a:gridCol w="520200"/>
                <a:gridCol w="5859720"/>
              </a:tblGrid>
              <a:tr h="6289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BCPREV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Benefício Previdenciá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0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a Taxa de Administração do RPP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2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 de Benefícios Previdenciári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s de Sentenças e Precatórios do RP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upo 6"/>
          <p:cNvGrpSpPr/>
          <p:nvPr/>
        </p:nvGrpSpPr>
        <p:grpSpPr>
          <a:xfrm>
            <a:off x="436680" y="69840"/>
            <a:ext cx="8281800" cy="839880"/>
            <a:chOff x="436680" y="69840"/>
            <a:chExt cx="8281800" cy="839880"/>
          </a:xfrm>
        </p:grpSpPr>
        <p:sp>
          <p:nvSpPr>
            <p:cNvPr id="562" name="Retângulo de cantos arredondados 7"/>
            <p:cNvSpPr/>
            <p:nvPr/>
          </p:nvSpPr>
          <p:spPr>
            <a:xfrm>
              <a:off x="436680" y="69840"/>
              <a:ext cx="82818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tângulo 8"/>
            <p:cNvSpPr/>
            <p:nvPr/>
          </p:nvSpPr>
          <p:spPr>
            <a:xfrm>
              <a:off x="498240" y="93600"/>
              <a:ext cx="82184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MAS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4" name=""/>
          <p:cNvGraphicFramePr/>
          <p:nvPr/>
        </p:nvGraphicFramePr>
        <p:xfrm>
          <a:off x="436680" y="909720"/>
          <a:ext cx="6538680" cy="5305320"/>
        </p:xfrm>
        <a:graphic>
          <a:graphicData uri="http://schemas.openxmlformats.org/drawingml/2006/table">
            <a:tbl>
              <a:tblPr/>
              <a:tblGrid>
                <a:gridCol w="52560"/>
                <a:gridCol w="529560"/>
                <a:gridCol w="5956560"/>
              </a:tblGrid>
              <a:tr h="2808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tização do Déficit Atuarial do RPPS - EMA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EMA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na captação de águ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e Rios e Córreg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Reservatório para Água Trat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Esgotamento Sanitá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nas Estações de Tratamento de Esgo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mentação do Projeto Rio Camboriú 20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o Projeto do Parque Inundá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Esgotamento Sanitário - Praias Agres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Abastecimento de Águ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EMA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catórios e Sentenças Judiciais - EMA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ão e Manutenção do Sistema de Água e Esgo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Drenagem Urba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jeto Produtor de Água do Rio Cambori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de Educação Ambiental da EM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upo 6"/>
          <p:cNvGrpSpPr/>
          <p:nvPr/>
        </p:nvGrpSpPr>
        <p:grpSpPr>
          <a:xfrm>
            <a:off x="539640" y="189000"/>
            <a:ext cx="8136000" cy="839880"/>
            <a:chOff x="539640" y="189000"/>
            <a:chExt cx="8136000" cy="839880"/>
          </a:xfrm>
        </p:grpSpPr>
        <p:sp>
          <p:nvSpPr>
            <p:cNvPr id="566" name="Retângulo de cantos arredondados 7"/>
            <p:cNvSpPr/>
            <p:nvPr/>
          </p:nvSpPr>
          <p:spPr>
            <a:xfrm>
              <a:off x="539640" y="189000"/>
              <a:ext cx="81360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tângulo 8"/>
            <p:cNvSpPr/>
            <p:nvPr/>
          </p:nvSpPr>
          <p:spPr>
            <a:xfrm>
              <a:off x="571320" y="230040"/>
              <a:ext cx="80726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ÂMARA DE VEREADOR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8" name=""/>
          <p:cNvGraphicFramePr/>
          <p:nvPr/>
        </p:nvGraphicFramePr>
        <p:xfrm>
          <a:off x="539640" y="1197000"/>
          <a:ext cx="6434280" cy="3492360"/>
        </p:xfrm>
        <a:graphic>
          <a:graphicData uri="http://schemas.openxmlformats.org/drawingml/2006/table">
            <a:tbl>
              <a:tblPr/>
              <a:tblGrid>
                <a:gridCol w="52560"/>
                <a:gridCol w="520200"/>
                <a:gridCol w="5861520"/>
              </a:tblGrid>
              <a:tr h="5824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a Administração de Pessoal do Legisla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cessos Administrativos do Legislativ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e Reparos da Infraestrutura do Legisla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1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Rádio e TV Câmar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cola do Legisla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539640" y="1052640"/>
          <a:ext cx="6434280" cy="1081080"/>
        </p:xfrm>
        <a:graphic>
          <a:graphicData uri="http://schemas.openxmlformats.org/drawingml/2006/table">
            <a:tbl>
              <a:tblPr/>
              <a:tblGrid>
                <a:gridCol w="52560"/>
                <a:gridCol w="520200"/>
                <a:gridCol w="5861520"/>
              </a:tblGrid>
              <a:tr h="5410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0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Contingência - PM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70" name="CaixaDeTexto 3"/>
          <p:cNvSpPr/>
          <p:nvPr/>
        </p:nvSpPr>
        <p:spPr>
          <a:xfrm>
            <a:off x="598320" y="4292640"/>
            <a:ext cx="7549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Calibri"/>
              </a:rPr>
              <a:t>RESERVA DE CONTINGÊNCIA – R$ 100 MIL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upo 6"/>
          <p:cNvGrpSpPr/>
          <p:nvPr/>
        </p:nvGrpSpPr>
        <p:grpSpPr>
          <a:xfrm>
            <a:off x="473040" y="2717640"/>
            <a:ext cx="8136000" cy="839880"/>
            <a:chOff x="473040" y="2717640"/>
            <a:chExt cx="8136000" cy="839880"/>
          </a:xfrm>
        </p:grpSpPr>
        <p:sp>
          <p:nvSpPr>
            <p:cNvPr id="572" name="Retângulo de cantos arredondados 7"/>
            <p:cNvSpPr/>
            <p:nvPr/>
          </p:nvSpPr>
          <p:spPr>
            <a:xfrm>
              <a:off x="473040" y="2717640"/>
              <a:ext cx="81360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tângulo 17"/>
            <p:cNvSpPr/>
            <p:nvPr/>
          </p:nvSpPr>
          <p:spPr>
            <a:xfrm>
              <a:off x="504720" y="2758680"/>
              <a:ext cx="80726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OMAD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upo 6"/>
          <p:cNvGrpSpPr/>
          <p:nvPr/>
        </p:nvGrpSpPr>
        <p:grpSpPr>
          <a:xfrm>
            <a:off x="490680" y="93600"/>
            <a:ext cx="8137440" cy="839880"/>
            <a:chOff x="490680" y="93600"/>
            <a:chExt cx="8137440" cy="839880"/>
          </a:xfrm>
        </p:grpSpPr>
        <p:sp>
          <p:nvSpPr>
            <p:cNvPr id="575" name="Retângulo de cantos arredondados 7"/>
            <p:cNvSpPr/>
            <p:nvPr/>
          </p:nvSpPr>
          <p:spPr>
            <a:xfrm>
              <a:off x="490680" y="93600"/>
              <a:ext cx="81374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tângulo 20"/>
            <p:cNvSpPr/>
            <p:nvPr/>
          </p:nvSpPr>
          <p:spPr>
            <a:xfrm>
              <a:off x="522360" y="134640"/>
              <a:ext cx="807408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RESERVA DE CONTINGÊNCI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7" name=""/>
          <p:cNvGraphicFramePr/>
          <p:nvPr/>
        </p:nvGraphicFramePr>
        <p:xfrm>
          <a:off x="485640" y="3687840"/>
          <a:ext cx="6424920" cy="1204920"/>
        </p:xfrm>
        <a:graphic>
          <a:graphicData uri="http://schemas.openxmlformats.org/drawingml/2006/table">
            <a:tbl>
              <a:tblPr/>
              <a:tblGrid>
                <a:gridCol w="52560"/>
                <a:gridCol w="520200"/>
                <a:gridCol w="5852160"/>
              </a:tblGrid>
              <a:tr h="6030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Realização de Eventos pelo COM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4"/>
          <p:cNvSpPr/>
          <p:nvPr/>
        </p:nvSpPr>
        <p:spPr>
          <a:xfrm>
            <a:off x="1763640" y="2602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70c0"/>
                </a:solidFill>
                <a:latin typeface="Arial"/>
              </a:rPr>
              <a:t>OBRIGADA PELA ATEN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"/>
          <p:cNvSpPr/>
          <p:nvPr/>
        </p:nvSpPr>
        <p:spPr>
          <a:xfrm>
            <a:off x="826920" y="2951280"/>
            <a:ext cx="259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  <a:ea typeface="Microsoft YaHei"/>
              </a:rPr>
              <a:t>Elaboraç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  <a:ea typeface="Microsoft YaHei"/>
              </a:rPr>
              <a:t>Apresentaç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" descr=""/>
          <p:cNvPicPr/>
          <p:nvPr/>
        </p:nvPicPr>
        <p:blipFill>
          <a:blip r:embed="rId1"/>
          <a:stretch/>
        </p:blipFill>
        <p:spPr>
          <a:xfrm>
            <a:off x="3616200" y="2392200"/>
            <a:ext cx="2808360" cy="11192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3571920" y="39146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  <a:ea typeface="Microsoft YaHei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561840" y="4508640"/>
            <a:ext cx="346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  <a:ea typeface="Microsoft YaHei"/>
              </a:rPr>
              <a:t>Secretaria de 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  <a:ea typeface="Microsoft YaHei"/>
              </a:rPr>
              <a:t>e Gestão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aixaDeTexto 1"/>
          <p:cNvSpPr/>
          <p:nvPr/>
        </p:nvSpPr>
        <p:spPr>
          <a:xfrm>
            <a:off x="1618920" y="5676840"/>
            <a:ext cx="59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48235"/>
                </a:solidFill>
                <a:latin typeface="Arial"/>
              </a:rPr>
              <a:t>Liliane Maria </a:t>
            </a:r>
            <a:r>
              <a:rPr b="0" lang="pt-BR" sz="1800" spc="-1" strike="noStrike">
                <a:solidFill>
                  <a:srgbClr val="548235"/>
                </a:solidFill>
                <a:latin typeface="Tahoma"/>
                <a:ea typeface="Tahoma"/>
              </a:rPr>
              <a:t>Novaes</a:t>
            </a:r>
            <a:r>
              <a:rPr b="0" lang="pt-BR" sz="1800" spc="-1" strike="noStrike">
                <a:solidFill>
                  <a:srgbClr val="548235"/>
                </a:solidFill>
                <a:latin typeface="Arial"/>
              </a:rPr>
              <a:t> – LLN Consultoria Governa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0102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Calibri Light"/>
              </a:rPr>
              <a:t>EVOLUÇÃO DA RECEITA TOTAL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55640" y="1165320"/>
          <a:ext cx="7672320" cy="4363920"/>
        </p:xfrm>
        <a:graphic>
          <a:graphicData uri="http://schemas.openxmlformats.org/drawingml/2006/table">
            <a:tbl>
              <a:tblPr/>
              <a:tblGrid>
                <a:gridCol w="808200"/>
                <a:gridCol w="1774800"/>
                <a:gridCol w="1585800"/>
                <a:gridCol w="1592280"/>
                <a:gridCol w="1911240"/>
              </a:tblGrid>
              <a:tr h="89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VI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ARRECAD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(EXECUTA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 PREVIS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EVOLUÇÃO EM RELAÇÃO AO ANO A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.15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.0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.17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6.3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6%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1%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4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.7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.1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.5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8.5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18.0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3.8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6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6.8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4.8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2.6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9.1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  <p:sp>
        <p:nvSpPr>
          <p:cNvPr id="366" name="CaixaDeTexto 2"/>
          <p:cNvSpPr/>
          <p:nvPr/>
        </p:nvSpPr>
        <p:spPr>
          <a:xfrm>
            <a:off x="6739920" y="847800"/>
            <a:ext cx="1680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Valores em Milha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ixaDeTexto 2"/>
          <p:cNvSpPr/>
          <p:nvPr/>
        </p:nvSpPr>
        <p:spPr>
          <a:xfrm>
            <a:off x="664200" y="56307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evisão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12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Calibri Light"/>
              </a:rPr>
              <a:t>RECEITAS LDO 2023 </a:t>
            </a:r>
            <a:br>
              <a:rPr sz="4000"/>
            </a:br>
            <a:r>
              <a:rPr b="1" lang="pt-BR" sz="1700" spc="-1" strike="noStrike">
                <a:solidFill>
                  <a:srgbClr val="3b3838"/>
                </a:solidFill>
                <a:latin typeface="Calibri Light"/>
              </a:rPr>
              <a:t>POR CATEGORIA ECONÔMICA</a:t>
            </a:r>
            <a:endParaRPr b="0" lang="en-US" sz="17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116000" y="1557360"/>
          <a:ext cx="6913440" cy="3313080"/>
        </p:xfrm>
        <a:graphic>
          <a:graphicData uri="http://schemas.openxmlformats.org/drawingml/2006/table">
            <a:tbl>
              <a:tblPr/>
              <a:tblGrid>
                <a:gridCol w="3476520"/>
                <a:gridCol w="1941480"/>
                <a:gridCol w="1495440"/>
              </a:tblGrid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CORRENT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3.444.7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1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3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INTRA-ORÇAMENTÁRI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.563.5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DE CAPITAL*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2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11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ERAL LÍQUI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9.128.2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370" name="CaixaDeTexto 1"/>
          <p:cNvSpPr/>
          <p:nvPr/>
        </p:nvSpPr>
        <p:spPr>
          <a:xfrm>
            <a:off x="1289520" y="4894200"/>
            <a:ext cx="507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Receita de Capital ainda em análise, podendo sofrer variações até a entrega do PL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28"/>
          <p:cNvSpPr/>
          <p:nvPr/>
        </p:nvSpPr>
        <p:spPr>
          <a:xfrm>
            <a:off x="1434960" y="11160"/>
            <a:ext cx="61930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3b3838"/>
                </a:solidFill>
                <a:latin typeface="Arial"/>
              </a:rPr>
              <a:t>RECEITAS LDO 202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b3838"/>
                </a:solidFill>
                <a:latin typeface="Arial"/>
              </a:rPr>
              <a:t>PELA ORI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39640" y="981000"/>
          <a:ext cx="7993080" cy="4896000"/>
        </p:xfrm>
        <a:graphic>
          <a:graphicData uri="http://schemas.openxmlformats.org/drawingml/2006/table">
            <a:tbl>
              <a:tblPr/>
              <a:tblGrid>
                <a:gridCol w="5040360"/>
                <a:gridCol w="1800360"/>
                <a:gridCol w="1152360"/>
              </a:tblGrid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 e Tax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.129.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6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.9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.915.7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.476.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 Uni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.910.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.1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496.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de Operações de 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 de Convên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0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de Capital(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/OUC/ICON/ICAD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1c1c11"/>
                          </a:solidFill>
                          <a:latin typeface="Arial"/>
                        </a:rPr>
                        <a:t>1.479.128.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01240" y="259920"/>
            <a:ext cx="6985080" cy="6224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RECEITA PRÓPRIA MUNICIPAL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CaixaDeTexto 1"/>
          <p:cNvSpPr/>
          <p:nvPr/>
        </p:nvSpPr>
        <p:spPr>
          <a:xfrm>
            <a:off x="1524960" y="5661000"/>
            <a:ext cx="6427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ceita própria representa  72,47% do valor total prev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aixaDeTexto 1"/>
          <p:cNvSpPr/>
          <p:nvPr/>
        </p:nvSpPr>
        <p:spPr>
          <a:xfrm>
            <a:off x="915120" y="4921200"/>
            <a:ext cx="436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Receitas: OUC / SOLO /  ICON/ICAD (Estatuto das Cidad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00000" y="1197000"/>
          <a:ext cx="7488360" cy="3744720"/>
        </p:xfrm>
        <a:graphic>
          <a:graphicData uri="http://schemas.openxmlformats.org/drawingml/2006/table">
            <a:tbl>
              <a:tblPr/>
              <a:tblGrid>
                <a:gridCol w="4589640"/>
                <a:gridCol w="1770120"/>
                <a:gridCol w="1128600"/>
              </a:tblGrid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.129.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.9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915.7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DE SERVIÇ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.476.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CORREN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496.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ÕES DE BE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DE CAPITAL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71.968.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06:37Z</dcterms:created>
  <dc:creator>adeline</dc:creator>
  <dc:description/>
  <dc:language>en-US</dc:language>
  <cp:lastModifiedBy>Adeline Poleza</cp:lastModifiedBy>
  <cp:lastPrinted>2018-07-30T19:13:03Z</cp:lastPrinted>
  <dcterms:modified xsi:type="dcterms:W3CDTF">2022-08-01T21:48:16Z</dcterms:modified>
  <cp:revision>974</cp:revision>
  <dc:subject/>
  <dc:title>AUDIÊNCIA PÚBLICA 29/09/2005</dc:title>
</cp:coreProperties>
</file>