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dt" idx="5"/>
          </p:nvPr>
        </p:nvSpPr>
        <p:spPr>
          <a:xfrm>
            <a:off x="385128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6"/>
          </p:nvPr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A1D1269-932D-4DFB-B924-EF5D1BD959B1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F6355A-748E-4567-B1C1-09D7F54D18E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FEITO EM FORMA DE ESCADA REPRESENTANDO A FORMA DE ALCANÇAR A ME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B3D3AC-C397-4CF2-97AA-99A2BAC7B32F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A56BF68-9164-4F75-8CE9-16D4BBAFE957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D0C855-A9B1-4840-9DFD-6BBCCD5A4FE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7406-951E-49BF-95CC-6F5E2F1B9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677E-A712-4D1C-BBDC-B204F0A8E2F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3112-1E55-4C6D-BAC7-EB76610C37D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5A53-2992-4F06-A8E5-1FDA0B4742E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86F6-534E-4724-BE7C-2679B004369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C81FE-4020-4CFF-8DA1-47C5B6EC39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5C5C-0093-42BA-9D85-8D3E97DCD60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2E93-1419-4508-9BF8-CD639A06444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3257-FBA3-4D20-AFC9-D8FE0D9EF89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A746-086E-43D6-8FFD-0EFBF398154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6E16-F7E8-4AB0-920A-24286AC79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5472-F2F3-4F2C-8369-C0C06B244CA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EC15-71B3-43EC-B9AF-D2B28F6487F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B338-D0DA-48F1-8D6A-25CAAAC2525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748A-9931-48C5-9895-C2430BB0AE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A614-2EA9-42F6-9E2E-C743C3E2799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CD12E-0A62-483D-8102-1939BAEACC3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B379-1AAC-4B58-8B86-062439B1C49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ACEB-8AF2-4514-B002-AA748D042A3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696F1-D2A6-4B9D-B32E-4A642349814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828B-A105-4B50-AC66-771D78ACAD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78D46-941B-4837-B2D9-219219FB3F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9FB2-341E-47C7-88AD-A38F0744433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32594-2892-49AD-810B-2866168BF2A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F80-3F4A-4B67-A334-FD1C75209BD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9E9-46E8-4864-8303-7B09EA980F2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239-40DC-46B0-9E12-4EAE7EF7CBA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48CE-A643-400B-B7A3-14B82002DA7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17C0-AEA1-4125-9C8E-BE886174EC4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1C9-DB81-4CEA-B9EA-F11D267B9F0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6C1-299E-417F-A68B-662CF5ABF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026-676B-4FED-B267-2A21B401CA6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524-2C62-4C20-8C7B-BD94D7E09FA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FCA-E0F0-4CB1-80ED-6CAD601B319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785-89E1-467A-9567-7D5212F8E9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232-F11F-4B5F-A9E8-AA795DEF880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7784A-721F-49D7-9412-0752AFD4D48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417EC-F391-4B07-8A0D-56FE9D8E77C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908D5-C4A0-4917-ADC2-FDE54EAB933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48A54-B821-4318-BA15-F500646B594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49F11-94AF-442F-BA7C-2C10124AD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1F651-215E-4B97-821F-B17F458141C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BCB4D-0C9D-419A-89DB-B0DD0258F15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20B9D-4DFB-4E6F-927F-D640D9924C6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49133-AD69-4CF0-8435-4F9DBA81B5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E8AE4-F281-4274-8C9A-CC641F73E5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F9E50-045C-4FC1-80FE-D1FC1415757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2E03A-2706-4CDC-88FE-B4FD1FA05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5"/>
          <a:stretch/>
        </p:blipFill>
        <p:spPr>
          <a:xfrm>
            <a:off x="1787400" y="2503440"/>
            <a:ext cx="5569200" cy="21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319800" y="5649840"/>
            <a:ext cx="2414520" cy="928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5322960"/>
            <a:ext cx="9128160" cy="12600"/>
          </a:xfrm>
          <a:prstGeom prst="line">
            <a:avLst/>
          </a:prstGeom>
          <a:ln w="190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079640" y="3780000"/>
            <a:ext cx="2414520" cy="92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Num" idx="1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7BD948-53EE-4380-91F6-F45DDA8DD961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Num" idx="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1A0AC4-C468-43C3-8EBE-6702A7BA72E9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Num" idx="3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6656F4-8ACC-4BCF-9634-C0F29890F500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600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7709040" y="6327720"/>
            <a:ext cx="1187280" cy="4572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71500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Num" idx="4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ACFEA4-E894-4823-9A40-4BF118AA02E7}" type="slidenum">
              <a:rPr b="0" lang="pt-BR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92160" y="4292640"/>
            <a:ext cx="71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3b3838"/>
                </a:solidFill>
                <a:latin typeface="Bookman Old Style"/>
              </a:rPr>
              <a:t>LEI DE DIRETRIZ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3b3838"/>
                </a:solidFill>
                <a:latin typeface="Bookman Old Style"/>
              </a:rPr>
              <a:t> </a:t>
            </a:r>
            <a:r>
              <a:rPr b="0" lang="pt-BR" sz="4000" spc="-1" strike="noStrike">
                <a:solidFill>
                  <a:srgbClr val="3b3838"/>
                </a:solidFill>
                <a:latin typeface="Bookman Old Style"/>
              </a:rPr>
              <a:t>ORÇAMENTÁ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Bookman Old Style"/>
              </a:rPr>
              <a:t>2 0 2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47640" y="1268280"/>
            <a:ext cx="56898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6800" spc="-1" strike="noStrike">
                <a:solidFill>
                  <a:srgbClr val="000000"/>
                </a:solidFill>
                <a:latin typeface="Arial Black"/>
              </a:rPr>
              <a:t>AUDIÊNCIA PÚBLICA</a:t>
            </a:r>
            <a:br>
              <a:rPr sz="5500"/>
            </a:br>
            <a:r>
              <a:rPr b="1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31/07/2023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01840" y="112680"/>
            <a:ext cx="4510440" cy="6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UNICÍPIO DE BALNEÁRIO CAMBORI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pital Catarinense do Tu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00360" y="623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42920" y="115920"/>
            <a:ext cx="71280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3b3838"/>
                </a:solidFill>
                <a:latin typeface="Calibri Light"/>
              </a:rPr>
              <a:t>RECEITAS LDO 2024 </a:t>
            </a:r>
            <a:br>
              <a:rPr sz="4000"/>
            </a:br>
            <a:r>
              <a:rPr b="1" lang="pt-BR" sz="1700" spc="-1" strike="noStrike">
                <a:solidFill>
                  <a:srgbClr val="3b3838"/>
                </a:solidFill>
                <a:latin typeface="Calibri Light"/>
              </a:rPr>
              <a:t>POR CATEGORIA ECONÔM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116000" y="1557360"/>
          <a:ext cx="6914880" cy="3314160"/>
        </p:xfrm>
        <a:graphic>
          <a:graphicData uri="http://schemas.openxmlformats.org/drawingml/2006/table">
            <a:tbl>
              <a:tblPr/>
              <a:tblGrid>
                <a:gridCol w="3477240"/>
                <a:gridCol w="1941840"/>
                <a:gridCol w="1495800"/>
              </a:tblGrid>
              <a:tr h="833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CORRENT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4.348.72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16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35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INTRA-ORÇAMENTÁRI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.910.728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5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dc3e6"/>
                    </a:solidFill>
                  </a:tcPr>
                </a:tc>
              </a:tr>
              <a:tr h="833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S DE CAPIT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100.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9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811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GERAL LÍQUI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432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04.359.45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383" name=""/>
          <p:cNvSpPr/>
          <p:nvPr/>
        </p:nvSpPr>
        <p:spPr>
          <a:xfrm>
            <a:off x="1209600" y="4894200"/>
            <a:ext cx="539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Todas as receitas ainda estão em análise, podendo sofrer variações até a entrega do PL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434960" y="11160"/>
            <a:ext cx="6193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3b3838"/>
                </a:solidFill>
                <a:latin typeface="Arial"/>
              </a:rPr>
              <a:t>RECEITAS LDO 202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3b3838"/>
                </a:solidFill>
                <a:latin typeface="Arial"/>
              </a:rPr>
              <a:t>PELA ORI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7280" y="642132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ffe9"/>
                </a:solidFill>
                <a:latin typeface="Tahoma"/>
              </a:rPr>
              <a:t>Proposta LDO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39640" y="981000"/>
          <a:ext cx="7994520" cy="4897080"/>
        </p:xfrm>
        <a:graphic>
          <a:graphicData uri="http://schemas.openxmlformats.org/drawingml/2006/table">
            <a:tbl>
              <a:tblPr/>
              <a:tblGrid>
                <a:gridCol w="5041440"/>
                <a:gridCol w="1800720"/>
                <a:gridCol w="1152360"/>
              </a:tblGrid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stos e Tax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7.630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õ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.821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3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.722.6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ç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.835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7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orrentes Uni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.011.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s Correntes Es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414.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6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9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Corr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825.2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de Operações de 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ienação de B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ferência de Convên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50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ras Receitas de Capital(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/OUC/ICON/ICAD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000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1c1c11"/>
                          </a:solidFill>
                          <a:latin typeface="Arial"/>
                        </a:rPr>
                        <a:t>1.804.359.4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95280" y="260280"/>
            <a:ext cx="8137440" cy="100800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CONDIÇÕES PARA ATINGIR A</a:t>
            </a:r>
            <a:br>
              <a:rPr sz="3300"/>
            </a:br>
            <a:r>
              <a:rPr b="1" lang="pt-BR" sz="3300" spc="-1" strike="noStrike">
                <a:solidFill>
                  <a:srgbClr val="11151a"/>
                </a:solidFill>
                <a:latin typeface="Calibri Light"/>
              </a:rPr>
              <a:t> META DA RECEIT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63680" y="1987560"/>
            <a:ext cx="8418240" cy="36021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1743120" cy="20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16000" y="1557360"/>
            <a:ext cx="708660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r>
              <a:rPr b="1" lang="pt-BR" sz="7200" spc="-1" strike="noStrike">
                <a:solidFill>
                  <a:srgbClr val="3b3838"/>
                </a:solidFill>
                <a:latin typeface="Calibri Light"/>
              </a:rPr>
              <a:t>METAS DE DESPESAS</a:t>
            </a:r>
            <a:br>
              <a:rPr sz="7200"/>
            </a:b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Aplicação dos 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619280" y="2095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 D O - 20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971640" y="189000"/>
            <a:ext cx="7010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Calibri Light"/>
              </a:rPr>
              <a:t>EVOLUÇÃO DAS DESPESA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57480" y="5249880"/>
            <a:ext cx="21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*2024 – Valor em elabo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971640" y="765000"/>
          <a:ext cx="7273440" cy="4485960"/>
        </p:xfrm>
        <a:graphic>
          <a:graphicData uri="http://schemas.openxmlformats.org/drawingml/2006/table">
            <a:tbl>
              <a:tblPr/>
              <a:tblGrid>
                <a:gridCol w="1409760"/>
                <a:gridCol w="2046600"/>
                <a:gridCol w="1943280"/>
                <a:gridCol w="1873800"/>
              </a:tblGrid>
              <a:tr h="1041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TAÇÃO ATUALIZ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EXECU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EXECUTADO EM RELAÇÃO AO FIX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30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7.141.2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713.6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.168.3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.044.8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5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55.700.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1.748.0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65.323.7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6.402.7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62.540.0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3.665.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8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2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87.760.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28.226.6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,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5.266.0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execu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deded"/>
                    </a:solidFill>
                  </a:tcPr>
                </a:tc>
              </a:tr>
              <a:tr h="430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4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04.359.4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elabor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bdd7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71640" y="1125360"/>
            <a:ext cx="70866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PROPOSTA DE INVESTIMENTOS</a:t>
            </a:r>
            <a:br>
              <a:rPr sz="7200"/>
            </a:br>
            <a:r>
              <a:rPr b="1" lang="pt-BR" sz="7200" spc="-1" strike="noStrike">
                <a:solidFill>
                  <a:srgbClr val="000000"/>
                </a:solidFill>
                <a:latin typeface="Calibri"/>
              </a:rPr>
              <a:t>PARA 202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468360" y="28440"/>
            <a:ext cx="7773840" cy="811440"/>
            <a:chOff x="468360" y="28440"/>
            <a:chExt cx="7773840" cy="811440"/>
          </a:xfrm>
        </p:grpSpPr>
        <p:sp>
          <p:nvSpPr>
            <p:cNvPr id="398" name=""/>
            <p:cNvSpPr/>
            <p:nvPr/>
          </p:nvSpPr>
          <p:spPr>
            <a:xfrm>
              <a:off x="468360" y="28440"/>
              <a:ext cx="7773840" cy="7207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8200" y="28440"/>
              <a:ext cx="770400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GABINETE DO PREFEITO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0" name=""/>
          <p:cNvGraphicFramePr/>
          <p:nvPr/>
        </p:nvGraphicFramePr>
        <p:xfrm>
          <a:off x="466560" y="911160"/>
          <a:ext cx="7778520" cy="4909680"/>
        </p:xfrm>
        <a:graphic>
          <a:graphicData uri="http://schemas.openxmlformats.org/drawingml/2006/table">
            <a:tbl>
              <a:tblPr/>
              <a:tblGrid>
                <a:gridCol w="814680"/>
                <a:gridCol w="6963840"/>
              </a:tblGrid>
              <a:tr h="30960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apropriações Previstas em Le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e Melhorias do Prédio da Procuradoria Juríd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464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81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à Entidades Representativas de Class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o Prefe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5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Rateio do Consórcio CIM - AMF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81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o Vice Prefe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780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. da Sec. de Articulação Governamen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asa dos Conselh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63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rocuradoria Ger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s de Precatórios e Sentenças Judici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77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mpanhas de Utilidade Pública e Institucion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596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ivisão de Comunicaçã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52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Junta de Serviço Militar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324000" y="115920"/>
            <a:ext cx="8350200" cy="592200"/>
            <a:chOff x="324000" y="115920"/>
            <a:chExt cx="8350200" cy="592200"/>
          </a:xfrm>
        </p:grpSpPr>
        <p:sp>
          <p:nvSpPr>
            <p:cNvPr id="402" name=""/>
            <p:cNvSpPr/>
            <p:nvPr/>
          </p:nvSpPr>
          <p:spPr>
            <a:xfrm>
              <a:off x="324000" y="115920"/>
              <a:ext cx="8350200" cy="59220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1800" y="144360"/>
              <a:ext cx="82742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GESTÃO ADMINISTRATIV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4" name=""/>
          <p:cNvGraphicFramePr/>
          <p:nvPr/>
        </p:nvGraphicFramePr>
        <p:xfrm>
          <a:off x="395280" y="836640"/>
          <a:ext cx="8065800" cy="4970160"/>
        </p:xfrm>
        <a:graphic>
          <a:graphicData uri="http://schemas.openxmlformats.org/drawingml/2006/table">
            <a:tbl>
              <a:tblPr/>
              <a:tblGrid>
                <a:gridCol w="566640"/>
                <a:gridCol w="7499160"/>
              </a:tblGrid>
              <a:tr h="225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ição ao PASEP - PMB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o Déficit Atuarial do RPPS - PMB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rtização do Déficit Atuarial do RPPS - Legislativ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7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do Paço Municip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da Estrutura Física do Data Center do Paço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orma e Modernização da Estrutura Física do DI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pliação de Área do Cemitério e Construção de Novos Blocos Vertic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da Gestão Administrativa e Fiscal do Município (PNAFM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Sec. de Gestão Administrativ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rotocolo e Expedient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e Gestão de Pesso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rgos Sociais e Previdenciários Sobre Folha - Ger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ão Alimentação aos Servidores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71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o Patrimônio Público e Serviç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o Cemitério Público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Logística e Operaçõ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ação e Inovação em Tecnologia da Informa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68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tenção das Atividades da Divisão de 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53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 e Proteção do Trabalhador - SESM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627120" y="189000"/>
            <a:ext cx="7888320" cy="677880"/>
            <a:chOff x="627120" y="189000"/>
            <a:chExt cx="7888320" cy="677880"/>
          </a:xfrm>
        </p:grpSpPr>
        <p:sp>
          <p:nvSpPr>
            <p:cNvPr id="406" name=""/>
            <p:cNvSpPr/>
            <p:nvPr/>
          </p:nvSpPr>
          <p:spPr>
            <a:xfrm>
              <a:off x="627120" y="189000"/>
              <a:ext cx="7888320" cy="677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5400" y="222120"/>
              <a:ext cx="763596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87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  <a:tab algn="l" pos="9883800"/>
                  <a:tab algn="l" pos="10333080"/>
                  <a:tab algn="l" pos="10782360"/>
                </a:tabLst>
              </a:pPr>
              <a:r>
                <a:rPr b="1" lang="pt-BR" sz="3600" spc="-1" strike="noStrike">
                  <a:solidFill>
                    <a:srgbClr val="ffffff"/>
                  </a:solidFill>
                  <a:latin typeface="Calibri"/>
                </a:rPr>
                <a:t>FAZEND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08" name=""/>
          <p:cNvGraphicFramePr/>
          <p:nvPr/>
        </p:nvGraphicFramePr>
        <p:xfrm>
          <a:off x="1042920" y="1125360"/>
          <a:ext cx="7202160" cy="4033800"/>
        </p:xfrm>
        <a:graphic>
          <a:graphicData uri="http://schemas.openxmlformats.org/drawingml/2006/table">
            <a:tbl>
              <a:tblPr/>
              <a:tblGrid>
                <a:gridCol w="52560"/>
                <a:gridCol w="583920"/>
                <a:gridCol w="6565680"/>
              </a:tblGrid>
              <a:tr h="3556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tização e Encargos Da Dívida Públ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odernização do Sistema de Administração Fazendária (PM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7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a S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CON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ívida Ativ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Arrecadação e Tribut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scalização e Proc. Fiscai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adastro Fazendári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48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ontabilidade e Financeir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57120" y="779400"/>
            <a:ext cx="1197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FAN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55640" y="1282680"/>
          <a:ext cx="6665400" cy="4511160"/>
        </p:xfrm>
        <a:graphic>
          <a:graphicData uri="http://schemas.openxmlformats.org/drawingml/2006/table">
            <a:tbl>
              <a:tblPr/>
              <a:tblGrid>
                <a:gridCol w="54000"/>
                <a:gridCol w="539640"/>
                <a:gridCol w="6071760"/>
              </a:tblGrid>
              <a:tr h="2998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os Núcleos de Ed. Infant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Parques Infantis para os NEI'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2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ormatização e Inovação Tecnológica - Ed. Infant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Equipamentos para os novos N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s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ucação Infantil - Crech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Vouchers Escolares -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Crech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ré Esco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0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Pré Escol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9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ucação Infantil - Pré Esco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Pré Escol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11" name="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68480" y="8568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682560" y="981000"/>
            <a:ext cx="7802640" cy="52801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225800" y="34920"/>
            <a:ext cx="67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LDO - Fundamentos Leg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57120" y="766800"/>
            <a:ext cx="20163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A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357120" y="1268280"/>
          <a:ext cx="7386480" cy="4706640"/>
        </p:xfrm>
        <a:graphic>
          <a:graphicData uri="http://schemas.openxmlformats.org/drawingml/2006/table">
            <a:tbl>
              <a:tblPr/>
              <a:tblGrid>
                <a:gridCol w="54000"/>
                <a:gridCol w="598680"/>
                <a:gridCol w="6733800"/>
              </a:tblGrid>
              <a:tr h="3366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 das Unidades Escolares (CEM'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a Escola do Amanhã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Parques Infantis para os CEM'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ormatização e Inovação Tecnológica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e Quadras Escolar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as fachadas das unidades escolares com identidade visu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5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Ensino Fundam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6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Vouchers Escolares – Ensino Fundamen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968120" y="8568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52440" y="836640"/>
            <a:ext cx="24544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JOVENS E ADUL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2160" y="2890800"/>
            <a:ext cx="12978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8920" y="5191200"/>
            <a:ext cx="9306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39840" y="5632560"/>
          <a:ext cx="6662160" cy="577440"/>
        </p:xfrm>
        <a:graphic>
          <a:graphicData uri="http://schemas.openxmlformats.org/drawingml/2006/table">
            <a:tbl>
              <a:tblPr/>
              <a:tblGrid>
                <a:gridCol w="54000"/>
                <a:gridCol w="538200"/>
                <a:gridCol w="6069960"/>
              </a:tblGrid>
              <a:tr h="2894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Transporte Escolar Ensino Méd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357120" y="1290600"/>
          <a:ext cx="6738480" cy="1276200"/>
        </p:xfrm>
        <a:graphic>
          <a:graphicData uri="http://schemas.openxmlformats.org/drawingml/2006/table">
            <a:tbl>
              <a:tblPr/>
              <a:tblGrid>
                <a:gridCol w="54000"/>
                <a:gridCol w="544680"/>
                <a:gridCol w="6139800"/>
              </a:tblGrid>
              <a:tr h="3193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EJ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7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CE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19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o CEJ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53880" y="3421080"/>
          <a:ext cx="6663960" cy="1607760"/>
        </p:xfrm>
        <a:graphic>
          <a:graphicData uri="http://schemas.openxmlformats.org/drawingml/2006/table">
            <a:tbl>
              <a:tblPr/>
              <a:tblGrid>
                <a:gridCol w="54000"/>
                <a:gridCol w="540000"/>
                <a:gridCol w="6069960"/>
              </a:tblGrid>
              <a:tr h="2682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Educação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Educação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ção dos Profissionais em Atividade - Educação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stalação e Manutenção do Centro de Atendimento Especializ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Educação Espe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357120" y="115920"/>
            <a:ext cx="8391600" cy="5428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968480" y="8568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alibri"/>
              </a:rPr>
              <a:t>EDUC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453960" y="115920"/>
            <a:ext cx="8263080" cy="541440"/>
            <a:chOff x="453960" y="115920"/>
            <a:chExt cx="8263080" cy="541440"/>
          </a:xfrm>
        </p:grpSpPr>
        <p:sp>
          <p:nvSpPr>
            <p:cNvPr id="426" name=""/>
            <p:cNvSpPr/>
            <p:nvPr/>
          </p:nvSpPr>
          <p:spPr>
            <a:xfrm>
              <a:off x="453960" y="115920"/>
              <a:ext cx="8258400" cy="5414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5880" y="142920"/>
              <a:ext cx="8201160" cy="4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DUCAÇÃO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488880" y="824040"/>
            <a:ext cx="19576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ATU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2160" y="3789360"/>
            <a:ext cx="37742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NUTENÇÃO DA SECRET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53960" y="1341360"/>
          <a:ext cx="6536880" cy="2161800"/>
        </p:xfrm>
        <a:graphic>
          <a:graphicData uri="http://schemas.openxmlformats.org/drawingml/2006/table">
            <a:tbl>
              <a:tblPr/>
              <a:tblGrid>
                <a:gridCol w="54000"/>
                <a:gridCol w="528840"/>
                <a:gridCol w="5954040"/>
              </a:tblGrid>
              <a:tr h="4320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 de Educação Multi Ma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3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Contra Turno Escolar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limentação Escolar para o CEA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453960" y="4192560"/>
          <a:ext cx="6536880" cy="1296720"/>
        </p:xfrm>
        <a:graphic>
          <a:graphicData uri="http://schemas.openxmlformats.org/drawingml/2006/table">
            <a:tbl>
              <a:tblPr/>
              <a:tblGrid>
                <a:gridCol w="54000"/>
                <a:gridCol w="528840"/>
                <a:gridCol w="5954040"/>
              </a:tblGrid>
              <a:tr h="4323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2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amento dos Indicadores do ID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468360" y="115920"/>
            <a:ext cx="8205840" cy="601560"/>
            <a:chOff x="468360" y="115920"/>
            <a:chExt cx="8205840" cy="601560"/>
          </a:xfrm>
        </p:grpSpPr>
        <p:sp>
          <p:nvSpPr>
            <p:cNvPr id="433" name=""/>
            <p:cNvSpPr/>
            <p:nvPr/>
          </p:nvSpPr>
          <p:spPr>
            <a:xfrm>
              <a:off x="468360" y="115920"/>
              <a:ext cx="8205840" cy="601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0040" y="146160"/>
              <a:ext cx="81424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OBRAS e SERVIÇO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5" name=""/>
          <p:cNvGraphicFramePr/>
          <p:nvPr/>
        </p:nvGraphicFramePr>
        <p:xfrm>
          <a:off x="455760" y="907920"/>
          <a:ext cx="6535080" cy="5330520"/>
        </p:xfrm>
        <a:graphic>
          <a:graphicData uri="http://schemas.openxmlformats.org/drawingml/2006/table">
            <a:tbl>
              <a:tblPr/>
              <a:tblGrid>
                <a:gridCol w="54000"/>
                <a:gridCol w="527040"/>
                <a:gridCol w="5954040"/>
              </a:tblGrid>
              <a:tr h="3556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Maquinários para Secretaria de Obr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3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vimentação, Ampliação e Reurbanização de Ruas e Avenid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6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da Rede de Iluminação Públ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s Públicos de Laz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crodrenagem da Avenida Atlân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3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Sec. de Obr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aisagism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Limpeza Urban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o Sistema de Drenagem Pluv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60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o Sistema Viár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3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usteio dos Serviços Administrativo de Iluminação Públ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Melhorias na Rede de Iluminação Públ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Obras e Benfeitorias Urban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250920" y="115920"/>
            <a:ext cx="8496360" cy="601560"/>
            <a:chOff x="250920" y="115920"/>
            <a:chExt cx="8496360" cy="601560"/>
          </a:xfrm>
        </p:grpSpPr>
        <p:sp>
          <p:nvSpPr>
            <p:cNvPr id="437" name=""/>
            <p:cNvSpPr/>
            <p:nvPr/>
          </p:nvSpPr>
          <p:spPr>
            <a:xfrm>
              <a:off x="466560" y="115920"/>
              <a:ext cx="8280720" cy="601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0920" y="146160"/>
              <a:ext cx="84643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LANEJAMEN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9" name=""/>
          <p:cNvGraphicFramePr/>
          <p:nvPr/>
        </p:nvGraphicFramePr>
        <p:xfrm>
          <a:off x="826920" y="981000"/>
          <a:ext cx="7143480" cy="4576320"/>
        </p:xfrm>
        <a:graphic>
          <a:graphicData uri="http://schemas.openxmlformats.org/drawingml/2006/table">
            <a:tbl>
              <a:tblPr/>
              <a:tblGrid>
                <a:gridCol w="54000"/>
                <a:gridCol w="578160"/>
                <a:gridCol w="6511320"/>
              </a:tblGrid>
              <a:tr h="327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a Avenida Eco Par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urbanização da Orla da Praia Central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longamento e Abertura de Avenidas- Binário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iação de Áreas Verdes - Entorno Binário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aça de Convivência junto ao Rio Cambori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a Avenida da Lagoa da Em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a Avenida Raposo Tav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o Acesso a BR 1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Av. Martin Luther – Rua Uganda até Rua Gaivo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Av. Martin Luther – Rua Gaivotas até Divisa Itaja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pavimentação da Avenida Inter Pra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a Praia de Laranjei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igação da Rua Evelon Cordeiro a Av. Raposo Tava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"/>
          <p:cNvGrpSpPr/>
          <p:nvPr/>
        </p:nvGrpSpPr>
        <p:grpSpPr>
          <a:xfrm>
            <a:off x="250920" y="115920"/>
            <a:ext cx="8496360" cy="601560"/>
            <a:chOff x="250920" y="115920"/>
            <a:chExt cx="8496360" cy="601560"/>
          </a:xfrm>
        </p:grpSpPr>
        <p:sp>
          <p:nvSpPr>
            <p:cNvPr id="441" name=""/>
            <p:cNvSpPr/>
            <p:nvPr/>
          </p:nvSpPr>
          <p:spPr>
            <a:xfrm>
              <a:off x="466560" y="115920"/>
              <a:ext cx="8280720" cy="601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0920" y="146160"/>
              <a:ext cx="84643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LANEJAMEN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826920" y="981000"/>
          <a:ext cx="7143480" cy="2288880"/>
        </p:xfrm>
        <a:graphic>
          <a:graphicData uri="http://schemas.openxmlformats.org/drawingml/2006/table">
            <a:tbl>
              <a:tblPr/>
              <a:tblGrid>
                <a:gridCol w="54000"/>
                <a:gridCol w="578160"/>
                <a:gridCol w="6511320"/>
              </a:tblGrid>
              <a:tr h="32724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Gabinete da Sec. Planejamento e Gestão Orçamentá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68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Técnicos Adm. do Planejamento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5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Planej. e Gestão Orçamentária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Fiscalização de Obras Urban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Análises e Projetos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7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ETP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36680" y="115920"/>
            <a:ext cx="8237520" cy="863640"/>
            <a:chOff x="436680" y="115920"/>
            <a:chExt cx="8237520" cy="863640"/>
          </a:xfrm>
        </p:grpSpPr>
        <p:sp>
          <p:nvSpPr>
            <p:cNvPr id="445" name=""/>
            <p:cNvSpPr/>
            <p:nvPr/>
          </p:nvSpPr>
          <p:spPr>
            <a:xfrm>
              <a:off x="436680" y="115920"/>
              <a:ext cx="8237520" cy="8636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6800" y="158760"/>
              <a:ext cx="75898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TURISMO E DESENV. ECONÔMIC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443160" y="2781360"/>
            <a:ext cx="11455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M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1640" y="1255680"/>
            <a:ext cx="17046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CRET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436680" y="1652760"/>
          <a:ext cx="6535440" cy="897840"/>
        </p:xfrm>
        <a:graphic>
          <a:graphicData uri="http://schemas.openxmlformats.org/drawingml/2006/table">
            <a:tbl>
              <a:tblPr/>
              <a:tblGrid>
                <a:gridCol w="54000"/>
                <a:gridCol w="527040"/>
                <a:gridCol w="5954400"/>
              </a:tblGrid>
              <a:tr h="46260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2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Pessoal da Secretaria de Turism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436680" y="3151080"/>
          <a:ext cx="6533640" cy="2106360"/>
        </p:xfrm>
        <a:graphic>
          <a:graphicData uri="http://schemas.openxmlformats.org/drawingml/2006/table">
            <a:tbl>
              <a:tblPr/>
              <a:tblGrid>
                <a:gridCol w="54000"/>
                <a:gridCol w="527040"/>
                <a:gridCol w="5952600"/>
              </a:tblGrid>
              <a:tr h="43740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MTU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09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rticipação no Consórcio de Turismo Costa Verde e Mar - CITM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Equipamentos Públicos Turístic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8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dução de Festividades Turísticas e Participação em Eventos Turíst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468360" y="115920"/>
            <a:ext cx="8245440" cy="839880"/>
            <a:chOff x="468360" y="115920"/>
            <a:chExt cx="8245440" cy="839880"/>
          </a:xfrm>
        </p:grpSpPr>
        <p:sp>
          <p:nvSpPr>
            <p:cNvPr id="452" name=""/>
            <p:cNvSpPr/>
            <p:nvPr/>
          </p:nvSpPr>
          <p:spPr>
            <a:xfrm>
              <a:off x="468360" y="115920"/>
              <a:ext cx="82454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0040" y="157320"/>
              <a:ext cx="81820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INCLUSÃO SOCIAL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4" name=""/>
          <p:cNvGraphicFramePr/>
          <p:nvPr/>
        </p:nvGraphicFramePr>
        <p:xfrm>
          <a:off x="527040" y="1125360"/>
          <a:ext cx="7789680" cy="5101920"/>
        </p:xfrm>
        <a:graphic>
          <a:graphicData uri="http://schemas.openxmlformats.org/drawingml/2006/table">
            <a:tbl>
              <a:tblPr/>
              <a:tblGrid>
                <a:gridCol w="54000"/>
                <a:gridCol w="630360"/>
                <a:gridCol w="7105320"/>
              </a:tblGrid>
              <a:tr h="2811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reformas de Centro Comunitá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016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Assistência Social e Comunitá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Marcenaria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Promoção e Desenvlolvimento So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Resgate Social e Controle da Migraçã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moção do Casamento Cole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Desenvolvimento Comunitári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Economia Artesan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e Manutenção Centro de Convivência da Pessoa com Deficiê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08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ursos Técnicos e Profissionalizantes para a Comunida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Casa da Mulher Brasilei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9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Municipal - ABRAÇ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Ampliação do Programa Bem Estar da Família e da Casa da Famíl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Ações Afirmativas para Promoção da Igualdade Ra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. do Conselho Tutelar e de Direitos da Criança e Adolescent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26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e Atividades Voltadas ao Fortalecimento da Juventu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395280" y="100080"/>
            <a:ext cx="8207280" cy="839880"/>
            <a:chOff x="395280" y="100080"/>
            <a:chExt cx="8207280" cy="839880"/>
          </a:xfrm>
        </p:grpSpPr>
        <p:sp>
          <p:nvSpPr>
            <p:cNvPr id="456" name=""/>
            <p:cNvSpPr/>
            <p:nvPr/>
          </p:nvSpPr>
          <p:spPr>
            <a:xfrm>
              <a:off x="395280" y="100080"/>
              <a:ext cx="820728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26960" y="141120"/>
              <a:ext cx="81439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SEGURANÇA PÚBLIC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8" name=""/>
          <p:cNvGraphicFramePr/>
          <p:nvPr/>
        </p:nvGraphicFramePr>
        <p:xfrm>
          <a:off x="455760" y="1123920"/>
          <a:ext cx="7648200" cy="4322520"/>
        </p:xfrm>
        <a:graphic>
          <a:graphicData uri="http://schemas.openxmlformats.org/drawingml/2006/table">
            <a:tbl>
              <a:tblPr/>
              <a:tblGrid>
                <a:gridCol w="54000"/>
                <a:gridCol w="618840"/>
                <a:gridCol w="6975360"/>
              </a:tblGrid>
              <a:tr h="3589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Equipamentos de Apoio às Ações da Defesa Civi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812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Gabinete da Sec. de Seguranç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9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 e Manutenção do Sistema de Monitoramen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onvênio da Radiopatrulha PMS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Guarda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9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enção de Ocupação Irregular e Degradação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Trânsito e Engenha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9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de Proteção e Defesa Civi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7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Guarda Patrimon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8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Defesa Civ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426960" y="115920"/>
            <a:ext cx="8104320" cy="839880"/>
            <a:chOff x="426960" y="115920"/>
            <a:chExt cx="8104320" cy="839880"/>
          </a:xfrm>
        </p:grpSpPr>
        <p:sp>
          <p:nvSpPr>
            <p:cNvPr id="460" name=""/>
            <p:cNvSpPr/>
            <p:nvPr/>
          </p:nvSpPr>
          <p:spPr>
            <a:xfrm>
              <a:off x="536400" y="115920"/>
              <a:ext cx="799488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6960" y="157320"/>
              <a:ext cx="78328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ESSOA IDOS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62" name=""/>
          <p:cNvGraphicFramePr/>
          <p:nvPr/>
        </p:nvGraphicFramePr>
        <p:xfrm>
          <a:off x="536400" y="1268280"/>
          <a:ext cx="7494480" cy="4054320"/>
        </p:xfrm>
        <a:graphic>
          <a:graphicData uri="http://schemas.openxmlformats.org/drawingml/2006/table">
            <a:tbl>
              <a:tblPr/>
              <a:tblGrid>
                <a:gridCol w="54000"/>
                <a:gridCol w="606600"/>
                <a:gridCol w="6833880"/>
              </a:tblGrid>
              <a:tr h="55656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quisição de ônibus para SP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3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NO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o Centro Dia para o Ido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1720">
                <a:tc gridSpan="3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SP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1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Operacionalização das Atividades do Lar dos Idos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34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Atenção ao Ido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0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Municipal do Idoso - FMIB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547640" y="2142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dinária de iniciativa do Poder Executiv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laborado em harmonia com o PP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Validade para o exercício financeiro seguinte ao da sua elaboraçã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 a formulação da LO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spõe sobre as seguintes matéri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etas e prioridades da administração para o exercício financeiro subsequent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alterações na legislação tributári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autorização para concessão de qualquer vantagem ou aumento na remuneração de servido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164360" y="5589720"/>
            <a:ext cx="1368360" cy="36036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468360" y="115920"/>
            <a:ext cx="8205840" cy="719280"/>
            <a:chOff x="468360" y="115920"/>
            <a:chExt cx="8205840" cy="719280"/>
          </a:xfrm>
        </p:grpSpPr>
        <p:sp>
          <p:nvSpPr>
            <p:cNvPr id="464" name=""/>
            <p:cNvSpPr/>
            <p:nvPr/>
          </p:nvSpPr>
          <p:spPr>
            <a:xfrm>
              <a:off x="468360" y="115920"/>
              <a:ext cx="8205840" cy="7192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01640" y="150840"/>
              <a:ext cx="79408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SEC DE COMPRA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44600" y="3716280"/>
            <a:ext cx="8175600" cy="612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CONTROLE E TRANSPARÊNC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539640" y="861840"/>
          <a:ext cx="6267240" cy="2234880"/>
        </p:xfrm>
        <a:graphic>
          <a:graphicData uri="http://schemas.openxmlformats.org/drawingml/2006/table">
            <a:tbl>
              <a:tblPr/>
              <a:tblGrid>
                <a:gridCol w="54000"/>
                <a:gridCol w="506520"/>
                <a:gridCol w="5706720"/>
              </a:tblGrid>
              <a:tr h="5846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/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equações e Modernização do Arquivo da 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497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Secretaria de Compra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493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onsórcio Interfederativo Santa Catarina - CINCATAR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468360" y="4365720"/>
          <a:ext cx="6459120" cy="1368000"/>
        </p:xfrm>
        <a:graphic>
          <a:graphicData uri="http://schemas.openxmlformats.org/drawingml/2006/table">
            <a:tbl>
              <a:tblPr/>
              <a:tblGrid>
                <a:gridCol w="54000"/>
                <a:gridCol w="522360"/>
                <a:gridCol w="5882760"/>
              </a:tblGrid>
              <a:tr h="70560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Sec. Controle Governamental e    Transparência Públ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539640" y="115920"/>
            <a:ext cx="8175600" cy="839880"/>
            <a:chOff x="539640" y="115920"/>
            <a:chExt cx="8175600" cy="839880"/>
          </a:xfrm>
        </p:grpSpPr>
        <p:sp>
          <p:nvSpPr>
            <p:cNvPr id="470" name=""/>
            <p:cNvSpPr/>
            <p:nvPr/>
          </p:nvSpPr>
          <p:spPr>
            <a:xfrm>
              <a:off x="539640" y="115920"/>
              <a:ext cx="817560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1680" y="157320"/>
              <a:ext cx="81118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42880" y="1150920"/>
            <a:ext cx="2187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ÇÃO 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539640" y="1628640"/>
          <a:ext cx="7275240" cy="4471920"/>
        </p:xfrm>
        <a:graphic>
          <a:graphicData uri="http://schemas.openxmlformats.org/drawingml/2006/table">
            <a:tbl>
              <a:tblPr/>
              <a:tblGrid>
                <a:gridCol w="54000"/>
                <a:gridCol w="588960"/>
                <a:gridCol w="6632280"/>
              </a:tblGrid>
              <a:tr h="30492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BS - Bairro São Judas Tadeu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8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o Centro Administrativo de Saúde Muni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em Unidades Básica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Ponto de Apoio para atendimento aos usuários U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2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a Segurança Nutricional e Alimentar na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às Atividades do COM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frentamento em Situações de Emergência de Saúde Púb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os Serviços Público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80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Básico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6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Estratégias da Saúde Buc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8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Farmácia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88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Regulação, Controle e Avaliação da Atenção à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42920" y="157320"/>
            <a:ext cx="885816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3200" rIns="133200" tIns="133200" bIns="133200" anchor="ctr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536"/>
              </a:spcAft>
              <a:tabLst>
                <a:tab algn="l" pos="0"/>
                <a:tab algn="l" pos="1555920"/>
                <a:tab algn="l" pos="3111480"/>
                <a:tab algn="l" pos="4667400"/>
                <a:tab algn="l" pos="6222960"/>
                <a:tab algn="l" pos="7778880"/>
                <a:tab algn="l" pos="9334440"/>
                <a:tab algn="l" pos="1089036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Calibri"/>
              </a:rPr>
              <a:t>FUNDO SAÚDE – R$ 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22360" y="1150920"/>
            <a:ext cx="36356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ÉDIA E ALTA COMPLEX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39640" y="115920"/>
            <a:ext cx="8175600" cy="839880"/>
            <a:chOff x="539640" y="115920"/>
            <a:chExt cx="8175600" cy="839880"/>
          </a:xfrm>
        </p:grpSpPr>
        <p:sp>
          <p:nvSpPr>
            <p:cNvPr id="477" name=""/>
            <p:cNvSpPr/>
            <p:nvPr/>
          </p:nvSpPr>
          <p:spPr>
            <a:xfrm>
              <a:off x="539640" y="115920"/>
              <a:ext cx="817560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71680" y="157320"/>
              <a:ext cx="81118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79" name=""/>
          <p:cNvGraphicFramePr/>
          <p:nvPr/>
        </p:nvGraphicFramePr>
        <p:xfrm>
          <a:off x="571680" y="1628640"/>
          <a:ext cx="7457400" cy="4178160"/>
        </p:xfrm>
        <a:graphic>
          <a:graphicData uri="http://schemas.openxmlformats.org/drawingml/2006/table">
            <a:tbl>
              <a:tblPr/>
              <a:tblGrid>
                <a:gridCol w="53640"/>
                <a:gridCol w="605160"/>
                <a:gridCol w="6798600"/>
              </a:tblGrid>
              <a:tr h="3207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PA - Bairro da Bar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1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UES - CAPS III e CAPS 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em Unidades Especializadas de Saú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, Ampliação e Melhorias do HMRC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112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Especializados de Saúd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11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Centro de Atenção Psicossocial - CA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4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de Pronto Atendimento - PA/UP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25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Sistema de Inspeção Municipal - SI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e Rateio do Consórcio CIS-AMF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0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tenças Judiciais - Internações, Tratamentos e Medicament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2220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s Serviços Hospitalares do HMR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550800" y="1322280"/>
            <a:ext cx="27349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ILÂNCIA SANI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39280" y="3181320"/>
            <a:ext cx="35107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GILÂNCIA EPIDEMI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539640" y="115920"/>
            <a:ext cx="8175600" cy="839880"/>
            <a:chOff x="539640" y="115920"/>
            <a:chExt cx="8175600" cy="839880"/>
          </a:xfrm>
        </p:grpSpPr>
        <p:sp>
          <p:nvSpPr>
            <p:cNvPr id="483" name=""/>
            <p:cNvSpPr/>
            <p:nvPr/>
          </p:nvSpPr>
          <p:spPr>
            <a:xfrm>
              <a:off x="539640" y="115920"/>
              <a:ext cx="817560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1680" y="157320"/>
              <a:ext cx="81118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DO SAÚDE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85" name=""/>
          <p:cNvGraphicFramePr/>
          <p:nvPr/>
        </p:nvGraphicFramePr>
        <p:xfrm>
          <a:off x="539640" y="1773360"/>
          <a:ext cx="6467400" cy="1261440"/>
        </p:xfrm>
        <a:graphic>
          <a:graphicData uri="http://schemas.openxmlformats.org/drawingml/2006/table">
            <a:tbl>
              <a:tblPr/>
              <a:tblGrid>
                <a:gridCol w="54000"/>
                <a:gridCol w="522360"/>
                <a:gridCol w="5891040"/>
              </a:tblGrid>
              <a:tr h="63036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Básicas de Vigilância Sanitária e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28480" y="3716280"/>
          <a:ext cx="6473520" cy="1325160"/>
        </p:xfrm>
        <a:graphic>
          <a:graphicData uri="http://schemas.openxmlformats.org/drawingml/2006/table">
            <a:tbl>
              <a:tblPr/>
              <a:tblGrid>
                <a:gridCol w="54000"/>
                <a:gridCol w="522360"/>
                <a:gridCol w="5897160"/>
              </a:tblGrid>
              <a:tr h="66240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276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ções da Vigilância Epidemiológ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330120" y="115920"/>
            <a:ext cx="8417160" cy="792000"/>
            <a:chOff x="330120" y="115920"/>
            <a:chExt cx="8417160" cy="792000"/>
          </a:xfrm>
        </p:grpSpPr>
        <p:sp>
          <p:nvSpPr>
            <p:cNvPr id="488" name=""/>
            <p:cNvSpPr/>
            <p:nvPr/>
          </p:nvSpPr>
          <p:spPr>
            <a:xfrm>
              <a:off x="330120" y="115920"/>
              <a:ext cx="8417160" cy="79200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3600" y="155520"/>
              <a:ext cx="835020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MEIO AMBIENT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25800" y="909720"/>
            <a:ext cx="16408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CRE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1920" y="2060640"/>
            <a:ext cx="13100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UND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363600" y="2430360"/>
          <a:ext cx="6730560" cy="3754080"/>
        </p:xfrm>
        <a:graphic>
          <a:graphicData uri="http://schemas.openxmlformats.org/drawingml/2006/table">
            <a:tbl>
              <a:tblPr/>
              <a:tblGrid>
                <a:gridCol w="52200"/>
                <a:gridCol w="544680"/>
                <a:gridCol w="6133680"/>
              </a:tblGrid>
              <a:tr h="2509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o Centro de Educação Ambien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 da Sede Administrat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o Parque Natural Municipal Raimundo Gonçalez Malt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de Produtos e Serviços Ambient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servação e Ampliação do Selo Internacional "Bandeira Azul"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NDEM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scalização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Fitoterapia e Viveiro Mata Atlânt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stentabilidade Ambient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Terra Limp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Proteção e Bem Estar Anim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91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arque Raimundo Gonçalez M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0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Licenciamento Ambien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363600" y="1317600"/>
          <a:ext cx="6657480" cy="730080"/>
        </p:xfrm>
        <a:graphic>
          <a:graphicData uri="http://schemas.openxmlformats.org/drawingml/2006/table">
            <a:tbl>
              <a:tblPr/>
              <a:tblGrid>
                <a:gridCol w="52200"/>
                <a:gridCol w="538200"/>
                <a:gridCol w="6067080"/>
              </a:tblGrid>
              <a:tr h="2829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Pessoal da Secretaria do Meio Ambient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3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Fundo Municipal de Amparo Aos Animais - F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468360" y="115920"/>
            <a:ext cx="8205840" cy="839880"/>
            <a:chOff x="468360" y="115920"/>
            <a:chExt cx="8205840" cy="839880"/>
          </a:xfrm>
        </p:grpSpPr>
        <p:sp>
          <p:nvSpPr>
            <p:cNvPr id="495" name=""/>
            <p:cNvSpPr/>
            <p:nvPr/>
          </p:nvSpPr>
          <p:spPr>
            <a:xfrm>
              <a:off x="468360" y="115920"/>
              <a:ext cx="82058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0040" y="157320"/>
              <a:ext cx="81424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HABITAÇÃO FURB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97" name=""/>
          <p:cNvGraphicFramePr/>
          <p:nvPr/>
        </p:nvGraphicFramePr>
        <p:xfrm>
          <a:off x="684360" y="1484280"/>
          <a:ext cx="7273440" cy="3601800"/>
        </p:xfrm>
        <a:graphic>
          <a:graphicData uri="http://schemas.openxmlformats.org/drawingml/2006/table">
            <a:tbl>
              <a:tblPr/>
              <a:tblGrid>
                <a:gridCol w="52200"/>
                <a:gridCol w="587520"/>
                <a:gridCol w="6633720"/>
              </a:tblGrid>
              <a:tr h="4748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moção de Moradia Digna de Interesse So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Lar Legal e de Legitimação Fundiária/REUR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de Urbanização, Regularização e Integração de Assentamentos Precári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7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URB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e Ações de Promoção Huma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4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cessão de Auxílio Moradia aos Beneficiári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468360" y="115920"/>
            <a:ext cx="8205840" cy="839880"/>
            <a:chOff x="468360" y="115920"/>
            <a:chExt cx="8205840" cy="839880"/>
          </a:xfrm>
        </p:grpSpPr>
        <p:sp>
          <p:nvSpPr>
            <p:cNvPr id="499" name=""/>
            <p:cNvSpPr/>
            <p:nvPr/>
          </p:nvSpPr>
          <p:spPr>
            <a:xfrm>
              <a:off x="468360" y="115920"/>
              <a:ext cx="82058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00040" y="157320"/>
              <a:ext cx="81424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RIANÇA E ADOLESCENT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1" name=""/>
          <p:cNvGraphicFramePr/>
          <p:nvPr/>
        </p:nvGraphicFramePr>
        <p:xfrm>
          <a:off x="539640" y="1628640"/>
          <a:ext cx="7273800" cy="2665080"/>
        </p:xfrm>
        <a:graphic>
          <a:graphicData uri="http://schemas.openxmlformats.org/drawingml/2006/table">
            <a:tbl>
              <a:tblPr/>
              <a:tblGrid>
                <a:gridCol w="52560"/>
                <a:gridCol w="587160"/>
                <a:gridCol w="6634080"/>
              </a:tblGrid>
              <a:tr h="5605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MD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 das Atividades de Atenção à Criança e ao Adolescente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7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rmos de Parcerias voltadas ao bem estar da Criança e Adolesc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56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centivo à Guarda e à Adoçã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395280" y="115920"/>
            <a:ext cx="8278920" cy="839880"/>
            <a:chOff x="395280" y="115920"/>
            <a:chExt cx="8278920" cy="839880"/>
          </a:xfrm>
        </p:grpSpPr>
        <p:sp>
          <p:nvSpPr>
            <p:cNvPr id="503" name=""/>
            <p:cNvSpPr/>
            <p:nvPr/>
          </p:nvSpPr>
          <p:spPr>
            <a:xfrm>
              <a:off x="395280" y="115920"/>
              <a:ext cx="827892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6960" y="157320"/>
              <a:ext cx="82155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ASSISTÊNCIA SOCIAL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5" name=""/>
          <p:cNvGraphicFramePr/>
          <p:nvPr/>
        </p:nvGraphicFramePr>
        <p:xfrm>
          <a:off x="428760" y="1125360"/>
          <a:ext cx="6665400" cy="4392360"/>
        </p:xfrm>
        <a:graphic>
          <a:graphicData uri="http://schemas.openxmlformats.org/drawingml/2006/table">
            <a:tbl>
              <a:tblPr/>
              <a:tblGrid>
                <a:gridCol w="52200"/>
                <a:gridCol w="484200"/>
                <a:gridCol w="6129000"/>
              </a:tblGrid>
              <a:tr h="3556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Criança Feliz - Primeira Infância no SU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Conselho - CMA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4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Acessuas - Trabalh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27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Serviço de Família Acolhedora para Crianças, Idosos e Pessoas com Deficiênc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Gestão do SUAS - IG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Proteção Social Bás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IGD/ PBF e CadÚn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60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viços de Proteção Social Especial - MA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lização de Parcerias com OSCIPs - Prot. Social Básic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5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lização de Parcerias com OSCIPs - Prot. Social Especi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542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cessão De Benefícios Eventu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468360" y="115920"/>
            <a:ext cx="8205840" cy="839880"/>
            <a:chOff x="468360" y="115920"/>
            <a:chExt cx="8205840" cy="839880"/>
          </a:xfrm>
        </p:grpSpPr>
        <p:sp>
          <p:nvSpPr>
            <p:cNvPr id="507" name=""/>
            <p:cNvSpPr/>
            <p:nvPr/>
          </p:nvSpPr>
          <p:spPr>
            <a:xfrm>
              <a:off x="574560" y="115920"/>
              <a:ext cx="80996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8360" y="157320"/>
              <a:ext cx="80373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NSERVIR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9" name=""/>
          <p:cNvGraphicFramePr/>
          <p:nvPr/>
        </p:nvGraphicFramePr>
        <p:xfrm>
          <a:off x="627120" y="1197000"/>
          <a:ext cx="6332040" cy="2560320"/>
        </p:xfrm>
        <a:graphic>
          <a:graphicData uri="http://schemas.openxmlformats.org/drawingml/2006/table">
            <a:tbl>
              <a:tblPr/>
              <a:tblGrid>
                <a:gridCol w="52200"/>
                <a:gridCol w="511200"/>
                <a:gridCol w="5768640"/>
              </a:tblGrid>
              <a:tr h="5112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e Instalações da Sede Administrativa do FUNSERVI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120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1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FUNSERVI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30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Programa de Saúde do Servid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539640" y="115920"/>
            <a:ext cx="8134560" cy="839880"/>
            <a:chOff x="539640" y="115920"/>
            <a:chExt cx="8134560" cy="839880"/>
          </a:xfrm>
        </p:grpSpPr>
        <p:sp>
          <p:nvSpPr>
            <p:cNvPr id="511" name=""/>
            <p:cNvSpPr/>
            <p:nvPr/>
          </p:nvSpPr>
          <p:spPr>
            <a:xfrm>
              <a:off x="539640" y="115920"/>
              <a:ext cx="813456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1680" y="157320"/>
              <a:ext cx="80708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FUMPRESI - BOMBEIRO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3" name=""/>
          <p:cNvGraphicFramePr/>
          <p:nvPr/>
        </p:nvGraphicFramePr>
        <p:xfrm>
          <a:off x="571680" y="1125360"/>
          <a:ext cx="6408360" cy="3457440"/>
        </p:xfrm>
        <a:graphic>
          <a:graphicData uri="http://schemas.openxmlformats.org/drawingml/2006/table">
            <a:tbl>
              <a:tblPr/>
              <a:tblGrid>
                <a:gridCol w="52200"/>
                <a:gridCol w="519120"/>
                <a:gridCol w="5837040"/>
              </a:tblGrid>
              <a:tr h="7275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Garagem Operacional FUMPRE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29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2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o FUMPRE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82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quipamentos diversos - FUMPRES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riação de cargos, empregos, funções ou alteração na estrutura de carreir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dmissão e contratação de pessoal a qualquer título para a administração municip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quilíbrio entre receitas e despes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ritérios e formas de limitação de empenh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ndições e exigências para transferências de recursos a entidades públicas e privad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nexos de Metas e Riscos Fisc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27468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468360" y="115920"/>
            <a:ext cx="8205840" cy="839880"/>
            <a:chOff x="468360" y="115920"/>
            <a:chExt cx="8205840" cy="839880"/>
          </a:xfrm>
        </p:grpSpPr>
        <p:sp>
          <p:nvSpPr>
            <p:cNvPr id="515" name=""/>
            <p:cNvSpPr/>
            <p:nvPr/>
          </p:nvSpPr>
          <p:spPr>
            <a:xfrm>
              <a:off x="468360" y="115920"/>
              <a:ext cx="82058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0040" y="157320"/>
              <a:ext cx="814248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SPORTE – FME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7" name=""/>
          <p:cNvGraphicFramePr/>
          <p:nvPr/>
        </p:nvGraphicFramePr>
        <p:xfrm>
          <a:off x="500040" y="1220760"/>
          <a:ext cx="6467040" cy="4119120"/>
        </p:xfrm>
        <a:graphic>
          <a:graphicData uri="http://schemas.openxmlformats.org/drawingml/2006/table">
            <a:tbl>
              <a:tblPr/>
              <a:tblGrid>
                <a:gridCol w="52560"/>
                <a:gridCol w="523800"/>
                <a:gridCol w="5890680"/>
              </a:tblGrid>
              <a:tr h="3636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F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6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Espaços Alternativos de Esport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formas e Revitalização dos Complexos Esportiv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64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envolvimento e Apoio das Atividades Esport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FM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Conservação dos Complexos Esportiv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ização e Participação em Eventos Esportiv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grama Bolsa Atlet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a Projetos Esportiv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395280" y="115920"/>
            <a:ext cx="8278920" cy="839880"/>
            <a:chOff x="395280" y="115920"/>
            <a:chExt cx="8278920" cy="839880"/>
          </a:xfrm>
        </p:grpSpPr>
        <p:sp>
          <p:nvSpPr>
            <p:cNvPr id="519" name=""/>
            <p:cNvSpPr/>
            <p:nvPr/>
          </p:nvSpPr>
          <p:spPr>
            <a:xfrm>
              <a:off x="395280" y="115920"/>
              <a:ext cx="827892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6960" y="157320"/>
              <a:ext cx="821556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BCTRÂNSITO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1" name=""/>
          <p:cNvGraphicFramePr/>
          <p:nvPr/>
        </p:nvGraphicFramePr>
        <p:xfrm>
          <a:off x="426960" y="1052640"/>
          <a:ext cx="6667200" cy="5049360"/>
        </p:xfrm>
        <a:graphic>
          <a:graphicData uri="http://schemas.openxmlformats.org/drawingml/2006/table">
            <a:tbl>
              <a:tblPr/>
              <a:tblGrid>
                <a:gridCol w="52560"/>
                <a:gridCol w="539640"/>
                <a:gridCol w="6075000"/>
              </a:tblGrid>
              <a:tr h="3142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BC TRÂ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Ciclovias, Ciclofaixas, Ciclorrotas e Paracicl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70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a Escola Pública para Educação no Trâ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o BC Trâns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cargos Sociais e Previdenciários Sobre Folha - BC Trânsi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9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e Convênio de Trânsi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olícia Civil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Polícia Milita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ções de Educação para Segurança no Trânsi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70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oliciamento e Fiscalização do Trânsit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ngenharia de Tráfego e de Camp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aptações e Manutenções da Sinalização Viári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6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e Melhorias no Transporte Coletivo Municipa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955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rtão Alimentação aos Servidores BCTRÂNSI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627120" y="115920"/>
            <a:ext cx="7907400" cy="839880"/>
            <a:chOff x="627120" y="115920"/>
            <a:chExt cx="7907400" cy="839880"/>
          </a:xfrm>
        </p:grpSpPr>
        <p:sp>
          <p:nvSpPr>
            <p:cNvPr id="523" name=""/>
            <p:cNvSpPr/>
            <p:nvPr/>
          </p:nvSpPr>
          <p:spPr>
            <a:xfrm>
              <a:off x="627120" y="115920"/>
              <a:ext cx="790740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57360" y="157320"/>
              <a:ext cx="784692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ROCON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5" name=""/>
          <p:cNvGraphicFramePr/>
          <p:nvPr/>
        </p:nvGraphicFramePr>
        <p:xfrm>
          <a:off x="627120" y="1197000"/>
          <a:ext cx="6283080" cy="2314080"/>
        </p:xfrm>
        <a:graphic>
          <a:graphicData uri="http://schemas.openxmlformats.org/drawingml/2006/table">
            <a:tbl>
              <a:tblPr/>
              <a:tblGrid>
                <a:gridCol w="52200"/>
                <a:gridCol w="52560"/>
                <a:gridCol w="492120"/>
                <a:gridCol w="5686200"/>
              </a:tblGrid>
              <a:tr h="4856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36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e Processo Eletrônico - PROC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235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3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e Defesa dos Direitos do Consumidor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8720"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alização de Seminários  e Congress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grpSp>
        <p:nvGrpSpPr>
          <p:cNvPr id="526" name=""/>
          <p:cNvGrpSpPr/>
          <p:nvPr/>
        </p:nvGrpSpPr>
        <p:grpSpPr>
          <a:xfrm>
            <a:off x="596880" y="3645000"/>
            <a:ext cx="7907400" cy="839520"/>
            <a:chOff x="596880" y="3645000"/>
            <a:chExt cx="7907400" cy="839520"/>
          </a:xfrm>
        </p:grpSpPr>
        <p:sp>
          <p:nvSpPr>
            <p:cNvPr id="527" name=""/>
            <p:cNvSpPr/>
            <p:nvPr/>
          </p:nvSpPr>
          <p:spPr>
            <a:xfrm>
              <a:off x="596880" y="3645000"/>
              <a:ext cx="7907400" cy="8395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27120" y="3686040"/>
              <a:ext cx="784692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SUB-PREFEITUR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29" name=""/>
          <p:cNvGraphicFramePr/>
          <p:nvPr/>
        </p:nvGraphicFramePr>
        <p:xfrm>
          <a:off x="657360" y="4581360"/>
          <a:ext cx="6282720" cy="779400"/>
        </p:xfrm>
        <a:graphic>
          <a:graphicData uri="http://schemas.openxmlformats.org/drawingml/2006/table">
            <a:tbl>
              <a:tblPr/>
              <a:tblGrid>
                <a:gridCol w="52200"/>
                <a:gridCol w="527040"/>
                <a:gridCol w="5703480"/>
              </a:tblGrid>
              <a:tr h="2829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da Subprefeitura da Região Sul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539640" y="133200"/>
            <a:ext cx="8207640" cy="839880"/>
            <a:chOff x="539640" y="133200"/>
            <a:chExt cx="8207640" cy="839880"/>
          </a:xfrm>
        </p:grpSpPr>
        <p:sp>
          <p:nvSpPr>
            <p:cNvPr id="531" name=""/>
            <p:cNvSpPr/>
            <p:nvPr/>
          </p:nvSpPr>
          <p:spPr>
            <a:xfrm>
              <a:off x="539640" y="133200"/>
              <a:ext cx="820764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71680" y="174600"/>
              <a:ext cx="797076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ULTURA - FCBC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3" name=""/>
          <p:cNvGraphicFramePr/>
          <p:nvPr/>
        </p:nvGraphicFramePr>
        <p:xfrm>
          <a:off x="395280" y="1989000"/>
          <a:ext cx="4865400" cy="2779560"/>
        </p:xfrm>
        <a:graphic>
          <a:graphicData uri="http://schemas.openxmlformats.org/drawingml/2006/table">
            <a:tbl>
              <a:tblPr/>
              <a:tblGrid>
                <a:gridCol w="54000"/>
                <a:gridCol w="392040"/>
                <a:gridCol w="4419360"/>
              </a:tblGrid>
              <a:tr h="36180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specia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FCB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8640" rIns="8640" tIns="864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FCB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764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Culturais e Patrimônios Culturai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4128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mento Cultural - L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7320"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poio à Projetos Artísticos e Culturai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34" name=""/>
          <p:cNvSpPr/>
          <p:nvPr/>
        </p:nvSpPr>
        <p:spPr>
          <a:xfrm>
            <a:off x="5765760" y="1411200"/>
            <a:ext cx="2771640" cy="322200"/>
          </a:xfrm>
          <a:prstGeom prst="rect">
            <a:avLst/>
          </a:prstGeom>
          <a:solidFill>
            <a:srgbClr val="ffe8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talhamento da Ação 2.15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5165640" y="1733400"/>
            <a:ext cx="396252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468360" y="115920"/>
            <a:ext cx="8134200" cy="839880"/>
            <a:chOff x="468360" y="115920"/>
            <a:chExt cx="8134200" cy="839880"/>
          </a:xfrm>
        </p:grpSpPr>
        <p:sp>
          <p:nvSpPr>
            <p:cNvPr id="537" name=""/>
            <p:cNvSpPr/>
            <p:nvPr/>
          </p:nvSpPr>
          <p:spPr>
            <a:xfrm>
              <a:off x="468360" y="115920"/>
              <a:ext cx="8134200" cy="8398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0040" y="157320"/>
              <a:ext cx="80708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PREVIDÊNCIA – BCPREVI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39" name=""/>
          <p:cNvGraphicFramePr/>
          <p:nvPr/>
        </p:nvGraphicFramePr>
        <p:xfrm>
          <a:off x="500040" y="1125360"/>
          <a:ext cx="6810120" cy="4176360"/>
        </p:xfrm>
        <a:graphic>
          <a:graphicData uri="http://schemas.openxmlformats.org/drawingml/2006/table">
            <a:tbl>
              <a:tblPr/>
              <a:tblGrid>
                <a:gridCol w="52560"/>
                <a:gridCol w="550800"/>
                <a:gridCol w="6206760"/>
              </a:tblGrid>
              <a:tr h="71136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1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BCPREV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240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Benefício Previdenciár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685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a Taxa de Administração do RPP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7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 de Benefícios Previdenciário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33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agamentos de Sentenças e Precatórios do RPP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3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PREV - Compensações Previdenciá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436680" y="69840"/>
            <a:ext cx="8280360" cy="838080"/>
            <a:chOff x="436680" y="69840"/>
            <a:chExt cx="8280360" cy="838080"/>
          </a:xfrm>
        </p:grpSpPr>
        <p:sp>
          <p:nvSpPr>
            <p:cNvPr id="541" name=""/>
            <p:cNvSpPr/>
            <p:nvPr/>
          </p:nvSpPr>
          <p:spPr>
            <a:xfrm>
              <a:off x="436680" y="69840"/>
              <a:ext cx="82803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8600" y="93600"/>
              <a:ext cx="82166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EMAS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3" name=""/>
          <p:cNvGraphicFramePr/>
          <p:nvPr/>
        </p:nvGraphicFramePr>
        <p:xfrm>
          <a:off x="436680" y="909720"/>
          <a:ext cx="7089120" cy="5306400"/>
        </p:xfrm>
        <a:graphic>
          <a:graphicData uri="http://schemas.openxmlformats.org/drawingml/2006/table">
            <a:tbl>
              <a:tblPr/>
              <a:tblGrid>
                <a:gridCol w="52200"/>
                <a:gridCol w="530280"/>
                <a:gridCol w="6506640"/>
              </a:tblGrid>
              <a:tr h="2710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ortização do Déficit Atuarial do RPPS - EMA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ibuição ao PASEP - EMA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96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je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6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s na captação de águ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vitalização de Rios e Córrego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strução de Reservatório para Água Tratad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Esgotamento Sanitári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nas Estações de Tratamento de Esgo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8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mentação do Projeto Rio Camboriú 20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6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mplantação do Projeto do Parque Inundá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38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Esgotamento Sanitário - Praias Agrest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mpliação e Melhorias do Sistema de Abastecimento de Águ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632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8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s Atividades Administrativas da EMA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59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ecatórios e Sentenças Judiciais - EMA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ão e Manutenção do Sistema de Água e Esgo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63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Drenagem Urba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45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o Projeto Produtor de Água do Rio Cambori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5272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a de Educação Ambiental da EMA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539640" y="189000"/>
            <a:ext cx="8134560" cy="838080"/>
            <a:chOff x="539640" y="189000"/>
            <a:chExt cx="8134560" cy="838080"/>
          </a:xfrm>
        </p:grpSpPr>
        <p:sp>
          <p:nvSpPr>
            <p:cNvPr id="545" name=""/>
            <p:cNvSpPr/>
            <p:nvPr/>
          </p:nvSpPr>
          <p:spPr>
            <a:xfrm>
              <a:off x="539640" y="189000"/>
              <a:ext cx="8134560" cy="83808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1680" y="230040"/>
              <a:ext cx="8070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ÂMARA DE VEREADORE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47" name=""/>
          <p:cNvGraphicFramePr/>
          <p:nvPr/>
        </p:nvGraphicFramePr>
        <p:xfrm>
          <a:off x="539640" y="1197000"/>
          <a:ext cx="6435360" cy="3493800"/>
        </p:xfrm>
        <a:graphic>
          <a:graphicData uri="http://schemas.openxmlformats.org/drawingml/2006/table">
            <a:tbl>
              <a:tblPr/>
              <a:tblGrid>
                <a:gridCol w="52560"/>
                <a:gridCol w="520560"/>
                <a:gridCol w="5862240"/>
              </a:tblGrid>
              <a:tr h="582480">
                <a:tc>
                  <a:txBody>
                    <a:bodyPr lIns="8280" rIns="8280" tIns="8280" bIns="0" anchor="ctr">
                      <a:noAutofit/>
                    </a:bodyPr>
                    <a:p>
                      <a:pPr algn="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estão da Administração de Pessoal do Legisla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32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cessos Administrativos do Legislativ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284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elhorias e Reparos da Infraestrutura do Legisla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140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da Rádio e TV Câmar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24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scola do Legislativo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8" name=""/>
          <p:cNvGraphicFramePr/>
          <p:nvPr/>
        </p:nvGraphicFramePr>
        <p:xfrm>
          <a:off x="539640" y="1052640"/>
          <a:ext cx="6435360" cy="1082160"/>
        </p:xfrm>
        <a:graphic>
          <a:graphicData uri="http://schemas.openxmlformats.org/drawingml/2006/table">
            <a:tbl>
              <a:tblPr/>
              <a:tblGrid>
                <a:gridCol w="52560"/>
                <a:gridCol w="520560"/>
                <a:gridCol w="5862240"/>
              </a:tblGrid>
              <a:tr h="54180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perações Especia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036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Reserva de Contingência - PM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549" name=""/>
          <p:cNvSpPr/>
          <p:nvPr/>
        </p:nvSpPr>
        <p:spPr>
          <a:xfrm>
            <a:off x="598320" y="4292640"/>
            <a:ext cx="7549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Calibri"/>
              </a:rPr>
              <a:t>RESERVA DE CONTINGÊNCIA – R$ 100 MIL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73040" y="2717640"/>
            <a:ext cx="8134560" cy="838440"/>
            <a:chOff x="473040" y="2717640"/>
            <a:chExt cx="8134560" cy="838440"/>
          </a:xfrm>
        </p:grpSpPr>
        <p:sp>
          <p:nvSpPr>
            <p:cNvPr id="551" name=""/>
            <p:cNvSpPr/>
            <p:nvPr/>
          </p:nvSpPr>
          <p:spPr>
            <a:xfrm>
              <a:off x="473040" y="2717640"/>
              <a:ext cx="8134560" cy="8384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4720" y="2759040"/>
              <a:ext cx="8070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COMAD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90680" y="93600"/>
            <a:ext cx="8135640" cy="838440"/>
            <a:chOff x="490680" y="93600"/>
            <a:chExt cx="8135640" cy="838440"/>
          </a:xfrm>
        </p:grpSpPr>
        <p:sp>
          <p:nvSpPr>
            <p:cNvPr id="554" name=""/>
            <p:cNvSpPr/>
            <p:nvPr/>
          </p:nvSpPr>
          <p:spPr>
            <a:xfrm>
              <a:off x="490680" y="93600"/>
              <a:ext cx="8135640" cy="83844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2360" y="135000"/>
              <a:ext cx="807228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200" rIns="133200" tIns="133200" bIns="1332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1536"/>
                </a:spcAft>
                <a:tabLst>
                  <a:tab algn="l" pos="0"/>
                  <a:tab algn="l" pos="1555920"/>
                  <a:tab algn="l" pos="3111480"/>
                  <a:tab algn="l" pos="4667400"/>
                  <a:tab algn="l" pos="6222960"/>
                  <a:tab algn="l" pos="7778880"/>
                  <a:tab algn="l" pos="9334440"/>
                  <a:tab algn="l" pos="10890360"/>
                </a:tabLst>
              </a:pPr>
              <a:r>
                <a:rPr b="1" lang="pt-BR" sz="3500" spc="-1" strike="noStrike">
                  <a:solidFill>
                    <a:srgbClr val="ffffff"/>
                  </a:solidFill>
                  <a:latin typeface="Calibri"/>
                </a:rPr>
                <a:t>RESERVA DE CONTINGÊNCIA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56" name=""/>
          <p:cNvGraphicFramePr/>
          <p:nvPr/>
        </p:nvGraphicFramePr>
        <p:xfrm>
          <a:off x="485640" y="3687840"/>
          <a:ext cx="6426000" cy="1206000"/>
        </p:xfrm>
        <a:graphic>
          <a:graphicData uri="http://schemas.openxmlformats.org/drawingml/2006/table">
            <a:tbl>
              <a:tblPr/>
              <a:tblGrid>
                <a:gridCol w="52560"/>
                <a:gridCol w="520560"/>
                <a:gridCol w="5852880"/>
              </a:tblGrid>
              <a:tr h="60372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ividades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280">
                <a:tc grid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1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nutenção e Realização de Eventos pelo COM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763640" y="26028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70c0"/>
                </a:solidFill>
                <a:latin typeface="Arial"/>
              </a:rPr>
              <a:t>OBRIGADA PELA ATEN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2951280"/>
            <a:ext cx="2592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  <a:ea typeface="Microsoft YaHei"/>
              </a:rPr>
              <a:t>Elaboraç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000" spc="-1" strike="noStrike">
                <a:solidFill>
                  <a:srgbClr val="002060"/>
                </a:solidFill>
                <a:latin typeface="Calibri"/>
                <a:ea typeface="Microsoft YaHei"/>
              </a:rPr>
              <a:t>Apresentaç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3616200" y="2392200"/>
            <a:ext cx="2808360" cy="11192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571920" y="39146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  <a:ea typeface="Microsoft YaHei"/>
              </a:rPr>
              <a:t>Secretaria da Faz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2920" y="4508640"/>
            <a:ext cx="34696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  <a:ea typeface="Microsoft YaHei"/>
              </a:rPr>
              <a:t>Secretaria de Planej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2060"/>
                </a:solidFill>
                <a:latin typeface="Comic Sans MS"/>
                <a:ea typeface="Microsoft YaHei"/>
              </a:rPr>
              <a:t>e Gestão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640" y="5676840"/>
            <a:ext cx="59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548235"/>
                </a:solidFill>
                <a:latin typeface="Arial"/>
              </a:rPr>
              <a:t>Liliane Maria </a:t>
            </a:r>
            <a:r>
              <a:rPr b="0" lang="pt-BR" sz="1800" spc="-1" strike="noStrike">
                <a:solidFill>
                  <a:srgbClr val="548235"/>
                </a:solidFill>
                <a:latin typeface="Tahoma"/>
                <a:ea typeface="Tahoma"/>
              </a:rPr>
              <a:t>Novaes</a:t>
            </a:r>
            <a:r>
              <a:rPr b="0" lang="pt-BR" sz="1800" spc="-1" strike="noStrike">
                <a:solidFill>
                  <a:srgbClr val="548235"/>
                </a:solidFill>
                <a:latin typeface="Arial"/>
              </a:rPr>
              <a:t> – LLN Consultoria Governa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68360" y="1413000"/>
            <a:ext cx="8496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PREFEITURA MUNICIPAL – Diversas Unidades Orçamentárias (Secreta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Assist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os Direitos da Criança e Adolesc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Assistência a Saúde do Serv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Saú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 Tu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fesa dos Direitos do Consumi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Des. Do Me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Rotativo Bem Estar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o Municipal Prevenção Contra Sin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Câmara Municipal de Vere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274680"/>
            <a:ext cx="7925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ahoma"/>
              </a:rPr>
              <a:t>L D O –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strutura Administ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16040" y="9810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dministração Dir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68360" y="1413000"/>
            <a:ext cx="8496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utarquia Municipal de  Trânsito – BC Trân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Instituto de Previdência Social Servidores Municipais - BCPRE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mpresa Municipal de Água e Saneamento - E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ação Cultural - FC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Fundação Municipal de Esporte - F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274680"/>
            <a:ext cx="7925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ahoma"/>
              </a:rPr>
              <a:t>L D O –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Estrutura Administ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7840" y="98100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70c0"/>
                </a:solidFill>
                <a:latin typeface="Arial"/>
              </a:rPr>
              <a:t>Administração Indire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826920" y="1125360"/>
            <a:ext cx="720108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1521000"/>
            <a:ext cx="2592360" cy="3743280"/>
          </a:xfrm>
          <a:prstGeom prst="flowChartAlternateProcess">
            <a:avLst/>
          </a:prstGeom>
          <a:solidFill>
            <a:srgbClr val="1f4e79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Arial Black"/>
              </a:rPr>
              <a:t>PP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2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81440" y="156852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815080" y="153828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49800" y="1862280"/>
            <a:ext cx="431640" cy="217440"/>
          </a:xfrm>
          <a:prstGeom prst="rightArrow">
            <a:avLst>
              <a:gd name="adj1" fmla="val 50000"/>
              <a:gd name="adj2" fmla="val 496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41520" y="285588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25680" y="375300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49800" y="476100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48160" y="174312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18280" y="274788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7000" y="386244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48160" y="4716360"/>
            <a:ext cx="432000" cy="217440"/>
          </a:xfrm>
          <a:prstGeom prst="rightArrow">
            <a:avLst>
              <a:gd name="adj1" fmla="val 50000"/>
              <a:gd name="adj2" fmla="val 496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13280" y="360216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813280" y="253224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98560" y="181080"/>
            <a:ext cx="72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 </a:t>
            </a: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Elo entre PPA e 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16360" y="26082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16360" y="3576600"/>
            <a:ext cx="1512720" cy="647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8960" y="454500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936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DO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813280" y="4545000"/>
            <a:ext cx="1513080" cy="647640"/>
          </a:xfrm>
          <a:prstGeom prst="roundRect">
            <a:avLst>
              <a:gd name="adj" fmla="val 16667"/>
            </a:avLst>
          </a:prstGeom>
          <a:solidFill>
            <a:srgbClr val="2e75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LOA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24800" y="1568520"/>
            <a:ext cx="1171440" cy="469800"/>
          </a:xfrm>
          <a:prstGeom prst="ellipse">
            <a:avLst/>
          </a:prstGeom>
          <a:solidFill>
            <a:srgbClr val="dae3f3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gency FB"/>
              </a:rPr>
              <a:t>EXECU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39200" y="2506680"/>
            <a:ext cx="1180800" cy="457200"/>
          </a:xfrm>
          <a:prstGeom prst="ellipse">
            <a:avLst/>
          </a:prstGeom>
          <a:solidFill>
            <a:srgbClr val="70ad4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gency FB"/>
              </a:rPr>
              <a:t>EM EXECUÇÃO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48560" y="3576600"/>
            <a:ext cx="1171440" cy="503280"/>
          </a:xfrm>
          <a:prstGeom prst="ellipse">
            <a:avLst/>
          </a:prstGeom>
          <a:solidFill>
            <a:srgbClr val="ffd966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gency FB"/>
              </a:rPr>
              <a:t>EM ELABORAÇÃ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24800" y="4562640"/>
            <a:ext cx="1171440" cy="475920"/>
          </a:xfrm>
          <a:prstGeom prst="ellipse">
            <a:avLst/>
          </a:prstGeom>
          <a:solidFill>
            <a:srgbClr val="0070c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gency FB"/>
              </a:rPr>
              <a:t>A SER ELABO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971640" y="1989000"/>
            <a:ext cx="715788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7200" spc="-1" strike="noStrike">
                <a:solidFill>
                  <a:srgbClr val="3b3838"/>
                </a:solidFill>
                <a:latin typeface="Calibri Light"/>
              </a:rPr>
              <a:t>METAS DE RECEITAS</a:t>
            </a:r>
            <a:br>
              <a:rPr sz="7200"/>
            </a:br>
            <a:r>
              <a:rPr b="1" lang="pt-BR" sz="3000" spc="-1" strike="noStrike">
                <a:solidFill>
                  <a:srgbClr val="3b3838"/>
                </a:solidFill>
                <a:latin typeface="Calibri Light"/>
              </a:rPr>
              <a:t>Origem dos 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47640" y="2286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ahoma"/>
              </a:rPr>
              <a:t>L D O - 20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971640" y="115920"/>
            <a:ext cx="7010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Calibri Light"/>
              </a:rPr>
              <a:t>EVOLUÇÃO DA RECEITA TOT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55640" y="1165320"/>
          <a:ext cx="7673760" cy="3979440"/>
        </p:xfrm>
        <a:graphic>
          <a:graphicData uri="http://schemas.openxmlformats.org/drawingml/2006/table">
            <a:tbl>
              <a:tblPr/>
              <a:tblGrid>
                <a:gridCol w="808200"/>
                <a:gridCol w="1775160"/>
                <a:gridCol w="1586160"/>
                <a:gridCol w="1592640"/>
                <a:gridCol w="1911600"/>
              </a:tblGrid>
              <a:tr h="893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VI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ARRECAD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(EXECUTAD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 PREVIS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EVOLUÇÃO EM RELAÇÃO AO ANO A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86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.4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.76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7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3.16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6.55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7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8.5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0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5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4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18.0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3.8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,6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0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6.8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4.86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6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82.6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80.2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9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1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88.8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execu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</a:tr>
              <a:tr h="38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04.35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 elabor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fe885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741000" y="847800"/>
            <a:ext cx="1680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Valores em Milha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06:37Z</dcterms:created>
  <dc:creator>adeline</dc:creator>
  <dc:description/>
  <dc:language>en-US</dc:language>
  <cp:lastModifiedBy/>
  <cp:lastPrinted>2018-07-30T19:13:03Z</cp:lastPrinted>
  <dcterms:modified xsi:type="dcterms:W3CDTF">2023-07-31T20:15:49Z</dcterms:modified>
  <cp:revision>1025</cp:revision>
  <dc:subject/>
  <dc:title>AUDIÊNCIA PÚBLICA 29/09/2005</dc:title>
</cp:coreProperties>
</file>