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4CC-F843-414C-839D-DA37C9DB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E99-A467-43FE-9239-1DFCC61A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1E5-704E-4DDF-A06B-EC9CE90D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7BD-988F-4358-B0AB-2B61C916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A99-EAD2-4CD7-8D32-CF11C2FA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4AE-CC83-49F9-9C16-CF5261C8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F8A-B6B7-4F95-9F73-81EEAF6E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AD0-73E8-46E7-B72F-2EF719E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963-D0D7-4B20-9C75-7FB5419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D61-3473-4393-B99D-4294EA6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95F-FC43-4838-A5C9-C16B8D87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AF3-07EF-4F85-8ECB-99C3F35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3FB6-A815-4A40-A3B7-8CE048F213E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alneariocamboriu.sc.gov.br/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1440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Gráfico de Origem das Receita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Gráfico 2"/>
          <p:cNvGraphicFramePr/>
          <p:nvPr/>
        </p:nvGraphicFramePr>
        <p:xfrm>
          <a:off x="2101680" y="1905120"/>
          <a:ext cx="8288640" cy="35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Gráfic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1680" y="1905120"/>
                    <a:ext cx="828864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CaixaDeTexto 3"/>
          <p:cNvSpPr/>
          <p:nvPr/>
        </p:nvSpPr>
        <p:spPr>
          <a:xfrm>
            <a:off x="6101640" y="1670040"/>
            <a:ext cx="712440" cy="3070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75,4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6" descr=""/>
          <p:cNvPicPr/>
          <p:nvPr/>
        </p:nvPicPr>
        <p:blipFill>
          <a:blip r:embed="rId1"/>
          <a:stretch/>
        </p:blipFill>
        <p:spPr>
          <a:xfrm>
            <a:off x="-14400" y="-7632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66880" y="4043520"/>
          <a:ext cx="8174160" cy="12715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  <a:gridCol w="1633680"/>
                <a:gridCol w="1635120"/>
                <a:gridCol w="1635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52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.754.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519.2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015.4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.285.2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10.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3" name="CaixaDeTexto 3"/>
          <p:cNvSpPr/>
          <p:nvPr/>
        </p:nvSpPr>
        <p:spPr>
          <a:xfrm>
            <a:off x="2949480" y="5592600"/>
            <a:ext cx="580860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Tributos representam 38% do valor total arrecad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26920" y="80640"/>
            <a:ext cx="80802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Tributos Arrecadados – 2023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Gráfico 1" descr=""/>
          <p:cNvPicPr/>
          <p:nvPr/>
        </p:nvPicPr>
        <p:blipFill>
          <a:blip r:embed="rId2"/>
          <a:stretch/>
        </p:blipFill>
        <p:spPr>
          <a:xfrm>
            <a:off x="1494000" y="603360"/>
            <a:ext cx="87231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6" descr=""/>
          <p:cNvPicPr/>
          <p:nvPr/>
        </p:nvPicPr>
        <p:blipFill>
          <a:blip r:embed="rId1"/>
          <a:stretch/>
        </p:blipFill>
        <p:spPr>
          <a:xfrm>
            <a:off x="0" y="1908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6320" y="169560"/>
            <a:ext cx="858204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3º Quadrimestre 202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68600" y="1447920"/>
          <a:ext cx="8475480" cy="2895480"/>
        </p:xfrm>
        <a:graphic>
          <a:graphicData uri="http://schemas.openxmlformats.org/drawingml/2006/table">
            <a:tbl>
              <a:tblPr/>
              <a:tblGrid>
                <a:gridCol w="1852560"/>
                <a:gridCol w="2233440"/>
                <a:gridCol w="2381400"/>
                <a:gridCol w="2008080"/>
              </a:tblGrid>
              <a:tr h="72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7236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26.358.0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3.815.3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457.2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23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708.0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.055.1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6.652.84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23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5.066.06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5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804.4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sp>
        <p:nvSpPr>
          <p:cNvPr id="89" name="CaixaDeTexto 7"/>
          <p:cNvSpPr/>
          <p:nvPr/>
        </p:nvSpPr>
        <p:spPr>
          <a:xfrm>
            <a:off x="2716200" y="4535640"/>
            <a:ext cx="6378480" cy="1069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 valor total executado  a quantia de R$ 171.186.426,58 foram realizados com recursos provenientes de superávit financeiro* equivalente a 11% do valor total da despesa empenh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*(superávit financeiro: saldo disponível de exercícios anterior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5400" y="213840"/>
            <a:ext cx="7093080" cy="131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1" lang="pt-BR" sz="3000" spc="-1" strike="noStrike">
                <a:solidFill>
                  <a:srgbClr val="002060"/>
                </a:solidFill>
                <a:latin typeface="Calibri Light"/>
              </a:rPr>
              <a:t>Exercício de 2023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095560" y="1568520"/>
          <a:ext cx="7977240" cy="4605120"/>
        </p:xfrm>
        <a:graphic>
          <a:graphicData uri="http://schemas.openxmlformats.org/drawingml/2006/table">
            <a:tbl>
              <a:tblPr/>
              <a:tblGrid>
                <a:gridCol w="3776760"/>
                <a:gridCol w="2224080"/>
                <a:gridCol w="197640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3.815.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.499.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87.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027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.055.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.376.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178.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4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5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sp>
        <p:nvSpPr>
          <p:cNvPr id="93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4" descr=""/>
          <p:cNvPicPr/>
          <p:nvPr/>
        </p:nvPicPr>
        <p:blipFill>
          <a:blip r:embed="rId2"/>
          <a:stretch/>
        </p:blipFill>
        <p:spPr>
          <a:xfrm>
            <a:off x="9166320" y="214200"/>
            <a:ext cx="1557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2360" y="213840"/>
            <a:ext cx="802332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por exercício – despesa empenh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GRUPO DE NATUREZA DE DESPESA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4520" y="1501920"/>
          <a:ext cx="11147400" cy="4408200"/>
        </p:xfrm>
        <a:graphic>
          <a:graphicData uri="http://schemas.openxmlformats.org/drawingml/2006/table">
            <a:tbl>
              <a:tblPr/>
              <a:tblGrid>
                <a:gridCol w="2795400"/>
                <a:gridCol w="1447920"/>
                <a:gridCol w="571680"/>
                <a:gridCol w="1361880"/>
                <a:gridCol w="690480"/>
                <a:gridCol w="1389240"/>
                <a:gridCol w="550800"/>
                <a:gridCol w="1531800"/>
                <a:gridCol w="808200"/>
              </a:tblGrid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NATUREZA DE DESP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5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.547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.348.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7.737.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.499.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2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40.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13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87.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92.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.105.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944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027.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534.9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03.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201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.376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2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6.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28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25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67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14.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178.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5.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5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6" descr=""/>
          <p:cNvPicPr/>
          <p:nvPr/>
        </p:nvPicPr>
        <p:blipFill>
          <a:blip r:embed="rId1"/>
          <a:stretch/>
        </p:blipFill>
        <p:spPr>
          <a:xfrm>
            <a:off x="0" y="1332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560" y="132840"/>
            <a:ext cx="897732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000" spc="-1" strike="noStrike">
                <a:solidFill>
                  <a:srgbClr val="002060"/>
                </a:solidFill>
                <a:latin typeface="Calibri Light"/>
              </a:rPr>
              <a:t>Despesa por Função/Área do Governo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27400" y="633240"/>
          <a:ext cx="5694480" cy="5677200"/>
        </p:xfrm>
        <a:graphic>
          <a:graphicData uri="http://schemas.openxmlformats.org/drawingml/2006/table">
            <a:tbl>
              <a:tblPr/>
              <a:tblGrid>
                <a:gridCol w="2270160"/>
                <a:gridCol w="2154240"/>
                <a:gridCol w="1270080"/>
              </a:tblGrid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20.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272.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164.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rança Pú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290.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ência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136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d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645.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5.463.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45.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.057.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48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71.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304.9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e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865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Ambi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85.7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2.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orto e La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45.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Espe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529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5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6" descr=""/>
          <p:cNvPicPr/>
          <p:nvPr/>
        </p:nvPicPr>
        <p:blipFill>
          <a:blip r:embed="rId1"/>
          <a:stretch/>
        </p:blipFill>
        <p:spPr>
          <a:xfrm>
            <a:off x="0" y="-6192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6280" y="325440"/>
            <a:ext cx="6840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000" spc="-1" strike="noStrike" u="sng">
                <a:solidFill>
                  <a:srgbClr val="002060"/>
                </a:solidFill>
                <a:uFillTx/>
                <a:latin typeface="Calibri Light"/>
              </a:rPr>
              <a:t>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Picture 26" descr=""/>
          <p:cNvPicPr/>
          <p:nvPr/>
        </p:nvPicPr>
        <p:blipFill>
          <a:blip r:embed="rId2"/>
          <a:stretch/>
        </p:blipFill>
        <p:spPr>
          <a:xfrm>
            <a:off x="8796240" y="325440"/>
            <a:ext cx="2206800" cy="140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"/>
          <p:cNvPicPr/>
          <p:nvPr/>
        </p:nvPicPr>
        <p:blipFill>
          <a:blip r:embed="rId3"/>
          <a:stretch/>
        </p:blipFill>
        <p:spPr>
          <a:xfrm>
            <a:off x="8910720" y="3720960"/>
            <a:ext cx="657000" cy="6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2160720" y="2494080"/>
          <a:ext cx="6635520" cy="2031840"/>
        </p:xfrm>
        <a:graphic>
          <a:graphicData uri="http://schemas.openxmlformats.org/drawingml/2006/table">
            <a:tbl>
              <a:tblPr/>
              <a:tblGrid>
                <a:gridCol w="2238120"/>
                <a:gridCol w="2146320"/>
                <a:gridCol w="2251080"/>
              </a:tblGrid>
              <a:tr h="40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0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8.825.6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8.040.54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5.066.0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5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759.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170.0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125360" y="1792440"/>
            <a:ext cx="753300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23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3400" spc="-1" strike="noStrike">
                <a:solidFill>
                  <a:srgbClr val="00b0f0"/>
                </a:solidFill>
                <a:latin typeface="Tahoma"/>
                <a:ea typeface="Arial"/>
              </a:rPr>
              <a:t>R$ 1.259.355.566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REALIZADA NO EXERCÍCIO DE 202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9900"/>
                </a:solidFill>
                <a:latin typeface="Tahoma"/>
                <a:ea typeface="Arial"/>
              </a:rPr>
              <a:t>R$ 1.337.997.017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00000" y="60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ipse 4"/>
          <p:cNvSpPr/>
          <p:nvPr/>
        </p:nvSpPr>
        <p:spPr>
          <a:xfrm>
            <a:off x="8994600" y="3448080"/>
            <a:ext cx="2330640" cy="1500120"/>
          </a:xfrm>
          <a:prstGeom prst="ellipse">
            <a:avLst/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Valor acima do previsto para o exercício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R$ 78.641.45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142040" y="4086360"/>
            <a:ext cx="5810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m 6" descr=""/>
          <p:cNvPicPr/>
          <p:nvPr/>
        </p:nvPicPr>
        <p:blipFill>
          <a:blip r:embed="rId1"/>
          <a:stretch/>
        </p:blipFill>
        <p:spPr>
          <a:xfrm>
            <a:off x="0" y="-5868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170000" y="304920"/>
            <a:ext cx="748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677960" y="4005360"/>
          <a:ext cx="7197840" cy="798480"/>
        </p:xfrm>
        <a:graphic>
          <a:graphicData uri="http://schemas.openxmlformats.org/drawingml/2006/table">
            <a:tbl>
              <a:tblPr/>
              <a:tblGrid>
                <a:gridCol w="3471840"/>
                <a:gridCol w="1677960"/>
                <a:gridCol w="2048040"/>
              </a:tblGrid>
              <a:tr h="798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ilidade RPPS (R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3.649.7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3.308.3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77960" y="1514520"/>
          <a:ext cx="7189920" cy="2378160"/>
        </p:xfrm>
        <a:graphic>
          <a:graphicData uri="http://schemas.openxmlformats.org/drawingml/2006/table">
            <a:tbl>
              <a:tblPr/>
              <a:tblGrid>
                <a:gridCol w="3454560"/>
                <a:gridCol w="1684080"/>
                <a:gridCol w="2051280"/>
              </a:tblGrid>
              <a:tr h="476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bdd7ee"/>
                    </a:solidFill>
                  </a:tcPr>
                </a:tc>
              </a:tr>
              <a:tr h="47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Quad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Quad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76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.853.4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553.7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48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Empenh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976.7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645.1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6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l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.876.6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0.908.6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6" descr=""/>
          <p:cNvPicPr/>
          <p:nvPr/>
        </p:nvPicPr>
        <p:blipFill>
          <a:blip r:embed="rId1"/>
          <a:stretch/>
        </p:blipFill>
        <p:spPr>
          <a:xfrm>
            <a:off x="22320" y="-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668600" y="654120"/>
            <a:ext cx="8832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 e Primário - 2023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19440" y="1938240"/>
          <a:ext cx="8327880" cy="2298960"/>
        </p:xfrm>
        <a:graphic>
          <a:graphicData uri="http://schemas.openxmlformats.org/drawingml/2006/table">
            <a:tbl>
              <a:tblPr/>
              <a:tblGrid>
                <a:gridCol w="2776320"/>
                <a:gridCol w="2774880"/>
                <a:gridCol w="2776680"/>
              </a:tblGrid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Fix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Execut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83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.723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.428.97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82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7.165.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.193.2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447480"/>
            <a:ext cx="95536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4500" spc="-1" strike="noStrike">
                <a:solidFill>
                  <a:srgbClr val="ffffff"/>
                </a:solidFill>
                <a:latin typeface="Arial"/>
                <a:ea typeface="Arial"/>
              </a:rPr>
              <a:t>3º Quadrimestre de 202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23/02/2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966960" y="3477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Situação dos 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2440" y="1730520"/>
          <a:ext cx="8805960" cy="2755800"/>
        </p:xfrm>
        <a:graphic>
          <a:graphicData uri="http://schemas.openxmlformats.org/drawingml/2006/table">
            <a:tbl>
              <a:tblPr/>
              <a:tblGrid>
                <a:gridCol w="3264120"/>
                <a:gridCol w="1593720"/>
                <a:gridCol w="1973160"/>
                <a:gridCol w="197496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ção do 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ão Process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xerc anteri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2.7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15.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068.7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critos de 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687.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49.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837.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52.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91.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10.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333.9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744.3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.8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79.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70.0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539720" y="366840"/>
            <a:ext cx="76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00280" y="1951200"/>
          <a:ext cx="7350120" cy="3305160"/>
        </p:xfrm>
        <a:graphic>
          <a:graphicData uri="http://schemas.openxmlformats.org/drawingml/2006/table">
            <a:tbl>
              <a:tblPr/>
              <a:tblGrid>
                <a:gridCol w="4743360"/>
                <a:gridCol w="2606760"/>
              </a:tblGrid>
              <a:tr h="529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2.241.901,6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1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PLICAÇÃO MÍNIMA – 2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.560.47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.902.610,8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7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PERCENTUAL  DE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9,01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812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.057.53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5" name="Picture 24" descr=""/>
          <p:cNvPicPr/>
          <p:nvPr/>
        </p:nvPicPr>
        <p:blipFill>
          <a:blip r:embed="rId2"/>
          <a:stretch/>
        </p:blipFill>
        <p:spPr>
          <a:xfrm>
            <a:off x="9545760" y="36684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39720" y="1871640"/>
          <a:ext cx="8356680" cy="3341880"/>
        </p:xfrm>
        <a:graphic>
          <a:graphicData uri="http://schemas.openxmlformats.org/drawingml/2006/table">
            <a:tbl>
              <a:tblPr/>
              <a:tblGrid>
                <a:gridCol w="5945400"/>
                <a:gridCol w="2411280"/>
              </a:tblGrid>
              <a:tr h="595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ANTERIOR – DEZ 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523.95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RRECADAÇÃO + RENDIMENTOS 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14.430.2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7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DESPESAS PAGAS 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10.569.4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FINANCEIRO 31/12/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5.384.7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% APLIC EM PESSOAL MAGISTÉ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Mínimo de 7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,76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107" descr="MCj04348100000[1]"/>
          <p:cNvPicPr/>
          <p:nvPr/>
        </p:nvPicPr>
        <p:blipFill>
          <a:blip r:embed="rId2"/>
          <a:stretch/>
        </p:blipFill>
        <p:spPr>
          <a:xfrm>
            <a:off x="8342280" y="101520"/>
            <a:ext cx="1109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6" descr=""/>
          <p:cNvPicPr/>
          <p:nvPr/>
        </p:nvPicPr>
        <p:blipFill>
          <a:blip r:embed="rId1"/>
          <a:stretch/>
        </p:blipFill>
        <p:spPr>
          <a:xfrm>
            <a:off x="-8100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65240" y="1996920"/>
          <a:ext cx="7674120" cy="286416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3.502.806,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4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025.42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945.957,7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5,52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11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.067.456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382760" y="476280"/>
            <a:ext cx="8569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Gastos com Pessoal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4546a"/>
                </a:solidFill>
                <a:latin typeface="Calibri Light"/>
              </a:rPr>
              <a:t>Execu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31880" y="1819440"/>
          <a:ext cx="9029880" cy="3219120"/>
        </p:xfrm>
        <a:graphic>
          <a:graphicData uri="http://schemas.openxmlformats.org/drawingml/2006/table">
            <a:tbl>
              <a:tblPr/>
              <a:tblGrid>
                <a:gridCol w="6373800"/>
                <a:gridCol w="2656080"/>
              </a:tblGrid>
              <a:tr h="8254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 – RCL Ajustada*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31.908.5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123480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  </a:t>
                      </a:r>
                      <a:r>
                        <a:rPr b="1" lang="pt-BR" sz="2700" spc="-1" strike="noStrike">
                          <a:solidFill>
                            <a:srgbClr val="ffc000"/>
                          </a:solidFill>
                          <a:latin typeface="Tahoma"/>
                          <a:ea typeface="Lucida Sans Unicode"/>
                        </a:rPr>
                        <a:t>47,3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ÚLTIMOS 12 MESES – DESPES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7.182.8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873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MÁXIMO – 54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2f2f2"/>
                          </a:solidFill>
                          <a:latin typeface="Tahoma"/>
                        </a:rPr>
                        <a:t>719.230.598,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  <a:tr h="4129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PRUDENCIAL – 51,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2f2f2"/>
                          </a:solidFill>
                          <a:latin typeface="Tahoma"/>
                        </a:rPr>
                        <a:t>683.269.068,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  <a:tr h="3585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DE ALERTA –    48,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2f2f2"/>
                          </a:solidFill>
                          <a:latin typeface="Tahoma"/>
                        </a:rPr>
                        <a:t>647.307.538,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</a:tbl>
          </a:graphicData>
        </a:graphic>
      </p:graphicFrame>
      <p:pic>
        <p:nvPicPr>
          <p:cNvPr id="137" name="Picture 19" descr=""/>
          <p:cNvPicPr/>
          <p:nvPr/>
        </p:nvPicPr>
        <p:blipFill>
          <a:blip r:embed="rId2"/>
          <a:stretch/>
        </p:blipFill>
        <p:spPr>
          <a:xfrm>
            <a:off x="7881840" y="270000"/>
            <a:ext cx="19116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060560" y="512640"/>
            <a:ext cx="59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ívida Públ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11240" y="1146240"/>
          <a:ext cx="7909200" cy="3725640"/>
        </p:xfrm>
        <a:graphic>
          <a:graphicData uri="http://schemas.openxmlformats.org/drawingml/2006/table">
            <a:tbl>
              <a:tblPr/>
              <a:tblGrid>
                <a:gridCol w="7909200"/>
              </a:tblGrid>
              <a:tr h="372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1/12/2023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e75b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762280" y="2771640"/>
          <a:ext cx="5981760" cy="1895760"/>
        </p:xfrm>
        <a:graphic>
          <a:graphicData uri="http://schemas.openxmlformats.org/drawingml/2006/table">
            <a:tbl>
              <a:tblPr/>
              <a:tblGrid>
                <a:gridCol w="4133880"/>
                <a:gridCol w="1847880"/>
              </a:tblGrid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913.48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ívi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24.3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 (não integra DCL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7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737.85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2" name="CaixaDeTexto 4"/>
          <p:cNvSpPr/>
          <p:nvPr/>
        </p:nvSpPr>
        <p:spPr>
          <a:xfrm>
            <a:off x="5071320" y="485928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% sobre da DCL sobre a RCL Ajustada = -21,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3"/>
          <p:cNvSpPr/>
          <p:nvPr/>
        </p:nvSpPr>
        <p:spPr>
          <a:xfrm>
            <a:off x="1114560" y="374760"/>
            <a:ext cx="698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62040" y="1644480"/>
          <a:ext cx="8690040" cy="164952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7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</a:t>
                      </a:r>
                      <a:r>
                        <a:rPr b="1" lang="pt-BR" sz="2500" spc="-1" strike="noStrike">
                          <a:solidFill>
                            <a:srgbClr val="0070c0"/>
                          </a:solidFill>
                          <a:latin typeface="Tahoma"/>
                          <a:ea typeface="Lucida Sans Unicode"/>
                        </a:rPr>
                        <a:t>(0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9.8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</a:t>
                      </a:r>
                      <a:r>
                        <a:rPr b="1" lang="pt-BR" sz="2500" spc="-1" strike="noStrike">
                          <a:solidFill>
                            <a:srgbClr val="0070c0"/>
                          </a:solidFill>
                          <a:latin typeface="Tahoma"/>
                          <a:ea typeface="Lucida Sans Unicode"/>
                        </a:rPr>
                        <a:t>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13.845.6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46" name="Retângulo de cantos arredondados 3"/>
          <p:cNvSpPr/>
          <p:nvPr/>
        </p:nvSpPr>
        <p:spPr>
          <a:xfrm>
            <a:off x="1760400" y="4200480"/>
            <a:ext cx="8056800" cy="13669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No exercício foram contraídos Operações de Crédito no valor total de R$ 9.800, conforme contratos assin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398600" y="476280"/>
            <a:ext cx="8569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isponibilidades de Caixa F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ff0000"/>
                </a:solidFill>
                <a:uFillTx/>
                <a:latin typeface="Calibri Light"/>
              </a:rPr>
              <a:t>Executivo exceto RP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4200" y="1893960"/>
          <a:ext cx="7450200" cy="3070080"/>
        </p:xfrm>
        <a:graphic>
          <a:graphicData uri="http://schemas.openxmlformats.org/drawingml/2006/table">
            <a:tbl>
              <a:tblPr/>
              <a:tblGrid>
                <a:gridCol w="2430360"/>
                <a:gridCol w="1684440"/>
                <a:gridCol w="1685880"/>
                <a:gridCol w="1649520"/>
              </a:tblGrid>
              <a:tr h="5270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VINCU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4464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B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.338.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.884.3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.223.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079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BRIGAÇÕES FINANCEIRAS/ORÇAMENTÁRIAS A P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2.520.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2.144.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4.665.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6904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LÍQUIDO(SF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817.9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.739.7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557.6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50" name="Seta em curva para cima 1"/>
          <p:cNvSpPr/>
          <p:nvPr/>
        </p:nvSpPr>
        <p:spPr>
          <a:xfrm rot="21445200">
            <a:off x="3789360" y="4776480"/>
            <a:ext cx="7977240" cy="1236600"/>
          </a:xfrm>
          <a:custGeom>
            <a:avLst/>
            <a:gdLst>
              <a:gd name="textAreaLeft" fmla="*/ 1828800 w 7977240"/>
              <a:gd name="textAreaRight" fmla="*/ 5796000 w 7977240"/>
              <a:gd name="textAreaTop" fmla="*/ 165600 h 1236600"/>
              <a:gd name="textAreaBottom" fmla="*/ 10710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5" hR="21600" stAng="10800000" swAng="-5400000"/>
                <a:lnTo>
                  <a:pt x="10742" y="21600"/>
                </a:lnTo>
                <a:arcTo wR="9905" hR="21600" stAng="5400000" swAng="-3789931"/>
                <a:lnTo>
                  <a:pt x="21344" y="4881"/>
                </a:lnTo>
                <a:lnTo>
                  <a:pt x="20228" y="0"/>
                </a:lnTo>
                <a:lnTo>
                  <a:pt x="18599" y="4881"/>
                </a:lnTo>
                <a:lnTo>
                  <a:pt x="19553" y="4881"/>
                </a:lnTo>
                <a:arcTo wR="9905" hR="21600" stAng="1610069" swAng="3723274"/>
                <a:lnTo>
                  <a:pt x="10323" y="21581"/>
                </a:lnTo>
                <a:arcTo wR="9905" hR="21600" stAng="5466658" swAng="5333342"/>
                <a:close/>
              </a:path>
              <a:path fill="darkenLess" w="21600" h="21600">
                <a:moveTo>
                  <a:pt x="0" y="0"/>
                </a:moveTo>
                <a:arcTo wR="9905" hR="21600" stAng="10800000" swAng="-5400000"/>
                <a:lnTo>
                  <a:pt x="10742" y="21600"/>
                </a:lnTo>
                <a:arcTo wR="9905" hR="21600" stAng="5400000" swAng="66658"/>
                <a:lnTo>
                  <a:pt x="10323" y="21581"/>
                </a:lnTo>
                <a:arcTo wR="9905" hR="21600" stAng="5466658" swAng="5333342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aixaDeTexto 5"/>
          <p:cNvSpPr/>
          <p:nvPr/>
        </p:nvSpPr>
        <p:spPr>
          <a:xfrm>
            <a:off x="499680" y="4986360"/>
            <a:ext cx="153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Arial"/>
              </a:rPr>
              <a:t>*SF = Superávit Financei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aixaDeTexto 7"/>
          <p:cNvSpPr/>
          <p:nvPr/>
        </p:nvSpPr>
        <p:spPr>
          <a:xfrm>
            <a:off x="8353800" y="4282920"/>
            <a:ext cx="27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Arial"/>
              </a:rPr>
              <a:t>** Recursos ordinários com destinação específi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37600" y="2411280"/>
          <a:ext cx="3260520" cy="1881360"/>
        </p:xfrm>
        <a:graphic>
          <a:graphicData uri="http://schemas.openxmlformats.org/drawingml/2006/table">
            <a:tbl>
              <a:tblPr/>
              <a:tblGrid>
                <a:gridCol w="1930320"/>
                <a:gridCol w="1330200"/>
              </a:tblGrid>
              <a:tr h="590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mo da Disponibilidade Líquida dos Recursos Ordinár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Livres – PMB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555.7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Livres** – Demais Entidad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62.1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5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R ORDIN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817.9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m 6" descr=""/>
          <p:cNvPicPr/>
          <p:nvPr/>
        </p:nvPicPr>
        <p:blipFill>
          <a:blip r:embed="rId1"/>
          <a:stretch/>
        </p:blipFill>
        <p:spPr>
          <a:xfrm>
            <a:off x="0" y="-270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398600" y="47628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isponibilidades de Caixa - </a:t>
            </a:r>
            <a:r>
              <a:rPr b="1" lang="pt-BR" sz="3000" spc="-1" strike="noStrike" u="sng">
                <a:solidFill>
                  <a:srgbClr val="ff0000"/>
                </a:solidFill>
                <a:uFillTx/>
                <a:latin typeface="Calibri"/>
              </a:rPr>
              <a:t>RP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98600" y="1960560"/>
          <a:ext cx="9313920" cy="3197160"/>
        </p:xfrm>
        <a:graphic>
          <a:graphicData uri="http://schemas.openxmlformats.org/drawingml/2006/table">
            <a:tbl>
              <a:tblPr/>
              <a:tblGrid>
                <a:gridCol w="4105440"/>
                <a:gridCol w="1703160"/>
                <a:gridCol w="1882800"/>
                <a:gridCol w="1622520"/>
              </a:tblGrid>
              <a:tr h="6048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70c0"/>
                          </a:solidFill>
                          <a:latin typeface="Calibri Light"/>
                          <a:ea typeface="Simplified Arabic"/>
                        </a:rPr>
                        <a:t>BCPREV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VINCU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89208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B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3.293.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3.293.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082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BRIGAÇÕES FINANCEIRAS/ORÇAMENTÁ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03.5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03.5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792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LÍQU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1.989.7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1.989.7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m 6" descr=""/>
          <p:cNvPicPr/>
          <p:nvPr/>
        </p:nvPicPr>
        <p:blipFill>
          <a:blip r:embed="rId1"/>
          <a:stretch/>
        </p:blipFill>
        <p:spPr>
          <a:xfrm>
            <a:off x="22320" y="-144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tângulo de cantos arredondados 6"/>
          <p:cNvSpPr/>
          <p:nvPr/>
        </p:nvSpPr>
        <p:spPr>
          <a:xfrm>
            <a:off x="2386080" y="720720"/>
            <a:ext cx="7129440" cy="475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s números apresentados no 3º Quadrimestre de 2023 apontam para o cumprimento das metas estabelecidas e a manutenção do equilíbrio fisc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13140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Fundamento Legal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860480" y="893880"/>
            <a:ext cx="807084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LC 101/2000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 4° - Até o final dos meses de maio, setembro e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Calibri Light"/>
              </a:rPr>
              <a:t>fevereiro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, o Poder Executivo     demonstrará   e    avaliará o cumprimento das    metas fiscais de cada quadrimestre, em audiência     pública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Art. 48.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ão instrumentos de transparência da gestão fiscal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...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as prestações de contas ...incentivo à participação popular e realização de audiências públicas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208160" y="1571760"/>
            <a:ext cx="951372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Diário Oficial do Município - DOM/SC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5556589: RGF 3° QUADRIMESTRE 2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º 5556570: RREO 6 ° BIMESTRE 2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825560" y="444600"/>
            <a:ext cx="82692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 Metas Fiscais: 3º Quadrimestre de 2023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Apresentaçã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magem 3" descr=""/>
          <p:cNvPicPr/>
          <p:nvPr/>
        </p:nvPicPr>
        <p:blipFill>
          <a:blip r:embed="rId2"/>
          <a:stretch/>
        </p:blipFill>
        <p:spPr>
          <a:xfrm>
            <a:off x="9655200" y="5083200"/>
            <a:ext cx="23176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m 4" descr=""/>
          <p:cNvPicPr/>
          <p:nvPr/>
        </p:nvPicPr>
        <p:blipFill>
          <a:blip r:embed="rId1"/>
          <a:stretch/>
        </p:blipFill>
        <p:spPr>
          <a:xfrm>
            <a:off x="0" y="9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-360" y="537480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165400" y="4227480"/>
            <a:ext cx="8556480" cy="100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ermitir que a sociedade conheça, acompanha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44680" y="1655640"/>
            <a:ext cx="8475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Transparência das açõe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restação de contas à popul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Facilitar o acesso às informações públ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Divulgação dos resultados de forma mais clara e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 Light"/>
              </a:rPr>
              <a:t>Abordagen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89280" y="3948120"/>
          <a:ext cx="2719080" cy="1584360"/>
        </p:xfrm>
        <a:graphic>
          <a:graphicData uri="http://schemas.openxmlformats.org/drawingml/2006/table">
            <a:tbl>
              <a:tblPr/>
              <a:tblGrid>
                <a:gridCol w="2719080"/>
              </a:tblGrid>
              <a:tr h="1584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ÇAMENT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858080" y="1130400"/>
          <a:ext cx="2735280" cy="15843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89280" y="1157400"/>
          <a:ext cx="2719080" cy="1684080"/>
        </p:xfrm>
        <a:graphic>
          <a:graphicData uri="http://schemas.openxmlformats.org/drawingml/2006/table">
            <a:tbl>
              <a:tblPr/>
              <a:tblGrid>
                <a:gridCol w="2719080"/>
              </a:tblGrid>
              <a:tr h="1684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5440" y="3948120"/>
          <a:ext cx="2735280" cy="15843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8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508480"/>
          </a:xfrm>
          <a:prstGeom prst="pie">
            <a:avLst/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0" y="-144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3º Quadrimestr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84120" y="1498680"/>
          <a:ext cx="7782120" cy="3585960"/>
        </p:xfrm>
        <a:graphic>
          <a:graphicData uri="http://schemas.openxmlformats.org/drawingml/2006/table">
            <a:tbl>
              <a:tblPr/>
              <a:tblGrid>
                <a:gridCol w="2213280"/>
                <a:gridCol w="1912680"/>
                <a:gridCol w="1911600"/>
                <a:gridCol w="1744560"/>
              </a:tblGrid>
              <a:tr h="71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 (LO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717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9.095.5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8.909.3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813.8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 Orça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610.0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.092.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82.6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717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12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038.4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5.081.5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7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8.825.6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8.040.5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214.9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2" name="CaixaDeTexto 7"/>
          <p:cNvSpPr/>
          <p:nvPr/>
        </p:nvSpPr>
        <p:spPr>
          <a:xfrm>
            <a:off x="9280440" y="21826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R$ 143,2 milh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8"/>
          <p:cNvSpPr/>
          <p:nvPr/>
        </p:nvSpPr>
        <p:spPr>
          <a:xfrm>
            <a:off x="9280440" y="4414680"/>
            <a:ext cx="2343240" cy="64260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ção acima  do previsto em 1,7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3" descr=""/>
          <p:cNvPicPr/>
          <p:nvPr/>
        </p:nvPicPr>
        <p:blipFill>
          <a:blip r:embed="rId2"/>
          <a:stretch/>
        </p:blipFill>
        <p:spPr>
          <a:xfrm>
            <a:off x="9215280" y="474840"/>
            <a:ext cx="2046600" cy="1023840"/>
          </a:xfrm>
          <a:prstGeom prst="rect">
            <a:avLst/>
          </a:prstGeom>
          <a:ln w="0">
            <a:noFill/>
          </a:ln>
        </p:spPr>
      </p:pic>
      <p:sp>
        <p:nvSpPr>
          <p:cNvPr id="66" name="Seta em forma de U 2"/>
          <p:cNvSpPr/>
          <p:nvPr/>
        </p:nvSpPr>
        <p:spPr>
          <a:xfrm rot="10800000">
            <a:off x="7880040" y="5084280"/>
            <a:ext cx="2206440" cy="482760"/>
          </a:xfrm>
          <a:custGeom>
            <a:avLst/>
            <a:gdLst/>
            <a:ahLst/>
            <a:rect l="l" t="t" r="r" b="b"/>
            <a:pathLst>
              <a:path w="2206625" h="482600">
                <a:moveTo>
                  <a:pt x="0" y="482600"/>
                </a:moveTo>
                <a:lnTo>
                  <a:pt x="0" y="211138"/>
                </a:lnTo>
                <a:cubicBezTo>
                  <a:pt x="0" y="94530"/>
                  <a:pt x="94530" y="0"/>
                  <a:pt x="211138" y="0"/>
                </a:cubicBezTo>
                <a:lnTo>
                  <a:pt x="1959556" y="0"/>
                </a:lnTo>
                <a:cubicBezTo>
                  <a:pt x="2076164" y="0"/>
                  <a:pt x="2170694" y="94530"/>
                  <a:pt x="2170694" y="211138"/>
                </a:cubicBezTo>
                <a:cubicBezTo>
                  <a:pt x="2170694" y="221192"/>
                  <a:pt x="2170693" y="231246"/>
                  <a:pt x="2170693" y="241300"/>
                </a:cubicBezTo>
                <a:lnTo>
                  <a:pt x="2206625" y="241300"/>
                </a:lnTo>
                <a:lnTo>
                  <a:pt x="2085975" y="361950"/>
                </a:lnTo>
                <a:lnTo>
                  <a:pt x="1965325" y="241300"/>
                </a:lnTo>
                <a:lnTo>
                  <a:pt x="2001257" y="241300"/>
                </a:lnTo>
                <a:lnTo>
                  <a:pt x="2001257" y="211138"/>
                </a:lnTo>
                <a:cubicBezTo>
                  <a:pt x="2001257" y="234169"/>
                  <a:pt x="1936525" y="169437"/>
                  <a:pt x="1959556" y="169437"/>
                </a:cubicBezTo>
                <a:lnTo>
                  <a:pt x="211138" y="169436"/>
                </a:lnTo>
                <a:cubicBezTo>
                  <a:pt x="234169" y="169436"/>
                  <a:pt x="169437" y="234168"/>
                  <a:pt x="169437" y="211137"/>
                </a:cubicBezTo>
                <a:cubicBezTo>
                  <a:pt x="169437" y="301625"/>
                  <a:pt x="169436" y="392112"/>
                  <a:pt x="169436" y="482600"/>
                </a:cubicBezTo>
                <a:lnTo>
                  <a:pt x="0" y="48260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6" descr=""/>
          <p:cNvPicPr/>
          <p:nvPr/>
        </p:nvPicPr>
        <p:blipFill>
          <a:blip r:embed="rId1"/>
          <a:stretch/>
        </p:blipFill>
        <p:spPr>
          <a:xfrm>
            <a:off x="-8100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 – </a:t>
            </a: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últimos 10 exercícios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90640" y="781200"/>
          <a:ext cx="6434280" cy="5286240"/>
        </p:xfrm>
        <a:graphic>
          <a:graphicData uri="http://schemas.openxmlformats.org/drawingml/2006/table">
            <a:tbl>
              <a:tblPr/>
              <a:tblGrid>
                <a:gridCol w="1706760"/>
                <a:gridCol w="2562120"/>
                <a:gridCol w="2165400"/>
              </a:tblGrid>
              <a:tr h="67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rcí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Realiz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m relação ao ano a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.880.1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067.3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9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310.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1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.4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1.6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3.8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5.7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4.866.2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9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.3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8.040.5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6" descr=""/>
          <p:cNvPicPr/>
          <p:nvPr/>
        </p:nvPicPr>
        <p:blipFill>
          <a:blip r:embed="rId1"/>
          <a:stretch/>
        </p:blipFill>
        <p:spPr>
          <a:xfrm>
            <a:off x="5868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280" y="10800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Elipse 7"/>
          <p:cNvSpPr/>
          <p:nvPr/>
        </p:nvSpPr>
        <p:spPr>
          <a:xfrm>
            <a:off x="9537840" y="1133640"/>
            <a:ext cx="1650960" cy="1377720"/>
          </a:xfrm>
          <a:prstGeom prst="ellipse">
            <a:avLst/>
          </a:prstGeom>
          <a:solidFill>
            <a:srgbClr val="ffd96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d0d0d"/>
                </a:solidFill>
                <a:latin typeface="Calibri"/>
              </a:rPr>
              <a:t>Receita realizada em 2023 ficou acima da linha de tendênci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Gráfico 1" descr=""/>
          <p:cNvPicPr/>
          <p:nvPr/>
        </p:nvPicPr>
        <p:blipFill>
          <a:blip r:embed="rId2"/>
          <a:stretch/>
        </p:blipFill>
        <p:spPr>
          <a:xfrm>
            <a:off x="1590840" y="1378080"/>
            <a:ext cx="8510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46480" y="0"/>
            <a:ext cx="632592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– </a:t>
            </a:r>
            <a:r>
              <a:rPr b="0" lang="pt-BR" sz="3300" spc="-1" strike="noStrike">
                <a:solidFill>
                  <a:srgbClr val="002060"/>
                </a:solidFill>
                <a:latin typeface="Calibri Light"/>
              </a:rPr>
              <a:t>2023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79400" y="512640"/>
          <a:ext cx="8372520" cy="5286600"/>
        </p:xfrm>
        <a:graphic>
          <a:graphicData uri="http://schemas.openxmlformats.org/drawingml/2006/table">
            <a:tbl>
              <a:tblPr/>
              <a:tblGrid>
                <a:gridCol w="5629320"/>
                <a:gridCol w="1632240"/>
                <a:gridCol w="1110960"/>
              </a:tblGrid>
              <a:tr h="334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72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, Taxas e Contribuição de Melh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5.094.207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343.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.156.008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.389.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691.836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.625.563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923.654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e Munic / Instituições Privadas / Pesso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5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/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12.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91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554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483.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787.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ambiental, Aporte BCPREVI e outr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842.48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6912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8.040.54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69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Câmara de Vereadores</cp:lastModifiedBy>
  <cp:lastPrinted>2019-02-28T18:54:16Z</cp:lastPrinted>
  <dcterms:modified xsi:type="dcterms:W3CDTF">2024-02-23T17:57:58Z</dcterms:modified>
  <cp:revision>319</cp:revision>
  <dc:subject/>
  <dc:title>Apresentação do PowerPoint</dc:title>
</cp:coreProperties>
</file>