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B9EC-7A29-49E3-A093-541C604B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F695-0686-46EC-B183-7AB5856E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73F7-230C-477A-8FF4-F9D71F2EC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4359-E1FC-4E18-BFAD-2F2243C01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7DEA-39B0-4752-98FC-11CF5EBC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9D10-496D-4D84-9ED9-AB3EC954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3057-A32D-430C-8707-3B9E7FFC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5312-CE1E-465E-B42E-8E6238AC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C5BF-E8AA-49D6-8B37-7CE33186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E5A0-37BF-43F2-B39C-1A51E108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8CDE-370B-4BDC-99D6-27C6AD6B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780F-2CED-4765-8671-EFF601E4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D74B-40F7-4694-92D2-B613A69F812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bc.sc.gov.br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5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2346480" y="0"/>
            <a:ext cx="632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2060"/>
                </a:solidFill>
                <a:latin typeface="Calibri Light"/>
                <a:ea typeface="Arial"/>
              </a:rPr>
              <a:t>Origem das Receitas </a:t>
            </a:r>
            <a:br>
              <a:rPr sz="38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  <a:ea typeface="Arial"/>
              </a:rPr>
              <a:t>1º Quadrimestre de 202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Gráfico 1" descr=""/>
          <p:cNvPicPr/>
          <p:nvPr/>
        </p:nvPicPr>
        <p:blipFill>
          <a:blip r:embed="rId2"/>
          <a:stretch/>
        </p:blipFill>
        <p:spPr>
          <a:xfrm>
            <a:off x="2341440" y="1798560"/>
            <a:ext cx="836928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m 6" descr=""/>
          <p:cNvPicPr/>
          <p:nvPr/>
        </p:nvPicPr>
        <p:blipFill>
          <a:blip r:embed="rId1"/>
          <a:stretch/>
        </p:blipFill>
        <p:spPr>
          <a:xfrm>
            <a:off x="77760" y="23760"/>
            <a:ext cx="121921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2890800" y="4614840"/>
          <a:ext cx="6872400" cy="941400"/>
        </p:xfrm>
        <a:graphic>
          <a:graphicData uri="http://schemas.openxmlformats.org/drawingml/2006/table">
            <a:tbl>
              <a:tblPr/>
              <a:tblGrid>
                <a:gridCol w="1487520"/>
                <a:gridCol w="1347840"/>
                <a:gridCol w="1339920"/>
                <a:gridCol w="1385640"/>
                <a:gridCol w="1311480"/>
              </a:tblGrid>
              <a:tr h="384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PT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RR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X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5728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1.459.68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995.23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.016.21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.438.87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771.83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84" name="CaixaDeTexto 3"/>
          <p:cNvSpPr/>
          <p:nvPr/>
        </p:nvSpPr>
        <p:spPr>
          <a:xfrm>
            <a:off x="1916280" y="5635800"/>
            <a:ext cx="8820000" cy="36828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Os impostos e taxas representam 46% do valor total arrecadado no perío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27280" y="232920"/>
            <a:ext cx="949968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2060"/>
                </a:solidFill>
                <a:latin typeface="Calibri Light"/>
              </a:rPr>
              <a:t>Impostos e Taxas Arrecadados  –</a:t>
            </a:r>
            <a:br>
              <a:rPr sz="3800"/>
            </a:br>
            <a:r>
              <a:rPr b="1" lang="pt-BR" sz="3800" spc="-1" strike="noStrike">
                <a:solidFill>
                  <a:srgbClr val="002060"/>
                </a:solidFill>
                <a:latin typeface="Calibri Light"/>
              </a:rPr>
              <a:t>Janeiro a Abril/2024</a:t>
            </a:r>
            <a:r>
              <a:rPr b="0" lang="pt-BR" sz="22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6" name="Gráfico 6" descr=""/>
          <p:cNvPicPr/>
          <p:nvPr/>
        </p:nvPicPr>
        <p:blipFill>
          <a:blip r:embed="rId2"/>
          <a:stretch/>
        </p:blipFill>
        <p:spPr>
          <a:xfrm>
            <a:off x="1620720" y="927000"/>
            <a:ext cx="8516880" cy="307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Gráfico 1"/>
          <p:cNvGraphicFramePr/>
          <p:nvPr/>
        </p:nvGraphicFramePr>
        <p:xfrm>
          <a:off x="1481040" y="1023840"/>
          <a:ext cx="9385560" cy="3495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8" name="Gráfico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81040" y="1023840"/>
                    <a:ext cx="938556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6680" y="169560"/>
            <a:ext cx="8826480" cy="110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2060"/>
                </a:solidFill>
                <a:latin typeface="Calibri Light"/>
              </a:rPr>
              <a:t>Desempenho da Despesa</a:t>
            </a:r>
            <a:br>
              <a:rPr sz="4400"/>
            </a:br>
            <a:r>
              <a:rPr b="1" lang="pt-BR" sz="2000" spc="-1" strike="noStrike">
                <a:solidFill>
                  <a:srgbClr val="002060"/>
                </a:solidFill>
                <a:latin typeface="Calibri Light"/>
              </a:rPr>
              <a:t>1º Quadrimestre 2024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CaixaDeTexto 5"/>
          <p:cNvSpPr/>
          <p:nvPr/>
        </p:nvSpPr>
        <p:spPr>
          <a:xfrm>
            <a:off x="2749680" y="4873680"/>
            <a:ext cx="6132240" cy="368280"/>
          </a:xfrm>
          <a:prstGeom prst="rect">
            <a:avLst/>
          </a:prstGeom>
          <a:solidFill>
            <a:srgbClr val="00206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d6dce5"/>
                </a:solidFill>
                <a:latin typeface="Calibri"/>
              </a:rPr>
              <a:t>Média mensal despesas correntes (liquidada): R$ 117.214.5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CaixaDeTexto 8"/>
          <p:cNvSpPr/>
          <p:nvPr/>
        </p:nvSpPr>
        <p:spPr>
          <a:xfrm>
            <a:off x="3297960" y="5319720"/>
            <a:ext cx="5141520" cy="368280"/>
          </a:xfrm>
          <a:prstGeom prst="rect">
            <a:avLst/>
          </a:prstGeom>
          <a:solidFill>
            <a:srgbClr val="1f4e79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Executado 88,10%  do valor estimado para o perío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868400" y="1677960"/>
          <a:ext cx="8386920" cy="2914560"/>
        </p:xfrm>
        <a:graphic>
          <a:graphicData uri="http://schemas.openxmlformats.org/drawingml/2006/table">
            <a:tbl>
              <a:tblPr/>
              <a:tblGrid>
                <a:gridCol w="2200320"/>
                <a:gridCol w="2157480"/>
                <a:gridCol w="2041560"/>
                <a:gridCol w="1987560"/>
              </a:tblGrid>
              <a:tr h="728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cut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erenç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7286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rentes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9.555.09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0.446.28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9.108.80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286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.659.0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411.74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4.247.25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286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2.214.09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8.858.03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3.356.05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</a:tr>
            </a:tbl>
          </a:graphicData>
        </a:graphic>
      </p:graphicFrame>
      <p:pic>
        <p:nvPicPr>
          <p:cNvPr id="94" name="Picture 33" descr=""/>
          <p:cNvPicPr/>
          <p:nvPr/>
        </p:nvPicPr>
        <p:blipFill>
          <a:blip r:embed="rId2"/>
          <a:stretch/>
        </p:blipFill>
        <p:spPr>
          <a:xfrm>
            <a:off x="9504360" y="4659480"/>
            <a:ext cx="2116080" cy="131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magem 6" descr=""/>
          <p:cNvPicPr/>
          <p:nvPr/>
        </p:nvPicPr>
        <p:blipFill>
          <a:blip r:embed="rId1"/>
          <a:stretch/>
        </p:blipFill>
        <p:spPr>
          <a:xfrm>
            <a:off x="11160" y="1116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62280" y="0"/>
            <a:ext cx="7092720" cy="1311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2060"/>
                </a:solidFill>
                <a:latin typeface="Calibri Light"/>
              </a:rPr>
              <a:t> </a:t>
            </a: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Aplicação da Despesa </a:t>
            </a:r>
            <a:br>
              <a:rPr sz="40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</a:rPr>
              <a:t>1º Quadrimestre de 2024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343160" y="1311120"/>
          <a:ext cx="8715240" cy="4507200"/>
        </p:xfrm>
        <a:graphic>
          <a:graphicData uri="http://schemas.openxmlformats.org/drawingml/2006/table">
            <a:tbl>
              <a:tblPr/>
              <a:tblGrid>
                <a:gridCol w="3530520"/>
                <a:gridCol w="1711440"/>
                <a:gridCol w="880920"/>
                <a:gridCol w="1701720"/>
                <a:gridCol w="890640"/>
              </a:tblGrid>
              <a:tr h="619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ureza das Despes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isão Execu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cut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426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S CORR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9.555.0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,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0.446.2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,9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</a:tr>
              <a:tr h="427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PESSOAL E ENCARGOS SOCI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4.335.1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6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7.955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,2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25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JUROS E ENCARGOS DA DÍV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273.6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289.6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39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OUTRAS DESPESAS CORR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7.946.2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1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6.201.1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3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26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S DE 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.659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7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411.7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</a:tr>
              <a:tr h="425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INVESTIMEN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.0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3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300.7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6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3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INVERSÕES FINANCEIR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39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AMORTIZAÇÃO DA DÍV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659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411.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3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E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2.214.0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8.858.0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</a:tr>
            </a:tbl>
          </a:graphicData>
        </a:graphic>
      </p:graphicFrame>
      <p:sp>
        <p:nvSpPr>
          <p:cNvPr id="98" name="AutoShape 43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4" descr=""/>
          <p:cNvPicPr/>
          <p:nvPr/>
        </p:nvPicPr>
        <p:blipFill>
          <a:blip r:embed="rId2"/>
          <a:stretch/>
        </p:blipFill>
        <p:spPr>
          <a:xfrm>
            <a:off x="10058400" y="119160"/>
            <a:ext cx="17398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606400" y="213840"/>
            <a:ext cx="6335640" cy="911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 Light"/>
              </a:rPr>
              <a:t>Comparativo da Despesa</a:t>
            </a:r>
            <a:br>
              <a:rPr sz="3200"/>
            </a:br>
            <a:r>
              <a:rPr b="1" lang="pt-BR" sz="1500" spc="-1" strike="noStrike">
                <a:solidFill>
                  <a:srgbClr val="002060"/>
                </a:solidFill>
                <a:latin typeface="Calibri Light"/>
              </a:rPr>
              <a:t>1º Quadrimestre – por exercício – despesa realizada</a:t>
            </a:r>
            <a:br>
              <a:rPr sz="1500"/>
            </a:br>
            <a:r>
              <a:rPr b="1" lang="pt-BR" sz="1500" spc="-1" strike="noStrike">
                <a:solidFill>
                  <a:srgbClr val="002060"/>
                </a:solidFill>
                <a:latin typeface="Calibri Light"/>
              </a:rPr>
              <a:t>MODALIDADE DE APLICAÇÃO</a:t>
            </a: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73280" y="1465200"/>
          <a:ext cx="8628120" cy="4489560"/>
        </p:xfrm>
        <a:graphic>
          <a:graphicData uri="http://schemas.openxmlformats.org/drawingml/2006/table">
            <a:tbl>
              <a:tblPr/>
              <a:tblGrid>
                <a:gridCol w="3382920"/>
                <a:gridCol w="1747800"/>
                <a:gridCol w="1749600"/>
                <a:gridCol w="1747800"/>
              </a:tblGrid>
              <a:tr h="665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ALIDADE APLIC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Quadr.202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Quadr.202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Quadr.20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93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e Encargos Sociai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.392.93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3.168.8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7.955.5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8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ros e Encargos da Dívi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694.2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391.95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289.62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69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Despesas Corrent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.098.3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.278.65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6.201.16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04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imento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380.81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40.92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300.73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61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ões Financeir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6.16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00.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00.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61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ção da Dívi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051.50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307.08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411.0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03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6.553.96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2.887.43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8.858.03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58640" y="301320"/>
            <a:ext cx="7093080" cy="646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 Light"/>
              </a:rPr>
              <a:t> </a:t>
            </a:r>
            <a:r>
              <a:rPr b="1" lang="pt-BR" sz="3200" spc="-1" strike="noStrike">
                <a:solidFill>
                  <a:srgbClr val="002060"/>
                </a:solidFill>
                <a:latin typeface="Calibri Light"/>
              </a:rPr>
              <a:t>Despesa por Função do Governo</a:t>
            </a:r>
            <a:br>
              <a:rPr sz="32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</a:rPr>
              <a:t>1º Quadrimestre de 2024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003480" y="1112760"/>
          <a:ext cx="5335560" cy="4988160"/>
        </p:xfrm>
        <a:graphic>
          <a:graphicData uri="http://schemas.openxmlformats.org/drawingml/2006/table">
            <a:tbl>
              <a:tblPr/>
              <a:tblGrid>
                <a:gridCol w="2351160"/>
                <a:gridCol w="1476360"/>
                <a:gridCol w="1508040"/>
              </a:tblGrid>
              <a:tr h="25236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ÁRE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49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Legislativ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8.109.67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,7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Judiciár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.745.2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,2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Administraçã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2.645.2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9,1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Segurança Públ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3.456.07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,0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Assistência Soci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6.645.8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,5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Previdênc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7.460.4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7,9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Saúd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7.094.87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2,8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Trabalh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6.698.87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,4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Educaçã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18.222.19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5,2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Cultu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.209.7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,26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Direitos da Cidadan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787.4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,1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Urbanism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9.904.7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6,38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Habitaçã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64.5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,0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Saneamen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2.012.68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,6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Gestão Ambien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.138.4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,6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Comércio e Serviç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.033.5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,0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Desporto e Laz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.727.62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,0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Encargos Especia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5.900.8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7,66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TOTAL GER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68.858.0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1560" y="317520"/>
            <a:ext cx="8740800" cy="1311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2060"/>
                </a:solidFill>
                <a:latin typeface="Calibri Light"/>
              </a:rPr>
              <a:t>RESULTADO DA EXECUÇÃO ORÇAMENTÁRIA</a:t>
            </a:r>
            <a:br>
              <a:rPr sz="3000"/>
            </a:br>
            <a:r>
              <a:rPr b="0" lang="pt-BR" sz="3000" spc="-1" strike="noStrike">
                <a:solidFill>
                  <a:srgbClr val="002060"/>
                </a:solidFill>
                <a:latin typeface="Calibri Light"/>
              </a:rPr>
              <a:t>Receitas </a:t>
            </a:r>
            <a:r>
              <a:rPr b="0" i="1" lang="pt-BR" sz="3000" spc="-1" strike="noStrike">
                <a:solidFill>
                  <a:srgbClr val="002060"/>
                </a:solidFill>
                <a:latin typeface="Calibri Light"/>
              </a:rPr>
              <a:t>versus</a:t>
            </a:r>
            <a:r>
              <a:rPr b="0" lang="pt-BR" sz="3000" spc="-1" strike="noStrike">
                <a:solidFill>
                  <a:srgbClr val="002060"/>
                </a:solidFill>
                <a:latin typeface="Calibri Light"/>
              </a:rPr>
              <a:t> Despesas</a:t>
            </a:r>
            <a:br>
              <a:rPr sz="30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</a:rPr>
              <a:t>1º Quadrimestre de 2024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8960" y="2235240"/>
          <a:ext cx="7583400" cy="2998800"/>
        </p:xfrm>
        <a:graphic>
          <a:graphicData uri="http://schemas.openxmlformats.org/drawingml/2006/table">
            <a:tbl>
              <a:tblPr/>
              <a:tblGrid>
                <a:gridCol w="2746440"/>
                <a:gridCol w="2508120"/>
                <a:gridCol w="2328840"/>
              </a:tblGrid>
              <a:tr h="669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isã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cuçã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669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5.349.255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1.489.266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71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2.214.090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8.858.035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87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erávi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.135.165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2.631.231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pic>
        <p:nvPicPr>
          <p:cNvPr id="109" name="Picture 26" descr=""/>
          <p:cNvPicPr/>
          <p:nvPr/>
        </p:nvPicPr>
        <p:blipFill>
          <a:blip r:embed="rId2"/>
          <a:stretch/>
        </p:blipFill>
        <p:spPr>
          <a:xfrm>
            <a:off x="9342360" y="325440"/>
            <a:ext cx="2206800" cy="14050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28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AutoShape 3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33" descr=""/>
          <p:cNvPicPr/>
          <p:nvPr/>
        </p:nvPicPr>
        <p:blipFill>
          <a:blip r:embed="rId3"/>
          <a:stretch/>
        </p:blipFill>
        <p:spPr>
          <a:xfrm>
            <a:off x="9504360" y="3757680"/>
            <a:ext cx="23814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2087640" y="1787400"/>
            <a:ext cx="77626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ahoma"/>
                <a:ea typeface="Arial"/>
              </a:rPr>
              <a:t>PREVISÃO PARA O EXERCÍCIO 2024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pt-BR" sz="2700" spc="-1" strike="noStrike">
                <a:solidFill>
                  <a:srgbClr val="00b0f0"/>
                </a:solidFill>
                <a:latin typeface="Tahoma"/>
                <a:ea typeface="Arial"/>
              </a:rPr>
              <a:t>R$ 1.370.096.20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buClr>
                <a:srgbClr val="ffcc66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ahoma"/>
                <a:ea typeface="Arial"/>
              </a:rPr>
              <a:t>REALIZADA ATÉ ABRIL DE 202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buClr>
                <a:srgbClr val="ff99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2700" spc="-1" strike="noStrike">
                <a:solidFill>
                  <a:srgbClr val="ff9900"/>
                </a:solidFill>
                <a:latin typeface="Tahoma"/>
                <a:ea typeface="Arial"/>
              </a:rPr>
              <a:t>R$ 1.398.853.34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buClr>
                <a:srgbClr val="ff99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ahoma"/>
                <a:ea typeface="Arial"/>
              </a:rPr>
              <a:t>AJUSTADA ATÉ ABRIL DE 202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buClr>
                <a:srgbClr val="548235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2700" spc="-1" strike="noStrike">
                <a:solidFill>
                  <a:srgbClr val="548235"/>
                </a:solidFill>
                <a:latin typeface="Tahoma"/>
                <a:ea typeface="Arial"/>
              </a:rPr>
              <a:t>R$ 1.392.193.52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buClr>
                <a:srgbClr val="548235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36840" y="603360"/>
            <a:ext cx="808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Meta Receita Corrente Líqui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3" descr=""/>
          <p:cNvPicPr/>
          <p:nvPr/>
        </p:nvPicPr>
        <p:blipFill>
          <a:blip r:embed="rId2"/>
          <a:stretch/>
        </p:blipFill>
        <p:spPr>
          <a:xfrm>
            <a:off x="9917280" y="3757680"/>
            <a:ext cx="196848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1170000" y="304920"/>
            <a:ext cx="748836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2060"/>
                </a:solidFill>
                <a:latin typeface="Calibri Light"/>
              </a:rPr>
              <a:t>Resultado Previdenciário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Calibri Light"/>
              </a:rPr>
              <a:t>1º Quadrimestre 20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6" descr=""/>
          <p:cNvPicPr/>
          <p:nvPr/>
        </p:nvPicPr>
        <p:blipFill>
          <a:blip r:embed="rId2"/>
          <a:stretch/>
        </p:blipFill>
        <p:spPr>
          <a:xfrm>
            <a:off x="8037360" y="260280"/>
            <a:ext cx="2286000" cy="122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"/>
          <p:cNvGraphicFramePr/>
          <p:nvPr/>
        </p:nvGraphicFramePr>
        <p:xfrm>
          <a:off x="1063800" y="2128680"/>
          <a:ext cx="8356320" cy="2919600"/>
        </p:xfrm>
        <a:graphic>
          <a:graphicData uri="http://schemas.openxmlformats.org/drawingml/2006/table">
            <a:tbl>
              <a:tblPr/>
              <a:tblGrid>
                <a:gridCol w="2538360"/>
                <a:gridCol w="1998720"/>
                <a:gridCol w="1909440"/>
                <a:gridCol w="1909800"/>
              </a:tblGrid>
              <a:tr h="5382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56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Quadr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Quadr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Quadr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56340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663.77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.668.89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.652.98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16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922.07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634.67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.460.42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3820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741.69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034.21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192.56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sp>
        <p:nvSpPr>
          <p:cNvPr id="121" name="Elipse 4"/>
          <p:cNvSpPr/>
          <p:nvPr/>
        </p:nvSpPr>
        <p:spPr>
          <a:xfrm>
            <a:off x="9588600" y="2540160"/>
            <a:ext cx="2381040" cy="17776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Ativo Financeiro total do RP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R$ 888 milhõ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1312920" y="654120"/>
            <a:ext cx="8548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2060"/>
                </a:solidFill>
                <a:latin typeface="Calibri Light"/>
              </a:rPr>
              <a:t>Resultado Primário </a:t>
            </a:r>
            <a:r>
              <a:rPr b="1" lang="pt-BR" sz="1500" spc="-1" strike="noStrike">
                <a:solidFill>
                  <a:srgbClr val="002060"/>
                </a:solidFill>
                <a:latin typeface="Calibri Light"/>
              </a:rPr>
              <a:t>(acima da linha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666800" y="1689120"/>
          <a:ext cx="8377200" cy="1179360"/>
        </p:xfrm>
        <a:graphic>
          <a:graphicData uri="http://schemas.openxmlformats.org/drawingml/2006/table">
            <a:tbl>
              <a:tblPr/>
              <a:tblGrid>
                <a:gridCol w="4686480"/>
                <a:gridCol w="3690720"/>
              </a:tblGrid>
              <a:tr h="56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LDO – Resultado Primári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0.676.5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14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Alcançada 1º Quadrimestr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.107.02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1792440" y="4427640"/>
          <a:ext cx="8251560" cy="1017360"/>
        </p:xfrm>
        <a:graphic>
          <a:graphicData uri="http://schemas.openxmlformats.org/drawingml/2006/table">
            <a:tbl>
              <a:tblPr/>
              <a:tblGrid>
                <a:gridCol w="4616280"/>
                <a:gridCol w="3635280"/>
              </a:tblGrid>
              <a:tr h="487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LDO – Resultado Nomin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9.123.0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</a:tr>
              <a:tr h="529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Alcançada 1º Quadrimestr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9.266.70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126" name="Text Box 3"/>
          <p:cNvSpPr/>
          <p:nvPr/>
        </p:nvSpPr>
        <p:spPr>
          <a:xfrm>
            <a:off x="1392120" y="3429000"/>
            <a:ext cx="854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2060"/>
                </a:solidFill>
                <a:latin typeface="Calibri Light"/>
              </a:rPr>
              <a:t>Resultado Nominal</a:t>
            </a: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pt-BR" sz="1500" spc="-1" strike="noStrike">
                <a:solidFill>
                  <a:srgbClr val="002060"/>
                </a:solidFill>
                <a:latin typeface="Calibri"/>
              </a:rPr>
              <a:t>(abaixo da linha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3" descr=""/>
          <p:cNvPicPr/>
          <p:nvPr/>
        </p:nvPicPr>
        <p:blipFill>
          <a:blip r:embed="rId2"/>
          <a:stretch/>
        </p:blipFill>
        <p:spPr>
          <a:xfrm>
            <a:off x="9861480" y="299880"/>
            <a:ext cx="19684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m 7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70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293840" y="1279080"/>
            <a:ext cx="95536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Arial"/>
              </a:rPr>
              <a:t>AUDIÊNCIA PÚBLICA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23/05/202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ffffff"/>
                </a:solidFill>
                <a:latin typeface="Arial"/>
                <a:ea typeface="Arial"/>
              </a:rPr>
              <a:t>Demonstração e Avaliação do Cumprimento das Metas Fiscai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pt-BR" sz="3500" spc="-1" strike="noStrike">
                <a:solidFill>
                  <a:srgbClr val="ffffff"/>
                </a:solidFill>
                <a:latin typeface="Arial"/>
                <a:ea typeface="Arial"/>
              </a:rPr>
              <a:t>1º Quadrimestre de 2024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m 6" descr=""/>
          <p:cNvPicPr/>
          <p:nvPr/>
        </p:nvPicPr>
        <p:blipFill>
          <a:blip r:embed="rId1"/>
          <a:stretch/>
        </p:blipFill>
        <p:spPr>
          <a:xfrm>
            <a:off x="22320" y="6336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900000" y="34776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Restos a Pag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330200" y="1585800"/>
          <a:ext cx="9063000" cy="3387960"/>
        </p:xfrm>
        <a:graphic>
          <a:graphicData uri="http://schemas.openxmlformats.org/drawingml/2006/table">
            <a:tbl>
              <a:tblPr/>
              <a:tblGrid>
                <a:gridCol w="4097520"/>
                <a:gridCol w="1673280"/>
                <a:gridCol w="1736640"/>
                <a:gridCol w="1555560"/>
              </a:tblGrid>
              <a:tr h="725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ição do R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ão Process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84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do a Pagar em 31/12/20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888.07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.854.2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8.742.29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4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os Cancelad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5.26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17.9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63.19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52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os pagos até o perío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515.82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572.5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.088.33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84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DO A PAGAR EM 30/04/202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26.98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.463.77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.590.75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1539720" y="366840"/>
            <a:ext cx="7672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  <a:ea typeface="Arial"/>
              </a:rPr>
              <a:t>Aplicação na Educação Bás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Calibri Light"/>
                <a:ea typeface="Arial"/>
              </a:rPr>
              <a:t>1º Quadrimestre 202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668600" y="1935000"/>
          <a:ext cx="8337240" cy="3829320"/>
        </p:xfrm>
        <a:graphic>
          <a:graphicData uri="http://schemas.openxmlformats.org/drawingml/2006/table">
            <a:tbl>
              <a:tblPr/>
              <a:tblGrid>
                <a:gridCol w="5460840"/>
                <a:gridCol w="2876400"/>
              </a:tblGrid>
              <a:tr h="530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BASE DE CÁLCU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7.142.192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71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APLICAÇÃO MÍNIMA – 25%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(no an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1.785.548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37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VALOR APLIC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.439.157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50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PERCENTUAL DE APLICAÇÃO JÁ ALCANÇADO NO PERÍO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(1º QUADRIMEST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.72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</a:tr>
              <a:tr h="812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GASTOS TOTAIS EM EDUCAÇ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8.222.19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134" name="Picture 24" descr=""/>
          <p:cNvPicPr/>
          <p:nvPr/>
        </p:nvPicPr>
        <p:blipFill>
          <a:blip r:embed="rId2"/>
          <a:stretch/>
        </p:blipFill>
        <p:spPr>
          <a:xfrm>
            <a:off x="9786960" y="236520"/>
            <a:ext cx="181908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1539720" y="366840"/>
            <a:ext cx="76726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  <a:ea typeface="Arial"/>
              </a:rPr>
              <a:t>Aplicação Funde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658880" y="1903320"/>
          <a:ext cx="8237520" cy="3471840"/>
        </p:xfrm>
        <a:graphic>
          <a:graphicData uri="http://schemas.openxmlformats.org/drawingml/2006/table">
            <a:tbl>
              <a:tblPr/>
              <a:tblGrid>
                <a:gridCol w="5861160"/>
                <a:gridCol w="2376360"/>
              </a:tblGrid>
              <a:tr h="65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SALDO ANTERIOR – DEZ 20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5.384.7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27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ARRECADAÇÃO + RENDIMEN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44.682.6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54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DESPESAS PAG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41.021.4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90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SALDO FINANCEIRO 30/04/20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9.045.9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49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% APLIC EM PESSOAL MAGISTÉRIO (Mínimo de 70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,7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</a:tr>
            </a:tbl>
          </a:graphicData>
        </a:graphic>
      </p:graphicFrame>
      <p:pic>
        <p:nvPicPr>
          <p:cNvPr id="138" name="Picture 107" descr="MCj04348100000[1]"/>
          <p:cNvPicPr/>
          <p:nvPr/>
        </p:nvPicPr>
        <p:blipFill>
          <a:blip r:embed="rId2"/>
          <a:stretch/>
        </p:blipFill>
        <p:spPr>
          <a:xfrm rot="1902600">
            <a:off x="10815120" y="1441440"/>
            <a:ext cx="1109880" cy="1108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5" descr=""/>
          <p:cNvPicPr/>
          <p:nvPr/>
        </p:nvPicPr>
        <p:blipFill>
          <a:blip r:embed="rId3"/>
          <a:stretch/>
        </p:blipFill>
        <p:spPr>
          <a:xfrm>
            <a:off x="8682120" y="142920"/>
            <a:ext cx="2428920" cy="1666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3" descr=""/>
          <p:cNvPicPr/>
          <p:nvPr/>
        </p:nvPicPr>
        <p:blipFill>
          <a:blip r:embed="rId4"/>
          <a:stretch/>
        </p:blipFill>
        <p:spPr>
          <a:xfrm>
            <a:off x="10018800" y="4930920"/>
            <a:ext cx="14335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Imagem 6" descr=""/>
          <p:cNvPicPr/>
          <p:nvPr/>
        </p:nvPicPr>
        <p:blipFill>
          <a:blip r:embed="rId1"/>
          <a:stretch/>
        </p:blipFill>
        <p:spPr>
          <a:xfrm>
            <a:off x="0" y="6660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3"/>
          <p:cNvSpPr/>
          <p:nvPr/>
        </p:nvSpPr>
        <p:spPr>
          <a:xfrm>
            <a:off x="1679400" y="522360"/>
            <a:ext cx="69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Aplicação na Saú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965240" y="1996920"/>
          <a:ext cx="7674120" cy="3475080"/>
        </p:xfrm>
        <a:graphic>
          <a:graphicData uri="http://schemas.openxmlformats.org/drawingml/2006/table">
            <a:tbl>
              <a:tblPr/>
              <a:tblGrid>
                <a:gridCol w="5473800"/>
                <a:gridCol w="2200320"/>
              </a:tblGrid>
              <a:tr h="579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BASE DE CÁLCU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407.142.1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76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APLICAÇÃO MÍNIMA – 15%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(no a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61.071.3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55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VALOR APLICADO  1º Quadrimest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76.735.0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55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PERCENTUAL DE APLICAÇÃO JÁ ALCANÇADO NO PERÍO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(1º QUADRIMESTR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,85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</a:tr>
              <a:tr h="609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GASTOS TOTAIS COM SAÚ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.349.893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144" name="Picture 25" descr=""/>
          <p:cNvPicPr/>
          <p:nvPr/>
        </p:nvPicPr>
        <p:blipFill>
          <a:blip r:embed="rId2"/>
          <a:stretch/>
        </p:blipFill>
        <p:spPr>
          <a:xfrm>
            <a:off x="7566120" y="260280"/>
            <a:ext cx="1836720" cy="1376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3" descr=""/>
          <p:cNvPicPr/>
          <p:nvPr/>
        </p:nvPicPr>
        <p:blipFill>
          <a:blip r:embed="rId3"/>
          <a:stretch/>
        </p:blipFill>
        <p:spPr>
          <a:xfrm>
            <a:off x="9917280" y="3757680"/>
            <a:ext cx="196848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1193760" y="485640"/>
            <a:ext cx="8569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002060"/>
                </a:solidFill>
                <a:latin typeface="Calibri Light"/>
              </a:rPr>
              <a:t>Gastos com Pessoal Executivo – LRF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319040" y="1643040"/>
          <a:ext cx="9529920" cy="3357720"/>
        </p:xfrm>
        <a:graphic>
          <a:graphicData uri="http://schemas.openxmlformats.org/drawingml/2006/table">
            <a:tbl>
              <a:tblPr/>
              <a:tblGrid>
                <a:gridCol w="6901200"/>
                <a:gridCol w="2628720"/>
              </a:tblGrid>
              <a:tr h="80712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BASE DE CÁLCULO – RCL   AJUSTADA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1.392.193.52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  <a:tr h="965520">
                <a:tc>
                  <a:txBody>
                    <a:bodyPr tIns="2844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GASTOS COM PESSOAL –  </a:t>
                      </a: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47,93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(ÚLTIMOS 12 MESES – DESPESA LÍQUID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667.275.167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</a:tr>
              <a:tr h="48816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16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MITE MÁXIMO – 54,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b5b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1.784.5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b5b"/>
                    </a:solidFill>
                  </a:tcPr>
                </a:tc>
              </a:tr>
              <a:tr h="37872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MITE PRUDENCIAL – 51,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4.195.2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</a:tr>
              <a:tr h="39204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MITE DE ALERTA   –   48,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6.606.0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pic>
        <p:nvPicPr>
          <p:cNvPr id="149" name="Picture 18" descr=""/>
          <p:cNvPicPr/>
          <p:nvPr/>
        </p:nvPicPr>
        <p:blipFill>
          <a:blip r:embed="rId2"/>
          <a:stretch/>
        </p:blipFill>
        <p:spPr>
          <a:xfrm>
            <a:off x="9462960" y="338040"/>
            <a:ext cx="1576440" cy="725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3" descr=""/>
          <p:cNvPicPr/>
          <p:nvPr/>
        </p:nvPicPr>
        <p:blipFill>
          <a:blip r:embed="rId3"/>
          <a:stretch/>
        </p:blipFill>
        <p:spPr>
          <a:xfrm>
            <a:off x="9266400" y="5054760"/>
            <a:ext cx="196848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3"/>
          <p:cNvSpPr/>
          <p:nvPr/>
        </p:nvSpPr>
        <p:spPr>
          <a:xfrm>
            <a:off x="1193760" y="485640"/>
            <a:ext cx="8569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002060"/>
                </a:solidFill>
                <a:latin typeface="Calibri Light"/>
              </a:rPr>
              <a:t>Gastos com Pessoal Legislativo – LRF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18" descr=""/>
          <p:cNvPicPr/>
          <p:nvPr/>
        </p:nvPicPr>
        <p:blipFill>
          <a:blip r:embed="rId2"/>
          <a:stretch/>
        </p:blipFill>
        <p:spPr>
          <a:xfrm>
            <a:off x="9937800" y="338040"/>
            <a:ext cx="1576440" cy="725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3" descr=""/>
          <p:cNvPicPr/>
          <p:nvPr/>
        </p:nvPicPr>
        <p:blipFill>
          <a:blip r:embed="rId3"/>
          <a:stretch/>
        </p:blipFill>
        <p:spPr>
          <a:xfrm>
            <a:off x="9415440" y="4754520"/>
            <a:ext cx="1968480" cy="122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870120" y="1309680"/>
          <a:ext cx="9529560" cy="3355920"/>
        </p:xfrm>
        <a:graphic>
          <a:graphicData uri="http://schemas.openxmlformats.org/drawingml/2006/table">
            <a:tbl>
              <a:tblPr/>
              <a:tblGrid>
                <a:gridCol w="6900840"/>
                <a:gridCol w="2628720"/>
              </a:tblGrid>
              <a:tr h="80712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BASE DE CÁLCULO – RCL   AJUSTADA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1.392.193.52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  <a:tr h="963720">
                <a:tc>
                  <a:txBody>
                    <a:bodyPr tIns="2844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GASTOS COM PESSOAL –  1,</a:t>
                      </a: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47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(ÚLTIMOS 12 MESES – DESPESA LÍQUID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20.518.859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5e0b4"/>
                    </a:solidFill>
                  </a:tcPr>
                </a:tc>
              </a:tr>
              <a:tr h="48816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16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MITE MÁXIMO – 6,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b5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.531.61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b5b"/>
                    </a:solidFill>
                  </a:tcPr>
                </a:tc>
              </a:tr>
              <a:tr h="37872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MITE PRUDENCIAL – 5,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.355.03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</a:tr>
              <a:tr h="39204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MITE DE ALERTA   –   5,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.178.45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1060560" y="512640"/>
            <a:ext cx="59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Dívida Púb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CaixaDeTexto 1"/>
          <p:cNvSpPr/>
          <p:nvPr/>
        </p:nvSpPr>
        <p:spPr>
          <a:xfrm>
            <a:off x="3305160" y="4749840"/>
            <a:ext cx="42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% DC SOBRE A RCL AJUSTADA = 10,9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565280" y="1593720"/>
          <a:ext cx="7772400" cy="2868840"/>
        </p:xfrm>
        <a:graphic>
          <a:graphicData uri="http://schemas.openxmlformats.org/drawingml/2006/table">
            <a:tbl>
              <a:tblPr/>
              <a:tblGrid>
                <a:gridCol w="5653080"/>
                <a:gridCol w="2119320"/>
              </a:tblGrid>
              <a:tr h="10051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ldo da dívida em 30/04/202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2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ívida Contratu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9.426.6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21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Dívid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61.8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20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.488.5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160" name="CaixaDeTexto 3"/>
          <p:cNvSpPr/>
          <p:nvPr/>
        </p:nvSpPr>
        <p:spPr>
          <a:xfrm>
            <a:off x="3078000" y="5383080"/>
            <a:ext cx="4518000" cy="36828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Limite definido pelo Senado  = 120,00% da RC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33" descr=""/>
          <p:cNvPicPr/>
          <p:nvPr/>
        </p:nvPicPr>
        <p:blipFill>
          <a:blip r:embed="rId2"/>
          <a:stretch/>
        </p:blipFill>
        <p:spPr>
          <a:xfrm>
            <a:off x="9461520" y="4538520"/>
            <a:ext cx="1968480" cy="12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3"/>
          <p:cNvSpPr/>
          <p:nvPr/>
        </p:nvSpPr>
        <p:spPr>
          <a:xfrm>
            <a:off x="1311120" y="692280"/>
            <a:ext cx="6983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44546a"/>
                </a:solidFill>
                <a:latin typeface="Calibri"/>
              </a:rPr>
              <a:t>Operações de Crédit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739880" y="4260960"/>
          <a:ext cx="8690040" cy="1649160"/>
        </p:xfrm>
        <a:graphic>
          <a:graphicData uri="http://schemas.openxmlformats.org/drawingml/2006/table">
            <a:tbl>
              <a:tblPr/>
              <a:tblGrid>
                <a:gridCol w="6400800"/>
                <a:gridCol w="2289240"/>
              </a:tblGrid>
              <a:tr h="83340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Valor contraído no exercício (0,00%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  <a:tr h="815760">
                <a:tc>
                  <a:txBody>
                    <a:bodyPr tIns="2844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Limite definido pelo Senado (16,00%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223.593.02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</a:tbl>
          </a:graphicData>
        </a:graphic>
      </p:graphicFrame>
      <p:sp>
        <p:nvSpPr>
          <p:cNvPr id="165" name="Retângulo de cantos arredondados 3"/>
          <p:cNvSpPr/>
          <p:nvPr/>
        </p:nvSpPr>
        <p:spPr>
          <a:xfrm>
            <a:off x="2144880" y="1658880"/>
            <a:ext cx="7880040" cy="208764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Calibri"/>
              </a:rPr>
              <a:t>No 1º Quadrimestre de 2024 </a:t>
            </a:r>
            <a:r>
              <a:rPr b="0" lang="pt-BR" sz="2500" spc="-1" strike="noStrike">
                <a:solidFill>
                  <a:srgbClr val="002060"/>
                </a:solidFill>
                <a:latin typeface="Calibri"/>
              </a:rPr>
              <a:t>NÃO HOUVE </a:t>
            </a:r>
            <a:r>
              <a:rPr b="0" lang="pt-BR" sz="2500" spc="-1" strike="noStrike">
                <a:solidFill>
                  <a:srgbClr val="ffffff"/>
                </a:solidFill>
                <a:latin typeface="Calibri"/>
              </a:rPr>
              <a:t>liberação de recursos de Operações de Crédit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Imagem 6" descr=""/>
          <p:cNvPicPr/>
          <p:nvPr/>
        </p:nvPicPr>
        <p:blipFill>
          <a:blip r:embed="rId1"/>
          <a:stretch/>
        </p:blipFill>
        <p:spPr>
          <a:xfrm>
            <a:off x="22320" y="-1440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Retângulo de cantos arredondados 6"/>
          <p:cNvSpPr/>
          <p:nvPr/>
        </p:nvSpPr>
        <p:spPr>
          <a:xfrm>
            <a:off x="2386080" y="720720"/>
            <a:ext cx="7461360" cy="475308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Arial"/>
              </a:rPr>
              <a:t>Os números apresentados no 1º Quadrimestre de 2024 apontam para o cumprimento das metas estabelecidas e a manutenção do equilíbrio fiscal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"/>
          <p:cNvSpPr/>
          <p:nvPr/>
        </p:nvSpPr>
        <p:spPr>
          <a:xfrm>
            <a:off x="1112760" y="69228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Publicaçõ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208160" y="1571760"/>
            <a:ext cx="100774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pt-BR" sz="3400" spc="-1" strike="noStrike">
                <a:solidFill>
                  <a:srgbClr val="002060"/>
                </a:solidFill>
                <a:latin typeface="Calibri"/>
              </a:rPr>
              <a:t>Site: </a:t>
            </a:r>
            <a:r>
              <a:rPr b="0" lang="pt-BR" sz="34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bc.sc.gov.br</a:t>
            </a:r>
            <a:r>
              <a:rPr b="1" lang="pt-BR" sz="3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2060"/>
                </a:solidFill>
                <a:latin typeface="Calibri"/>
              </a:rPr>
              <a:t> 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pt-BR" sz="3400" spc="-1" strike="noStrike">
                <a:solidFill>
                  <a:srgbClr val="002060"/>
                </a:solidFill>
                <a:latin typeface="Calibri"/>
              </a:rPr>
              <a:t>Diário Oficial dos Município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206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2060"/>
                </a:solidFill>
                <a:latin typeface="Calibri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aixaDeTexto 1"/>
          <p:cNvSpPr/>
          <p:nvPr/>
        </p:nvSpPr>
        <p:spPr>
          <a:xfrm>
            <a:off x="1819080" y="4765680"/>
            <a:ext cx="47358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Publicações no DOM serão feitas até 29/05/202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7640" y="-113040"/>
            <a:ext cx="1042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2060"/>
                </a:solidFill>
                <a:latin typeface="Calibri Light"/>
              </a:rPr>
              <a:t>Fundamento Legal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1681200" y="1000080"/>
            <a:ext cx="9101160" cy="52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 Light"/>
              </a:rPr>
              <a:t>LC 101/2000 - LR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 Light"/>
              </a:rPr>
              <a:t>Art. 9º,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§</a:t>
            </a:r>
            <a:r>
              <a:rPr b="1" lang="pt-BR" sz="2700" spc="-1" strike="noStrike">
                <a:solidFill>
                  <a:srgbClr val="000000"/>
                </a:solidFill>
                <a:latin typeface="Calibri Light"/>
              </a:rPr>
              <a:t> 4° - Até o final dos meses de </a:t>
            </a:r>
            <a:r>
              <a:rPr b="1" lang="pt-BR" sz="2700" spc="-1" strike="noStrike" u="sng">
                <a:solidFill>
                  <a:srgbClr val="ff0000"/>
                </a:solidFill>
                <a:uFillTx/>
                <a:latin typeface="Calibri Light"/>
              </a:rPr>
              <a:t>maio</a:t>
            </a:r>
            <a:r>
              <a:rPr b="1" lang="pt-BR" sz="2700" spc="-1" strike="noStrike">
                <a:solidFill>
                  <a:srgbClr val="000000"/>
                </a:solidFill>
                <a:latin typeface="Calibri Light"/>
              </a:rPr>
              <a:t>, setembro e fevereiro, o Poder Executivo demonstrará e avaliará o cumprimento das metas fiscais de cada quadrimestre, em audiência pública ..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 Light"/>
              </a:rPr>
              <a:t>Art. 48 - São instrumentos de transparências: RREO e RGF..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§ </a:t>
            </a:r>
            <a:r>
              <a:rPr b="1" lang="pt-BR" sz="2700" spc="-1" strike="noStrike">
                <a:solidFill>
                  <a:srgbClr val="000000"/>
                </a:solidFill>
                <a:latin typeface="Calibri Light"/>
              </a:rPr>
              <a:t>1º Inc. I - A transparência será assegurada... incentivo à participação popular e realização de audiências públicas..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"/>
          <p:cNvSpPr/>
          <p:nvPr/>
        </p:nvSpPr>
        <p:spPr>
          <a:xfrm>
            <a:off x="1825560" y="444600"/>
            <a:ext cx="8269200" cy="53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Garamond"/>
              </a:rPr>
              <a:t>Audiência Públic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2060"/>
                </a:solidFill>
                <a:latin typeface="Tahoma"/>
              </a:rPr>
              <a:t>“</a:t>
            </a:r>
            <a:r>
              <a:rPr b="0" lang="pt-BR" sz="2600" spc="-1" strike="noStrike">
                <a:solidFill>
                  <a:srgbClr val="002060"/>
                </a:solidFill>
                <a:latin typeface="Tahoma"/>
              </a:rPr>
              <a:t>Demonstração e Avaliação do Cumprimento d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2060"/>
                </a:solidFill>
                <a:latin typeface="Tahoma"/>
              </a:rPr>
              <a:t>Metas Fiscais: 1º Quadrimestre de 2024”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c000"/>
                </a:solidFill>
                <a:latin typeface="Tahoma"/>
              </a:rPr>
              <a:t>AGRADECEMOS SUA ATENÇÃ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Secretaria da Faze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Departamento Contábil Financei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Imagem 3" descr=""/>
          <p:cNvPicPr/>
          <p:nvPr/>
        </p:nvPicPr>
        <p:blipFill>
          <a:blip r:embed="rId2"/>
          <a:stretch/>
        </p:blipFill>
        <p:spPr>
          <a:xfrm>
            <a:off x="8475840" y="4675320"/>
            <a:ext cx="2317680" cy="885600"/>
          </a:xfrm>
          <a:prstGeom prst="rect">
            <a:avLst/>
          </a:prstGeom>
          <a:ln w="0">
            <a:noFill/>
          </a:ln>
        </p:spPr>
      </p:pic>
      <p:sp>
        <p:nvSpPr>
          <p:cNvPr id="175" name="CaixaDeTexto 1"/>
          <p:cNvSpPr/>
          <p:nvPr/>
        </p:nvSpPr>
        <p:spPr>
          <a:xfrm>
            <a:off x="1135080" y="4946760"/>
            <a:ext cx="2114640" cy="47484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Calibri"/>
              </a:rPr>
              <a:t>Apresentação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Imagem 4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1579320" y="4966920"/>
            <a:ext cx="370188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47 </a:t>
            </a:r>
            <a:r>
              <a:rPr b="1" lang="pt-BR" sz="1600" spc="-1" strike="noStrike">
                <a:solidFill>
                  <a:srgbClr val="ffffff"/>
                </a:solidFill>
                <a:latin typeface="Calibri"/>
              </a:rPr>
              <a:t>3267-7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www.</a:t>
            </a:r>
            <a:r>
              <a:rPr b="1" lang="pt-BR" sz="1600" spc="-1" strike="noStrike">
                <a:solidFill>
                  <a:srgbClr val="ffffff"/>
                </a:solidFill>
                <a:latin typeface="Calibri"/>
              </a:rPr>
              <a:t>balneariocamboriu</a:t>
            </a: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.sc.gov.b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Rua Dinamarca, 320 - Paço Municip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88338-900 - Balneário Camboriú - S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2060"/>
                </a:solidFill>
                <a:latin typeface="Calibri Light"/>
              </a:rPr>
              <a:t>Objetivos da Audiênci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Retângulo 10"/>
          <p:cNvSpPr/>
          <p:nvPr/>
        </p:nvSpPr>
        <p:spPr>
          <a:xfrm>
            <a:off x="2384280" y="5072040"/>
            <a:ext cx="8244000" cy="146448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  <a:ea typeface="Arial"/>
              </a:rPr>
              <a:t>Permitir que a sociedade conheça, acompanhe e analise o desempenho dos seus governan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tângulo 10"/>
          <p:cNvSpPr/>
          <p:nvPr/>
        </p:nvSpPr>
        <p:spPr>
          <a:xfrm>
            <a:off x="2384280" y="1195560"/>
            <a:ext cx="89694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  <a:ea typeface="Arial"/>
              </a:rPr>
              <a:t>Maior transparência dos atos do Gover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  <a:ea typeface="Arial"/>
              </a:rPr>
              <a:t>Prestação de contas à socieda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  <a:ea typeface="Arial"/>
              </a:rPr>
              <a:t>Facilitar o acesso e compreensão dos resultados obtid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  <a:ea typeface="Arial"/>
              </a:rPr>
              <a:t>Divulgação dos resultados de forma simplifica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0" descr="C:\Documents and Settings\apoleza\Configurações locais\Temporary Internet Files\Content.IE5\T4KPIBYH\MC900297143[1].wmf"/>
          <p:cNvPicPr/>
          <p:nvPr/>
        </p:nvPicPr>
        <p:blipFill>
          <a:blip r:embed="rId2"/>
          <a:stretch/>
        </p:blipFill>
        <p:spPr>
          <a:xfrm rot="391800">
            <a:off x="528480" y="558720"/>
            <a:ext cx="185436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2060"/>
                </a:solidFill>
                <a:latin typeface="Calibri Light"/>
              </a:rPr>
              <a:t>Abordagens – RREO e RGF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566720" y="3179880"/>
          <a:ext cx="2684520" cy="1004760"/>
        </p:xfrm>
        <a:graphic>
          <a:graphicData uri="http://schemas.openxmlformats.org/drawingml/2006/table">
            <a:tbl>
              <a:tblPr/>
              <a:tblGrid>
                <a:gridCol w="2684520"/>
              </a:tblGrid>
              <a:tr h="1004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EVISÕES ORÇAMENTÁRIA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c7c7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5178600" y="5081760"/>
          <a:ext cx="2135160" cy="1149120"/>
        </p:xfrm>
        <a:graphic>
          <a:graphicData uri="http://schemas.openxmlformats.org/drawingml/2006/table">
            <a:tbl>
              <a:tblPr/>
              <a:tblGrid>
                <a:gridCol w="2135160"/>
              </a:tblGrid>
              <a:tr h="1149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 E DESPESAS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9c9c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8240760" y="3067200"/>
          <a:ext cx="2684520" cy="1047600"/>
        </p:xfrm>
        <a:graphic>
          <a:graphicData uri="http://schemas.openxmlformats.org/drawingml/2006/table">
            <a:tbl>
              <a:tblPr/>
              <a:tblGrid>
                <a:gridCol w="2684520"/>
              </a:tblGrid>
              <a:tr h="1047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1160"/>
                          <a:tab algn="l" pos="1825560"/>
                          <a:tab algn="l" pos="2739960"/>
                          <a:tab algn="l" pos="3654360"/>
                          <a:tab algn="l" pos="4568760"/>
                          <a:tab algn="l" pos="5483160"/>
                          <a:tab algn="l" pos="6397560"/>
                          <a:tab algn="l" pos="7311960"/>
                          <a:tab algn="l" pos="8226360"/>
                          <a:tab algn="l" pos="9140760"/>
                          <a:tab algn="l" pos="1005516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TAS PREVISTAS E EXECUTADA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27640" y="1236600"/>
          <a:ext cx="1836720" cy="897120"/>
        </p:xfrm>
        <a:graphic>
          <a:graphicData uri="http://schemas.openxmlformats.org/drawingml/2006/table">
            <a:tbl>
              <a:tblPr/>
              <a:tblGrid>
                <a:gridCol w="1836720"/>
              </a:tblGrid>
              <a:tr h="8971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1160"/>
                          <a:tab algn="l" pos="1825560"/>
                          <a:tab algn="l" pos="2739960"/>
                          <a:tab algn="l" pos="3654360"/>
                          <a:tab algn="l" pos="4568760"/>
                          <a:tab algn="l" pos="5483160"/>
                          <a:tab algn="l" pos="6397560"/>
                          <a:tab algn="l" pos="7311960"/>
                          <a:tab algn="l" pos="8226360"/>
                          <a:tab algn="l" pos="9140760"/>
                          <a:tab algn="l" pos="1005516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ÃO FISC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</a:tr>
            </a:tbl>
          </a:graphicData>
        </a:graphic>
      </p:graphicFrame>
      <p:sp>
        <p:nvSpPr>
          <p:cNvPr id="58" name="Setas cruzadas 2"/>
          <p:cNvSpPr/>
          <p:nvPr/>
        </p:nvSpPr>
        <p:spPr>
          <a:xfrm>
            <a:off x="4251240" y="2174760"/>
            <a:ext cx="3989520" cy="2830680"/>
          </a:xfrm>
          <a:prstGeom prst="pie">
            <a:avLst/>
          </a:prstGeom>
          <a:solidFill>
            <a:srgbClr val="333f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Calibri"/>
              </a:rPr>
              <a:t>RREO 2 Bim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Calibri"/>
              </a:rPr>
              <a:t>RFG 1 Quad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8840" y="131400"/>
            <a:ext cx="68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2060"/>
                </a:solidFill>
                <a:latin typeface="Calibri Light"/>
                <a:ea typeface="Arial"/>
              </a:rPr>
              <a:t>Desempenho das Receitas</a:t>
            </a:r>
            <a:br>
              <a:rPr sz="40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  <a:ea typeface="Arial"/>
              </a:rPr>
              <a:t>1º Quadrimestre 2024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CaixaDeTexto 7"/>
          <p:cNvSpPr/>
          <p:nvPr/>
        </p:nvSpPr>
        <p:spPr>
          <a:xfrm>
            <a:off x="9144000" y="1793880"/>
            <a:ext cx="2057400" cy="916920"/>
          </a:xfrm>
          <a:prstGeom prst="rect">
            <a:avLst/>
          </a:prstGeom>
          <a:solidFill>
            <a:srgbClr val="00206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d6dce5"/>
                </a:solidFill>
                <a:latin typeface="Calibri"/>
              </a:rPr>
              <a:t>Média mensal de arrecadação: R$ 177.872.3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aixaDeTexto 8"/>
          <p:cNvSpPr/>
          <p:nvPr/>
        </p:nvSpPr>
        <p:spPr>
          <a:xfrm>
            <a:off x="9001080" y="2828880"/>
            <a:ext cx="2343240" cy="1191240"/>
          </a:xfrm>
          <a:prstGeom prst="rect">
            <a:avLst/>
          </a:prstGeom>
          <a:solidFill>
            <a:srgbClr val="1f4e79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Arrecadado  13,77% acima do valor estimado para o quadrimest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4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344600" y="2079720"/>
          <a:ext cx="7246800" cy="2876400"/>
        </p:xfrm>
        <a:graphic>
          <a:graphicData uri="http://schemas.openxmlformats.org/drawingml/2006/table">
            <a:tbl>
              <a:tblPr/>
              <a:tblGrid>
                <a:gridCol w="2043000"/>
                <a:gridCol w="1984680"/>
                <a:gridCol w="1581120"/>
                <a:gridCol w="1638000"/>
              </a:tblGrid>
              <a:tr h="574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is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ecad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erenç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57636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rent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1.766.1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5.265.0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.498.8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7456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rente Int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876.4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.437.3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560.8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7636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706.5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786.8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80.2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7456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5.349.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1.489.2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.140.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</a:tbl>
          </a:graphicData>
        </a:graphic>
      </p:graphicFrame>
      <p:sp>
        <p:nvSpPr>
          <p:cNvPr id="65" name="AutoShape 43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4" descr=""/>
          <p:cNvPicPr/>
          <p:nvPr/>
        </p:nvPicPr>
        <p:blipFill>
          <a:blip r:embed="rId2"/>
          <a:stretch/>
        </p:blipFill>
        <p:spPr>
          <a:xfrm>
            <a:off x="9169560" y="328680"/>
            <a:ext cx="2031840" cy="1138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"/>
          <p:cNvPicPr/>
          <p:nvPr/>
        </p:nvPicPr>
        <p:blipFill>
          <a:blip r:embed="rId3"/>
          <a:stretch/>
        </p:blipFill>
        <p:spPr>
          <a:xfrm>
            <a:off x="7945560" y="4956120"/>
            <a:ext cx="17017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920" y="-42840"/>
            <a:ext cx="10515600" cy="12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2060"/>
                </a:solidFill>
                <a:latin typeface="Calibri Light"/>
              </a:rPr>
              <a:t>Evolução da Receita Total</a:t>
            </a:r>
            <a:br>
              <a:rPr sz="36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</a:rPr>
              <a:t>1º Quadrimestre de 2024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567160" y="1157400"/>
          <a:ext cx="7034040" cy="4543200"/>
        </p:xfrm>
        <a:graphic>
          <a:graphicData uri="http://schemas.openxmlformats.org/drawingml/2006/table">
            <a:tbl>
              <a:tblPr/>
              <a:tblGrid>
                <a:gridCol w="2546280"/>
                <a:gridCol w="2498760"/>
                <a:gridCol w="1989000"/>
              </a:tblGrid>
              <a:tr h="763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íod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izada R$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olução 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7556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Quad 202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.10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556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Quad 202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5.71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</a:tr>
              <a:tr h="7570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Quad 202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4.00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556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Quad 202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4.14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</a:tr>
              <a:tr h="7556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Quad 202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1.48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magem 6" descr=""/>
          <p:cNvPicPr/>
          <p:nvPr/>
        </p:nvPicPr>
        <p:blipFill>
          <a:blip r:embed="rId1"/>
          <a:stretch/>
        </p:blipFill>
        <p:spPr>
          <a:xfrm>
            <a:off x="22320" y="648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573480" y="6480"/>
            <a:ext cx="1142532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2060"/>
                </a:solidFill>
                <a:latin typeface="Calibri Light"/>
              </a:rPr>
              <a:t>Evolução Gráfica da Receita Realizad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3" name="Gráfico 6" descr=""/>
          <p:cNvPicPr/>
          <p:nvPr/>
        </p:nvPicPr>
        <p:blipFill>
          <a:blip r:embed="rId2"/>
          <a:stretch/>
        </p:blipFill>
        <p:spPr>
          <a:xfrm>
            <a:off x="2378160" y="1566720"/>
            <a:ext cx="8478720" cy="3724560"/>
          </a:xfrm>
          <a:prstGeom prst="rect">
            <a:avLst/>
          </a:prstGeom>
          <a:ln w="0">
            <a:noFill/>
          </a:ln>
        </p:spPr>
      </p:pic>
      <p:pic>
        <p:nvPicPr>
          <p:cNvPr id="74" name="Gráfico 1" descr=""/>
          <p:cNvPicPr/>
          <p:nvPr/>
        </p:nvPicPr>
        <p:blipFill>
          <a:blip r:embed="rId3"/>
          <a:stretch/>
        </p:blipFill>
        <p:spPr>
          <a:xfrm>
            <a:off x="560520" y="1268280"/>
            <a:ext cx="10088280" cy="3724560"/>
          </a:xfrm>
          <a:prstGeom prst="rect">
            <a:avLst/>
          </a:prstGeom>
          <a:ln w="0">
            <a:noFill/>
          </a:ln>
        </p:spPr>
      </p:pic>
      <p:sp>
        <p:nvSpPr>
          <p:cNvPr id="75" name="CaixaDeTexto 3"/>
          <p:cNvSpPr/>
          <p:nvPr/>
        </p:nvSpPr>
        <p:spPr>
          <a:xfrm>
            <a:off x="2843280" y="5589720"/>
            <a:ext cx="4955400" cy="36828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RECEITA REALIZADA SEGUE A LINHA DE TENDÊN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46480" y="0"/>
            <a:ext cx="82216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2060"/>
                </a:solidFill>
                <a:latin typeface="Calibri Light"/>
              </a:rPr>
              <a:t>Origem das Receitas - </a:t>
            </a:r>
            <a:r>
              <a:rPr b="0" lang="pt-BR" sz="2200" spc="-1" strike="noStrike">
                <a:solidFill>
                  <a:srgbClr val="002060"/>
                </a:solidFill>
                <a:latin typeface="Calibri Light"/>
              </a:rPr>
              <a:t>1º Quadrimestre de 2024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906560" y="868320"/>
          <a:ext cx="8116920" cy="4935600"/>
        </p:xfrm>
        <a:graphic>
          <a:graphicData uri="http://schemas.openxmlformats.org/drawingml/2006/table">
            <a:tbl>
              <a:tblPr/>
              <a:tblGrid>
                <a:gridCol w="5349960"/>
                <a:gridCol w="1806480"/>
                <a:gridCol w="960480"/>
              </a:tblGrid>
              <a:tr h="268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ecadad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268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stos Taxas e Contrib melhoria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8.683.79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,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ibuiçõ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.106.75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7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das Patrimoniai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287.95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179.92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. da Uniã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.111.28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9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. do Estad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.938.52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deb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427.17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ênios União / Estad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66.66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Transf. Instituições Privadas, Pessoas e Multig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7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ção de Crédi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ienação de Be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o Criad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846.4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ção Urban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324.26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ON/IC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449.50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8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ais Receitas Correntes e Capital (multas trânsito, multas diversas,  indenizações, restituições e aporte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947.26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8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6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RECEITA ARRECADAD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1.489.266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6T18:19:47Z</dcterms:created>
  <dc:creator>Usuário do Microsoft Office</dc:creator>
  <dc:description/>
  <dc:language>en-US</dc:language>
  <cp:lastModifiedBy>Liliane Novaes</cp:lastModifiedBy>
  <cp:lastPrinted>2017-05-25T12:03:44Z</cp:lastPrinted>
  <dcterms:modified xsi:type="dcterms:W3CDTF">2024-05-23T20:51:27Z</dcterms:modified>
  <cp:revision>374</cp:revision>
  <dc:subject/>
  <dc:title>Apresentação do PowerPoint</dc:title>
</cp:coreProperties>
</file>