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2193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C55-D7C0-46C5-8A12-39421E59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6CE-124F-4639-B97C-21CCA46F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FBE-2386-4982-9207-498549BA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884-9DFE-446A-8823-C98C9359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6789-6FAF-4660-BB58-4F00D311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C98-6675-4D0A-ABC5-885F528D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F2E2-5879-4E25-BC42-03FC431D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D91-6559-4FCA-AA83-0B83045D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868-CC89-45A0-9D4D-1E2BD8F1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66B-15E0-4EAA-BB77-86416ACA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EDA1-66D9-44F2-99BA-4AE2D893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24B-95C7-4C8D-87AF-A6B32318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4B40-5862-40C2-9964-56B1D3CE60A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balneariocamboriu.sc.gov.br/" TargetMode="External"/><Relationship Id="rId3" Type="http://schemas.openxmlformats.org/officeDocument/2006/relationships/hyperlink" Target="https://www.diariomunicipal.sc.gov.br/arquivosbd/atos/2023/01/1674837754_sexto_bimestre_extrato.pdf" TargetMode="External"/><Relationship Id="rId4" Type="http://schemas.openxmlformats.org/officeDocument/2006/relationships/hyperlink" Target="https://www.diariomunicipal.sc.gov.br/arquivosbd/atos/2023/01/1674837754_sexto_bimestre_extrato.pdf" TargetMode="Externa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1"/>
          <a:stretch/>
        </p:blipFill>
        <p:spPr>
          <a:xfrm>
            <a:off x="0" y="14400"/>
            <a:ext cx="1216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Calibri Light"/>
              </a:rPr>
              <a:t>Gráfico de Origem das Receita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Gráfico 4" descr=""/>
          <p:cNvPicPr/>
          <p:nvPr/>
        </p:nvPicPr>
        <p:blipFill>
          <a:blip r:embed="rId1"/>
          <a:stretch/>
        </p:blipFill>
        <p:spPr>
          <a:xfrm>
            <a:off x="1670040" y="1262160"/>
            <a:ext cx="82058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m 6" descr=""/>
          <p:cNvPicPr/>
          <p:nvPr/>
        </p:nvPicPr>
        <p:blipFill>
          <a:blip r:embed="rId1"/>
          <a:stretch/>
        </p:blipFill>
        <p:spPr>
          <a:xfrm>
            <a:off x="-14400" y="-76320"/>
            <a:ext cx="12192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1766880" y="4043520"/>
          <a:ext cx="8174160" cy="1271520"/>
        </p:xfrm>
        <a:graphic>
          <a:graphicData uri="http://schemas.openxmlformats.org/drawingml/2006/table">
            <a:tbl>
              <a:tblPr/>
              <a:tblGrid>
                <a:gridCol w="1635120"/>
                <a:gridCol w="1635120"/>
                <a:gridCol w="1633680"/>
                <a:gridCol w="1635120"/>
                <a:gridCol w="163512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T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RR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X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524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.726.1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018.8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.645.1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.445.4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03.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81" name="CaixaDeTexto 3"/>
          <p:cNvSpPr/>
          <p:nvPr/>
        </p:nvSpPr>
        <p:spPr>
          <a:xfrm>
            <a:off x="2949480" y="5592600"/>
            <a:ext cx="5808600" cy="3682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ributos representam 36% do valor total arrecad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26920" y="80640"/>
            <a:ext cx="80802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Tributos Arrecadados – 2022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Gráfico 7" descr=""/>
          <p:cNvPicPr/>
          <p:nvPr/>
        </p:nvPicPr>
        <p:blipFill>
          <a:blip r:embed="rId2"/>
          <a:stretch/>
        </p:blipFill>
        <p:spPr>
          <a:xfrm>
            <a:off x="1762200" y="768240"/>
            <a:ext cx="872964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6" descr=""/>
          <p:cNvPicPr/>
          <p:nvPr/>
        </p:nvPicPr>
        <p:blipFill>
          <a:blip r:embed="rId1"/>
          <a:stretch/>
        </p:blipFill>
        <p:spPr>
          <a:xfrm>
            <a:off x="0" y="1908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6320" y="169560"/>
            <a:ext cx="858204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 Light"/>
              </a:rPr>
              <a:t>Desempenho da Despesa</a:t>
            </a:r>
            <a:br>
              <a:rPr sz="4400"/>
            </a:b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3º Quadrimestre 2022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42880" y="1447920"/>
          <a:ext cx="8475840" cy="2895480"/>
        </p:xfrm>
        <a:graphic>
          <a:graphicData uri="http://schemas.openxmlformats.org/drawingml/2006/table">
            <a:tbl>
              <a:tblPr/>
              <a:tblGrid>
                <a:gridCol w="1852920"/>
                <a:gridCol w="2233440"/>
                <a:gridCol w="2381400"/>
                <a:gridCol w="2008080"/>
              </a:tblGrid>
              <a:tr h="723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d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ad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7236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8.011.83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35.894.3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.882.48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239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.652.62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.332.29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5.320.3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239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55.664.46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8.226.61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.562.15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sp>
        <p:nvSpPr>
          <p:cNvPr id="87" name="CaixaDeTexto 7"/>
          <p:cNvSpPr/>
          <p:nvPr/>
        </p:nvSpPr>
        <p:spPr>
          <a:xfrm>
            <a:off x="3005280" y="4589640"/>
            <a:ext cx="6086160" cy="916920"/>
          </a:xfrm>
          <a:prstGeom prst="rect">
            <a:avLst/>
          </a:prstGeom>
          <a:solidFill>
            <a:srgbClr val="ffc00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No valor total executado  a quantia de R$ 152.018.715,20 foram realizados com recursos provenientes de superávit financeiro* 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*(superávit financeiro: saldo disponível de exercícios anterior e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5400" y="213840"/>
            <a:ext cx="7093080" cy="131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da Despesa </a:t>
            </a:r>
            <a:br>
              <a:rPr sz="4000"/>
            </a:br>
            <a:r>
              <a:rPr b="1" lang="pt-BR" sz="3000" spc="-1" strike="noStrike">
                <a:solidFill>
                  <a:srgbClr val="002060"/>
                </a:solidFill>
                <a:latin typeface="Calibri Light"/>
              </a:rPr>
              <a:t>Exercício de 2022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95560" y="1568520"/>
          <a:ext cx="7977240" cy="4605120"/>
        </p:xfrm>
        <a:graphic>
          <a:graphicData uri="http://schemas.openxmlformats.org/drawingml/2006/table">
            <a:tbl>
              <a:tblPr/>
              <a:tblGrid>
                <a:gridCol w="3776760"/>
                <a:gridCol w="2224080"/>
                <a:gridCol w="1976400"/>
              </a:tblGrid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35.894.3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5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7.737.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13.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.944.2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.332.2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.201.1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INVERSÕES FINANCEI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6.1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14.9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4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8.226.6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</a:tbl>
          </a:graphicData>
        </a:graphic>
      </p:graphicFrame>
      <p:sp>
        <p:nvSpPr>
          <p:cNvPr id="91" name="AutoShape 4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4" descr=""/>
          <p:cNvPicPr/>
          <p:nvPr/>
        </p:nvPicPr>
        <p:blipFill>
          <a:blip r:embed="rId2"/>
          <a:stretch/>
        </p:blipFill>
        <p:spPr>
          <a:xfrm>
            <a:off x="9166320" y="214200"/>
            <a:ext cx="15573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2360" y="213840"/>
            <a:ext cx="8023320" cy="911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Comparativo da Despesa</a:t>
            </a:r>
            <a:br>
              <a:rPr sz="3200"/>
            </a:b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por exercício – despesa empenhada</a:t>
            </a:r>
            <a:br>
              <a:rPr sz="1500"/>
            </a:b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GRUPO DE NATUREZA DE DESPESA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44520" y="1501920"/>
          <a:ext cx="11147400" cy="4408200"/>
        </p:xfrm>
        <a:graphic>
          <a:graphicData uri="http://schemas.openxmlformats.org/drawingml/2006/table">
            <a:tbl>
              <a:tblPr/>
              <a:tblGrid>
                <a:gridCol w="2795400"/>
                <a:gridCol w="1447920"/>
                <a:gridCol w="571680"/>
                <a:gridCol w="1361880"/>
                <a:gridCol w="690480"/>
                <a:gridCol w="1389240"/>
                <a:gridCol w="550800"/>
                <a:gridCol w="1531800"/>
                <a:gridCol w="808200"/>
              </a:tblGrid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NATUREZA DE DESP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55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.801.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.547.0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9.348.7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7.737.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5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52.9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2.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40.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13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5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.097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.192.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.105.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.944.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52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969.8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.534.9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.803.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.201.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5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ões Financei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6.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28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6.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25.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767.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14.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5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1.748.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6.402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3.665.8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8.226.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3" descr=""/>
          <p:cNvPicPr/>
          <p:nvPr/>
        </p:nvPicPr>
        <p:blipFill>
          <a:blip r:embed="rId2"/>
          <a:stretch/>
        </p:blipFill>
        <p:spPr>
          <a:xfrm>
            <a:off x="1060560" y="30240"/>
            <a:ext cx="8053200" cy="1341360"/>
          </a:xfrm>
          <a:prstGeom prst="rect">
            <a:avLst/>
          </a:prstGeom>
          <a:ln w="0">
            <a:noFill/>
          </a:ln>
        </p:spPr>
      </p:pic>
      <p:pic>
        <p:nvPicPr>
          <p:cNvPr id="98" name="Gráfico 5" descr=""/>
          <p:cNvPicPr/>
          <p:nvPr/>
        </p:nvPicPr>
        <p:blipFill>
          <a:blip r:embed="rId3"/>
          <a:stretch/>
        </p:blipFill>
        <p:spPr>
          <a:xfrm>
            <a:off x="2305080" y="1560600"/>
            <a:ext cx="7581960" cy="37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m 6" descr=""/>
          <p:cNvPicPr/>
          <p:nvPr/>
        </p:nvPicPr>
        <p:blipFill>
          <a:blip r:embed="rId1"/>
          <a:stretch/>
        </p:blipFill>
        <p:spPr>
          <a:xfrm>
            <a:off x="0" y="13320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8560" y="132840"/>
            <a:ext cx="8977320" cy="500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3000" spc="-1" strike="noStrike">
                <a:solidFill>
                  <a:srgbClr val="002060"/>
                </a:solidFill>
                <a:latin typeface="Calibri Light"/>
              </a:rPr>
              <a:t>Despesa por Função/Área do Governo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27400" y="633240"/>
          <a:ext cx="5694480" cy="5677200"/>
        </p:xfrm>
        <a:graphic>
          <a:graphicData uri="http://schemas.openxmlformats.org/drawingml/2006/table">
            <a:tbl>
              <a:tblPr/>
              <a:tblGrid>
                <a:gridCol w="2270160"/>
                <a:gridCol w="2154240"/>
                <a:gridCol w="1270080"/>
              </a:tblGrid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isl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3.524.4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iciá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11.033.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19.696.7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gurança Públ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4.407.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stência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3.730.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d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3.982.4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36.890.0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3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bal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8.124.4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05.421.9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.735.6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itos da Cid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844.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ban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3.620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11.8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e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7.121.3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Ambi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.787.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ércio e Serviç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9.837.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orto e La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.992.8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rgos Espec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6.262.3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4040">
                <a:tc>
                  <a:txBody>
                    <a:bodyPr lIns="849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9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8.226.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m 6" descr=""/>
          <p:cNvPicPr/>
          <p:nvPr/>
        </p:nvPicPr>
        <p:blipFill>
          <a:blip r:embed="rId1"/>
          <a:stretch/>
        </p:blipFill>
        <p:spPr>
          <a:xfrm>
            <a:off x="22320" y="-6192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6280" y="325440"/>
            <a:ext cx="684072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RESULTADO DA</a:t>
            </a:r>
            <a:br>
              <a:rPr sz="3000"/>
            </a:b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3000" spc="-1" strike="noStrike" u="sng">
                <a:solidFill>
                  <a:srgbClr val="002060"/>
                </a:solidFill>
                <a:uFillTx/>
                <a:latin typeface="Calibri Light"/>
              </a:rPr>
              <a:t>EXECUÇÃO ORÇAMENTÁRIA</a:t>
            </a:r>
            <a:br>
              <a:rPr sz="3000"/>
            </a:b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Receitas </a:t>
            </a:r>
            <a:r>
              <a:rPr b="0" i="1" lang="pt-BR" sz="3000" spc="-1" strike="noStrike">
                <a:solidFill>
                  <a:srgbClr val="002060"/>
                </a:solidFill>
                <a:latin typeface="Calibri Light"/>
              </a:rPr>
              <a:t>versus</a:t>
            </a: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 Despesas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4" name="Picture 26" descr=""/>
          <p:cNvPicPr/>
          <p:nvPr/>
        </p:nvPicPr>
        <p:blipFill>
          <a:blip r:embed="rId2"/>
          <a:stretch/>
        </p:blipFill>
        <p:spPr>
          <a:xfrm>
            <a:off x="8796240" y="325440"/>
            <a:ext cx="2206800" cy="140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7" descr=""/>
          <p:cNvPicPr/>
          <p:nvPr/>
        </p:nvPicPr>
        <p:blipFill>
          <a:blip r:embed="rId3"/>
          <a:stretch/>
        </p:blipFill>
        <p:spPr>
          <a:xfrm>
            <a:off x="8910720" y="3720960"/>
            <a:ext cx="657000" cy="67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2160720" y="2494080"/>
          <a:ext cx="6635520" cy="2031840"/>
        </p:xfrm>
        <a:graphic>
          <a:graphicData uri="http://schemas.openxmlformats.org/drawingml/2006/table">
            <a:tbl>
              <a:tblPr/>
              <a:tblGrid>
                <a:gridCol w="2238120"/>
                <a:gridCol w="2146320"/>
                <a:gridCol w="2251080"/>
              </a:tblGrid>
              <a:tr h="40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06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82.629.3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80.245.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55.664.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8.226.6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12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áv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964.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.018.7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1125360" y="1792440"/>
            <a:ext cx="753300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</a:rPr>
              <a:t>PREVISÃO PARA O EXERCÍCIO 2022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400" spc="-1" strike="noStrike">
                <a:solidFill>
                  <a:srgbClr val="00b0f0"/>
                </a:solidFill>
                <a:latin typeface="Tahoma"/>
              </a:rPr>
              <a:t>R$ 992.803.961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cc66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</a:rPr>
              <a:t>REALIZADA NO EXERCÍCIO DE 202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ff9900"/>
                </a:solidFill>
                <a:latin typeface="Tahoma"/>
              </a:rPr>
              <a:t>R$ 1.195.804.568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900000" y="60336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Receita Corrente Líqui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lipse 4"/>
          <p:cNvSpPr/>
          <p:nvPr/>
        </p:nvSpPr>
        <p:spPr>
          <a:xfrm>
            <a:off x="8994600" y="3448080"/>
            <a:ext cx="2330640" cy="1500120"/>
          </a:xfrm>
          <a:prstGeom prst="ellipse">
            <a:avLst/>
          </a:prstGeom>
          <a:solidFill>
            <a:srgbClr val="ed7d3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Calibri"/>
              </a:rPr>
              <a:t>Valor acima do previsto para o exercício –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Calibri"/>
              </a:rPr>
              <a:t>R$ 203.000.6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7142040" y="4086360"/>
            <a:ext cx="5810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m 6" descr=""/>
          <p:cNvPicPr/>
          <p:nvPr/>
        </p:nvPicPr>
        <p:blipFill>
          <a:blip r:embed="rId1"/>
          <a:stretch/>
        </p:blipFill>
        <p:spPr>
          <a:xfrm>
            <a:off x="-71280" y="-76320"/>
            <a:ext cx="121694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170000" y="304920"/>
            <a:ext cx="748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Previdenciári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6" descr=""/>
          <p:cNvPicPr/>
          <p:nvPr/>
        </p:nvPicPr>
        <p:blipFill>
          <a:blip r:embed="rId2"/>
          <a:stretch/>
        </p:blipFill>
        <p:spPr>
          <a:xfrm>
            <a:off x="8037360" y="260280"/>
            <a:ext cx="2286000" cy="12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677960" y="4005360"/>
          <a:ext cx="7197840" cy="798480"/>
        </p:xfrm>
        <a:graphic>
          <a:graphicData uri="http://schemas.openxmlformats.org/drawingml/2006/table">
            <a:tbl>
              <a:tblPr/>
              <a:tblGrid>
                <a:gridCol w="3471840"/>
                <a:gridCol w="1677960"/>
                <a:gridCol w="2048040"/>
              </a:tblGrid>
              <a:tr h="798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onibilidade RPPS (R$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8.261.56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3.649.76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677960" y="1514520"/>
          <a:ext cx="7189920" cy="2378160"/>
        </p:xfrm>
        <a:graphic>
          <a:graphicData uri="http://schemas.openxmlformats.org/drawingml/2006/table">
            <a:tbl>
              <a:tblPr/>
              <a:tblGrid>
                <a:gridCol w="3454560"/>
                <a:gridCol w="1684080"/>
                <a:gridCol w="2051280"/>
              </a:tblGrid>
              <a:tr h="476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bdd7ee"/>
                    </a:solidFill>
                  </a:tcPr>
                </a:tc>
              </a:tr>
              <a:tr h="47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º Quad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º Quad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762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.567.78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.853.4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48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 Empenh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.388.1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976.77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62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l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1.179.59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.876.6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4472c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7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93840" y="447480"/>
            <a:ext cx="95536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AUDIÊNCIA PÚBLIC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Arial"/>
                <a:ea typeface="Arial"/>
              </a:rPr>
              <a:t>Demonstração e Avaliação do Cumprimento das Metas Fiscai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pt-BR" sz="4500" spc="-1" strike="noStrike">
                <a:solidFill>
                  <a:srgbClr val="ffffff"/>
                </a:solidFill>
                <a:latin typeface="Arial"/>
                <a:ea typeface="Arial"/>
              </a:rPr>
              <a:t>3º Quadrimestre de 2022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27/02/202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m 6" descr=""/>
          <p:cNvPicPr/>
          <p:nvPr/>
        </p:nvPicPr>
        <p:blipFill>
          <a:blip r:embed="rId1"/>
          <a:stretch/>
        </p:blipFill>
        <p:spPr>
          <a:xfrm>
            <a:off x="0" y="-63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668600" y="654120"/>
            <a:ext cx="8832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Nominal e Primário - 2022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819440" y="1938240"/>
          <a:ext cx="8327880" cy="2298960"/>
        </p:xfrm>
        <a:graphic>
          <a:graphicData uri="http://schemas.openxmlformats.org/drawingml/2006/table">
            <a:tbl>
              <a:tblPr/>
              <a:tblGrid>
                <a:gridCol w="2776320"/>
                <a:gridCol w="2774880"/>
                <a:gridCol w="2776680"/>
              </a:tblGrid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Fixad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Executad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832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MIN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3.077.90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2.814.6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829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ÁRI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0.108.04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1.982.99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agem 6" descr=""/>
          <p:cNvPicPr/>
          <p:nvPr/>
        </p:nvPicPr>
        <p:blipFill>
          <a:blip r:embed="rId1"/>
          <a:stretch/>
        </p:blipFill>
        <p:spPr>
          <a:xfrm>
            <a:off x="22320" y="63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966960" y="34776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Situação dos Restos a P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380960" y="1741320"/>
          <a:ext cx="9353880" cy="3171960"/>
        </p:xfrm>
        <a:graphic>
          <a:graphicData uri="http://schemas.openxmlformats.org/drawingml/2006/table">
            <a:tbl>
              <a:tblPr/>
              <a:tblGrid>
                <a:gridCol w="3889440"/>
                <a:gridCol w="1838520"/>
                <a:gridCol w="1861920"/>
                <a:gridCol w="1764000"/>
              </a:tblGrid>
              <a:tr h="771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osição do RP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rocess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ão Process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618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aldo a Pagar em 31/12/20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9.541.5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00.228.9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.770.47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Restos Cancelad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50.76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9.692.4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43.1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509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Restos pagos até o perío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8.507.4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2.151.16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658.5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ALDO A PAGAR EM 31/12/20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db9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83.3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db9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8.385.37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db9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068.7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db9c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539720" y="366840"/>
            <a:ext cx="76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na Educação Bás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00280" y="1951200"/>
          <a:ext cx="7350120" cy="3305160"/>
        </p:xfrm>
        <a:graphic>
          <a:graphicData uri="http://schemas.openxmlformats.org/drawingml/2006/table">
            <a:tbl>
              <a:tblPr/>
              <a:tblGrid>
                <a:gridCol w="4743360"/>
                <a:gridCol w="2606760"/>
              </a:tblGrid>
              <a:tr h="529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1.043.08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71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APLICAÇÃO MÍNIMA – 25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.760.77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VALOR APLICAD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.910.19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27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PERCENTUAL  DE APLICAÇÃ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29,17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812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GASTOS TOTAIS EM EDUCAÇÃ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.421.903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26" name="Picture 24" descr=""/>
          <p:cNvPicPr/>
          <p:nvPr/>
        </p:nvPicPr>
        <p:blipFill>
          <a:blip r:embed="rId2"/>
          <a:stretch/>
        </p:blipFill>
        <p:spPr>
          <a:xfrm>
            <a:off x="9545760" y="366840"/>
            <a:ext cx="18190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539720" y="366840"/>
            <a:ext cx="7672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Funde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39720" y="1871640"/>
          <a:ext cx="8356680" cy="3341880"/>
        </p:xfrm>
        <a:graphic>
          <a:graphicData uri="http://schemas.openxmlformats.org/drawingml/2006/table">
            <a:tbl>
              <a:tblPr/>
              <a:tblGrid>
                <a:gridCol w="5945400"/>
                <a:gridCol w="2411280"/>
              </a:tblGrid>
              <a:tr h="594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SALDO ANTERIOR – DEZ 20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1.379.09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62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ARRECADAÇÃO + RENDIMENTOS 202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109.229.31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DESPESAS PAGAS 202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109.084.4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SALDO FINANCEIRO 31/12/202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1.523.95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56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% APLIC EM PESSOAL MAGISTÉRI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(Mínimo de 70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,65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pic>
        <p:nvPicPr>
          <p:cNvPr id="130" name="Picture 107" descr="MCj04348100000[1]"/>
          <p:cNvPicPr/>
          <p:nvPr/>
        </p:nvPicPr>
        <p:blipFill>
          <a:blip r:embed="rId2"/>
          <a:stretch/>
        </p:blipFill>
        <p:spPr>
          <a:xfrm>
            <a:off x="8342280" y="101520"/>
            <a:ext cx="11095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m 6" descr=""/>
          <p:cNvPicPr/>
          <p:nvPr/>
        </p:nvPicPr>
        <p:blipFill>
          <a:blip r:embed="rId1"/>
          <a:stretch/>
        </p:blipFill>
        <p:spPr>
          <a:xfrm>
            <a:off x="-8100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3"/>
          <p:cNvSpPr/>
          <p:nvPr/>
        </p:nvSpPr>
        <p:spPr>
          <a:xfrm>
            <a:off x="1679400" y="522360"/>
            <a:ext cx="69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na Saú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65240" y="1996920"/>
          <a:ext cx="7674120" cy="2864160"/>
        </p:xfrm>
        <a:graphic>
          <a:graphicData uri="http://schemas.openxmlformats.org/drawingml/2006/table">
            <a:tbl>
              <a:tblPr/>
              <a:tblGrid>
                <a:gridCol w="5473800"/>
                <a:gridCol w="2200320"/>
              </a:tblGrid>
              <a:tr h="579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1.905.992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74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APLICAÇÃO MÍNIMA – 15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.285.899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APLICAÇÃ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.697.688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PERCENTUAL DE APLICAÇÃ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26,47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611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GASTOS TOTAIS COM SAÚD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.120.751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34" name="Picture 25" descr=""/>
          <p:cNvPicPr/>
          <p:nvPr/>
        </p:nvPicPr>
        <p:blipFill>
          <a:blip r:embed="rId2"/>
          <a:stretch/>
        </p:blipFill>
        <p:spPr>
          <a:xfrm>
            <a:off x="7566120" y="260280"/>
            <a:ext cx="183672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1382760" y="476280"/>
            <a:ext cx="85694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Gastos com Pessoal – LRF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4546a"/>
                </a:solidFill>
                <a:latin typeface="Calibri Light"/>
              </a:rPr>
              <a:t>Execu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31880" y="1819440"/>
          <a:ext cx="9029880" cy="3219120"/>
        </p:xfrm>
        <a:graphic>
          <a:graphicData uri="http://schemas.openxmlformats.org/drawingml/2006/table">
            <a:tbl>
              <a:tblPr/>
              <a:tblGrid>
                <a:gridCol w="6373800"/>
                <a:gridCol w="2656080"/>
              </a:tblGrid>
              <a:tr h="82548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BASE DE CÁLCULO – RCL Ajustada*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1.193.007.3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123480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GASTOS COM PESSOAL –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  </a:t>
                      </a:r>
                      <a:r>
                        <a:rPr b="1" lang="pt-BR" sz="2700" spc="-1" strike="noStrike">
                          <a:solidFill>
                            <a:srgbClr val="ffc000"/>
                          </a:solidFill>
                          <a:latin typeface="Tahoma"/>
                          <a:ea typeface="Lucida Sans Unicode"/>
                        </a:rPr>
                        <a:t>49,22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ÚLTIMOS 12 MESES – DESPES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587.182.8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38736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ahoma"/>
                          <a:ea typeface="Lucida Sans Unicode"/>
                        </a:rPr>
                        <a:t>LIMITE MÁXIMO – 54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2f2f2"/>
                          </a:solidFill>
                          <a:latin typeface="Tahoma"/>
                        </a:rPr>
                        <a:t>644.223.947,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</a:tr>
              <a:tr h="41292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ahoma"/>
                          <a:ea typeface="Lucida Sans Unicode"/>
                        </a:rPr>
                        <a:t>LIMITE PRUDENCIAL – 51,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2f2f2"/>
                          </a:solidFill>
                          <a:latin typeface="Tahoma"/>
                        </a:rPr>
                        <a:t>612.012.750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</a:tr>
              <a:tr h="35856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ahoma"/>
                          <a:ea typeface="Lucida Sans Unicode"/>
                        </a:rPr>
                        <a:t>LIMITE DE ALERTA –    48,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2f2f2"/>
                          </a:solidFill>
                          <a:latin typeface="Tahoma"/>
                        </a:rPr>
                        <a:t>579.801.552,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</a:tr>
            </a:tbl>
          </a:graphicData>
        </a:graphic>
      </p:graphicFrame>
      <p:pic>
        <p:nvPicPr>
          <p:cNvPr id="138" name="Picture 19" descr=""/>
          <p:cNvPicPr/>
          <p:nvPr/>
        </p:nvPicPr>
        <p:blipFill>
          <a:blip r:embed="rId2"/>
          <a:stretch/>
        </p:blipFill>
        <p:spPr>
          <a:xfrm>
            <a:off x="7881840" y="270000"/>
            <a:ext cx="19116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1060560" y="512640"/>
            <a:ext cx="5976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Dívida Públic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911240" y="1146240"/>
          <a:ext cx="7909200" cy="3725640"/>
        </p:xfrm>
        <a:graphic>
          <a:graphicData uri="http://schemas.openxmlformats.org/drawingml/2006/table">
            <a:tbl>
              <a:tblPr/>
              <a:tblGrid>
                <a:gridCol w="7909200"/>
              </a:tblGrid>
              <a:tr h="3725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do da dívida em 31/12/2022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e75b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762280" y="2771640"/>
          <a:ext cx="5981760" cy="1895760"/>
        </p:xfrm>
        <a:graphic>
          <a:graphicData uri="http://schemas.openxmlformats.org/drawingml/2006/table">
            <a:tbl>
              <a:tblPr/>
              <a:tblGrid>
                <a:gridCol w="4133880"/>
                <a:gridCol w="1847880"/>
              </a:tblGrid>
              <a:tr h="474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 Contratu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.937.1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7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ívid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85.3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7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 (não integra DCL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7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.022.5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3" name="CaixaDeTexto 4"/>
          <p:cNvSpPr/>
          <p:nvPr/>
        </p:nvSpPr>
        <p:spPr>
          <a:xfrm>
            <a:off x="5071320" y="485928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% sobre da DCL sobre a RCL Ajustada = -15,3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3"/>
          <p:cNvSpPr/>
          <p:nvPr/>
        </p:nvSpPr>
        <p:spPr>
          <a:xfrm>
            <a:off x="1114560" y="374760"/>
            <a:ext cx="6983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Operações de Crédit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62040" y="1644480"/>
          <a:ext cx="8690040" cy="1649520"/>
        </p:xfrm>
        <a:graphic>
          <a:graphicData uri="http://schemas.openxmlformats.org/drawingml/2006/table">
            <a:tbl>
              <a:tblPr/>
              <a:tblGrid>
                <a:gridCol w="6400800"/>
                <a:gridCol w="2289240"/>
              </a:tblGrid>
              <a:tr h="83376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contraído no exercício </a:t>
                      </a:r>
                      <a:r>
                        <a:rPr b="1" lang="pt-BR" sz="2500" spc="-1" strike="noStrike">
                          <a:solidFill>
                            <a:srgbClr val="0070c0"/>
                          </a:solidFill>
                          <a:latin typeface="Tahoma"/>
                          <a:ea typeface="Lucida Sans Unicode"/>
                        </a:rPr>
                        <a:t>(6,24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74.500.8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81576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Limite definido pelo Senado </a:t>
                      </a:r>
                      <a:r>
                        <a:rPr b="1" lang="pt-BR" sz="2500" spc="-1" strike="noStrike">
                          <a:solidFill>
                            <a:srgbClr val="0070c0"/>
                          </a:solidFill>
                          <a:latin typeface="Tahoma"/>
                          <a:ea typeface="Lucida Sans Unicode"/>
                        </a:rPr>
                        <a:t>(16,00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191.113.1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  <p:sp>
        <p:nvSpPr>
          <p:cNvPr id="147" name="Retângulo de cantos arredondados 3"/>
          <p:cNvSpPr/>
          <p:nvPr/>
        </p:nvSpPr>
        <p:spPr>
          <a:xfrm>
            <a:off x="1760400" y="4200480"/>
            <a:ext cx="8056800" cy="13669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No exercício foram contraídos Operações de Crédito no valor total de R$ 74.500.870, conforme contratos assina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 valor representa 6,24%  do limite de 16% sobre a RCL Ajust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1398600" y="476280"/>
            <a:ext cx="85694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Disponibilidades de Caixa F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ff0000"/>
                </a:solidFill>
                <a:uFillTx/>
                <a:latin typeface="Calibri Light"/>
              </a:rPr>
              <a:t>Executivo exceto RP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84200" y="1893960"/>
          <a:ext cx="7450200" cy="3070080"/>
        </p:xfrm>
        <a:graphic>
          <a:graphicData uri="http://schemas.openxmlformats.org/drawingml/2006/table">
            <a:tbl>
              <a:tblPr/>
              <a:tblGrid>
                <a:gridCol w="2430360"/>
                <a:gridCol w="1684440"/>
                <a:gridCol w="1685880"/>
                <a:gridCol w="1649520"/>
              </a:tblGrid>
              <a:tr h="52704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ORDIN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VINCUL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94464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DISPONIBILIDADE CX BRU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.218.9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.634.6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3.853.5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90792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OBRIGAÇÕES FINANCEIRAS/ORÇAMENTÁRIAS A PG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.778.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3.777.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7.556.5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69048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DISPONIBILIDADE CX LÍQUIDO(SF)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439.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8.857.0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6.297.0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  <p:sp>
        <p:nvSpPr>
          <p:cNvPr id="151" name="Seta em curva para cima 1"/>
          <p:cNvSpPr/>
          <p:nvPr/>
        </p:nvSpPr>
        <p:spPr>
          <a:xfrm rot="21445200">
            <a:off x="3789360" y="4776480"/>
            <a:ext cx="7977240" cy="1236600"/>
          </a:xfrm>
          <a:custGeom>
            <a:avLst/>
            <a:gdLst>
              <a:gd name="textAreaLeft" fmla="*/ 1828800 w 7977240"/>
              <a:gd name="textAreaRight" fmla="*/ 5796000 w 7977240"/>
              <a:gd name="textAreaTop" fmla="*/ 165600 h 1236600"/>
              <a:gd name="textAreaBottom" fmla="*/ 1071000 h 12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5" hR="21600" stAng="10800000" swAng="-5400000"/>
                <a:lnTo>
                  <a:pt x="10742" y="21600"/>
                </a:lnTo>
                <a:arcTo wR="9905" hR="21600" stAng="5400000" swAng="-3789931"/>
                <a:lnTo>
                  <a:pt x="21344" y="4881"/>
                </a:lnTo>
                <a:lnTo>
                  <a:pt x="20228" y="0"/>
                </a:lnTo>
                <a:lnTo>
                  <a:pt x="18599" y="4881"/>
                </a:lnTo>
                <a:lnTo>
                  <a:pt x="19553" y="4881"/>
                </a:lnTo>
                <a:arcTo wR="9905" hR="21600" stAng="1610069" swAng="3723274"/>
                <a:lnTo>
                  <a:pt x="10323" y="21581"/>
                </a:lnTo>
                <a:arcTo wR="9905" hR="21600" stAng="5466658" swAng="5333342"/>
                <a:close/>
              </a:path>
              <a:path fill="darkenLess" w="21600" h="21600">
                <a:moveTo>
                  <a:pt x="0" y="0"/>
                </a:moveTo>
                <a:arcTo wR="9905" hR="21600" stAng="10800000" swAng="-5400000"/>
                <a:lnTo>
                  <a:pt x="10742" y="21600"/>
                </a:lnTo>
                <a:arcTo wR="9905" hR="21600" stAng="5400000" swAng="66658"/>
                <a:lnTo>
                  <a:pt x="10323" y="21581"/>
                </a:lnTo>
                <a:arcTo wR="9905" hR="21600" stAng="5466658" swAng="5333342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CaixaDeTexto 5"/>
          <p:cNvSpPr/>
          <p:nvPr/>
        </p:nvSpPr>
        <p:spPr>
          <a:xfrm>
            <a:off x="499680" y="4986360"/>
            <a:ext cx="153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*SF = Superávit Financei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CaixaDeTexto 7"/>
          <p:cNvSpPr/>
          <p:nvPr/>
        </p:nvSpPr>
        <p:spPr>
          <a:xfrm>
            <a:off x="8353800" y="4282920"/>
            <a:ext cx="27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** Recursos ordinários com destinação específi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337600" y="2411280"/>
          <a:ext cx="3260520" cy="1881360"/>
        </p:xfrm>
        <a:graphic>
          <a:graphicData uri="http://schemas.openxmlformats.org/drawingml/2006/table">
            <a:tbl>
              <a:tblPr/>
              <a:tblGrid>
                <a:gridCol w="1930320"/>
                <a:gridCol w="1330200"/>
              </a:tblGrid>
              <a:tr h="5907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mo da Disponibilidade Líquida dos Recursos Ordinári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Livres – PMB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695.5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Livres** – Demais Entidad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44.4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953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FR ORDINÁ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439.9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magem 6" descr=""/>
          <p:cNvPicPr/>
          <p:nvPr/>
        </p:nvPicPr>
        <p:blipFill>
          <a:blip r:embed="rId1"/>
          <a:stretch/>
        </p:blipFill>
        <p:spPr>
          <a:xfrm>
            <a:off x="0" y="-2700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1398600" y="476280"/>
            <a:ext cx="856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Disponibilidades de Caixa - </a:t>
            </a:r>
            <a:r>
              <a:rPr b="1" lang="pt-BR" sz="3000" spc="-1" strike="noStrike" u="sng">
                <a:solidFill>
                  <a:srgbClr val="ff0000"/>
                </a:solidFill>
                <a:uFillTx/>
                <a:latin typeface="Calibri"/>
              </a:rPr>
              <a:t>RP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98600" y="1960560"/>
          <a:ext cx="9313920" cy="3197160"/>
        </p:xfrm>
        <a:graphic>
          <a:graphicData uri="http://schemas.openxmlformats.org/drawingml/2006/table">
            <a:tbl>
              <a:tblPr/>
              <a:tblGrid>
                <a:gridCol w="4105440"/>
                <a:gridCol w="1703160"/>
                <a:gridCol w="1882800"/>
                <a:gridCol w="1622520"/>
              </a:tblGrid>
              <a:tr h="6048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70c0"/>
                          </a:solidFill>
                          <a:latin typeface="Calibri Light"/>
                          <a:ea typeface="Simplified Arabic"/>
                        </a:rPr>
                        <a:t>BCPREV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ORDIN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VINCUL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89208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DISPONIBILIDADE CX BRU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9.580.8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9.580.8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90828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OBRIGAÇÕES FINANCEIRAS/ORÇAMENTÁ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6.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6.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7920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DISPONIBILIDADE CX LÍQU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9.004.7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0" rIns="856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9.004.7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7640" y="131400"/>
            <a:ext cx="1042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Fundamento Legal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860480" y="893880"/>
            <a:ext cx="8070840" cy="58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LC 101/2000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Art. 9º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 4° - Até o final dos meses de maio, setembro e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Calibri Light"/>
              </a:rPr>
              <a:t>fevereiro</a:t>
            </a: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, o Poder Executivo     demonstrará   e    avaliará o cumprimento das    metas fiscais de cada quadrimestre, em audiência     pública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Art. 48.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ão instrumentos de transparência da gestão fiscal</a:t>
            </a: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...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as prestações de contas ...incentivo à participação popular e realização de audiências públicas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Imagem 6" descr=""/>
          <p:cNvPicPr/>
          <p:nvPr/>
        </p:nvPicPr>
        <p:blipFill>
          <a:blip r:embed="rId1"/>
          <a:stretch/>
        </p:blipFill>
        <p:spPr>
          <a:xfrm>
            <a:off x="0" y="-1440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tângulo de cantos arredondados 6"/>
          <p:cNvSpPr/>
          <p:nvPr/>
        </p:nvSpPr>
        <p:spPr>
          <a:xfrm>
            <a:off x="2386080" y="720720"/>
            <a:ext cx="7129440" cy="4753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Os números apresentados no 3º Quadrimestre de 2022 apontam para o cumprimento das metas estabelecidas e a manutenção do equilíbrio fisca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111276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Publicaçõ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208160" y="1571760"/>
            <a:ext cx="9513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Site: </a:t>
            </a:r>
            <a:r>
              <a:rPr b="0" lang="pt-BR" sz="20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bc.sc.gov.br</a:t>
            </a: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Diário Oficial do Município - DOM/SC  - Autopublicação nº 4516001 em 27/01/202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UR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s://</a:t>
            </a:r>
            <a:r>
              <a:rPr b="0" lang="pt-BR" sz="20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diariomunicipal.sc.gov.br/arquivosbd/atos/2023/01/1674837754_sexto_bimestre_extrato.pdf</a:t>
            </a: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1825560" y="444600"/>
            <a:ext cx="826920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Garamond"/>
              </a:rPr>
              <a:t>Audiência Públic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Demonstração e Avaliação do Cumprimento das Metas Fiscais: 3º Quadrimestre de 2022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000"/>
                </a:solidFill>
                <a:latin typeface="Tahoma"/>
              </a:rPr>
              <a:t>OBRIGADO PELA PRESENÇ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Apresentaçã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Secretaria da Faz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Departamento Contábil Financei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Imagem 3" descr=""/>
          <p:cNvPicPr/>
          <p:nvPr/>
        </p:nvPicPr>
        <p:blipFill>
          <a:blip r:embed="rId2"/>
          <a:stretch/>
        </p:blipFill>
        <p:spPr>
          <a:xfrm>
            <a:off x="9655200" y="5083200"/>
            <a:ext cx="23176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m 4" descr=""/>
          <p:cNvPicPr/>
          <p:nvPr/>
        </p:nvPicPr>
        <p:blipFill>
          <a:blip r:embed="rId1"/>
          <a:stretch/>
        </p:blipFill>
        <p:spPr>
          <a:xfrm>
            <a:off x="0" y="9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-360" y="5374800"/>
            <a:ext cx="370188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47 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3267-7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www.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balneariocamboriu</a:t>
            </a: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.sc.gov.b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Rua Dinamarca, 320 - Paço Munici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88338-900 - Balneário Camboriú - S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Objetivos da Audiênci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tângulo 10"/>
          <p:cNvSpPr/>
          <p:nvPr/>
        </p:nvSpPr>
        <p:spPr>
          <a:xfrm>
            <a:off x="2165400" y="4227480"/>
            <a:ext cx="8556480" cy="1007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Permitir que a sociedade conheça, acompanha e analise o desempenho dos seus governa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ângulo 10"/>
          <p:cNvSpPr/>
          <p:nvPr/>
        </p:nvSpPr>
        <p:spPr>
          <a:xfrm>
            <a:off x="2344680" y="1655640"/>
            <a:ext cx="8475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Transparência das ações do gover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Prestação de contas à popul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Facilitar o acesso às informações públ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Divulgação dos resultados de forma mais clara e simplific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0" descr="C:\Documents and Settings\apoleza\Configurações locais\Temporary Internet Files\Content.IE5\T4KPIBYH\MC900297143[1].wmf"/>
          <p:cNvPicPr/>
          <p:nvPr/>
        </p:nvPicPr>
        <p:blipFill>
          <a:blip r:embed="rId2"/>
          <a:stretch/>
        </p:blipFill>
        <p:spPr>
          <a:xfrm rot="391800">
            <a:off x="528480" y="558720"/>
            <a:ext cx="1854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 Light"/>
              </a:rPr>
              <a:t>Abordagen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889280" y="3948120"/>
          <a:ext cx="2719080" cy="1584360"/>
        </p:xfrm>
        <a:graphic>
          <a:graphicData uri="http://schemas.openxmlformats.org/drawingml/2006/table">
            <a:tbl>
              <a:tblPr/>
              <a:tblGrid>
                <a:gridCol w="2719080"/>
              </a:tblGrid>
              <a:tr h="1584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ÇAMENT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7c7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858080" y="1130400"/>
          <a:ext cx="2735280" cy="158436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15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E DESPESA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c9c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889280" y="1157400"/>
          <a:ext cx="2719080" cy="1684080"/>
        </p:xfrm>
        <a:graphic>
          <a:graphicData uri="http://schemas.openxmlformats.org/drawingml/2006/table">
            <a:tbl>
              <a:tblPr/>
              <a:tblGrid>
                <a:gridCol w="2719080"/>
              </a:tblGrid>
              <a:tr h="16840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AS PREVISTAS E EXECUTAD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975440" y="3948120"/>
          <a:ext cx="2735280" cy="158436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1584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FISC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58" name="Setas cruzadas 2"/>
          <p:cNvSpPr/>
          <p:nvPr/>
        </p:nvSpPr>
        <p:spPr>
          <a:xfrm>
            <a:off x="4251240" y="2174760"/>
            <a:ext cx="3989520" cy="2508480"/>
          </a:xfrm>
          <a:prstGeom prst="pie">
            <a:avLst/>
          </a:prstGeom>
          <a:solidFill>
            <a:srgbClr val="00206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RESULTA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6" descr=""/>
          <p:cNvPicPr/>
          <p:nvPr/>
        </p:nvPicPr>
        <p:blipFill>
          <a:blip r:embed="rId1"/>
          <a:stretch/>
        </p:blipFill>
        <p:spPr>
          <a:xfrm>
            <a:off x="0" y="-144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8840" y="131400"/>
            <a:ext cx="68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Desempenho das Receitas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  <a:ea typeface="Arial"/>
              </a:rPr>
              <a:t>3º Quadrimestre 2022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284120" y="1498680"/>
          <a:ext cx="7782120" cy="3585960"/>
        </p:xfrm>
        <a:graphic>
          <a:graphicData uri="http://schemas.openxmlformats.org/drawingml/2006/table">
            <a:tbl>
              <a:tblPr/>
              <a:tblGrid>
                <a:gridCol w="2213280"/>
                <a:gridCol w="1912680"/>
                <a:gridCol w="1911600"/>
                <a:gridCol w="1744560"/>
              </a:tblGrid>
              <a:tr h="717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ta (LO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717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16.009.46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86.508.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.499.33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16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 Intra Orça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.152.4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.282.4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30.0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717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.467.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.454.0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986.5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17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82.629.3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80.245.3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.615.95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</a:tbl>
          </a:graphicData>
        </a:graphic>
      </p:graphicFrame>
      <p:sp>
        <p:nvSpPr>
          <p:cNvPr id="62" name="CaixaDeTexto 7"/>
          <p:cNvSpPr/>
          <p:nvPr/>
        </p:nvSpPr>
        <p:spPr>
          <a:xfrm>
            <a:off x="9280440" y="2182680"/>
            <a:ext cx="2057400" cy="91692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 arrecadaçã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R$ 131,7 milhõ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ixaDeTexto 8"/>
          <p:cNvSpPr/>
          <p:nvPr/>
        </p:nvSpPr>
        <p:spPr>
          <a:xfrm>
            <a:off x="9280440" y="4414680"/>
            <a:ext cx="2343240" cy="642600"/>
          </a:xfrm>
          <a:prstGeom prst="rect">
            <a:avLst/>
          </a:prstGeom>
          <a:solidFill>
            <a:srgbClr val="1f4e7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Arrecadação acima  do previsto em 14,29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4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3" descr=""/>
          <p:cNvPicPr/>
          <p:nvPr/>
        </p:nvPicPr>
        <p:blipFill>
          <a:blip r:embed="rId2"/>
          <a:stretch/>
        </p:blipFill>
        <p:spPr>
          <a:xfrm>
            <a:off x="9215280" y="474840"/>
            <a:ext cx="2046600" cy="1023840"/>
          </a:xfrm>
          <a:prstGeom prst="rect">
            <a:avLst/>
          </a:prstGeom>
          <a:ln w="0">
            <a:noFill/>
          </a:ln>
        </p:spPr>
      </p:pic>
      <p:sp>
        <p:nvSpPr>
          <p:cNvPr id="66" name="Seta em forma de U 2"/>
          <p:cNvSpPr/>
          <p:nvPr/>
        </p:nvSpPr>
        <p:spPr>
          <a:xfrm rot="10800000">
            <a:off x="7880040" y="5084280"/>
            <a:ext cx="2206440" cy="482760"/>
          </a:xfrm>
          <a:custGeom>
            <a:avLst/>
            <a:gdLst/>
            <a:ahLst/>
            <a:rect l="l" t="t" r="r" b="b"/>
            <a:pathLst>
              <a:path w="2206625" h="482600">
                <a:moveTo>
                  <a:pt x="0" y="482600"/>
                </a:moveTo>
                <a:lnTo>
                  <a:pt x="0" y="211138"/>
                </a:lnTo>
                <a:lnTo>
                  <a:pt x="0" y="211138"/>
                </a:lnTo>
                <a:arcTo wR="211138" hR="211138" stAng="10800000" swAng="5400000"/>
                <a:lnTo>
                  <a:pt x="1959556" y="0"/>
                </a:lnTo>
                <a:lnTo>
                  <a:pt x="1959556" y="0"/>
                </a:lnTo>
                <a:arcTo wR="211138" hR="211138" stAng="-5400000" swAng="5400000"/>
                <a:lnTo>
                  <a:pt x="2170693" y="241300"/>
                </a:lnTo>
                <a:lnTo>
                  <a:pt x="2206625" y="241300"/>
                </a:lnTo>
                <a:lnTo>
                  <a:pt x="2085975" y="361950"/>
                </a:lnTo>
                <a:lnTo>
                  <a:pt x="1965325" y="241300"/>
                </a:lnTo>
                <a:lnTo>
                  <a:pt x="2001257" y="241300"/>
                </a:lnTo>
                <a:lnTo>
                  <a:pt x="2001257" y="211138"/>
                </a:lnTo>
                <a:lnTo>
                  <a:pt x="2001257" y="211138"/>
                </a:lnTo>
                <a:arcTo wR="41701" hR="41701" stAng="0" swAng="-5400000"/>
                <a:lnTo>
                  <a:pt x="211138" y="169436"/>
                </a:lnTo>
                <a:lnTo>
                  <a:pt x="211138" y="169436"/>
                </a:lnTo>
                <a:arcTo wR="41701" hR="41701" stAng="-5400000" swAng="-5400000"/>
                <a:lnTo>
                  <a:pt x="169436" y="48260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6" descr=""/>
          <p:cNvPicPr/>
          <p:nvPr/>
        </p:nvPicPr>
        <p:blipFill>
          <a:blip r:embed="rId1"/>
          <a:stretch/>
        </p:blipFill>
        <p:spPr>
          <a:xfrm>
            <a:off x="-8100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Evolução da Receita Total – </a:t>
            </a: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últimos 10 exercícios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690640" y="781200"/>
          <a:ext cx="6434280" cy="5286240"/>
        </p:xfrm>
        <a:graphic>
          <a:graphicData uri="http://schemas.openxmlformats.org/drawingml/2006/table">
            <a:tbl>
              <a:tblPr/>
              <a:tblGrid>
                <a:gridCol w="1706760"/>
                <a:gridCol w="2563920"/>
                <a:gridCol w="2163600"/>
              </a:tblGrid>
              <a:tr h="67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rcí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Realiz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olução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m relação ao ano a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6.488.57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74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8.880.15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2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7.067.34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9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6.310.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1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8.767.48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7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6.551.69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2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043.84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3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3.885.75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7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4.866.24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59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80.245.3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18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280" y="108000"/>
            <a:ext cx="1142532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Calibri Light"/>
              </a:rPr>
              <a:t>Evolução Gráfica da Receit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Elipse 7"/>
          <p:cNvSpPr/>
          <p:nvPr/>
        </p:nvSpPr>
        <p:spPr>
          <a:xfrm>
            <a:off x="8956800" y="1822320"/>
            <a:ext cx="1650960" cy="1378080"/>
          </a:xfrm>
          <a:prstGeom prst="ellipse">
            <a:avLst/>
          </a:prstGeom>
          <a:solidFill>
            <a:srgbClr val="ffd96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d0d0d"/>
                </a:solidFill>
                <a:latin typeface="Calibri"/>
              </a:rPr>
              <a:t>Receita realizada em 2022 ficou acima da linha de tendência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Gráfico 6" descr=""/>
          <p:cNvPicPr/>
          <p:nvPr/>
        </p:nvPicPr>
        <p:blipFill>
          <a:blip r:embed="rId2"/>
          <a:stretch/>
        </p:blipFill>
        <p:spPr>
          <a:xfrm>
            <a:off x="2401920" y="2000160"/>
            <a:ext cx="7388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46480" y="0"/>
            <a:ext cx="632592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2060"/>
                </a:solidFill>
                <a:latin typeface="Calibri Light"/>
              </a:rPr>
              <a:t>Origem das Receitas – </a:t>
            </a:r>
            <a:r>
              <a:rPr b="0" lang="pt-BR" sz="3300" spc="-1" strike="noStrike">
                <a:solidFill>
                  <a:srgbClr val="002060"/>
                </a:solidFill>
                <a:latin typeface="Calibri Light"/>
              </a:rPr>
              <a:t>2022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79400" y="512640"/>
          <a:ext cx="8372520" cy="5286600"/>
        </p:xfrm>
        <a:graphic>
          <a:graphicData uri="http://schemas.openxmlformats.org/drawingml/2006/table">
            <a:tbl>
              <a:tblPr/>
              <a:tblGrid>
                <a:gridCol w="5629320"/>
                <a:gridCol w="1632240"/>
                <a:gridCol w="1110960"/>
              </a:tblGrid>
              <a:tr h="336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00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, Taxas e Contribuição de Melh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6.362.74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.241.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as Patrimon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.340.316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879.5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4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a Uni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.735.531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o Es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.592.289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.671.504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4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e Munic / Instituições Privadas / Pesso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2.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ênios União/Es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17.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de Créd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500.8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4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ão de B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C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831.5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Urba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622.5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N/IC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730.3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72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is Receitas Correntes e Capital (multas trânsito, ambiental, Aporte BCPREVI e outr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435.8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6912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80.245.3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69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6T18:19:47Z</dcterms:created>
  <dc:creator>Usuário do Microsoft Office</dc:creator>
  <dc:description/>
  <dc:language>en-US</dc:language>
  <cp:lastModifiedBy>apoleza</cp:lastModifiedBy>
  <cp:lastPrinted>2019-02-28T18:54:16Z</cp:lastPrinted>
  <dcterms:modified xsi:type="dcterms:W3CDTF">2023-02-24T20:48:08Z</dcterms:modified>
  <cp:revision>296</cp:revision>
  <dc:subject/>
  <dc:title>Apresentação do PowerPoint</dc:title>
</cp:coreProperties>
</file>