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D42-E220-4287-8E88-0EE274F1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D0A-4B59-4918-B123-72E28F6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A43-3C0E-4162-B6B2-126BBC52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650-3D7E-4DE7-A6C6-753D8CD3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D7D-77DE-4890-9DF5-A598312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B95-2939-4C76-8A1E-A83664AC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6E3-24FA-4109-9FBF-A4D2CC4E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94C-1369-4068-905E-0472BA7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492-8FA2-4CC2-A0BE-9ACE4260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C4A-1F7E-437D-BBA9-9B48EC8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BAE-794A-4AE6-87F9-5AC897C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89A-BEA0-4868-9477-9E96363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1D7D-7E12-45BB-BF04-C1738D3B602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c.sc.gov.br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6" descr=""/>
          <p:cNvPicPr/>
          <p:nvPr/>
        </p:nvPicPr>
        <p:blipFill>
          <a:blip r:embed="rId1"/>
          <a:stretch/>
        </p:blipFill>
        <p:spPr>
          <a:xfrm>
            <a:off x="6660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34648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Gráfico 5" descr=""/>
          <p:cNvPicPr/>
          <p:nvPr/>
        </p:nvPicPr>
        <p:blipFill>
          <a:blip r:embed="rId2"/>
          <a:stretch/>
        </p:blipFill>
        <p:spPr>
          <a:xfrm>
            <a:off x="2170080" y="1731960"/>
            <a:ext cx="8010720" cy="375444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1"/>
          <p:cNvSpPr/>
          <p:nvPr/>
        </p:nvSpPr>
        <p:spPr>
          <a:xfrm>
            <a:off x="6162840" y="3824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6" descr=""/>
          <p:cNvPicPr/>
          <p:nvPr/>
        </p:nvPicPr>
        <p:blipFill>
          <a:blip r:embed="rId1"/>
          <a:stretch/>
        </p:blipFill>
        <p:spPr>
          <a:xfrm>
            <a:off x="66600" y="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432160" y="4232160"/>
          <a:ext cx="6872040" cy="941400"/>
        </p:xfrm>
        <a:graphic>
          <a:graphicData uri="http://schemas.openxmlformats.org/drawingml/2006/table">
            <a:tbl>
              <a:tblPr/>
              <a:tblGrid>
                <a:gridCol w="1487520"/>
                <a:gridCol w="1347480"/>
                <a:gridCol w="1339920"/>
                <a:gridCol w="1386000"/>
                <a:gridCol w="1311120"/>
              </a:tblGrid>
              <a:tr h="38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377.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61.7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4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66.0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43.9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84" name="CaixaDeTexto 3"/>
          <p:cNvSpPr/>
          <p:nvPr/>
        </p:nvSpPr>
        <p:spPr>
          <a:xfrm>
            <a:off x="2800440" y="5265720"/>
            <a:ext cx="615924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Os impostos e taxas representam 44% do valor total arrecadado n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6920" y="80640"/>
            <a:ext cx="80802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Impostos e Taxas – até abril/2020</a:t>
            </a: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Gráfico 6" descr=""/>
          <p:cNvPicPr/>
          <p:nvPr/>
        </p:nvPicPr>
        <p:blipFill>
          <a:blip r:embed="rId2"/>
          <a:stretch/>
        </p:blipFill>
        <p:spPr>
          <a:xfrm>
            <a:off x="1627200" y="927000"/>
            <a:ext cx="850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6680" y="169560"/>
            <a:ext cx="88264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4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0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s correntes (liquidada): R$ 65.692.7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ixaDeTexto 8"/>
          <p:cNvSpPr/>
          <p:nvPr/>
        </p:nvSpPr>
        <p:spPr>
          <a:xfrm>
            <a:off x="3352320" y="5443560"/>
            <a:ext cx="5229720" cy="36828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1% acima do valor estimado para o perío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68400" y="1677960"/>
          <a:ext cx="838692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7480"/>
                <a:gridCol w="2041560"/>
                <a:gridCol w="1987560"/>
              </a:tblGrid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2.811.9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.770.8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.041.1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13.3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76.7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563.3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.225.3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747.5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25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55400" y="213840"/>
            <a:ext cx="7093080" cy="131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 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93760" y="1460520"/>
          <a:ext cx="7550280" cy="4075200"/>
        </p:xfrm>
        <a:graphic>
          <a:graphicData uri="http://schemas.openxmlformats.org/drawingml/2006/table">
            <a:tbl>
              <a:tblPr/>
              <a:tblGrid>
                <a:gridCol w="4542120"/>
                <a:gridCol w="1787400"/>
                <a:gridCol w="1220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.770.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900.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3.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07.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76.7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472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4.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747.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4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4" descr=""/>
          <p:cNvPicPr/>
          <p:nvPr/>
        </p:nvPicPr>
        <p:blipFill>
          <a:blip r:embed="rId2"/>
          <a:stretch/>
        </p:blipFill>
        <p:spPr>
          <a:xfrm>
            <a:off x="9970920" y="214200"/>
            <a:ext cx="2157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06400" y="213840"/>
            <a:ext cx="6335640" cy="91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1º Quadrimestre – por exercício – despesa realizada</a:t>
            </a:r>
            <a:br>
              <a:rPr sz="1500"/>
            </a:br>
            <a:r>
              <a:rPr b="1" lang="pt-BR" sz="1500" spc="-1" strike="noStrike">
                <a:solidFill>
                  <a:srgbClr val="002060"/>
                </a:solidFill>
                <a:latin typeface="Calibri Light"/>
              </a:rPr>
              <a:t>MODALIDADE DE APLICAÇÃO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06520" y="1465200"/>
          <a:ext cx="9002880" cy="3927600"/>
        </p:xfrm>
        <a:graphic>
          <a:graphicData uri="http://schemas.openxmlformats.org/drawingml/2006/table">
            <a:tbl>
              <a:tblPr/>
              <a:tblGrid>
                <a:gridCol w="2935440"/>
                <a:gridCol w="1515960"/>
                <a:gridCol w="1517760"/>
                <a:gridCol w="1515960"/>
                <a:gridCol w="1517760"/>
              </a:tblGrid>
              <a:tr h="66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20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385.9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060.2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898.3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900.0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.5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.7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3.7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57.8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92.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711.7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207.0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772.2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993.2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01.3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472.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1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5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1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4.6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606.4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063.4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815.9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747.5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1749600" y="73080"/>
            <a:ext cx="7778520" cy="1450800"/>
          </a:xfrm>
          <a:prstGeom prst="rect">
            <a:avLst/>
          </a:prstGeom>
          <a:ln w="0">
            <a:noFill/>
          </a:ln>
        </p:spPr>
      </p:pic>
      <p:pic>
        <p:nvPicPr>
          <p:cNvPr id="102" name="Gráfico 4" descr=""/>
          <p:cNvPicPr/>
          <p:nvPr/>
        </p:nvPicPr>
        <p:blipFill>
          <a:blip r:embed="rId3"/>
          <a:stretch/>
        </p:blipFill>
        <p:spPr>
          <a:xfrm>
            <a:off x="1384200" y="1523880"/>
            <a:ext cx="902196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8640" y="301320"/>
            <a:ext cx="7093080" cy="64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03480" y="1112760"/>
          <a:ext cx="5335560" cy="4984920"/>
        </p:xfrm>
        <a:graphic>
          <a:graphicData uri="http://schemas.openxmlformats.org/drawingml/2006/table">
            <a:tbl>
              <a:tblPr/>
              <a:tblGrid>
                <a:gridCol w="2351160"/>
                <a:gridCol w="1476360"/>
                <a:gridCol w="1508040"/>
              </a:tblGrid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.071.3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.936.1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.906.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.724.2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412.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,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.836.9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9.213.5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752.9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2.007.0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76.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9.5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.120.5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7.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115.5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577.4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375.6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76.9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.067.3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49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5.747.5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1560" y="317520"/>
            <a:ext cx="874080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3000"/>
            </a:b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30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3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8960" y="2235240"/>
          <a:ext cx="7583400" cy="2998800"/>
        </p:xfrm>
        <a:graphic>
          <a:graphicData uri="http://schemas.openxmlformats.org/drawingml/2006/table">
            <a:tbl>
              <a:tblPr/>
              <a:tblGrid>
                <a:gridCol w="2746440"/>
                <a:gridCol w="2692440"/>
                <a:gridCol w="2144520"/>
              </a:tblGrid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.110.981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5.945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.225.314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747.565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8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885.666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358.380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26" descr=""/>
          <p:cNvPicPr/>
          <p:nvPr/>
        </p:nvPicPr>
        <p:blipFill>
          <a:blip r:embed="rId2"/>
          <a:stretch/>
        </p:blipFill>
        <p:spPr>
          <a:xfrm>
            <a:off x="9342360" y="325440"/>
            <a:ext cx="2206800" cy="1405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3" descr=""/>
          <p:cNvPicPr/>
          <p:nvPr/>
        </p:nvPicPr>
        <p:blipFill>
          <a:blip r:embed="rId3"/>
          <a:stretch/>
        </p:blipFill>
        <p:spPr>
          <a:xfrm>
            <a:off x="9504360" y="3757680"/>
            <a:ext cx="23814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087640" y="1787400"/>
            <a:ext cx="7762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0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pt-BR" sz="2700" spc="-1" strike="noStrike">
                <a:solidFill>
                  <a:srgbClr val="00b0f0"/>
                </a:solidFill>
                <a:latin typeface="Tahoma"/>
                <a:ea typeface="Arial"/>
              </a:rPr>
              <a:t>R$ 860.645.78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cc66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REALIZADA ATÉ ABRIL DE 202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ff9900"/>
                </a:solidFill>
                <a:latin typeface="Tahoma"/>
                <a:ea typeface="Arial"/>
              </a:rPr>
              <a:t>R$ 858.997.94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ahoma"/>
                <a:ea typeface="Arial"/>
              </a:rPr>
              <a:t>AJUSTADA ATÉ ABRIL DE 202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700" spc="-1" strike="noStrike">
                <a:solidFill>
                  <a:srgbClr val="548235"/>
                </a:solidFill>
                <a:latin typeface="Tahoma"/>
                <a:ea typeface="Arial"/>
              </a:rPr>
              <a:t>R$ 858.327.94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90000"/>
              </a:lnSpc>
              <a:spcBef>
                <a:spcPts val="850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36840" y="603360"/>
            <a:ext cx="80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Meta Receita Corrente Líqu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1º Quadrimestre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063800" y="2128680"/>
          <a:ext cx="8356320" cy="2919600"/>
        </p:xfrm>
        <a:graphic>
          <a:graphicData uri="http://schemas.openxmlformats.org/drawingml/2006/table">
            <a:tbl>
              <a:tblPr/>
              <a:tblGrid>
                <a:gridCol w="2538360"/>
                <a:gridCol w="1998720"/>
                <a:gridCol w="1909440"/>
                <a:gridCol w="1909800"/>
              </a:tblGrid>
              <a:tr h="5382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r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5634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050.8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40.9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205.5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85.1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8.5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58.0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365.6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62.3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47.4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120" name="Elipse 4"/>
          <p:cNvSpPr/>
          <p:nvPr/>
        </p:nvSpPr>
        <p:spPr>
          <a:xfrm>
            <a:off x="9588600" y="2540160"/>
            <a:ext cx="2381040" cy="17776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$ 503,7 milhõ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7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3840" y="1279080"/>
            <a:ext cx="9553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29/05/20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  <a:ea typeface="Arial"/>
              </a:rPr>
              <a:t>1º Quadrimestre de 2020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*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66800" y="1689120"/>
          <a:ext cx="8377200" cy="1179360"/>
        </p:xfrm>
        <a:graphic>
          <a:graphicData uri="http://schemas.openxmlformats.org/drawingml/2006/table">
            <a:tbl>
              <a:tblPr/>
              <a:tblGrid>
                <a:gridCol w="4686480"/>
                <a:gridCol w="3690720"/>
              </a:tblGrid>
              <a:tr h="56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8.182.1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1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12.27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440" y="4427640"/>
          <a:ext cx="8251560" cy="1017360"/>
        </p:xfrm>
        <a:graphic>
          <a:graphicData uri="http://schemas.openxmlformats.org/drawingml/2006/table">
            <a:tbl>
              <a:tblPr/>
              <a:tblGrid>
                <a:gridCol w="4616280"/>
                <a:gridCol w="3635280"/>
              </a:tblGrid>
              <a:tr h="48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91.1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52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1º Quadrimest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41.1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3"/>
          <p:cNvSpPr/>
          <p:nvPr/>
        </p:nvSpPr>
        <p:spPr>
          <a:xfrm>
            <a:off x="1392120" y="3429000"/>
            <a:ext cx="85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*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ixaDeTexto 1"/>
          <p:cNvSpPr/>
          <p:nvPr/>
        </p:nvSpPr>
        <p:spPr>
          <a:xfrm>
            <a:off x="1890720" y="5749920"/>
            <a:ext cx="4579920" cy="32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*Valor do resultado nominal e primário acima da linh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0200" y="1585800"/>
          <a:ext cx="9063000" cy="3387960"/>
        </p:xfrm>
        <a:graphic>
          <a:graphicData uri="http://schemas.openxmlformats.org/drawingml/2006/table">
            <a:tbl>
              <a:tblPr/>
              <a:tblGrid>
                <a:gridCol w="4097520"/>
                <a:gridCol w="1673280"/>
                <a:gridCol w="1736640"/>
                <a:gridCol w="1555560"/>
              </a:tblGrid>
              <a:tr h="725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4.203.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9.353.9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557.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5.4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450.6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56.07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5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3.169.3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4.543.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712.3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0/04/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28.6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0.360.2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88.9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539720" y="366840"/>
            <a:ext cx="76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68600" y="1935000"/>
          <a:ext cx="8337240" cy="3829320"/>
        </p:xfrm>
        <a:graphic>
          <a:graphicData uri="http://schemas.openxmlformats.org/drawingml/2006/table">
            <a:tbl>
              <a:tblPr/>
              <a:tblGrid>
                <a:gridCol w="5460840"/>
                <a:gridCol w="2876400"/>
              </a:tblGrid>
              <a:tr h="529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8.445.67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0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25%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.611.41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218.83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6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EM 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007.07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4" descr=""/>
          <p:cNvPicPr/>
          <p:nvPr/>
        </p:nvPicPr>
        <p:blipFill>
          <a:blip r:embed="rId2"/>
          <a:stretch/>
        </p:blipFill>
        <p:spPr>
          <a:xfrm>
            <a:off x="9786960" y="236520"/>
            <a:ext cx="18190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58880" y="1903320"/>
          <a:ext cx="8237520" cy="3471840"/>
        </p:xfrm>
        <a:graphic>
          <a:graphicData uri="http://schemas.openxmlformats.org/drawingml/2006/table">
            <a:tbl>
              <a:tblPr/>
              <a:tblGrid>
                <a:gridCol w="5861160"/>
                <a:gridCol w="2376360"/>
              </a:tblGrid>
              <a:tr h="65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ANTERIOR – DEZ 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32.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RRECADAÇÃO + RENDIM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297.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DESPESAS PA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80.8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SALDO FINANCEIRO 30/04/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8.8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% APLIC EM PESSOAL MAGISTÉRIO (Mínimo de 6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,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107" descr="MCj04348100000[1]"/>
          <p:cNvPicPr/>
          <p:nvPr/>
        </p:nvPicPr>
        <p:blipFill>
          <a:blip r:embed="rId2"/>
          <a:stretch/>
        </p:blipFill>
        <p:spPr>
          <a:xfrm>
            <a:off x="8023320" y="136440"/>
            <a:ext cx="1109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m 6" descr=""/>
          <p:cNvPicPr/>
          <p:nvPr/>
        </p:nvPicPr>
        <p:blipFill>
          <a:blip r:embed="rId1"/>
          <a:stretch/>
        </p:blipFill>
        <p:spPr>
          <a:xfrm>
            <a:off x="0" y="6660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3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65240" y="1996920"/>
          <a:ext cx="7674120" cy="3475080"/>
        </p:xfrm>
        <a:graphic>
          <a:graphicData uri="http://schemas.openxmlformats.org/drawingml/2006/table">
            <a:tbl>
              <a:tblPr/>
              <a:tblGrid>
                <a:gridCol w="5473800"/>
                <a:gridCol w="22003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8.445.67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APLICAÇÃO MÍNIMA – 15%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no 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766.85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APLICADO  1º Quadrimest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.823.6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ERCENTUAL DE APLICAÇÃO JÁ ALCANÇADO NO PERÍ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(1º QUADRI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8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OS TOTAIS COM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570.49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5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Execu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5600" y="1785960"/>
          <a:ext cx="9529560" cy="3286080"/>
        </p:xfrm>
        <a:graphic>
          <a:graphicData uri="http://schemas.openxmlformats.org/drawingml/2006/table">
            <a:tbl>
              <a:tblPr/>
              <a:tblGrid>
                <a:gridCol w="6900840"/>
                <a:gridCol w="2628720"/>
              </a:tblGrid>
              <a:tr h="819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821.394.09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812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46,92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385.431.45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76824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421.375.17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48,60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399.197.5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18" descr=""/>
          <p:cNvPicPr/>
          <p:nvPr/>
        </p:nvPicPr>
        <p:blipFill>
          <a:blip r:embed="rId2"/>
          <a:stretch/>
        </p:blipFill>
        <p:spPr>
          <a:xfrm>
            <a:off x="9937800" y="338040"/>
            <a:ext cx="15764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193760" y="485640"/>
            <a:ext cx="856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2060"/>
                </a:solidFill>
                <a:latin typeface="Calibri Light"/>
              </a:rPr>
              <a:t>Gastos com Pessoal Legislativo – LRF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43160" y="1994040"/>
          <a:ext cx="9138960" cy="3286080"/>
        </p:xfrm>
        <a:graphic>
          <a:graphicData uri="http://schemas.openxmlformats.org/drawingml/2006/table">
            <a:tbl>
              <a:tblPr/>
              <a:tblGrid>
                <a:gridCol w="6618240"/>
                <a:gridCol w="2520720"/>
              </a:tblGrid>
              <a:tr h="8190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BASE DE CÁLCULO – RCL   AJUSTAD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821.394.09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977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GASTOS COM PESSOAL –  1,8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15.098.93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7686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PRUDENCIAL – 5,7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19.463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72072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Lucida Sans Unicode"/>
                        </a:rPr>
                        <a:t>LIMITE DE ALERTA   –   5,4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355.281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18" descr=""/>
          <p:cNvPicPr/>
          <p:nvPr/>
        </p:nvPicPr>
        <p:blipFill>
          <a:blip r:embed="rId2"/>
          <a:stretch/>
        </p:blipFill>
        <p:spPr>
          <a:xfrm>
            <a:off x="9937800" y="338040"/>
            <a:ext cx="15764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aixaDeTexto 1"/>
          <p:cNvSpPr/>
          <p:nvPr/>
        </p:nvSpPr>
        <p:spPr>
          <a:xfrm>
            <a:off x="4056840" y="48420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% DC SOBRE A RCL = 12,9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65280" y="1593720"/>
          <a:ext cx="7772400" cy="2868840"/>
        </p:xfrm>
        <a:graphic>
          <a:graphicData uri="http://schemas.openxmlformats.org/drawingml/2006/table">
            <a:tbl>
              <a:tblPr/>
              <a:tblGrid>
                <a:gridCol w="5653080"/>
                <a:gridCol w="2119320"/>
              </a:tblGrid>
              <a:tr h="1005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do da dívida em 30/04/20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 Contra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55.7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2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i nº 3936 (Imob. Ypuã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36.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892.0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3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39880" y="4260960"/>
          <a:ext cx="8690040" cy="1649160"/>
        </p:xfrm>
        <a:graphic>
          <a:graphicData uri="http://schemas.openxmlformats.org/drawingml/2006/table">
            <a:tbl>
              <a:tblPr/>
              <a:tblGrid>
                <a:gridCol w="6400800"/>
                <a:gridCol w="2289240"/>
              </a:tblGrid>
              <a:tr h="833400">
                <a:tc>
                  <a:txBody>
                    <a:bodyPr tIns="306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Valor contraído no exercício (1,19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0.212.3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815760">
                <a:tc>
                  <a:txBody>
                    <a:bodyPr tIns="2844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imite definido pelo Senado (16,00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306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137.332.4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57" name="Retângulo de cantos arredondados 3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No 1º Quadrimestre de 2020 foram liberados recursos de Operações de Crédito o valor de R$ 10.212.305, conforme contratos já assinad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O valor representa 1,19%  do limite de 16% sobre a R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08160" y="1571760"/>
            <a:ext cx="85690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bc.sc.gov.br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Jornal Diarinho do Litoral (28/05/2020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7640" y="-113040"/>
            <a:ext cx="1042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681200" y="1000080"/>
            <a:ext cx="9101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LC 101/2000 - LR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 4° - Até o final dos meses de </a:t>
            </a:r>
            <a:r>
              <a:rPr b="1" lang="pt-BR" sz="2700" spc="-1" strike="noStrike" u="sng">
                <a:solidFill>
                  <a:srgbClr val="ff0000"/>
                </a:solidFill>
                <a:uFillTx/>
                <a:latin typeface="Calibri Light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, setembro e fevereiro,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Art. 48 - São instrumentos de transparências: RREO e RGF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 Light"/>
              </a:rPr>
              <a:t>1º - A transparência será assegurada... incentivo à participação popular e realização de audiências públicas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825560" y="444600"/>
            <a:ext cx="8269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1º Quadrimestre de 2020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0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Imagem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64" name="CaixaDeTexto 1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579320" y="4966920"/>
            <a:ext cx="37018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47 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3267-7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balneariocamboriu</a:t>
            </a: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.sc.gov.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tângulo 10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ângulo 10"/>
          <p:cNvSpPr/>
          <p:nvPr/>
        </p:nvSpPr>
        <p:spPr>
          <a:xfrm>
            <a:off x="2384280" y="1195560"/>
            <a:ext cx="10303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Maior transparência dos atos do Gov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Prestação de contas à popul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Facilitar o acesso às informações públ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  <a:ea typeface="Arial"/>
              </a:rPr>
              <a:t>Divulgação dos resultados de forma mais clara e simplific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0" descr="C:\Documents and Settings\apoleza\Configurações locais\Temporary Internet Files\Content.IE5\T4KPIBYH\MC900297143[1].wmf"/>
          <p:cNvPicPr/>
          <p:nvPr/>
        </p:nvPicPr>
        <p:blipFill>
          <a:blip r:embed="rId2"/>
          <a:stretch/>
        </p:blipFill>
        <p:spPr>
          <a:xfrm rot="391800">
            <a:off x="528480" y="5587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79640" y="4079880"/>
          <a:ext cx="2986200" cy="1414440"/>
        </p:xfrm>
        <a:graphic>
          <a:graphicData uri="http://schemas.openxmlformats.org/drawingml/2006/table">
            <a:tbl>
              <a:tblPr/>
              <a:tblGrid>
                <a:gridCol w="2986200"/>
              </a:tblGrid>
              <a:tr h="1414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7c7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481880" y="1325520"/>
          <a:ext cx="2808360" cy="14256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425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c9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889280" y="1235160"/>
          <a:ext cx="3076560" cy="1539720"/>
        </p:xfrm>
        <a:graphic>
          <a:graphicData uri="http://schemas.openxmlformats.org/drawingml/2006/table">
            <a:tbl>
              <a:tblPr/>
              <a:tblGrid>
                <a:gridCol w="3076560"/>
              </a:tblGrid>
              <a:tr h="1539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481880" y="4079880"/>
          <a:ext cx="2735280" cy="144000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58" name="Setas cruzadas 2"/>
          <p:cNvSpPr/>
          <p:nvPr/>
        </p:nvSpPr>
        <p:spPr>
          <a:xfrm>
            <a:off x="4251240" y="2174760"/>
            <a:ext cx="3989520" cy="2508480"/>
          </a:xfrm>
          <a:prstGeom prst="pie">
            <a:avLst/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6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840" y="131400"/>
            <a:ext cx="68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  <a:ea typeface="Arial"/>
              </a:rPr>
              <a:t>1º Quadrimestr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9280440" y="21826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R$ 93.542.9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9188280" y="3711600"/>
            <a:ext cx="2343240" cy="1191240"/>
          </a:xfrm>
          <a:prstGeom prst="rect">
            <a:avLst/>
          </a:prstGeom>
          <a:solidFill>
            <a:srgbClr val="1f4e7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6,89% acima do valor esperado para o quadrimes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44600" y="2079720"/>
          <a:ext cx="7246800" cy="2876400"/>
        </p:xfrm>
        <a:graphic>
          <a:graphicData uri="http://schemas.openxmlformats.org/drawingml/2006/table">
            <a:tbl>
              <a:tblPr/>
              <a:tblGrid>
                <a:gridCol w="2043000"/>
                <a:gridCol w="1984680"/>
                <a:gridCol w="1581120"/>
                <a:gridCol w="1638000"/>
              </a:tblGrid>
              <a:tr h="57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.120.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932.6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187.7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 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76.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36.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0.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13.8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636.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077.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.110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5.9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.005.0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4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2"/>
          <a:stretch/>
        </p:blipFill>
        <p:spPr>
          <a:xfrm>
            <a:off x="8778960" y="312840"/>
            <a:ext cx="203184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08000"/>
            <a:ext cx="10515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36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44720" y="1671480"/>
          <a:ext cx="7034400" cy="3787920"/>
        </p:xfrm>
        <a:graphic>
          <a:graphicData uri="http://schemas.openxmlformats.org/drawingml/2006/table">
            <a:tbl>
              <a:tblPr/>
              <a:tblGrid>
                <a:gridCol w="2546280"/>
                <a:gridCol w="2498760"/>
                <a:gridCol w="1989360"/>
              </a:tblGrid>
              <a:tr h="76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.2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70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8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1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.1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 Quad 20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573480" y="6480"/>
            <a:ext cx="114253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Gráfico 6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sp>
        <p:nvSpPr>
          <p:cNvPr id="73" name="Explosão 1 2"/>
          <p:cNvSpPr/>
          <p:nvPr/>
        </p:nvSpPr>
        <p:spPr>
          <a:xfrm>
            <a:off x="8674200" y="635040"/>
            <a:ext cx="2908080" cy="2692440"/>
          </a:xfrm>
          <a:prstGeom prst="irregularSeal1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c55a11"/>
                </a:solidFill>
                <a:latin typeface="Calibri"/>
              </a:rPr>
              <a:t>Valor realizado foi acima da linha de tendência em 201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Gráfico 8" descr=""/>
          <p:cNvPicPr/>
          <p:nvPr/>
        </p:nvPicPr>
        <p:blipFill>
          <a:blip r:embed="rId3"/>
          <a:stretch/>
        </p:blipFill>
        <p:spPr>
          <a:xfrm>
            <a:off x="1176480" y="1616040"/>
            <a:ext cx="86868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6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6480" y="-360"/>
            <a:ext cx="632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1º Quadrimestre de 2020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84240" y="1143000"/>
          <a:ext cx="8048880" cy="5057640"/>
        </p:xfrm>
        <a:graphic>
          <a:graphicData uri="http://schemas.openxmlformats.org/drawingml/2006/table">
            <a:tbl>
              <a:tblPr/>
              <a:tblGrid>
                <a:gridCol w="5583240"/>
                <a:gridCol w="1454400"/>
                <a:gridCol w="1011240"/>
              </a:tblGrid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Tx e Contr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428.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215.7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16.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74.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a Uni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128.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o E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90.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88.5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ênios União/E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de Inst. Privadas e Pesso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Transf. Instituições Privadas, Pessoas e Multi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12.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9.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7.7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79.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ecipação Dep. Judicial LC 151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60.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multas diversas,  indenizações, restituições e apor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26.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30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.105.9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Adeline Poleza</cp:lastModifiedBy>
  <cp:lastPrinted>2017-05-25T12:03:44Z</cp:lastPrinted>
  <dcterms:modified xsi:type="dcterms:W3CDTF">2020-05-29T21:53:28Z</dcterms:modified>
  <cp:revision>232</cp:revision>
  <dc:subject/>
  <dc:title>Apresentação do PowerPoint</dc:title>
</cp:coreProperties>
</file>