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835-526C-4566-B6B5-A6DC3C09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218-44EB-4277-BF6A-52C2AC7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532-89EA-414E-B211-AA89D4BB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F81-D5AF-47D4-AB1F-0F73E8CA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CED-2104-4D17-A6FF-78618A2F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8FA-A778-4EBE-ABC2-D1B1892A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88B-989B-47D3-A54D-1E6C174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3F9-A8D6-40D7-8B81-E80DCC33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448-E253-49DD-8B30-718DB660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F55-DCA9-4F64-BA22-6C9F9EC2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278-25A8-4C16-8E44-B957A3D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2F8-D854-44C9-9F89-6B2A1F5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768E-276E-49B5-80C3-BC5339E916F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alneariocamboriu.sc.gov.br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3"/>
          <p:cNvSpPr/>
          <p:nvPr/>
        </p:nvSpPr>
        <p:spPr>
          <a:xfrm>
            <a:off x="3336840" y="5541840"/>
            <a:ext cx="6159600" cy="36828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Os impostos e taxas representam 37% do valor total arrecad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26920" y="80640"/>
            <a:ext cx="9212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Impostos e Taxas – até Agosto/2020</a:t>
            </a: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00440" y="4619520"/>
          <a:ext cx="7289640" cy="709560"/>
        </p:xfrm>
        <a:graphic>
          <a:graphicData uri="http://schemas.openxmlformats.org/drawingml/2006/table">
            <a:tbl>
              <a:tblPr/>
              <a:tblGrid>
                <a:gridCol w="1741320"/>
                <a:gridCol w="1459080"/>
                <a:gridCol w="1320840"/>
                <a:gridCol w="1751040"/>
                <a:gridCol w="1017360"/>
              </a:tblGrid>
              <a:tr h="37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.713.1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19.1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042.1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199.8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893.4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79" name="Gráfico 8" descr=""/>
          <p:cNvPicPr/>
          <p:nvPr/>
        </p:nvPicPr>
        <p:blipFill>
          <a:blip r:embed="rId1"/>
          <a:stretch/>
        </p:blipFill>
        <p:spPr>
          <a:xfrm>
            <a:off x="1725480" y="774720"/>
            <a:ext cx="94363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6" descr=""/>
          <p:cNvPicPr/>
          <p:nvPr/>
        </p:nvPicPr>
        <p:blipFill>
          <a:blip r:embed="rId1"/>
          <a:stretch/>
        </p:blipFill>
        <p:spPr>
          <a:xfrm>
            <a:off x="0" y="169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6320" y="169560"/>
            <a:ext cx="79866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0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2º Quadrimestre 2020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CaixaDeTexto 5"/>
          <p:cNvSpPr/>
          <p:nvPr/>
        </p:nvSpPr>
        <p:spPr>
          <a:xfrm>
            <a:off x="2749680" y="4873680"/>
            <a:ext cx="61322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spesa liquidada: R$ 76.849.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aixaDeTexto 8"/>
          <p:cNvSpPr/>
          <p:nvPr/>
        </p:nvSpPr>
        <p:spPr>
          <a:xfrm>
            <a:off x="3350160" y="5443560"/>
            <a:ext cx="5229720" cy="36828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xecutado 1% acima do valor estimado para o perío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68400" y="1677960"/>
          <a:ext cx="8386920" cy="2914560"/>
        </p:xfrm>
        <a:graphic>
          <a:graphicData uri="http://schemas.openxmlformats.org/drawingml/2006/table">
            <a:tbl>
              <a:tblPr/>
              <a:tblGrid>
                <a:gridCol w="2200320"/>
                <a:gridCol w="2157480"/>
                <a:gridCol w="2041560"/>
                <a:gridCol w="1987560"/>
              </a:tblGrid>
              <a:tr h="728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.778.75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4.570.1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208.65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826.6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223.67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397.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6.605.4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793.77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88.3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6" descr=""/>
          <p:cNvPicPr/>
          <p:nvPr/>
        </p:nvPicPr>
        <p:blipFill>
          <a:blip r:embed="rId1"/>
          <a:stretch/>
        </p:blipFill>
        <p:spPr>
          <a:xfrm>
            <a:off x="0" y="7920"/>
            <a:ext cx="12169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555920" y="1628640"/>
          <a:ext cx="7549920" cy="4092840"/>
        </p:xfrm>
        <a:graphic>
          <a:graphicData uri="http://schemas.openxmlformats.org/drawingml/2006/table">
            <a:tbl>
              <a:tblPr/>
              <a:tblGrid>
                <a:gridCol w="4541760"/>
                <a:gridCol w="1787400"/>
                <a:gridCol w="1220760"/>
              </a:tblGrid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4.570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.643.4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87.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438.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223.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276.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.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793.7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87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36680" y="169920"/>
            <a:ext cx="79866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da Despesa</a:t>
            </a:r>
            <a:br>
              <a:rPr sz="4400"/>
            </a:br>
            <a:r>
              <a:rPr b="0" lang="pt-BR" sz="2000" spc="-1" strike="noStrike">
                <a:solidFill>
                  <a:srgbClr val="002060"/>
                </a:solidFill>
                <a:latin typeface="Calibri Light"/>
                <a:ea typeface="Arial"/>
              </a:rPr>
              <a:t>2º Quadrimestre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6" descr=""/>
          <p:cNvPicPr/>
          <p:nvPr/>
        </p:nvPicPr>
        <p:blipFill>
          <a:blip r:embed="rId1"/>
          <a:stretch/>
        </p:blipFill>
        <p:spPr>
          <a:xfrm>
            <a:off x="17604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360" y="402840"/>
            <a:ext cx="917244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0" lang="pt-BR" sz="1800" spc="-1" strike="noStrike">
                <a:solidFill>
                  <a:srgbClr val="002060"/>
                </a:solidFill>
                <a:latin typeface="Calibri Light"/>
              </a:rPr>
              <a:t>2º Quadrimestre – por exercício – despesa realizada por Modalidade de Aplicação</a:t>
            </a: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47720" y="1314360"/>
          <a:ext cx="10136160" cy="4365720"/>
        </p:xfrm>
        <a:graphic>
          <a:graphicData uri="http://schemas.openxmlformats.org/drawingml/2006/table">
            <a:tbl>
              <a:tblPr/>
              <a:tblGrid>
                <a:gridCol w="3065400"/>
                <a:gridCol w="1422360"/>
                <a:gridCol w="1382760"/>
                <a:gridCol w="1387440"/>
                <a:gridCol w="1427400"/>
                <a:gridCol w="1450800"/>
              </a:tblGrid>
              <a:tr h="695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ALIDADE APLICAÇÃ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.867.538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886.0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735.1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.031.7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.643.4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44.916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5.38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.1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.5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87.6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96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.129.827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371.1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.987.3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361.1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438.9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004.635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54.5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43.8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47.3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276.6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5.795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.1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.75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2.2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.9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3.682.711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.121.3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1.299.2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1.390.09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793.7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858960" y="274680"/>
            <a:ext cx="1016316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Gráfico 5" descr=""/>
          <p:cNvPicPr/>
          <p:nvPr/>
        </p:nvPicPr>
        <p:blipFill>
          <a:blip r:embed="rId2"/>
          <a:stretch/>
        </p:blipFill>
        <p:spPr>
          <a:xfrm>
            <a:off x="1935000" y="1716120"/>
            <a:ext cx="8321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8640" y="301320"/>
            <a:ext cx="7093080" cy="64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Despesa por Função do Governo</a:t>
            </a:r>
            <a:br>
              <a:rPr sz="32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752560" y="1112760"/>
          <a:ext cx="5954760" cy="4984920"/>
        </p:xfrm>
        <a:graphic>
          <a:graphicData uri="http://schemas.openxmlformats.org/drawingml/2006/table">
            <a:tbl>
              <a:tblPr/>
              <a:tblGrid>
                <a:gridCol w="3076920"/>
                <a:gridCol w="1796760"/>
                <a:gridCol w="1081080"/>
              </a:tblGrid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egisl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.236.3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diciá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.660.4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4.539.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gurança Públ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1.106.9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sistência So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7.816.3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evidê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.830.6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ú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5.260.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5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balh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.730.9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3.357.4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4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828.1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96.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rban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8.272.4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Habit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6.3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ne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4.304.9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ão Ambi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157.4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047.1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esporto e Laz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139.7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cargos Especi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.481.8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 G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14.793.7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6" descr=""/>
          <p:cNvPicPr/>
          <p:nvPr/>
        </p:nvPicPr>
        <p:blipFill>
          <a:blip r:embed="rId1"/>
          <a:stretch/>
        </p:blipFill>
        <p:spPr>
          <a:xfrm>
            <a:off x="98280" y="0"/>
            <a:ext cx="12169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614600" y="2054160"/>
          <a:ext cx="7365960" cy="2570400"/>
        </p:xfrm>
        <a:graphic>
          <a:graphicData uri="http://schemas.openxmlformats.org/drawingml/2006/table">
            <a:tbl>
              <a:tblPr/>
              <a:tblGrid>
                <a:gridCol w="2666880"/>
                <a:gridCol w="2616120"/>
                <a:gridCol w="2082960"/>
              </a:tblGrid>
              <a:tr h="57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8.650.370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.965.4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6.605.419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793.776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4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.044.950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171.6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6" descr=""/>
          <p:cNvPicPr/>
          <p:nvPr/>
        </p:nvPicPr>
        <p:blipFill>
          <a:blip r:embed="rId2"/>
          <a:stretch/>
        </p:blipFill>
        <p:spPr>
          <a:xfrm>
            <a:off x="9710640" y="317520"/>
            <a:ext cx="2206800" cy="1405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762120" y="449280"/>
            <a:ext cx="91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  <a:ea typeface="Arial"/>
              </a:rPr>
              <a:t>RESULTADO DA EXECUÇÃO ORÇAMENTÁRIA</a:t>
            </a:r>
            <a:br>
              <a:rPr sz="2000"/>
            </a:br>
            <a:r>
              <a:rPr b="0" lang="pt-BR" sz="2500" spc="-1" strike="noStrike">
                <a:solidFill>
                  <a:srgbClr val="002060"/>
                </a:solidFill>
                <a:latin typeface="Calibri Light"/>
                <a:ea typeface="Arial"/>
              </a:rPr>
              <a:t>Receitas </a:t>
            </a:r>
            <a:r>
              <a:rPr b="0" i="1" lang="pt-BR" sz="2500" spc="-1" strike="noStrike">
                <a:solidFill>
                  <a:srgbClr val="002060"/>
                </a:solidFill>
                <a:latin typeface="Calibri Light"/>
                <a:ea typeface="Arial"/>
              </a:rPr>
              <a:t>versus</a:t>
            </a:r>
            <a:r>
              <a:rPr b="0" lang="pt-BR" sz="2500" spc="-1" strike="noStrike">
                <a:solidFill>
                  <a:srgbClr val="002060"/>
                </a:solidFill>
                <a:latin typeface="Calibri Light"/>
                <a:ea typeface="Arial"/>
              </a:rPr>
              <a:t> Despesas</a:t>
            </a:r>
            <a:br>
              <a:rPr sz="25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2º Quadrimestre 20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735200" y="1792440"/>
            <a:ext cx="7532640" cy="36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PREVISÃO PARA O EXERCÍCIO 2020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t-BR" sz="3400" spc="-1" strike="noStrike">
                <a:solidFill>
                  <a:srgbClr val="0070c0"/>
                </a:solidFill>
                <a:latin typeface="Tahoma"/>
                <a:ea typeface="Arial"/>
              </a:rPr>
              <a:t>R$ </a:t>
            </a:r>
            <a:r>
              <a:rPr b="1" lang="pt-BR" sz="3600" spc="-1" strike="noStrike">
                <a:solidFill>
                  <a:srgbClr val="0070c0"/>
                </a:solidFill>
                <a:latin typeface="Calibri"/>
                <a:ea typeface="Arial"/>
              </a:rPr>
              <a:t>860.645.788,3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REALIZADA ATÉ AGOSTO DE 2020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pt-BR" sz="3400" spc="-1" strike="noStrike">
                <a:solidFill>
                  <a:srgbClr val="ff9900"/>
                </a:solidFill>
                <a:latin typeface="Tahoma"/>
                <a:ea typeface="Arial"/>
              </a:rPr>
              <a:t>R$ 906.722.924,79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36840" y="60336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ipse 4"/>
          <p:cNvSpPr/>
          <p:nvPr/>
        </p:nvSpPr>
        <p:spPr>
          <a:xfrm>
            <a:off x="8437680" y="4451400"/>
            <a:ext cx="2160360" cy="12031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Meta da RCL deve ser avaliada no encerramento do exercíci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m 6" descr=""/>
          <p:cNvPicPr/>
          <p:nvPr/>
        </p:nvPicPr>
        <p:blipFill>
          <a:blip r:embed="rId1"/>
          <a:stretch/>
        </p:blipFill>
        <p:spPr>
          <a:xfrm>
            <a:off x="76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2º Quadrimestre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679400" y="1860480"/>
          <a:ext cx="7556760" cy="2919600"/>
        </p:xfrm>
        <a:graphic>
          <a:graphicData uri="http://schemas.openxmlformats.org/drawingml/2006/table">
            <a:tbl>
              <a:tblPr/>
              <a:tblGrid>
                <a:gridCol w="1670400"/>
                <a:gridCol w="2023920"/>
                <a:gridCol w="1942920"/>
                <a:gridCol w="1919520"/>
              </a:tblGrid>
              <a:tr h="5382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56340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16.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182.3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.482.9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021.2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030.0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34.74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794.78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152.2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48.2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109" name="Elipse 4"/>
          <p:cNvSpPr/>
          <p:nvPr/>
        </p:nvSpPr>
        <p:spPr>
          <a:xfrm>
            <a:off x="9588600" y="2540160"/>
            <a:ext cx="2146320" cy="1777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ens e Diretos do RPPS totaliz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557 milhõ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312920" y="654120"/>
            <a:ext cx="854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im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440" y="1800360"/>
          <a:ext cx="7054560" cy="877680"/>
        </p:xfrm>
        <a:graphic>
          <a:graphicData uri="http://schemas.openxmlformats.org/drawingml/2006/table">
            <a:tbl>
              <a:tblPr/>
              <a:tblGrid>
                <a:gridCol w="3946320"/>
                <a:gridCol w="3108240"/>
              </a:tblGrid>
              <a:tr h="42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Primá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8.182.1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2º Quad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2.196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792440" y="4427640"/>
          <a:ext cx="7054560" cy="879480"/>
        </p:xfrm>
        <a:graphic>
          <a:graphicData uri="http://schemas.openxmlformats.org/drawingml/2006/table">
            <a:tbl>
              <a:tblPr/>
              <a:tblGrid>
                <a:gridCol w="3946320"/>
                <a:gridCol w="3108240"/>
              </a:tblGrid>
              <a:tr h="42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91.1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2º Quadri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6.9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3"/>
          <p:cNvSpPr/>
          <p:nvPr/>
        </p:nvSpPr>
        <p:spPr>
          <a:xfrm>
            <a:off x="1392120" y="3429000"/>
            <a:ext cx="85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1279080"/>
            <a:ext cx="9553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25/09/202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2º Quadrimestre de 2020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900000" y="3477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74680" y="1719360"/>
          <a:ext cx="8844120" cy="3166920"/>
        </p:xfrm>
        <a:graphic>
          <a:graphicData uri="http://schemas.openxmlformats.org/drawingml/2006/table">
            <a:tbl>
              <a:tblPr/>
              <a:tblGrid>
                <a:gridCol w="3875040"/>
                <a:gridCol w="1582920"/>
                <a:gridCol w="1914480"/>
                <a:gridCol w="1471680"/>
              </a:tblGrid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ção do R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12/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203.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353.8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557.2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9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6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13.1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4.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19.8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428.1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647.9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08/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9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112.5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64.5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539720" y="366840"/>
            <a:ext cx="76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9360" y="1581120"/>
          <a:ext cx="8337600" cy="3873600"/>
        </p:xfrm>
        <a:graphic>
          <a:graphicData uri="http://schemas.openxmlformats.org/drawingml/2006/table">
            <a:tbl>
              <a:tblPr/>
              <a:tblGrid>
                <a:gridCol w="5894280"/>
                <a:gridCol w="2443320"/>
              </a:tblGrid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215.1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PLICAÇÃO MÍNIMA – 25% (no ano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03.7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VALOR APLIC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532.1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9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PERCENTUAL DE APLICAÇÃO JÁ ALCANÇADO NO 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2º QUADRIMESTR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81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TOTAIS EM EDUCA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357.4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25" descr=""/>
          <p:cNvPicPr/>
          <p:nvPr/>
        </p:nvPicPr>
        <p:blipFill>
          <a:blip r:embed="rId2"/>
          <a:stretch/>
        </p:blipFill>
        <p:spPr>
          <a:xfrm>
            <a:off x="10174320" y="236520"/>
            <a:ext cx="1765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58880" y="1903320"/>
          <a:ext cx="8237520" cy="3498840"/>
        </p:xfrm>
        <a:graphic>
          <a:graphicData uri="http://schemas.openxmlformats.org/drawingml/2006/table">
            <a:tbl>
              <a:tblPr/>
              <a:tblGrid>
                <a:gridCol w="5861160"/>
                <a:gridCol w="2376360"/>
              </a:tblGrid>
              <a:tr h="65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ANTERIOR – DEZ 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32.1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RRECADAÇÃO + RENDIMENTO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724.26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DESPESAS PAG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29.5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9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FINANCEIRO 31/08/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6.77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% APLIC EM PESSOAL MAGISTÉRIO (Mínimo de 6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1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pic>
        <p:nvPicPr>
          <p:cNvPr id="125" name="Picture 25" descr=""/>
          <p:cNvPicPr/>
          <p:nvPr/>
        </p:nvPicPr>
        <p:blipFill>
          <a:blip r:embed="rId2"/>
          <a:stretch/>
        </p:blipFill>
        <p:spPr>
          <a:xfrm>
            <a:off x="8545680" y="210960"/>
            <a:ext cx="2271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860480" y="2144880"/>
          <a:ext cx="7674120" cy="337500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43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.308.53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PLICAÇÃO MÍNIMA – 15% (no ano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496.2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VALOR APLICA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819.6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9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PERCENTUAL DE APLICAÇÃO JÁ ALCANÇADO NO 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2º QUADRIMESTRE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7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610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TOTAIS COM SAÚD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261.1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6" descr=""/>
          <p:cNvPicPr/>
          <p:nvPr/>
        </p:nvPicPr>
        <p:blipFill>
          <a:blip r:embed="rId2"/>
          <a:stretch/>
        </p:blipFill>
        <p:spPr>
          <a:xfrm>
            <a:off x="8663040" y="228600"/>
            <a:ext cx="26956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193760" y="48564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Gastos com Pessoal Executivo – LR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8120" y="2216160"/>
          <a:ext cx="8677440" cy="3284640"/>
        </p:xfrm>
        <a:graphic>
          <a:graphicData uri="http://schemas.openxmlformats.org/drawingml/2006/table">
            <a:tbl>
              <a:tblPr/>
              <a:tblGrid>
                <a:gridCol w="6284880"/>
                <a:gridCol w="2392560"/>
              </a:tblGrid>
              <a:tr h="819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7.201.95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7812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7,54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2.277.19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7668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.874.60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720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DE ALERTA   –   48,6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1.460.15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2" descr=""/>
          <p:cNvPicPr/>
          <p:nvPr/>
        </p:nvPicPr>
        <p:blipFill>
          <a:blip r:embed="rId2"/>
          <a:stretch/>
        </p:blipFill>
        <p:spPr>
          <a:xfrm>
            <a:off x="9953640" y="225360"/>
            <a:ext cx="19764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060560" y="51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ívid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71760" y="1657440"/>
          <a:ext cx="6486480" cy="2504880"/>
        </p:xfrm>
        <a:graphic>
          <a:graphicData uri="http://schemas.openxmlformats.org/drawingml/2006/table">
            <a:tbl>
              <a:tblPr/>
              <a:tblGrid>
                <a:gridCol w="3327120"/>
                <a:gridCol w="3159360"/>
              </a:tblGrid>
              <a:tr h="6429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da dívida em 31/08/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ívida Contrat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221.95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Lei nº 3936 (Imob. Ypuã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292.920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OT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.514.8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3"/>
          <p:cNvSpPr/>
          <p:nvPr/>
        </p:nvSpPr>
        <p:spPr>
          <a:xfrm>
            <a:off x="1311120" y="692280"/>
            <a:ext cx="698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39880" y="4260960"/>
          <a:ext cx="8669520" cy="1649160"/>
        </p:xfrm>
        <a:graphic>
          <a:graphicData uri="http://schemas.openxmlformats.org/drawingml/2006/table">
            <a:tbl>
              <a:tblPr/>
              <a:tblGrid>
                <a:gridCol w="6380280"/>
                <a:gridCol w="2289240"/>
              </a:tblGrid>
              <a:tr h="8334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(0,81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7.334.4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45.059.65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40" name="Retângulo de cantos arredondados 3"/>
          <p:cNvSpPr/>
          <p:nvPr/>
        </p:nvSpPr>
        <p:spPr>
          <a:xfrm>
            <a:off x="2144880" y="1658880"/>
            <a:ext cx="7880040" cy="2087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té o 2º Quadrimestre de 2020 foram liberados recursos de Operações de Crédito o valor de R$ 7.334.435, conforme contratos já assinad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O valor representa 0,81%  do limite de 16% sobre a R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208160" y="1571760"/>
            <a:ext cx="85690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3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Jornal Diarinho do Litoral (27/09/2020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825560" y="444600"/>
            <a:ext cx="82692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Metas Fiscais: 2º Quadrimestre de 2020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d7d31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m 3" descr=""/>
          <p:cNvPicPr/>
          <p:nvPr/>
        </p:nvPicPr>
        <p:blipFill>
          <a:blip r:embed="rId2"/>
          <a:stretch/>
        </p:blipFill>
        <p:spPr>
          <a:xfrm>
            <a:off x="8475840" y="4675320"/>
            <a:ext cx="2317680" cy="885600"/>
          </a:xfrm>
          <a:prstGeom prst="rect">
            <a:avLst/>
          </a:prstGeom>
          <a:ln w="0">
            <a:noFill/>
          </a:ln>
        </p:spPr>
      </p:pic>
      <p:sp>
        <p:nvSpPr>
          <p:cNvPr id="147" name="CaixaDeTexto 1"/>
          <p:cNvSpPr/>
          <p:nvPr/>
        </p:nvSpPr>
        <p:spPr>
          <a:xfrm>
            <a:off x="1135080" y="4946760"/>
            <a:ext cx="2114640" cy="47484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presentaçã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m 4" descr=""/>
          <p:cNvPicPr/>
          <p:nvPr/>
        </p:nvPicPr>
        <p:blipFill>
          <a:blip r:embed="rId1"/>
          <a:stretch/>
        </p:blipFill>
        <p:spPr>
          <a:xfrm>
            <a:off x="0" y="9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579320" y="496692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47 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www.bc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13140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Fundamento Legal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938320" y="915840"/>
            <a:ext cx="651348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LC 101/2000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, art. 9º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 4° - Até o final dos meses de maio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Calibri Light"/>
              </a:rPr>
              <a:t>setembro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 e fevereiro, o    Poder Executivo demonstrará e avaliará o cumprimento das metas fiscais de cada quadrimestre, em audiência pública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384280" y="5072040"/>
            <a:ext cx="8244000" cy="146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ermitir que a sociedade conheça, acompanhe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84280" y="1195560"/>
            <a:ext cx="10303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restação de contas à popul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Maior transparência dos ato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Facilitar o acesso às informações públ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Divulgação dos resultados de forma mais clara e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 Light"/>
              </a:rPr>
              <a:t>Abordagen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79640" y="4079880"/>
          <a:ext cx="2986200" cy="1414440"/>
        </p:xfrm>
        <a:graphic>
          <a:graphicData uri="http://schemas.openxmlformats.org/drawingml/2006/table">
            <a:tbl>
              <a:tblPr/>
              <a:tblGrid>
                <a:gridCol w="2986200"/>
              </a:tblGrid>
              <a:tr h="1414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ÇAMENT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481880" y="1325520"/>
          <a:ext cx="2808360" cy="14256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425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89280" y="1235160"/>
          <a:ext cx="3076560" cy="1539720"/>
        </p:xfrm>
        <a:graphic>
          <a:graphicData uri="http://schemas.openxmlformats.org/drawingml/2006/table">
            <a:tbl>
              <a:tblPr/>
              <a:tblGrid>
                <a:gridCol w="3076560"/>
              </a:tblGrid>
              <a:tr h="1539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481880" y="4079880"/>
          <a:ext cx="2735280" cy="144000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440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508480"/>
          </a:xfrm>
          <a:prstGeom prst="pie">
            <a:avLst/>
          </a:pr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22320" y="-144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2º Quadrimestr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9280440" y="203040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         R$ 92.870.67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9137520" y="3365640"/>
            <a:ext cx="2343240" cy="916920"/>
          </a:xfrm>
          <a:prstGeom prst="rect">
            <a:avLst/>
          </a:prstGeom>
          <a:solidFill>
            <a:srgbClr val="c55a11"/>
          </a:solidFill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do 1% acima do valor esperado para o quad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3" descr=""/>
          <p:cNvPicPr/>
          <p:nvPr/>
        </p:nvPicPr>
        <p:blipFill>
          <a:blip r:embed="rId2"/>
          <a:stretch/>
        </p:blipFill>
        <p:spPr>
          <a:xfrm>
            <a:off x="8701200" y="474840"/>
            <a:ext cx="204624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258920" y="1646280"/>
          <a:ext cx="7246800" cy="3124080"/>
        </p:xfrm>
        <a:graphic>
          <a:graphicData uri="http://schemas.openxmlformats.org/drawingml/2006/table">
            <a:tbl>
              <a:tblPr/>
              <a:tblGrid>
                <a:gridCol w="2550960"/>
                <a:gridCol w="1704960"/>
                <a:gridCol w="1476360"/>
                <a:gridCol w="1514520"/>
              </a:tblGrid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27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.035.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.581.5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545.7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7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de Operação Intraorçamentá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410.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928.6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481.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665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204.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455.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.749.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8.650.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.965.4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15.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10800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Receita LOA – Arrecadado </a:t>
            </a:r>
            <a:r>
              <a:rPr b="0" i="1" lang="pt-BR" sz="4000" spc="-1" strike="noStrike">
                <a:solidFill>
                  <a:srgbClr val="002060"/>
                </a:solidFill>
                <a:latin typeface="Calibri Light"/>
              </a:rPr>
              <a:t>x</a:t>
            </a: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A arrecadar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Gráfico 6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pic>
        <p:nvPicPr>
          <p:cNvPr id="69" name="Gráfico 7" descr=""/>
          <p:cNvPicPr/>
          <p:nvPr/>
        </p:nvPicPr>
        <p:blipFill>
          <a:blip r:embed="rId3"/>
          <a:stretch/>
        </p:blipFill>
        <p:spPr>
          <a:xfrm>
            <a:off x="2567160" y="1566720"/>
            <a:ext cx="717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08000"/>
            <a:ext cx="10515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2000" y="1495440"/>
          <a:ext cx="6480000" cy="3529080"/>
        </p:xfrm>
        <a:graphic>
          <a:graphicData uri="http://schemas.openxmlformats.org/drawingml/2006/table">
            <a:tbl>
              <a:tblPr/>
              <a:tblGrid>
                <a:gridCol w="2346120"/>
                <a:gridCol w="2301840"/>
                <a:gridCol w="1832040"/>
              </a:tblGrid>
              <a:tr h="50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da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032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.473.3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0472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9.165.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32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.281.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032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5.994.0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32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.282.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032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.965.4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5840" y="-360"/>
            <a:ext cx="632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86040" y="1035000"/>
          <a:ext cx="8124840" cy="5202360"/>
        </p:xfrm>
        <a:graphic>
          <a:graphicData uri="http://schemas.openxmlformats.org/drawingml/2006/table">
            <a:tbl>
              <a:tblPr/>
              <a:tblGrid>
                <a:gridCol w="5829120"/>
                <a:gridCol w="1471680"/>
                <a:gridCol w="824040"/>
              </a:tblGrid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, Taxas e Contribuição de Melhor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882.3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137.5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290.36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93.9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32.2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Es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104.5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712.7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e Instituições Privadas e Demais Transferênci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5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ênios União/Es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9.1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4.4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5.28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ósitos Judici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35.2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1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16.9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09.1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ambiental, reg. Obra, Aporte e outro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474.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746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.965.4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Adeline Poleza</cp:lastModifiedBy>
  <cp:lastPrinted>2017-05-25T12:03:44Z</cp:lastPrinted>
  <dcterms:modified xsi:type="dcterms:W3CDTF">2020-09-25T18:45:54Z</dcterms:modified>
  <cp:revision>295</cp:revision>
  <dc:subject/>
  <dc:title>Apresentação do PowerPoint</dc:title>
</cp:coreProperties>
</file>