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4F0-2F0F-4ED4-8905-5FE89D3D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FEA-1450-4DC9-8627-825214CF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4D4-9824-4ACE-8009-022C022F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BC4-5239-4C98-8AE7-412269CF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505-2F66-4D2B-9F7F-7C5DD98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483-46D6-47D2-8176-1F36BF5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B7A-40BF-42C1-BAA0-2F56C84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F37-0D25-43DB-81CC-26C8B8C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2E9-07AC-4223-8118-9A1D4E4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71D-961E-4CF3-8AC7-4F7E51F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66E-B65A-434E-BFFD-54ECB92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0B1-0AC4-4681-9AB5-74126BE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049-552F-4198-86E0-B8165C52CE7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c.sc.gov.br/" TargetMode="External"/><Relationship Id="rId3" Type="http://schemas.openxmlformats.org/officeDocument/2006/relationships/hyperlink" Target="http://transparencia.balneariocamboriu.sc.gov.br/?p=4&amp;inicio=01/01/2021&amp;fim=31/12/2021&amp;param=BcvwNdIiVX%2BuekIajDk3LRmuoHL5tUrJ%2B239cw0Wplk%3D" TargetMode="External"/><Relationship Id="rId4" Type="http://schemas.openxmlformats.org/officeDocument/2006/relationships/hyperlink" Target="https://edicao.dom.sc.gov.br/2021/05/1622045336_edicao_3512_assinada.pdf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6" descr=""/>
          <p:cNvPicPr/>
          <p:nvPr/>
        </p:nvPicPr>
        <p:blipFill>
          <a:blip r:embed="rId1"/>
          <a:stretch/>
        </p:blipFill>
        <p:spPr>
          <a:xfrm>
            <a:off x="6660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34648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áfico 4" descr=""/>
          <p:cNvPicPr/>
          <p:nvPr/>
        </p:nvPicPr>
        <p:blipFill>
          <a:blip r:embed="rId2"/>
          <a:stretch/>
        </p:blipFill>
        <p:spPr>
          <a:xfrm>
            <a:off x="2160720" y="1338120"/>
            <a:ext cx="7762680" cy="3711600"/>
          </a:xfrm>
          <a:prstGeom prst="rect">
            <a:avLst/>
          </a:prstGeom>
          <a:ln w="0">
            <a:noFill/>
          </a:ln>
        </p:spPr>
      </p:pic>
      <p:sp>
        <p:nvSpPr>
          <p:cNvPr id="82" name="CaixaDeTexto 1"/>
          <p:cNvSpPr/>
          <p:nvPr/>
        </p:nvSpPr>
        <p:spPr>
          <a:xfrm>
            <a:off x="4946040" y="16444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7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ixaDeTexto 6"/>
          <p:cNvSpPr/>
          <p:nvPr/>
        </p:nvSpPr>
        <p:spPr>
          <a:xfrm>
            <a:off x="6271200" y="3059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"/>
          <p:cNvPicPr/>
          <p:nvPr/>
        </p:nvPicPr>
        <p:blipFill>
          <a:blip r:embed="rId1"/>
          <a:stretch/>
        </p:blipFill>
        <p:spPr>
          <a:xfrm>
            <a:off x="77760" y="2376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432160" y="4232160"/>
          <a:ext cx="6872040" cy="941400"/>
        </p:xfrm>
        <a:graphic>
          <a:graphicData uri="http://schemas.openxmlformats.org/drawingml/2006/table">
            <a:tbl>
              <a:tblPr/>
              <a:tblGrid>
                <a:gridCol w="1487520"/>
                <a:gridCol w="1347480"/>
                <a:gridCol w="1339920"/>
                <a:gridCol w="1386000"/>
                <a:gridCol w="1311120"/>
              </a:tblGrid>
              <a:tr h="38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468.3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4.5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194.3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8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884.9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6" name="CaixaDeTexto 3"/>
          <p:cNvSpPr/>
          <p:nvPr/>
        </p:nvSpPr>
        <p:spPr>
          <a:xfrm>
            <a:off x="2522520" y="5265720"/>
            <a:ext cx="669132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Os impostos e taxas representam 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50%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do valor total  arrecadado n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27280" y="232920"/>
            <a:ext cx="94996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Impostos e Taxas Arrecadados  –</a:t>
            </a:r>
            <a:br>
              <a:rPr sz="3800"/>
            </a:b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Janeiro a Abril/2021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Gráfico 6" descr=""/>
          <p:cNvPicPr/>
          <p:nvPr/>
        </p:nvPicPr>
        <p:blipFill>
          <a:blip r:embed="rId2"/>
          <a:stretch/>
        </p:blipFill>
        <p:spPr>
          <a:xfrm>
            <a:off x="1627200" y="927000"/>
            <a:ext cx="850428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Gráfico 7" descr=""/>
          <p:cNvPicPr/>
          <p:nvPr/>
        </p:nvPicPr>
        <p:blipFill>
          <a:blip r:embed="rId3"/>
          <a:stretch/>
        </p:blipFill>
        <p:spPr>
          <a:xfrm>
            <a:off x="2200320" y="1305000"/>
            <a:ext cx="7791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6680" y="169560"/>
            <a:ext cx="88264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1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CaixaDeTexto 5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s correntes (liquidada): R$ 74.354.3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8"/>
          <p:cNvSpPr/>
          <p:nvPr/>
        </p:nvSpPr>
        <p:spPr>
          <a:xfrm>
            <a:off x="3288600" y="5443560"/>
            <a:ext cx="5290560" cy="36828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5% abaixo do valor estimado para 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68400" y="1677960"/>
          <a:ext cx="838692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7480"/>
                <a:gridCol w="2041560"/>
                <a:gridCol w="1987560"/>
              </a:tblGrid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.868.4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510.4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57.9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805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06.7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898.2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673.4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417.2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.256.16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33" descr=""/>
          <p:cNvPicPr/>
          <p:nvPr/>
        </p:nvPicPr>
        <p:blipFill>
          <a:blip r:embed="rId2"/>
          <a:stretch/>
        </p:blipFill>
        <p:spPr>
          <a:xfrm>
            <a:off x="9504360" y="4659480"/>
            <a:ext cx="211608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6" descr=""/>
          <p:cNvPicPr/>
          <p:nvPr/>
        </p:nvPicPr>
        <p:blipFill>
          <a:blip r:embed="rId1"/>
          <a:stretch/>
        </p:blipFill>
        <p:spPr>
          <a:xfrm>
            <a:off x="11160" y="111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2280" y="0"/>
            <a:ext cx="7092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93760" y="1460520"/>
          <a:ext cx="7550280" cy="4075200"/>
        </p:xfrm>
        <a:graphic>
          <a:graphicData uri="http://schemas.openxmlformats.org/drawingml/2006/table">
            <a:tbl>
              <a:tblPr/>
              <a:tblGrid>
                <a:gridCol w="4542120"/>
                <a:gridCol w="1787400"/>
                <a:gridCol w="1220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510.4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.474.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7.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808.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06.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71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35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417.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99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2"/>
          <a:stretch/>
        </p:blipFill>
        <p:spPr>
          <a:xfrm>
            <a:off x="9644040" y="214200"/>
            <a:ext cx="2157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06400" y="213840"/>
            <a:ext cx="633564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1º Quadrimestre – por exercício – despesa realiz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MODALIDADE DE APLICAÇÃO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06520" y="1465200"/>
          <a:ext cx="9002880" cy="3927600"/>
        </p:xfrm>
        <a:graphic>
          <a:graphicData uri="http://schemas.openxmlformats.org/drawingml/2006/table">
            <a:tbl>
              <a:tblPr/>
              <a:tblGrid>
                <a:gridCol w="2935440"/>
                <a:gridCol w="1515960"/>
                <a:gridCol w="1517760"/>
                <a:gridCol w="1515960"/>
                <a:gridCol w="1517760"/>
              </a:tblGrid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060.2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898.3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900.0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.474.4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.7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3.7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7.3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92.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711.7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07.0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808.7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993.2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01.3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472.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71.7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5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1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4.6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35.0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063.4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815.9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747.5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417.2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1749600" y="73080"/>
            <a:ext cx="7778520" cy="1450800"/>
          </a:xfrm>
          <a:prstGeom prst="rect">
            <a:avLst/>
          </a:prstGeom>
          <a:ln w="0">
            <a:noFill/>
          </a:ln>
        </p:spPr>
      </p:pic>
      <p:pic>
        <p:nvPicPr>
          <p:cNvPr id="106" name="Gráfico 5" descr=""/>
          <p:cNvPicPr/>
          <p:nvPr/>
        </p:nvPicPr>
        <p:blipFill>
          <a:blip r:embed="rId3"/>
          <a:stretch/>
        </p:blipFill>
        <p:spPr>
          <a:xfrm>
            <a:off x="1743120" y="1652760"/>
            <a:ext cx="8583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58640" y="301320"/>
            <a:ext cx="709308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03480" y="1112760"/>
          <a:ext cx="5335560" cy="4988160"/>
        </p:xfrm>
        <a:graphic>
          <a:graphicData uri="http://schemas.openxmlformats.org/drawingml/2006/table">
            <a:tbl>
              <a:tblPr/>
              <a:tblGrid>
                <a:gridCol w="2351160"/>
                <a:gridCol w="1476360"/>
                <a:gridCol w="1508040"/>
              </a:tblGrid>
              <a:tr h="252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96.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.144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.011.1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.740.4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828.4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.599.5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7.024.4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556.0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2.563.8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5.8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1.9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.697.0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.7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858.7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747.4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726.9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1.0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033.5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7.417.2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440" y="209160"/>
            <a:ext cx="803736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espesa por Área  </a:t>
            </a:r>
            <a:br>
              <a:rPr sz="3200"/>
            </a:b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1º Quadr 2020 e 202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08480" y="957240"/>
          <a:ext cx="7054560" cy="5372280"/>
        </p:xfrm>
        <a:graphic>
          <a:graphicData uri="http://schemas.openxmlformats.org/drawingml/2006/table">
            <a:tbl>
              <a:tblPr/>
              <a:tblGrid>
                <a:gridCol w="2265120"/>
                <a:gridCol w="1643040"/>
                <a:gridCol w="1733760"/>
                <a:gridCol w="1412640"/>
              </a:tblGrid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Quadr 2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Quad 20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.071.3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96.88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174.4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.936.18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.144.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2.792.18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.906.1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.011.1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894.9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.724.2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.740.4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983.8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412.2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828.4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416.1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.836.9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.599.58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237.3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9.213.5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7.024.4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.810.8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752.9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556.0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1.196.8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2.007.0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2.563.8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9.443.2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76.1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5.8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240.3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9.5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1.9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3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.120.5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.697.0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5.423.4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7.4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.7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7.7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115.5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858.7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743.1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577.4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747.4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9.9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375.6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726.9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648.6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76.9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1.08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395.8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067.3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033.5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33.87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5.747.5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7.417.2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669.6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13" name="Fluxograma: Processo alternativo 4"/>
          <p:cNvSpPr/>
          <p:nvPr/>
        </p:nvSpPr>
        <p:spPr>
          <a:xfrm>
            <a:off x="728640" y="957240"/>
            <a:ext cx="2246400" cy="4978440"/>
          </a:xfrm>
          <a:prstGeom prst="flowChartAlternateProcess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Mesmo aplicando em 2021 valor total  semelhante ao mesmo período de 2020, houve considerável aumento de despesas em saúde e assistência social. O fato exigiu menor investimento nas demais áreas de atuação do governo, com isso foi possível manter o equilíbrio fiscal,  sem deixar de atender as demandas atuais existentes em razão da pandemia do COVID-1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1560" y="317520"/>
            <a:ext cx="87408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3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8960" y="2235240"/>
          <a:ext cx="7583400" cy="2998800"/>
        </p:xfrm>
        <a:graphic>
          <a:graphicData uri="http://schemas.openxmlformats.org/drawingml/2006/table">
            <a:tbl>
              <a:tblPr/>
              <a:tblGrid>
                <a:gridCol w="2746440"/>
                <a:gridCol w="2692440"/>
                <a:gridCol w="2144520"/>
              </a:tblGrid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267.8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.1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673.4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417.2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8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594.43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.296.93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26" descr=""/>
          <p:cNvPicPr/>
          <p:nvPr/>
        </p:nvPicPr>
        <p:blipFill>
          <a:blip r:embed="rId2"/>
          <a:stretch/>
        </p:blipFill>
        <p:spPr>
          <a:xfrm>
            <a:off x="9342360" y="325440"/>
            <a:ext cx="2206800" cy="1405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3" descr=""/>
          <p:cNvPicPr/>
          <p:nvPr/>
        </p:nvPicPr>
        <p:blipFill>
          <a:blip r:embed="rId3"/>
          <a:stretch/>
        </p:blipFill>
        <p:spPr>
          <a:xfrm>
            <a:off x="9504360" y="3757680"/>
            <a:ext cx="23814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2087640" y="1787400"/>
            <a:ext cx="7762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</a:rPr>
              <a:t>PREVISÃO PARA O EXERCÍCIO 202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700" spc="-1" strike="noStrike">
                <a:solidFill>
                  <a:srgbClr val="00b0f0"/>
                </a:solidFill>
                <a:latin typeface="Tahoma"/>
              </a:rPr>
              <a:t>R$ 899.765.38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</a:rPr>
              <a:t>REALIZADA ATÉ ABRIL DE 202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ff9900"/>
                </a:solidFill>
                <a:latin typeface="Tahoma"/>
              </a:rPr>
              <a:t>R$ 937.255.97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</a:rPr>
              <a:t>AJUSTADA ATÉ ABRIL DE 202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548235"/>
                </a:solidFill>
                <a:latin typeface="Tahoma"/>
              </a:rPr>
              <a:t>R$ 936.455.68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36840" y="603360"/>
            <a:ext cx="80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Meta 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1279080"/>
            <a:ext cx="9553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28/05/202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1º Quadrimestre de 2021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1063800" y="2128680"/>
          <a:ext cx="8356320" cy="2919600"/>
        </p:xfrm>
        <a:graphic>
          <a:graphicData uri="http://schemas.openxmlformats.org/drawingml/2006/table">
            <a:tbl>
              <a:tblPr/>
              <a:tblGrid>
                <a:gridCol w="2538360"/>
                <a:gridCol w="1998720"/>
                <a:gridCol w="1909440"/>
                <a:gridCol w="1909800"/>
              </a:tblGrid>
              <a:tr h="5382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4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40.9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205.5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861.26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8.5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58.0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74.0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62.3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47.4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87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128" name="Elipse 4"/>
          <p:cNvSpPr/>
          <p:nvPr/>
        </p:nvSpPr>
        <p:spPr>
          <a:xfrm>
            <a:off x="9588600" y="2540160"/>
            <a:ext cx="2381040" cy="1777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$ 614 milhõ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*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66800" y="1689120"/>
          <a:ext cx="8377200" cy="1179360"/>
        </p:xfrm>
        <a:graphic>
          <a:graphicData uri="http://schemas.openxmlformats.org/drawingml/2006/table">
            <a:tbl>
              <a:tblPr/>
              <a:tblGrid>
                <a:gridCol w="4686480"/>
                <a:gridCol w="3690720"/>
              </a:tblGrid>
              <a:tr h="56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.959.9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320.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792440" y="4427640"/>
          <a:ext cx="8251560" cy="1017360"/>
        </p:xfrm>
        <a:graphic>
          <a:graphicData uri="http://schemas.openxmlformats.org/drawingml/2006/table">
            <a:tbl>
              <a:tblPr/>
              <a:tblGrid>
                <a:gridCol w="4616280"/>
                <a:gridCol w="3635280"/>
              </a:tblGrid>
              <a:tr h="48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1.0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797.2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3"/>
          <p:cNvSpPr/>
          <p:nvPr/>
        </p:nvSpPr>
        <p:spPr>
          <a:xfrm>
            <a:off x="1392120" y="3429000"/>
            <a:ext cx="85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*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aixaDeTexto 1"/>
          <p:cNvSpPr/>
          <p:nvPr/>
        </p:nvSpPr>
        <p:spPr>
          <a:xfrm>
            <a:off x="1890720" y="5749920"/>
            <a:ext cx="4579920" cy="32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*Valor do resultado nominal e primário acima da linh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30200" y="1585800"/>
          <a:ext cx="9063000" cy="3387960"/>
        </p:xfrm>
        <a:graphic>
          <a:graphicData uri="http://schemas.openxmlformats.org/drawingml/2006/table">
            <a:tbl>
              <a:tblPr/>
              <a:tblGrid>
                <a:gridCol w="4097520"/>
                <a:gridCol w="1673280"/>
                <a:gridCol w="1736640"/>
                <a:gridCol w="1555560"/>
              </a:tblGrid>
              <a:tr h="725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2.355.8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5.784.9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140.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2.5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388.2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0.8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5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1.527.0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3.420.9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948.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0/04/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16.2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8.975.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791.9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68600" y="1935000"/>
          <a:ext cx="8337240" cy="3829320"/>
        </p:xfrm>
        <a:graphic>
          <a:graphicData uri="http://schemas.openxmlformats.org/drawingml/2006/table">
            <a:tbl>
              <a:tblPr/>
              <a:tblGrid>
                <a:gridCol w="5460840"/>
                <a:gridCol w="2876400"/>
              </a:tblGrid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3.718.13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25%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429.53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.098.95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2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EM 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.563.8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4" descr=""/>
          <p:cNvPicPr/>
          <p:nvPr/>
        </p:nvPicPr>
        <p:blipFill>
          <a:blip r:embed="rId2"/>
          <a:stretch/>
        </p:blipFill>
        <p:spPr>
          <a:xfrm>
            <a:off x="9786960" y="23652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58880" y="1903320"/>
          <a:ext cx="8237520" cy="3471840"/>
        </p:xfrm>
        <a:graphic>
          <a:graphicData uri="http://schemas.openxmlformats.org/drawingml/2006/table">
            <a:tbl>
              <a:tblPr/>
              <a:tblGrid>
                <a:gridCol w="5861160"/>
                <a:gridCol w="2376360"/>
              </a:tblGrid>
              <a:tr h="65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ANTERIOR – DEZ 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38.99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RRECADAÇÃO + RENDIM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733.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DESPESAS PA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397.7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FINANCEIRO 30/04/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74.6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% APLIC EM PESSOAL MAGISTÉRIO (Mínimo de 7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,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107" descr="MCj04348100000[1]"/>
          <p:cNvPicPr/>
          <p:nvPr/>
        </p:nvPicPr>
        <p:blipFill>
          <a:blip r:embed="rId2"/>
          <a:stretch/>
        </p:blipFill>
        <p:spPr>
          <a:xfrm rot="1902600">
            <a:off x="10815120" y="1441440"/>
            <a:ext cx="1109880" cy="110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"/>
          <p:cNvPicPr/>
          <p:nvPr/>
        </p:nvPicPr>
        <p:blipFill>
          <a:blip r:embed="rId3"/>
          <a:stretch/>
        </p:blipFill>
        <p:spPr>
          <a:xfrm>
            <a:off x="8682120" y="142920"/>
            <a:ext cx="2428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m 6" descr=""/>
          <p:cNvPicPr/>
          <p:nvPr/>
        </p:nvPicPr>
        <p:blipFill>
          <a:blip r:embed="rId1"/>
          <a:stretch/>
        </p:blipFill>
        <p:spPr>
          <a:xfrm>
            <a:off x="0" y="666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65240" y="1996920"/>
          <a:ext cx="7674120" cy="347508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3.718.13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.057.7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  1º Quad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520.38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5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973.68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50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Execu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25600" y="1785960"/>
          <a:ext cx="9529560" cy="3286080"/>
        </p:xfrm>
        <a:graphic>
          <a:graphicData uri="http://schemas.openxmlformats.org/drawingml/2006/table">
            <a:tbl>
              <a:tblPr/>
              <a:tblGrid>
                <a:gridCol w="6900840"/>
                <a:gridCol w="2628720"/>
              </a:tblGrid>
              <a:tr h="819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936.455.68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812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50,6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73.823.58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682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80.401.76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48,6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55.117.46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8" descr=""/>
          <p:cNvPicPr/>
          <p:nvPr/>
        </p:nvPicPr>
        <p:blipFill>
          <a:blip r:embed="rId2"/>
          <a:stretch/>
        </p:blipFill>
        <p:spPr>
          <a:xfrm>
            <a:off x="9462960" y="338040"/>
            <a:ext cx="15764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Legisla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43160" y="1994040"/>
          <a:ext cx="9138960" cy="3286080"/>
        </p:xfrm>
        <a:graphic>
          <a:graphicData uri="http://schemas.openxmlformats.org/drawingml/2006/table">
            <a:tbl>
              <a:tblPr/>
              <a:tblGrid>
                <a:gridCol w="6618240"/>
                <a:gridCol w="2520720"/>
              </a:tblGrid>
              <a:tr h="819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936.455.68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7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,63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5.252.82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686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,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377.97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5,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568.60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8" name="Picture 18" descr=""/>
          <p:cNvPicPr/>
          <p:nvPr/>
        </p:nvPicPr>
        <p:blipFill>
          <a:blip r:embed="rId2"/>
          <a:stretch/>
        </p:blipFill>
        <p:spPr>
          <a:xfrm>
            <a:off x="9937800" y="338040"/>
            <a:ext cx="15764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aixaDeTexto 1"/>
          <p:cNvSpPr/>
          <p:nvPr/>
        </p:nvSpPr>
        <p:spPr>
          <a:xfrm>
            <a:off x="4056840" y="48420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% DC SOBRE A RCL = 13,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65280" y="1593720"/>
          <a:ext cx="7772400" cy="2868840"/>
        </p:xfrm>
        <a:graphic>
          <a:graphicData uri="http://schemas.openxmlformats.org/drawingml/2006/table">
            <a:tbl>
              <a:tblPr/>
              <a:tblGrid>
                <a:gridCol w="5653080"/>
                <a:gridCol w="2119320"/>
              </a:tblGrid>
              <a:tr h="1005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0/04/202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32.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2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677.7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10.0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3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39880" y="4260960"/>
          <a:ext cx="8690040" cy="164916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4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(0,81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7.575.2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49.960.4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66" name="Retângulo de cantos arredondados 3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No 1º Quadrimestre de 2021 foram liberados recursos de Operações de Crédito o valor de R$ 7.575.205, conforme contratos já assinad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O valor representa 0,81%  do limite de 16% sobre a R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-11304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681200" y="1000080"/>
            <a:ext cx="9101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LC 101/2000 - LR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 4° - Até o final dos meses de </a:t>
            </a:r>
            <a:r>
              <a:rPr b="1" lang="pt-BR" sz="2700" spc="-1" strike="noStrike" u="sng">
                <a:solidFill>
                  <a:srgbClr val="ff0000"/>
                </a:solidFill>
                <a:uFillTx/>
                <a:latin typeface="Calibri Light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, setembro e fevereiro,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48 - São instrumentos de transparências: RREO e RGF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1º - A transparência será assegurada... incentivo à participação popular e realização de audiências públicas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08160" y="1571760"/>
            <a:ext cx="100774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transparencia.balneariocamboriu.sc.gov.br/?p=4&amp;inicio=01/01/2021&amp;fim=31/12/2021&amp;param=BcvwNdIiVX%2BuekIajDk3LRmuoHL5tUrJ%2B239cw0Wplk%3D</a:t>
            </a:r>
            <a:r>
              <a:rPr b="1" lang="pt-BR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Diário Oficial dos Municípios (26/05/202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https://edicao.dom.sc.gov.br/2021/05/1622045336_edicao_3512_assinada.pdf</a:t>
            </a:r>
            <a:r>
              <a:rPr b="1" lang="pt-BR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825560" y="444600"/>
            <a:ext cx="82692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1º Quadrimestre de 2021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AGRADECEMOS SUA ATEN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magem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73" name="CaixaDeTexto 1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579320" y="496692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84280" y="1195560"/>
            <a:ext cx="10303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Maior transparência dos ato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79640" y="4079880"/>
          <a:ext cx="2986200" cy="1414440"/>
        </p:xfrm>
        <a:graphic>
          <a:graphicData uri="http://schemas.openxmlformats.org/drawingml/2006/table">
            <a:tbl>
              <a:tblPr/>
              <a:tblGrid>
                <a:gridCol w="2986200"/>
              </a:tblGrid>
              <a:tr h="141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481880" y="1325520"/>
          <a:ext cx="2808360" cy="14256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425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235160"/>
          <a:ext cx="3076560" cy="1539720"/>
        </p:xfrm>
        <a:graphic>
          <a:graphicData uri="http://schemas.openxmlformats.org/drawingml/2006/table">
            <a:tbl>
              <a:tblPr/>
              <a:tblGrid>
                <a:gridCol w="3076560"/>
              </a:tblGrid>
              <a:tr h="1539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481880" y="4079880"/>
          <a:ext cx="2735280" cy="144000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9280440" y="172080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R$ 113.928.54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9001080" y="2828880"/>
            <a:ext cx="2343240" cy="119124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9,74% acima do valor esperado para o quad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44600" y="2079720"/>
          <a:ext cx="7246800" cy="2876400"/>
        </p:xfrm>
        <a:graphic>
          <a:graphicData uri="http://schemas.openxmlformats.org/drawingml/2006/table">
            <a:tbl>
              <a:tblPr/>
              <a:tblGrid>
                <a:gridCol w="2043000"/>
                <a:gridCol w="1984680"/>
                <a:gridCol w="1581120"/>
                <a:gridCol w="163800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.455.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.527.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072.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96.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22.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.4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215.9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663.6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7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267.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446.3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4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2"/>
          <a:stretch/>
        </p:blipFill>
        <p:spPr>
          <a:xfrm>
            <a:off x="8778960" y="312840"/>
            <a:ext cx="2031840" cy="113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3"/>
          <a:stretch/>
        </p:blipFill>
        <p:spPr>
          <a:xfrm>
            <a:off x="9221760" y="4424400"/>
            <a:ext cx="21160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08000"/>
            <a:ext cx="10515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36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44720" y="1671480"/>
          <a:ext cx="7034400" cy="3787920"/>
        </p:xfrm>
        <a:graphic>
          <a:graphicData uri="http://schemas.openxmlformats.org/drawingml/2006/table">
            <a:tbl>
              <a:tblPr/>
              <a:tblGrid>
                <a:gridCol w="2546280"/>
                <a:gridCol w="2498760"/>
                <a:gridCol w="1989360"/>
              </a:tblGrid>
              <a:tr h="76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8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70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.1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573480" y="648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Gráfico 6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sp>
        <p:nvSpPr>
          <p:cNvPr id="74" name="Explosão 1 2"/>
          <p:cNvSpPr/>
          <p:nvPr/>
        </p:nvSpPr>
        <p:spPr>
          <a:xfrm>
            <a:off x="8674200" y="635040"/>
            <a:ext cx="2908080" cy="2692440"/>
          </a:xfrm>
          <a:prstGeom prst="irregularSeal1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c55a11"/>
                </a:solidFill>
                <a:latin typeface="Calibri"/>
              </a:rPr>
              <a:t>Valor realizado foi acima da linha de tendência para o exercício de 202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áfico 9" descr=""/>
          <p:cNvPicPr/>
          <p:nvPr/>
        </p:nvPicPr>
        <p:blipFill>
          <a:blip r:embed="rId3"/>
          <a:stretch/>
        </p:blipFill>
        <p:spPr>
          <a:xfrm>
            <a:off x="1152360" y="1725480"/>
            <a:ext cx="8429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6480" y="0"/>
            <a:ext cx="8221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- 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1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06560" y="868320"/>
          <a:ext cx="8116920" cy="4665600"/>
        </p:xfrm>
        <a:graphic>
          <a:graphicData uri="http://schemas.openxmlformats.org/drawingml/2006/table">
            <a:tbl>
              <a:tblPr/>
              <a:tblGrid>
                <a:gridCol w="5349960"/>
                <a:gridCol w="1806480"/>
                <a:gridCol w="960480"/>
              </a:tblGrid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Taxas e Contrib melhori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.934.4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497.9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25.9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28.9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42.46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o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53.3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725.6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Transf. Instituições Privadas, Pessoas e Multi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9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75.2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8.2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90.3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03.3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68.7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multas diversas,  indenizações, restituições e aport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83.54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46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CEITA 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.17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Liliane Novaes</cp:lastModifiedBy>
  <cp:lastPrinted>2017-05-25T12:03:44Z</cp:lastPrinted>
  <dcterms:modified xsi:type="dcterms:W3CDTF">2021-05-28T17:41:17Z</dcterms:modified>
  <cp:revision>274</cp:revision>
  <dc:subject/>
  <dc:title>Apresentação do PowerPoint</dc:title>
</cp:coreProperties>
</file>