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" initials="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<Relationship Id="rId60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24-07-30T13:53:56.000000000" idx="1">
    <p:pos x="0" y="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2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5"/>
          </p:nvPr>
        </p:nvSpPr>
        <p:spPr>
          <a:xfrm>
            <a:off x="385092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B89507A-5003-4074-8262-E3018C3E630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73E69A3-C63F-43A4-85D9-0F50170FD70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04654D4-029E-4D4A-A0FD-A2EA4438247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5EBB5E5-0823-4D1D-A3FF-AFA3DF02BAF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1D1FA54-D3EB-43A2-9029-7D211580183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7C42160-59EE-455D-8A5F-41CF53CD1EC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CA3D0C7-5F9A-45E0-9F26-DCF621A9D4D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F47B2A4-3E9A-43F4-8BF7-F388A157A4E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04FBD27-6172-4136-8C76-BDFBD5869E0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7D97BA3-D4DA-4CAE-AF9F-7D205537829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FEITO EM FORMA DE ESCADA REPRESENTANDO A FORMA DE ALCANÇAR A M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A74EC35-9E9F-4C58-9329-37EF00592A2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BBCAF44-D04D-49A6-AB49-F2F16956DE9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765280A-A562-4DFA-A2B9-AE4B9B33F05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8D8B2D8-3387-47A5-B395-D2C5A358631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DDADA00-7BF2-4069-A8CA-E001CA32FB8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5C845BE-BFC2-45D7-9068-9E78CB80AF7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01FED02-DE3E-4A40-B49F-55A07A82F8D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DCCD9A9-0933-448E-B41C-75F5CF1B431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B28643C-15C3-46BD-ABC6-45F3FD7F2F8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3636045-303E-4D7C-8311-737918293AD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6D16648-2E9D-405B-8FFC-A86928556D5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2534C10-61FC-4509-A2C4-C772299950A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F24D2E2-CE1F-4FC6-ADBC-DD52AC193B5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E74B701-37C9-427D-887A-F249655D8A4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84A2E85-808B-4418-91DB-0ED69067E26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E12AC48-AD97-4D30-AEDD-82068EF4A8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1AB941C-674A-49E5-A00F-37E14E503EB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5323FCC-FEE1-4BF4-B7C6-308B5679B5D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3D84C57-EE90-4E24-9F00-57D5AC8CB9C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B3897CE-202A-4D85-8B3C-D9E9F466021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2ECD9C1-D863-479D-A8D1-6870FFCA01A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C622AB4-D6B5-4EE4-A432-122CF44B5DF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11197FB-921F-4EBF-A11F-EB9DCC4A3C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AAC0D2F-B94E-432E-B8C5-DACEAE63919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907CA5D-38EC-44AB-AE6F-844E8023CAE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7E7D34E-FA68-42C8-882B-4B46D6B0655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2AE4EBE-48A6-43C7-8AC8-5FC5E8FE178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70C3934-9F89-4FEB-AA16-45095E09B83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8A1311A-967D-4579-9CC7-396AB42D060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A3F5D07-42D0-427D-8607-34C2756D689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926752C-6431-4C51-B2EA-3CDAA57B7E1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99D71E6-61AF-4010-8661-5CBEF686418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65134F4-452C-49A6-80F4-14EFB1C6F6C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A173F11-F32F-493E-8AC1-0F0463533FE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D007D20-04C7-4C63-BD30-2DFCEC582D0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8D5E55C-EB77-4EF5-9216-F0C4CD86822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3A664F6-79FC-4A8B-A3F4-EC5740216F7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0A1C496-E5C3-4B5B-B19A-0B005596764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AC736CC-231B-43D2-8A94-BA8E1B1CD1B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32B4B44-DE06-4A19-A96B-2A871524B68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D1DB1E7-A947-4F74-B9D0-2B028AE8D1D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F04831F-BCAE-48D7-A6A0-4DEFB6AACD0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DB98E49-1B46-4C1E-AB40-AB050BBCE0F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3D018FD-19F7-49C6-A3A9-CEABE55AD1C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83C9E12-AD53-4480-9692-68E23E5955F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9A53919-1E94-4B9C-A4F1-ACE6473B8B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F99A0B8-3F75-49F7-8EBB-1F934A4DF00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89C8761-B606-4D26-8619-CABB940EDB2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FF2A7F4-3345-4241-A5C6-CAEE4BA476F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B6F3C90-4D43-42B4-8702-5331099BDDF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0EBBD4B-1A39-4401-9F72-CAF33DE9D1F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B702C7B-8110-41C7-BF35-7B7FE899EF8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E1AA423-AEA9-4619-A4A3-F91F7DF3F50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EF6DDBA-1D38-4101-B6C0-55E1EE8A18B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10DEEAB-3BEA-4C04-9D04-F122BE81D42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0104840-0DA6-481F-8296-1530C39F4C0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2F6E2E3-7302-4B67-A07A-A832A9B9AB2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C613665-DB6A-4CEE-B2D3-9BE051EF9C3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08C7B1D-A5D5-4267-8E28-9A0498FF3A9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4E3FECC-CF9A-4F0E-85C7-A184EB73639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B28D953-E482-4351-967A-F166792EF80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DDF67B7-A9E8-4E5D-BAB6-23A314DF9A5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486CADA-CF79-4F87-8C34-48BC2B16003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D08322B-DCAC-4986-AEFF-83E863D651D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8C4B159-04E2-469B-BFF3-CEABF105AEE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B249971-79E1-4CC6-8BCE-5783F19E091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A5D475D-0B19-4B24-ACC0-DAF91EBDB36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BFD6367-093E-4EE2-8EF2-96ECB4A1354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2FE4592-B6C2-4C73-8F03-3DCA7FEBC24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A2FDF24-4E12-4663-ACBA-820643CD960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BD36AC4-05AC-4708-AB3A-389EFB61FF2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B170738-75A4-4334-AF13-69BE77FA597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22F0B70-BE7B-4FE2-A5BD-EE651B98EFD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B6CEF28-00E6-404F-9545-54F5EF3A4B9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E3CF1C7-9F0E-4C29-A94C-063C6B0C892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F18295B-DA45-42C2-BB2A-3217799AFB4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E22A6F9-6C2F-4943-A7EA-A2E07A72B72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34FDB76-0A84-4FC5-A045-356589C98ED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95329BD-1DD3-46CA-A248-A89DA29B0E6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D5EEEA3-F729-45C1-BB1D-5FFDB262D5C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418B283-2629-4E89-B5E1-84555E1EDA3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28DDE0F-5121-468F-98F2-ADFBD576FF5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81FC78B-EC7C-467E-87D3-77AB1BA8C9A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CE42FE2-BE1E-4BC2-BD47-88BD890446F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8B594A0-C35B-4F87-8CD5-DCE210FB73B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3386E57-194B-4588-9DFF-20D3320A4DB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9B1AACA-34DF-4F1F-8951-92C3D23596B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5B54ECC-A515-48FB-AE4B-B3F33BEDD52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F2718AF-F406-4EA1-A823-C8E25E2995D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9644316-6CE1-44DB-88EC-BAE4DAE3EC5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855FDBF-5074-4032-980F-2C52A40B823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0C69-A3CA-4CB5-89A9-1A31D37F7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068B-9DFF-4991-849D-D2677C71F1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094E-B8ED-46E5-BD39-EE8969EA9C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A14F-DF29-44BF-97E3-10228869B9D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55F1-196A-476B-9AF8-2EF2D61181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D027-5983-4BB0-8C52-B92A36A7D9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9664-C362-4BB2-95DC-DF1DF0A2C2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5131-342E-47BD-9A77-DFAA93DB341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FE8A-E1D0-4090-BA9C-E0C48461E1B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2A6E-9C78-4A12-895D-B05E786468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1F53-CC21-461B-A6D1-9CEBADDDF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7011-3FF6-4DC5-B210-3451936335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A0AD-EAC4-45D6-9CD5-2511F0A97D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E1C1-388B-419F-B172-11E6471C73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A497-D6B5-40E0-A736-8629CA7186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C2D4-ACC5-4191-B703-2B13C135BD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11C5-7026-4C4B-989E-DF58781F36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7A18-FA25-4622-8E31-DBA56749DD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B620-CE62-4A47-9030-29A4AA0674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F8B7-962C-4C8F-B2D9-537237066B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BC55-4CF9-4DA6-A5F2-39AB96A9A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5AC8-2AE6-4B11-8C20-6D67390E32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7425-C607-4DA0-B1F9-1B509C9A9B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71A3-AE61-428A-88BD-E746E89048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CFF-FD54-456F-A4ED-6042650993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7D7-D9B1-4366-9962-1665D7C979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AC1-FA94-40BD-95A7-73A0C443B3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F6C-50B0-42B9-A719-35CD57ECDDE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210-FF4E-4BBD-8643-F89C183E17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A1D-44AA-418D-BD1E-2C985E29C5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3CC-D906-4941-A8D3-013AEB9F9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884-070D-40B1-A728-2A1CE62464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DA3-B483-45B1-A485-57AF405356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DC9-F258-470A-857E-02C8FAE8E6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7E5-CEFC-4CD5-BE46-F848D665AA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068-BEB1-4021-9B58-4DE091229D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FA23-CEF8-43F8-8946-F64FEC4B21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A614B-FF7C-40E2-A86B-812A468CCB9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6A8D-FBD0-4DCA-BEEA-BB5DC49963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D4D6-0AEA-4B89-90BC-82514A1A32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4DB7-D4E1-4C36-A869-EAE251613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31F8-488D-48F8-9DAD-0B18D2ABA2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65634-B6BD-48AB-98CA-DDCF1CEF51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01A9C-7153-4662-98D9-859DE34E38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9128C-C5E6-4E47-92D3-CF376AFD1C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C1EB1-66F3-4E5C-94F9-37A00C79FD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CB58-09AB-406D-A310-449995DD04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945C5-7A21-4A9E-BCAC-CB784D7D3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5"/>
          <a:stretch/>
        </p:blipFill>
        <p:spPr>
          <a:xfrm>
            <a:off x="1787400" y="2503440"/>
            <a:ext cx="556920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5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Line 5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2414520" cy="928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Num" idx="1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31ED4B7-D0A5-4611-9CA7-E1CBEA8E4DB0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Num" idx="2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8DC63BB-E2E3-4294-AD99-CFFC8E72957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Num" idx="3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AF4486D-9EAB-461A-907E-DD13F07BC94E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Num" idx="4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535762B-2F97-4C60-81CB-C7AA260DC83A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992160" y="4292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ahnschrift SemiBold"/>
              </a:rPr>
              <a:t>LEI DE DIRETRIZ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ahnschrift SemiBold"/>
              </a:rPr>
              <a:t> </a:t>
            </a:r>
            <a:r>
              <a:rPr b="0" lang="pt-BR" sz="4000" spc="-1" strike="noStrike">
                <a:solidFill>
                  <a:srgbClr val="3b3838"/>
                </a:solidFill>
                <a:latin typeface="Bahnschrift SemiBold"/>
              </a:rPr>
              <a:t>ORÇAMENTÁ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Bahnschrift SemiBold"/>
              </a:rPr>
              <a:t>2 0 2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547640" y="1268280"/>
            <a:ext cx="5689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6800" spc="-1" strike="noStrike">
                <a:solidFill>
                  <a:srgbClr val="000000"/>
                </a:solidFill>
                <a:latin typeface="Arial Black"/>
              </a:rPr>
              <a:t>AUDIÊNCIA PÚBLICA</a:t>
            </a:r>
            <a:br>
              <a:rPr sz="5500"/>
            </a:br>
            <a:r>
              <a:rPr b="1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01/08/2024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301840" y="112680"/>
            <a:ext cx="45104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NICÍPIO DE BALNEÁRIO CAMBORI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ital Catarinense do Tur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700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RECEITAS LDO 2025 </a:t>
            </a:r>
            <a:br>
              <a:rPr sz="4000"/>
            </a:br>
            <a:r>
              <a:rPr b="1" lang="pt-BR" sz="1700" spc="-1" strike="noStrike">
                <a:solidFill>
                  <a:srgbClr val="3b3838"/>
                </a:solidFill>
                <a:latin typeface="Calibri Light"/>
              </a:rPr>
              <a:t>POR CATEGORIA ECONÔM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116000" y="1557360"/>
          <a:ext cx="6916680" cy="3313080"/>
        </p:xfrm>
        <a:graphic>
          <a:graphicData uri="http://schemas.openxmlformats.org/drawingml/2006/table">
            <a:tbl>
              <a:tblPr/>
              <a:tblGrid>
                <a:gridCol w="3479760"/>
                <a:gridCol w="1941480"/>
                <a:gridCol w="1495440"/>
              </a:tblGrid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CORRENT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8.666.70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49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3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INTRA-ORÇAMENTÁRI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.405.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DE CAPI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.486.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4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1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86.557.70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407" name="Text Box 46"/>
          <p:cNvSpPr/>
          <p:nvPr/>
        </p:nvSpPr>
        <p:spPr>
          <a:xfrm>
            <a:off x="1209600" y="4894200"/>
            <a:ext cx="539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Todas as receitas ainda estão em análise, podendo sofrer variações até a entrega do PL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47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1434960" y="11160"/>
            <a:ext cx="619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RECEITAS LDO 2025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3b3838"/>
                </a:solidFill>
                <a:latin typeface="Arial"/>
              </a:rPr>
              <a:t>PELA ORI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222200" y="64087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39640" y="981000"/>
          <a:ext cx="7996320" cy="4896000"/>
        </p:xfrm>
        <a:graphic>
          <a:graphicData uri="http://schemas.openxmlformats.org/drawingml/2006/table">
            <a:tbl>
              <a:tblPr/>
              <a:tblGrid>
                <a:gridCol w="5043600"/>
                <a:gridCol w="1800360"/>
                <a:gridCol w="1152360"/>
              </a:tblGrid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e Tax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2.810.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.476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.269.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129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Uni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820.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Es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379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187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de Operações de Créd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 de Convên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(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/OUC/ICON/ICAD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86.557.7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395280" y="260280"/>
            <a:ext cx="8137440" cy="100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CONDIÇÕES PARA ATINGIR A</a:t>
            </a:r>
            <a:br>
              <a:rPr sz="3300"/>
            </a:b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 META DA RECEIT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63680" y="1987560"/>
            <a:ext cx="8418240" cy="36021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1743120" cy="20224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1116000" y="1557360"/>
            <a:ext cx="70866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br>
              <a:rPr sz="4000"/>
            </a:b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DESPES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Aplicação dos Recurs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1619280" y="2095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 D O - 20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971640" y="189000"/>
            <a:ext cx="7010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Calibri Light"/>
              </a:rPr>
              <a:t>EVOLUÇÃO DAS DESPESA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1260360" y="573264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2025 – Valor em elaboraçã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838080" y="692280"/>
          <a:ext cx="7275600" cy="4914720"/>
        </p:xfrm>
        <a:graphic>
          <a:graphicData uri="http://schemas.openxmlformats.org/drawingml/2006/table">
            <a:tbl>
              <a:tblPr/>
              <a:tblGrid>
                <a:gridCol w="1409760"/>
                <a:gridCol w="2046240"/>
                <a:gridCol w="1946520"/>
                <a:gridCol w="1873080"/>
              </a:tblGrid>
              <a:tr h="1041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AÇÃO ATUALIZ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EXECUT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ECUTADO EM RELAÇÃO AO FIX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141.2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0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.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5.700.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7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5.323.7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2.540.0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5.8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8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7.760.3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6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2.652.4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04.359.4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xecu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86.557.7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labor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23" name="Text Box 12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971640" y="1125360"/>
            <a:ext cx="70866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ROPOSTA DE INVESTIMENTOS</a:t>
            </a:r>
            <a:br>
              <a:rPr sz="7200"/>
            </a:b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ARA 20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1"/>
          <p:cNvGrpSpPr/>
          <p:nvPr/>
        </p:nvGrpSpPr>
        <p:grpSpPr>
          <a:xfrm>
            <a:off x="468360" y="28440"/>
            <a:ext cx="7772400" cy="809640"/>
            <a:chOff x="468360" y="28440"/>
            <a:chExt cx="7772400" cy="809640"/>
          </a:xfrm>
        </p:grpSpPr>
        <p:sp>
          <p:nvSpPr>
            <p:cNvPr id="427" name="AutoShape 2"/>
            <p:cNvSpPr/>
            <p:nvPr/>
          </p:nvSpPr>
          <p:spPr>
            <a:xfrm>
              <a:off x="468360" y="2844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3"/>
            <p:cNvSpPr/>
            <p:nvPr/>
          </p:nvSpPr>
          <p:spPr>
            <a:xfrm>
              <a:off x="538200" y="2844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ABINETE DO PREFEITO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9" name=""/>
          <p:cNvGraphicFramePr/>
          <p:nvPr/>
        </p:nvGraphicFramePr>
        <p:xfrm>
          <a:off x="466560" y="911160"/>
          <a:ext cx="7780680" cy="4913280"/>
        </p:xfrm>
        <a:graphic>
          <a:graphicData uri="http://schemas.openxmlformats.org/drawingml/2006/table">
            <a:tbl>
              <a:tblPr/>
              <a:tblGrid>
                <a:gridCol w="814680"/>
                <a:gridCol w="6966000"/>
              </a:tblGrid>
              <a:tr h="3096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apropriações Previstas em Le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e Melhorias do Prédio da Procuradoria Juríd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à Entidades Representativas de Class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Prefeit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ateio do Consórcio CIM - AMFR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Vice Prefeit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8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a Sec. de Articulação Governamen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os Conselh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ocuradoria Ger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Precatórios e Sentenças Judiciai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mpanhas de Utilidade Pública e Institucionai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ivisão de Comunicaçã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Junta de Serviço Militar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30" name="Text Box 107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1"/>
          <p:cNvGrpSpPr/>
          <p:nvPr/>
        </p:nvGrpSpPr>
        <p:grpSpPr>
          <a:xfrm>
            <a:off x="324000" y="115920"/>
            <a:ext cx="8348400" cy="590400"/>
            <a:chOff x="324000" y="115920"/>
            <a:chExt cx="8348400" cy="590400"/>
          </a:xfrm>
        </p:grpSpPr>
        <p:sp>
          <p:nvSpPr>
            <p:cNvPr id="432" name="AutoShape 2"/>
            <p:cNvSpPr/>
            <p:nvPr/>
          </p:nvSpPr>
          <p:spPr>
            <a:xfrm>
              <a:off x="324000" y="115920"/>
              <a:ext cx="8348400" cy="5904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3"/>
            <p:cNvSpPr/>
            <p:nvPr/>
          </p:nvSpPr>
          <p:spPr>
            <a:xfrm>
              <a:off x="361800" y="144360"/>
              <a:ext cx="8272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55000"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ESTÃO ADMINISTRATIV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395280" y="836640"/>
          <a:ext cx="8067600" cy="5197320"/>
        </p:xfrm>
        <a:graphic>
          <a:graphicData uri="http://schemas.openxmlformats.org/drawingml/2006/table">
            <a:tbl>
              <a:tblPr/>
              <a:tblGrid>
                <a:gridCol w="566640"/>
                <a:gridCol w="7500960"/>
              </a:tblGrid>
              <a:tr h="225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PM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PM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Legisl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o Paço Municip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Estrutura Física do Data Center do Paço Municip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e Modernização da Estrutura Física do DIT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e Área do Cemitério e Construção de Novos Blocos Vertic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68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Gestão Administrativa e Fiscal do Município (PNAFM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e Capela Mortuária no Bairro das Naçõ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Sec. de Gestão Administrativ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tocolo e Expedient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Gestão de Pessoa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Ger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ão Alimentação aos Servidores Públ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atrimônio Público e Serviç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emitério Público Municip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Logística e Operaçõ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e Inovação em Tecnologia da Inform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68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ivisão de 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46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e Proteção do Trabalhador - SESM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35" name="Text Box 15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1"/>
          <p:cNvGrpSpPr/>
          <p:nvPr/>
        </p:nvGrpSpPr>
        <p:grpSpPr>
          <a:xfrm>
            <a:off x="627120" y="189000"/>
            <a:ext cx="7886520" cy="676080"/>
            <a:chOff x="627120" y="189000"/>
            <a:chExt cx="7886520" cy="676080"/>
          </a:xfrm>
        </p:grpSpPr>
        <p:sp>
          <p:nvSpPr>
            <p:cNvPr id="437" name="AutoShape 2"/>
            <p:cNvSpPr/>
            <p:nvPr/>
          </p:nvSpPr>
          <p:spPr>
            <a:xfrm>
              <a:off x="627120" y="189000"/>
              <a:ext cx="7886520" cy="676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3"/>
            <p:cNvSpPr/>
            <p:nvPr/>
          </p:nvSpPr>
          <p:spPr>
            <a:xfrm>
              <a:off x="725400" y="222120"/>
              <a:ext cx="7634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rmAutofit fontScale="68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87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1" lang="pt-BR" sz="3600" spc="-1" strike="noStrike">
                  <a:solidFill>
                    <a:srgbClr val="ffffff"/>
                  </a:solidFill>
                  <a:latin typeface="Calibri"/>
                </a:rPr>
                <a:t>FAZEND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39" name=""/>
          <p:cNvGraphicFramePr/>
          <p:nvPr/>
        </p:nvGraphicFramePr>
        <p:xfrm>
          <a:off x="1042920" y="1125360"/>
          <a:ext cx="7204320" cy="4032360"/>
        </p:xfrm>
        <a:graphic>
          <a:graphicData uri="http://schemas.openxmlformats.org/drawingml/2006/table">
            <a:tbl>
              <a:tblPr/>
              <a:tblGrid>
                <a:gridCol w="52560"/>
                <a:gridCol w="583920"/>
                <a:gridCol w="6567840"/>
              </a:tblGrid>
              <a:tr h="3556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e Encargos Da Dívida Públic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Novo Prédio para Contabilidade e Finanç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CON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ívida Ativ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Arrecadação e Tribut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e Proc. Fiscai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adastro Fazendári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ontabilidade e Financeir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9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357120" y="779400"/>
            <a:ext cx="1197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55640" y="1282680"/>
          <a:ext cx="6667560" cy="4510080"/>
        </p:xfrm>
        <a:graphic>
          <a:graphicData uri="http://schemas.openxmlformats.org/drawingml/2006/table">
            <a:tbl>
              <a:tblPr/>
              <a:tblGrid>
                <a:gridCol w="54000"/>
                <a:gridCol w="539640"/>
                <a:gridCol w="6073920"/>
              </a:tblGrid>
              <a:tr h="2998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s Núcleos de Ed. Infant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NEI'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d. Infant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para os novos N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s Crech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rech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Crech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- Crech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Crech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é Escol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Pré Escol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Pré Escol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Pré Escol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43" name="AutoShape 113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14"/>
          <p:cNvSpPr/>
          <p:nvPr/>
        </p:nvSpPr>
        <p:spPr>
          <a:xfrm>
            <a:off x="1968480" y="856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682560" y="981000"/>
            <a:ext cx="7802640" cy="52801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2"/>
          <p:cNvSpPr/>
          <p:nvPr/>
        </p:nvSpPr>
        <p:spPr>
          <a:xfrm>
            <a:off x="1225800" y="349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DO - Fundamentos Leg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357120" y="766800"/>
            <a:ext cx="2016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57120" y="1268280"/>
          <a:ext cx="7388280" cy="4705560"/>
        </p:xfrm>
        <a:graphic>
          <a:graphicData uri="http://schemas.openxmlformats.org/drawingml/2006/table">
            <a:tbl>
              <a:tblPr/>
              <a:tblGrid>
                <a:gridCol w="54000"/>
                <a:gridCol w="598680"/>
                <a:gridCol w="6735600"/>
              </a:tblGrid>
              <a:tr h="3366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as Unidades Escolares (CEM'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do Amanhã -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CEM'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e Quadras Escolar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as fachadas das unidades escolares com identidade visu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nsino Fundam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– Ensino Fundamen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48" name="AutoShape 106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07"/>
          <p:cNvSpPr/>
          <p:nvPr/>
        </p:nvSpPr>
        <p:spPr>
          <a:xfrm>
            <a:off x="1968120" y="8568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08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352440" y="836640"/>
            <a:ext cx="2454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VENS 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62160" y="2890800"/>
            <a:ext cx="1297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E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58920" y="5191200"/>
            <a:ext cx="930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39840" y="5632560"/>
          <a:ext cx="6664320" cy="576000"/>
        </p:xfrm>
        <a:graphic>
          <a:graphicData uri="http://schemas.openxmlformats.org/drawingml/2006/table">
            <a:tbl>
              <a:tblPr/>
              <a:tblGrid>
                <a:gridCol w="54000"/>
                <a:gridCol w="538200"/>
                <a:gridCol w="6072120"/>
              </a:tblGrid>
              <a:tr h="2887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Méd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357120" y="1290600"/>
          <a:ext cx="6740640" cy="1274760"/>
        </p:xfrm>
        <a:graphic>
          <a:graphicData uri="http://schemas.openxmlformats.org/drawingml/2006/table">
            <a:tbl>
              <a:tblPr/>
              <a:tblGrid>
                <a:gridCol w="54000"/>
                <a:gridCol w="544680"/>
                <a:gridCol w="6141960"/>
              </a:tblGrid>
              <a:tr h="3189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EJ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EJ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J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353880" y="3421080"/>
          <a:ext cx="6666120" cy="1606680"/>
        </p:xfrm>
        <a:graphic>
          <a:graphicData uri="http://schemas.openxmlformats.org/drawingml/2006/table">
            <a:tbl>
              <a:tblPr/>
              <a:tblGrid>
                <a:gridCol w="54000"/>
                <a:gridCol w="540000"/>
                <a:gridCol w="6072120"/>
              </a:tblGrid>
              <a:tr h="2682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ducação Espec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ducação Espec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ducação Espec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stalação e Manutenção do Centro de Atendimento Especializad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Especi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57" name="AutoShape 100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01"/>
          <p:cNvSpPr/>
          <p:nvPr/>
        </p:nvSpPr>
        <p:spPr>
          <a:xfrm>
            <a:off x="1968480" y="856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0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1"/>
          <p:cNvGrpSpPr/>
          <p:nvPr/>
        </p:nvGrpSpPr>
        <p:grpSpPr>
          <a:xfrm>
            <a:off x="453960" y="115920"/>
            <a:ext cx="8261280" cy="539640"/>
            <a:chOff x="453960" y="115920"/>
            <a:chExt cx="8261280" cy="539640"/>
          </a:xfrm>
        </p:grpSpPr>
        <p:sp>
          <p:nvSpPr>
            <p:cNvPr id="461" name="AutoShape 2"/>
            <p:cNvSpPr/>
            <p:nvPr/>
          </p:nvSpPr>
          <p:spPr>
            <a:xfrm>
              <a:off x="453960" y="115920"/>
              <a:ext cx="8256600" cy="539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3"/>
            <p:cNvSpPr/>
            <p:nvPr/>
          </p:nvSpPr>
          <p:spPr>
            <a:xfrm>
              <a:off x="515880" y="142920"/>
              <a:ext cx="8199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45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Text Box 4"/>
          <p:cNvSpPr/>
          <p:nvPr/>
        </p:nvSpPr>
        <p:spPr>
          <a:xfrm>
            <a:off x="488880" y="824040"/>
            <a:ext cx="1957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U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452160" y="3789360"/>
            <a:ext cx="37742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 DA SECRETA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53960" y="1341360"/>
          <a:ext cx="6539040" cy="2160720"/>
        </p:xfrm>
        <a:graphic>
          <a:graphicData uri="http://schemas.openxmlformats.org/drawingml/2006/table">
            <a:tbl>
              <a:tblPr/>
              <a:tblGrid>
                <a:gridCol w="54000"/>
                <a:gridCol w="528840"/>
                <a:gridCol w="595620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 de Educação Multi Mak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Contra Turno Escolar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AC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53960" y="4192560"/>
          <a:ext cx="6539040" cy="1295280"/>
        </p:xfrm>
        <a:graphic>
          <a:graphicData uri="http://schemas.openxmlformats.org/drawingml/2006/table">
            <a:tbl>
              <a:tblPr/>
              <a:tblGrid>
                <a:gridCol w="54000"/>
                <a:gridCol w="528840"/>
                <a:gridCol w="595620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amento dos Indicadores do IDE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67" name="Text Box 7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"/>
          <p:cNvGrpSpPr/>
          <p:nvPr/>
        </p:nvGrpSpPr>
        <p:grpSpPr>
          <a:xfrm>
            <a:off x="468360" y="115920"/>
            <a:ext cx="8204040" cy="600120"/>
            <a:chOff x="468360" y="115920"/>
            <a:chExt cx="8204040" cy="600120"/>
          </a:xfrm>
        </p:grpSpPr>
        <p:sp>
          <p:nvSpPr>
            <p:cNvPr id="469" name="AutoShape 2"/>
            <p:cNvSpPr/>
            <p:nvPr/>
          </p:nvSpPr>
          <p:spPr>
            <a:xfrm>
              <a:off x="468360" y="115920"/>
              <a:ext cx="8204040" cy="6001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3"/>
            <p:cNvSpPr/>
            <p:nvPr/>
          </p:nvSpPr>
          <p:spPr>
            <a:xfrm>
              <a:off x="500040" y="146160"/>
              <a:ext cx="81406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57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OBRAS e SERVIÇO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1" name=""/>
          <p:cNvGraphicFramePr/>
          <p:nvPr/>
        </p:nvGraphicFramePr>
        <p:xfrm>
          <a:off x="611280" y="907920"/>
          <a:ext cx="6537240" cy="528660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6200"/>
              </a:tblGrid>
              <a:tr h="3556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aquinários para Secretaria de Obra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vimentação, Ampliação e Reurbanização de Ruas e Avenida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da Rede de Iluminação Públic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Públicos de Laz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2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crodrenagem da Avenida Atlân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Sec. de Obra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aisagis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Limpeza Urban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de Drenagem Pluv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Viár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steio dos Serviços Administrativo de Iluminação Públic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a Rede de Iluminação Públic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Obras e Benfeitorias Urbana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72" name="Text Box 11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250920" y="115920"/>
            <a:ext cx="8494560" cy="600120"/>
            <a:chOff x="250920" y="115920"/>
            <a:chExt cx="8494560" cy="600120"/>
          </a:xfrm>
        </p:grpSpPr>
        <p:sp>
          <p:nvSpPr>
            <p:cNvPr id="474" name="AutoShape 2"/>
            <p:cNvSpPr/>
            <p:nvPr/>
          </p:nvSpPr>
          <p:spPr>
            <a:xfrm>
              <a:off x="466560" y="115920"/>
              <a:ext cx="8278920" cy="6001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3"/>
            <p:cNvSpPr/>
            <p:nvPr/>
          </p:nvSpPr>
          <p:spPr>
            <a:xfrm>
              <a:off x="250920" y="146160"/>
              <a:ext cx="84628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57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6" name=""/>
          <p:cNvGraphicFramePr/>
          <p:nvPr/>
        </p:nvGraphicFramePr>
        <p:xfrm>
          <a:off x="826920" y="981000"/>
          <a:ext cx="7145640" cy="4753080"/>
        </p:xfrm>
        <a:graphic>
          <a:graphicData uri="http://schemas.openxmlformats.org/drawingml/2006/table">
            <a:tbl>
              <a:tblPr/>
              <a:tblGrid>
                <a:gridCol w="54000"/>
                <a:gridCol w="578160"/>
                <a:gridCol w="6513480"/>
              </a:tblGrid>
              <a:tr h="365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Eco Par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da Orla da Praia Central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longamento e Abertura de Avenidas- Binário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de Áreas Verdes - Entorno Binário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ça de Convivência junto ao Rio Camboriú – Parque Lin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da Lagoa da Ema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Raposo Tava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 Acesso a BR 101 – Anel Viário Nor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3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Av. Martin Luther – Rua Uganda até Rua Gaivo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Av. Martin Luther – Rua Gaivotas até Divisa Itaja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a Praia de Laranjei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gação da Rua Evelon Cordeiro a Av. Raposo Tava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77" name="Text Box 10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1"/>
          <p:cNvGrpSpPr/>
          <p:nvPr/>
        </p:nvGrpSpPr>
        <p:grpSpPr>
          <a:xfrm>
            <a:off x="250920" y="115920"/>
            <a:ext cx="8494560" cy="600120"/>
            <a:chOff x="250920" y="115920"/>
            <a:chExt cx="8494560" cy="600120"/>
          </a:xfrm>
        </p:grpSpPr>
        <p:sp>
          <p:nvSpPr>
            <p:cNvPr id="479" name="AutoShape 2"/>
            <p:cNvSpPr/>
            <p:nvPr/>
          </p:nvSpPr>
          <p:spPr>
            <a:xfrm>
              <a:off x="466560" y="115920"/>
              <a:ext cx="8278920" cy="6001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Rectangle 3"/>
            <p:cNvSpPr/>
            <p:nvPr/>
          </p:nvSpPr>
          <p:spPr>
            <a:xfrm>
              <a:off x="250920" y="146160"/>
              <a:ext cx="84628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57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1" name=""/>
          <p:cNvGraphicFramePr/>
          <p:nvPr/>
        </p:nvGraphicFramePr>
        <p:xfrm>
          <a:off x="826920" y="981000"/>
          <a:ext cx="7145640" cy="2287800"/>
        </p:xfrm>
        <a:graphic>
          <a:graphicData uri="http://schemas.openxmlformats.org/drawingml/2006/table">
            <a:tbl>
              <a:tblPr/>
              <a:tblGrid>
                <a:gridCol w="54000"/>
                <a:gridCol w="578160"/>
                <a:gridCol w="6513480"/>
              </a:tblGrid>
              <a:tr h="2977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Gabinete da Sec. Planejamento e Gestão Orçamentári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7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Técnicos Adm. do Planejamento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lanej. e Gestão Orçamentári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77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iscalização de Obras Urban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7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Análises e Projeto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ETP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82" name="Text Box 57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1"/>
          <p:cNvGrpSpPr/>
          <p:nvPr/>
        </p:nvGrpSpPr>
        <p:grpSpPr>
          <a:xfrm>
            <a:off x="436680" y="115920"/>
            <a:ext cx="8235720" cy="861840"/>
            <a:chOff x="436680" y="115920"/>
            <a:chExt cx="8235720" cy="861840"/>
          </a:xfrm>
        </p:grpSpPr>
        <p:sp>
          <p:nvSpPr>
            <p:cNvPr id="484" name="AutoShape 2"/>
            <p:cNvSpPr/>
            <p:nvPr/>
          </p:nvSpPr>
          <p:spPr>
            <a:xfrm>
              <a:off x="436680" y="115920"/>
              <a:ext cx="8235720" cy="861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3"/>
            <p:cNvSpPr/>
            <p:nvPr/>
          </p:nvSpPr>
          <p:spPr>
            <a:xfrm>
              <a:off x="766800" y="158760"/>
              <a:ext cx="7588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TURISMO E DESENV. ECONÔMIC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4"/>
          <p:cNvSpPr/>
          <p:nvPr/>
        </p:nvSpPr>
        <p:spPr>
          <a:xfrm>
            <a:off x="443160" y="2781360"/>
            <a:ext cx="11455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M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31640" y="1255680"/>
            <a:ext cx="1704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436680" y="1652760"/>
          <a:ext cx="6537240" cy="89676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6200"/>
              </a:tblGrid>
              <a:tr h="461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e Turism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436680" y="3151080"/>
          <a:ext cx="6535800" cy="210528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4760"/>
              </a:tblGrid>
              <a:tr h="4363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MTU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ticipação no Consórcio de Turismo Costa Verde e Mar - CITM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9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Equipamentos Públicos Turístic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3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ção de Festividades Turísticas e Participação em Eventos Turíst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90" name="Text Box 6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"/>
          <p:cNvGrpSpPr/>
          <p:nvPr/>
        </p:nvGrpSpPr>
        <p:grpSpPr>
          <a:xfrm>
            <a:off x="468360" y="115920"/>
            <a:ext cx="8244000" cy="838080"/>
            <a:chOff x="468360" y="115920"/>
            <a:chExt cx="8244000" cy="838080"/>
          </a:xfrm>
        </p:grpSpPr>
        <p:sp>
          <p:nvSpPr>
            <p:cNvPr id="492" name="AutoShape 2"/>
            <p:cNvSpPr/>
            <p:nvPr/>
          </p:nvSpPr>
          <p:spPr>
            <a:xfrm>
              <a:off x="468360" y="115920"/>
              <a:ext cx="824400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3"/>
            <p:cNvSpPr/>
            <p:nvPr/>
          </p:nvSpPr>
          <p:spPr>
            <a:xfrm>
              <a:off x="500040" y="157320"/>
              <a:ext cx="81802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INCLUSÃO SOCIAL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4" name=""/>
          <p:cNvGraphicFramePr/>
          <p:nvPr/>
        </p:nvGraphicFramePr>
        <p:xfrm>
          <a:off x="527040" y="1125360"/>
          <a:ext cx="7791480" cy="4818240"/>
        </p:xfrm>
        <a:graphic>
          <a:graphicData uri="http://schemas.openxmlformats.org/drawingml/2006/table">
            <a:tbl>
              <a:tblPr/>
              <a:tblGrid>
                <a:gridCol w="54000"/>
                <a:gridCol w="630360"/>
                <a:gridCol w="7107120"/>
              </a:tblGrid>
              <a:tr h="2811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s de Centro Comunit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ssistência Social e Comunitári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Marcenaria Municip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Promoção e Desenvlolvimento Soc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Resgate Social e Controle da Migraçã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o Casamento Cole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senvolvimento Comunitári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conomia Artesan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e Manutenção Centro de Convivência da Pessoa com Defici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rsos Técnicos e Profissionalizantes para a Comunida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a Mulher Brasilei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Municipal - ABRAÇ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Ampliação do Programa Bem Estar da Família e da Casa da Famíli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o Conselho Tutelar e de Direitos da Criança e Adolescent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Atividades Voltadas ao Fortalecimento da Juventu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95" name="Text Box 13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1"/>
          <p:cNvGrpSpPr/>
          <p:nvPr/>
        </p:nvGrpSpPr>
        <p:grpSpPr>
          <a:xfrm>
            <a:off x="395280" y="100080"/>
            <a:ext cx="8205840" cy="838080"/>
            <a:chOff x="395280" y="100080"/>
            <a:chExt cx="8205840" cy="838080"/>
          </a:xfrm>
        </p:grpSpPr>
        <p:sp>
          <p:nvSpPr>
            <p:cNvPr id="497" name="AutoShape 2"/>
            <p:cNvSpPr/>
            <p:nvPr/>
          </p:nvSpPr>
          <p:spPr>
            <a:xfrm>
              <a:off x="395280" y="100080"/>
              <a:ext cx="82058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3"/>
            <p:cNvSpPr/>
            <p:nvPr/>
          </p:nvSpPr>
          <p:spPr>
            <a:xfrm>
              <a:off x="426960" y="141120"/>
              <a:ext cx="81424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GURANÇA PÚBLIC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9" name=""/>
          <p:cNvGraphicFramePr/>
          <p:nvPr/>
        </p:nvGraphicFramePr>
        <p:xfrm>
          <a:off x="455760" y="1123920"/>
          <a:ext cx="7650000" cy="4321080"/>
        </p:xfrm>
        <a:graphic>
          <a:graphicData uri="http://schemas.openxmlformats.org/drawingml/2006/table">
            <a:tbl>
              <a:tblPr/>
              <a:tblGrid>
                <a:gridCol w="54000"/>
                <a:gridCol w="618840"/>
                <a:gridCol w="6977160"/>
              </a:tblGrid>
              <a:tr h="3589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de Apoio às Ações da Defesa Civi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0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ec. de Seguranç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 e Manutenção do Sistema de Monitorament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vênio da Radiopatrulha PMS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Municip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enção de Ocupação Irregular e Degradação Ambi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Trânsito e Engenhari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de Proteção e Defesa Civi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Patrimon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efesa Civ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00" name="Text Box 9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"/>
          <p:cNvGrpSpPr/>
          <p:nvPr/>
        </p:nvGrpSpPr>
        <p:grpSpPr>
          <a:xfrm>
            <a:off x="426960" y="115920"/>
            <a:ext cx="8102520" cy="838080"/>
            <a:chOff x="426960" y="115920"/>
            <a:chExt cx="8102520" cy="838080"/>
          </a:xfrm>
        </p:grpSpPr>
        <p:sp>
          <p:nvSpPr>
            <p:cNvPr id="502" name="AutoShape 2"/>
            <p:cNvSpPr/>
            <p:nvPr/>
          </p:nvSpPr>
          <p:spPr>
            <a:xfrm>
              <a:off x="536400" y="115920"/>
              <a:ext cx="799308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3"/>
            <p:cNvSpPr/>
            <p:nvPr/>
          </p:nvSpPr>
          <p:spPr>
            <a:xfrm>
              <a:off x="426960" y="157320"/>
              <a:ext cx="78310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ESSOA IDOS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4" name=""/>
          <p:cNvGraphicFramePr/>
          <p:nvPr/>
        </p:nvGraphicFramePr>
        <p:xfrm>
          <a:off x="536400" y="1268280"/>
          <a:ext cx="7496280" cy="4060800"/>
        </p:xfrm>
        <a:graphic>
          <a:graphicData uri="http://schemas.openxmlformats.org/drawingml/2006/table">
            <a:tbl>
              <a:tblPr/>
              <a:tblGrid>
                <a:gridCol w="54000"/>
                <a:gridCol w="606600"/>
                <a:gridCol w="6835680"/>
              </a:tblGrid>
              <a:tr h="5572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ônibus para S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4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Centro Dia para o Ido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3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P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Operacionalização das Atividades do Lar dos Idos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4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tenção ao Ido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9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o Idoso - FMI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05" name="Text Box 6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547640" y="2142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606600" y="1671480"/>
            <a:ext cx="792468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dinária de iniciativa do Poder Executiv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laborado em harmonia com o PP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Validade para o exercício financeiro seguinte ao da sua elabora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 a formulação da LOA do exercício seguint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3"/>
          <p:cNvSpPr/>
          <p:nvPr/>
        </p:nvSpPr>
        <p:spPr>
          <a:xfrm>
            <a:off x="7164360" y="5589720"/>
            <a:ext cx="1368360" cy="360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"/>
          <p:cNvGrpSpPr/>
          <p:nvPr/>
        </p:nvGrpSpPr>
        <p:grpSpPr>
          <a:xfrm>
            <a:off x="468360" y="115920"/>
            <a:ext cx="8204040" cy="717480"/>
            <a:chOff x="468360" y="115920"/>
            <a:chExt cx="8204040" cy="717480"/>
          </a:xfrm>
        </p:grpSpPr>
        <p:sp>
          <p:nvSpPr>
            <p:cNvPr id="507" name="AutoShape 2"/>
            <p:cNvSpPr/>
            <p:nvPr/>
          </p:nvSpPr>
          <p:spPr>
            <a:xfrm>
              <a:off x="468360" y="115920"/>
              <a:ext cx="8204040" cy="7174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3"/>
            <p:cNvSpPr/>
            <p:nvPr/>
          </p:nvSpPr>
          <p:spPr>
            <a:xfrm>
              <a:off x="701640" y="150840"/>
              <a:ext cx="7939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79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C DE COMPRA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AutoShape 4"/>
          <p:cNvSpPr/>
          <p:nvPr/>
        </p:nvSpPr>
        <p:spPr>
          <a:xfrm>
            <a:off x="444600" y="3716280"/>
            <a:ext cx="8175600" cy="612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CONTROLE E TRANSPARÊNCI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39640" y="861840"/>
          <a:ext cx="6269040" cy="2233800"/>
        </p:xfrm>
        <a:graphic>
          <a:graphicData uri="http://schemas.openxmlformats.org/drawingml/2006/table">
            <a:tbl>
              <a:tblPr/>
              <a:tblGrid>
                <a:gridCol w="54000"/>
                <a:gridCol w="506520"/>
                <a:gridCol w="5708520"/>
              </a:tblGrid>
              <a:tr h="5842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/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equações e Modernização do Arquivo da S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9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retaria de Compra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9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sórcio Interfederativo Santa Catarina - CINCATAR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468360" y="4365720"/>
          <a:ext cx="6460920" cy="1366920"/>
        </p:xfrm>
        <a:graphic>
          <a:graphicData uri="http://schemas.openxmlformats.org/drawingml/2006/table">
            <a:tbl>
              <a:tblPr/>
              <a:tblGrid>
                <a:gridCol w="54000"/>
                <a:gridCol w="522360"/>
                <a:gridCol w="5884560"/>
              </a:tblGrid>
              <a:tr h="704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. Controle Governamental e    Transparência Públic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12" name="Text Box 5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1"/>
          <p:cNvGrpSpPr/>
          <p:nvPr/>
        </p:nvGrpSpPr>
        <p:grpSpPr>
          <a:xfrm>
            <a:off x="539640" y="115920"/>
            <a:ext cx="8174160" cy="838080"/>
            <a:chOff x="539640" y="115920"/>
            <a:chExt cx="8174160" cy="838080"/>
          </a:xfrm>
        </p:grpSpPr>
        <p:sp>
          <p:nvSpPr>
            <p:cNvPr id="514" name="AutoShape 2"/>
            <p:cNvSpPr/>
            <p:nvPr/>
          </p:nvSpPr>
          <p:spPr>
            <a:xfrm>
              <a:off x="539640" y="115920"/>
              <a:ext cx="81741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3"/>
            <p:cNvSpPr/>
            <p:nvPr/>
          </p:nvSpPr>
          <p:spPr>
            <a:xfrm>
              <a:off x="571680" y="157320"/>
              <a:ext cx="811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 Box 4"/>
          <p:cNvSpPr/>
          <p:nvPr/>
        </p:nvSpPr>
        <p:spPr>
          <a:xfrm>
            <a:off x="542880" y="1150920"/>
            <a:ext cx="2187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ÇÃO BÁ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39640" y="1628640"/>
          <a:ext cx="7277040" cy="4470480"/>
        </p:xfrm>
        <a:graphic>
          <a:graphicData uri="http://schemas.openxmlformats.org/drawingml/2006/table">
            <a:tbl>
              <a:tblPr/>
              <a:tblGrid>
                <a:gridCol w="54000"/>
                <a:gridCol w="588960"/>
                <a:gridCol w="6634080"/>
              </a:tblGrid>
              <a:tr h="3045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BS - Bairro São Judas Tadeu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Administrativo de Saúde Municip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Básicas de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onto de Apoio para atendimento aos usuários UB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Segurança Nutricional e Alimentar na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s Atividades do COMU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frentamento em Situações de Emergência de Saúde Públ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os Serviços Públicos de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Básicos de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Estratégias da Saúde Buc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armácia Municip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3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Regulação, Controle e Avaliação da Atenção à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18" name="Text Box 11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"/>
          <p:cNvSpPr/>
          <p:nvPr/>
        </p:nvSpPr>
        <p:spPr>
          <a:xfrm>
            <a:off x="142920" y="157320"/>
            <a:ext cx="8858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norm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536"/>
              </a:spcAft>
              <a:tabLst>
                <a:tab algn="l" pos="0"/>
                <a:tab algn="l" pos="1554120"/>
                <a:tab algn="l" pos="3110040"/>
                <a:tab algn="l" pos="4665600"/>
                <a:tab algn="l" pos="6221520"/>
                <a:tab algn="l" pos="7777080"/>
                <a:tab algn="l" pos="9333000"/>
                <a:tab algn="l" pos="108885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FUNDO SAÚDE – R$ mi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522360" y="1150920"/>
            <a:ext cx="36356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E ALTA COMPLEX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3"/>
          <p:cNvGrpSpPr/>
          <p:nvPr/>
        </p:nvGrpSpPr>
        <p:grpSpPr>
          <a:xfrm>
            <a:off x="539640" y="115920"/>
            <a:ext cx="8174160" cy="838080"/>
            <a:chOff x="539640" y="115920"/>
            <a:chExt cx="8174160" cy="838080"/>
          </a:xfrm>
        </p:grpSpPr>
        <p:sp>
          <p:nvSpPr>
            <p:cNvPr id="522" name="AutoShape 4"/>
            <p:cNvSpPr/>
            <p:nvPr/>
          </p:nvSpPr>
          <p:spPr>
            <a:xfrm>
              <a:off x="539640" y="115920"/>
              <a:ext cx="81741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5"/>
            <p:cNvSpPr/>
            <p:nvPr/>
          </p:nvSpPr>
          <p:spPr>
            <a:xfrm>
              <a:off x="571680" y="157320"/>
              <a:ext cx="811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571680" y="1628640"/>
          <a:ext cx="7459560" cy="4176720"/>
        </p:xfrm>
        <a:graphic>
          <a:graphicData uri="http://schemas.openxmlformats.org/drawingml/2006/table">
            <a:tbl>
              <a:tblPr/>
              <a:tblGrid>
                <a:gridCol w="53640"/>
                <a:gridCol w="605160"/>
                <a:gridCol w="6800760"/>
              </a:tblGrid>
              <a:tr h="3207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PA - Bairro da Bar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ES - CAPS III e CAPS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Especializadas de Saú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o HMRC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Especializados de Saúd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ntro de Atenção Psicossocial - CAP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nto Atendimento - PA/UP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istema de Inspeção Municipal - SI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e Rateio do Consórcio CIS-AMFR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tenças Judiciais - Internações, Tratamentos e Medicament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Hospitalares do HMR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25" name="Text Box 10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550800" y="1322280"/>
            <a:ext cx="2734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SANIT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539280" y="3181320"/>
            <a:ext cx="3510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EPIDEMI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539640" y="115920"/>
            <a:ext cx="8174160" cy="838080"/>
            <a:chOff x="539640" y="115920"/>
            <a:chExt cx="8174160" cy="838080"/>
          </a:xfrm>
        </p:grpSpPr>
        <p:sp>
          <p:nvSpPr>
            <p:cNvPr id="529" name="AutoShape 4"/>
            <p:cNvSpPr/>
            <p:nvPr/>
          </p:nvSpPr>
          <p:spPr>
            <a:xfrm>
              <a:off x="539640" y="115920"/>
              <a:ext cx="81741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5"/>
            <p:cNvSpPr/>
            <p:nvPr/>
          </p:nvSpPr>
          <p:spPr>
            <a:xfrm>
              <a:off x="571680" y="157320"/>
              <a:ext cx="811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539640" y="1773360"/>
          <a:ext cx="6469200" cy="1260360"/>
        </p:xfrm>
        <a:graphic>
          <a:graphicData uri="http://schemas.openxmlformats.org/drawingml/2006/table">
            <a:tbl>
              <a:tblPr/>
              <a:tblGrid>
                <a:gridCol w="54000"/>
                <a:gridCol w="522360"/>
                <a:gridCol w="5892840"/>
              </a:tblGrid>
              <a:tr h="630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Básicas de Vigilância Sanitária e Ambi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528480" y="3716280"/>
          <a:ext cx="6475680" cy="1324080"/>
        </p:xfrm>
        <a:graphic>
          <a:graphicData uri="http://schemas.openxmlformats.org/drawingml/2006/table">
            <a:tbl>
              <a:tblPr/>
              <a:tblGrid>
                <a:gridCol w="54000"/>
                <a:gridCol w="522360"/>
                <a:gridCol w="5899320"/>
              </a:tblGrid>
              <a:tr h="662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Vigilância Epidemiológic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33" name="Text Box 4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"/>
          <p:cNvGrpSpPr/>
          <p:nvPr/>
        </p:nvGrpSpPr>
        <p:grpSpPr>
          <a:xfrm>
            <a:off x="330120" y="115920"/>
            <a:ext cx="8415360" cy="790560"/>
            <a:chOff x="330120" y="115920"/>
            <a:chExt cx="8415360" cy="790560"/>
          </a:xfrm>
        </p:grpSpPr>
        <p:sp>
          <p:nvSpPr>
            <p:cNvPr id="535" name="AutoShape 2"/>
            <p:cNvSpPr/>
            <p:nvPr/>
          </p:nvSpPr>
          <p:spPr>
            <a:xfrm>
              <a:off x="330120" y="115920"/>
              <a:ext cx="8415360" cy="79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3"/>
            <p:cNvSpPr/>
            <p:nvPr/>
          </p:nvSpPr>
          <p:spPr>
            <a:xfrm>
              <a:off x="363600" y="155520"/>
              <a:ext cx="834876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 fontScale="92000"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MEIO AMBIENT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Text Box 4"/>
          <p:cNvSpPr/>
          <p:nvPr/>
        </p:nvSpPr>
        <p:spPr>
          <a:xfrm>
            <a:off x="325800" y="909720"/>
            <a:ext cx="1640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31920" y="2060640"/>
            <a:ext cx="13100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63600" y="2430360"/>
          <a:ext cx="6732360" cy="3753000"/>
        </p:xfrm>
        <a:graphic>
          <a:graphicData uri="http://schemas.openxmlformats.org/drawingml/2006/table">
            <a:tbl>
              <a:tblPr/>
              <a:tblGrid>
                <a:gridCol w="52200"/>
                <a:gridCol w="544680"/>
                <a:gridCol w="6135480"/>
              </a:tblGrid>
              <a:tr h="2509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de Educação Ambien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 Sede Administ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o Parque Natural Municipal Raimundo Gonçalez Malt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Produtos e Serviços Ambienta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servação e Ampliação do Selo Internacional "Bandeira Azul"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DEM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Ambi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toterapia e Viveiro Mata Atlântic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stentabilidade Ambient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Terra Limp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Proteção e Bem Estar Anim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arque Raimundo Gonçalez Mal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Licenciamento Ambien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363600" y="1317600"/>
          <a:ext cx="6659640" cy="736560"/>
        </p:xfrm>
        <a:graphic>
          <a:graphicData uri="http://schemas.openxmlformats.org/drawingml/2006/table">
            <a:tbl>
              <a:tblPr/>
              <a:tblGrid>
                <a:gridCol w="52200"/>
                <a:gridCol w="538200"/>
                <a:gridCol w="6069240"/>
              </a:tblGrid>
              <a:tr h="2840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o Meio Ambient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e Amparo Aos Animais - FA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41" name="Text Box 14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43" name="AutoShape 2"/>
            <p:cNvSpPr/>
            <p:nvPr/>
          </p:nvSpPr>
          <p:spPr>
            <a:xfrm>
              <a:off x="468360" y="115920"/>
              <a:ext cx="82040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3"/>
            <p:cNvSpPr/>
            <p:nvPr/>
          </p:nvSpPr>
          <p:spPr>
            <a:xfrm>
              <a:off x="500040" y="157320"/>
              <a:ext cx="81406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HABITAÇÃO FURBE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5" name=""/>
          <p:cNvGraphicFramePr/>
          <p:nvPr/>
        </p:nvGraphicFramePr>
        <p:xfrm>
          <a:off x="684360" y="1484280"/>
          <a:ext cx="7275240" cy="3600360"/>
        </p:xfrm>
        <a:graphic>
          <a:graphicData uri="http://schemas.openxmlformats.org/drawingml/2006/table">
            <a:tbl>
              <a:tblPr/>
              <a:tblGrid>
                <a:gridCol w="52200"/>
                <a:gridCol w="587520"/>
                <a:gridCol w="6635520"/>
              </a:tblGrid>
              <a:tr h="4748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e Moradia Digna de Interesse Soci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Lar Legal e de Legitimação Fundiária/REURB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Urbanização, Regularização e Integração de Assentamentos Precári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RB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de Promoção Huma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Auxílio Moradia aos Beneficiári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6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48" name="AutoShape 2"/>
            <p:cNvSpPr/>
            <p:nvPr/>
          </p:nvSpPr>
          <p:spPr>
            <a:xfrm>
              <a:off x="468360" y="115920"/>
              <a:ext cx="82040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3"/>
            <p:cNvSpPr/>
            <p:nvPr/>
          </p:nvSpPr>
          <p:spPr>
            <a:xfrm>
              <a:off x="500040" y="157320"/>
              <a:ext cx="81406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RIANÇA E ADOLESCENT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0" name=""/>
          <p:cNvGraphicFramePr/>
          <p:nvPr/>
        </p:nvGraphicFramePr>
        <p:xfrm>
          <a:off x="539640" y="1628640"/>
          <a:ext cx="7275600" cy="2664000"/>
        </p:xfrm>
        <a:graphic>
          <a:graphicData uri="http://schemas.openxmlformats.org/drawingml/2006/table">
            <a:tbl>
              <a:tblPr/>
              <a:tblGrid>
                <a:gridCol w="52560"/>
                <a:gridCol w="587160"/>
                <a:gridCol w="6635880"/>
              </a:tblGrid>
              <a:tr h="5605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MDC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 das Atividades de Atenção à Criança e ao Adolescente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rmos de Parcerias voltadas ao bem estar da Criança e Adolesc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à Guarda e à Adoçã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51" name="Text Box 4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"/>
          <p:cNvGrpSpPr/>
          <p:nvPr/>
        </p:nvGrpSpPr>
        <p:grpSpPr>
          <a:xfrm>
            <a:off x="395280" y="115920"/>
            <a:ext cx="8277120" cy="838080"/>
            <a:chOff x="395280" y="115920"/>
            <a:chExt cx="8277120" cy="838080"/>
          </a:xfrm>
        </p:grpSpPr>
        <p:sp>
          <p:nvSpPr>
            <p:cNvPr id="553" name="AutoShape 2"/>
            <p:cNvSpPr/>
            <p:nvPr/>
          </p:nvSpPr>
          <p:spPr>
            <a:xfrm>
              <a:off x="395280" y="115920"/>
              <a:ext cx="827712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3"/>
            <p:cNvSpPr/>
            <p:nvPr/>
          </p:nvSpPr>
          <p:spPr>
            <a:xfrm>
              <a:off x="426960" y="157320"/>
              <a:ext cx="82137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ASSISTÊNCIA SOCIAL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28760" y="1125360"/>
          <a:ext cx="6667200" cy="4391280"/>
        </p:xfrm>
        <a:graphic>
          <a:graphicData uri="http://schemas.openxmlformats.org/drawingml/2006/table">
            <a:tbl>
              <a:tblPr/>
              <a:tblGrid>
                <a:gridCol w="52200"/>
                <a:gridCol w="484200"/>
                <a:gridCol w="6130800"/>
              </a:tblGrid>
              <a:tr h="355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Criança Feliz - Primeira Infância no SU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onselho - C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Acessuas - Trabalh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erviço de Família Acolhedora para Crianças, Idosos e Pessoas com Deficiênci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Gestão do SUAS - IG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Básic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IGD/ PBF e CadÚnic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Especial - M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Básic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Especi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Benefícios Eventu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56" name="Text Box 9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58" name="AutoShape 2"/>
            <p:cNvSpPr/>
            <p:nvPr/>
          </p:nvSpPr>
          <p:spPr>
            <a:xfrm>
              <a:off x="574560" y="115920"/>
              <a:ext cx="80978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3"/>
            <p:cNvSpPr/>
            <p:nvPr/>
          </p:nvSpPr>
          <p:spPr>
            <a:xfrm>
              <a:off x="468360" y="157320"/>
              <a:ext cx="80359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SERVIR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0" name=""/>
          <p:cNvGraphicFramePr/>
          <p:nvPr/>
        </p:nvGraphicFramePr>
        <p:xfrm>
          <a:off x="627120" y="1197000"/>
          <a:ext cx="6334200" cy="2558880"/>
        </p:xfrm>
        <a:graphic>
          <a:graphicData uri="http://schemas.openxmlformats.org/drawingml/2006/table">
            <a:tbl>
              <a:tblPr/>
              <a:tblGrid>
                <a:gridCol w="52200"/>
                <a:gridCol w="511200"/>
                <a:gridCol w="5770800"/>
              </a:tblGrid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ões da Sede Administrativa do FUNSERVI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SERVI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de Saúde do Servid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61" name="Text Box 4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1"/>
          <p:cNvGrpSpPr/>
          <p:nvPr/>
        </p:nvGrpSpPr>
        <p:grpSpPr>
          <a:xfrm>
            <a:off x="539640" y="115920"/>
            <a:ext cx="8132760" cy="838080"/>
            <a:chOff x="539640" y="115920"/>
            <a:chExt cx="8132760" cy="838080"/>
          </a:xfrm>
        </p:grpSpPr>
        <p:sp>
          <p:nvSpPr>
            <p:cNvPr id="563" name="AutoShape 2"/>
            <p:cNvSpPr/>
            <p:nvPr/>
          </p:nvSpPr>
          <p:spPr>
            <a:xfrm>
              <a:off x="539640" y="115920"/>
              <a:ext cx="81327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"/>
            <p:cNvSpPr/>
            <p:nvPr/>
          </p:nvSpPr>
          <p:spPr>
            <a:xfrm>
              <a:off x="571680" y="157320"/>
              <a:ext cx="8069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MPRESI - BOMBEIRO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5" name=""/>
          <p:cNvGraphicFramePr/>
          <p:nvPr/>
        </p:nvGraphicFramePr>
        <p:xfrm>
          <a:off x="684360" y="1268280"/>
          <a:ext cx="6410160" cy="2702160"/>
        </p:xfrm>
        <a:graphic>
          <a:graphicData uri="http://schemas.openxmlformats.org/drawingml/2006/table">
            <a:tbl>
              <a:tblPr/>
              <a:tblGrid>
                <a:gridCol w="52200"/>
                <a:gridCol w="519120"/>
                <a:gridCol w="5838840"/>
              </a:tblGrid>
              <a:tr h="505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Garagem Operacional FUMPRE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0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MPRES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0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quipamentos diversos - FUMPRES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66" name="Text Box 45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608040" y="846000"/>
            <a:ext cx="792648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Dispõe sobre as seguintes matéria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tas e prioridades da administração para o exercício financeiro subsequ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terações na legislação tributá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torização para concessão de qualquer vantagem ou aumento na remuneração de servido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ação de cargos, empregos, funções ou alteração na estrutura de carrei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missão e contratação de pessoal a qualquer título para a administração municip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quilíbrio entre receitas e despes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térios e formas de limitação de empenh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dições e exigências para transferências de recursos a entidades públicas e privad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exos de Metas e Riscos Fisc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609480" y="2746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68" name="AutoShape 2"/>
            <p:cNvSpPr/>
            <p:nvPr/>
          </p:nvSpPr>
          <p:spPr>
            <a:xfrm>
              <a:off x="468360" y="115920"/>
              <a:ext cx="82040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Rectangle 3"/>
            <p:cNvSpPr/>
            <p:nvPr/>
          </p:nvSpPr>
          <p:spPr>
            <a:xfrm>
              <a:off x="500040" y="157320"/>
              <a:ext cx="81406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SPORTE – FM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0" name=""/>
          <p:cNvGraphicFramePr/>
          <p:nvPr/>
        </p:nvGraphicFramePr>
        <p:xfrm>
          <a:off x="500040" y="1220760"/>
          <a:ext cx="6469200" cy="4118040"/>
        </p:xfrm>
        <a:graphic>
          <a:graphicData uri="http://schemas.openxmlformats.org/drawingml/2006/table">
            <a:tbl>
              <a:tblPr/>
              <a:tblGrid>
                <a:gridCol w="52560"/>
                <a:gridCol w="523800"/>
                <a:gridCol w="5892840"/>
              </a:tblGrid>
              <a:tr h="3636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Alternativos de Espor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s e Revitalização dos Complexos Esportiv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e Apoio das Atividades Esportiv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F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Conservação dos Complexos Esportiv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e Participação em Eventos Esportiv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Bolsa Atlet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 Projetos Esportiv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71" name="Text Box 9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"/>
          <p:cNvGrpSpPr/>
          <p:nvPr/>
        </p:nvGrpSpPr>
        <p:grpSpPr>
          <a:xfrm>
            <a:off x="395280" y="115920"/>
            <a:ext cx="8277120" cy="838080"/>
            <a:chOff x="395280" y="115920"/>
            <a:chExt cx="8277120" cy="838080"/>
          </a:xfrm>
        </p:grpSpPr>
        <p:sp>
          <p:nvSpPr>
            <p:cNvPr id="573" name="AutoShape 2"/>
            <p:cNvSpPr/>
            <p:nvPr/>
          </p:nvSpPr>
          <p:spPr>
            <a:xfrm>
              <a:off x="395280" y="115920"/>
              <a:ext cx="827712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3"/>
            <p:cNvSpPr/>
            <p:nvPr/>
          </p:nvSpPr>
          <p:spPr>
            <a:xfrm>
              <a:off x="426960" y="157320"/>
              <a:ext cx="82137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BCTRÂNSI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5" name=""/>
          <p:cNvGraphicFramePr/>
          <p:nvPr/>
        </p:nvGraphicFramePr>
        <p:xfrm>
          <a:off x="426960" y="1052640"/>
          <a:ext cx="6669000" cy="5048280"/>
        </p:xfrm>
        <a:graphic>
          <a:graphicData uri="http://schemas.openxmlformats.org/drawingml/2006/table">
            <a:tbl>
              <a:tblPr/>
              <a:tblGrid>
                <a:gridCol w="52560"/>
                <a:gridCol w="539640"/>
                <a:gridCol w="6076800"/>
              </a:tblGrid>
              <a:tr h="3142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 TRÂNSI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Ciclovias, Ciclofaixas, Ciclorrotas e Paracicl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Pública para Educação no Trânsi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BC Trânsit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BC Trâns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Convênio de Trâns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Civil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Milit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ções de Educação para Segurança no Trâns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ciamento e Fiscalização do Trânsit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genharia de Tráfego e de Camp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aptações e Manutenções da Sinalização Viári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elhorias no Transporte Coletivo Municipa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Alimentação aos Servidores BCTRÂNSI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76" name="Text Box 131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"/>
          <p:cNvGrpSpPr/>
          <p:nvPr/>
        </p:nvGrpSpPr>
        <p:grpSpPr>
          <a:xfrm>
            <a:off x="627120" y="115920"/>
            <a:ext cx="7905600" cy="838080"/>
            <a:chOff x="627120" y="115920"/>
            <a:chExt cx="7905600" cy="838080"/>
          </a:xfrm>
        </p:grpSpPr>
        <p:sp>
          <p:nvSpPr>
            <p:cNvPr id="578" name="AutoShape 2"/>
            <p:cNvSpPr/>
            <p:nvPr/>
          </p:nvSpPr>
          <p:spPr>
            <a:xfrm>
              <a:off x="627120" y="115920"/>
              <a:ext cx="790560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3"/>
            <p:cNvSpPr/>
            <p:nvPr/>
          </p:nvSpPr>
          <p:spPr>
            <a:xfrm>
              <a:off x="657360" y="157320"/>
              <a:ext cx="78451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OCON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0" name=""/>
          <p:cNvGraphicFramePr/>
          <p:nvPr/>
        </p:nvGraphicFramePr>
        <p:xfrm>
          <a:off x="627120" y="1197000"/>
          <a:ext cx="6284880" cy="2316240"/>
        </p:xfrm>
        <a:graphic>
          <a:graphicData uri="http://schemas.openxmlformats.org/drawingml/2006/table">
            <a:tbl>
              <a:tblPr/>
              <a:tblGrid>
                <a:gridCol w="52200"/>
                <a:gridCol w="52560"/>
                <a:gridCol w="492120"/>
                <a:gridCol w="5688000"/>
              </a:tblGrid>
              <a:tr h="485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Processo Eletrônico - PROC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fesa dos Direitos do Consumidor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944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de Seminários  e Congress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pSp>
        <p:nvGrpSpPr>
          <p:cNvPr id="581" name="Group 45"/>
          <p:cNvGrpSpPr/>
          <p:nvPr/>
        </p:nvGrpSpPr>
        <p:grpSpPr>
          <a:xfrm>
            <a:off x="596880" y="3645000"/>
            <a:ext cx="7905600" cy="838080"/>
            <a:chOff x="596880" y="3645000"/>
            <a:chExt cx="7905600" cy="838080"/>
          </a:xfrm>
        </p:grpSpPr>
        <p:sp>
          <p:nvSpPr>
            <p:cNvPr id="582" name="AutoShape 46"/>
            <p:cNvSpPr/>
            <p:nvPr/>
          </p:nvSpPr>
          <p:spPr>
            <a:xfrm>
              <a:off x="596880" y="3645000"/>
              <a:ext cx="790560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47"/>
            <p:cNvSpPr/>
            <p:nvPr/>
          </p:nvSpPr>
          <p:spPr>
            <a:xfrm>
              <a:off x="627120" y="3686040"/>
              <a:ext cx="78454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UB-PREFEITUR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657360" y="4581360"/>
          <a:ext cx="6284880" cy="777960"/>
        </p:xfrm>
        <a:graphic>
          <a:graphicData uri="http://schemas.openxmlformats.org/drawingml/2006/table">
            <a:tbl>
              <a:tblPr/>
              <a:tblGrid>
                <a:gridCol w="52200"/>
                <a:gridCol w="527040"/>
                <a:gridCol w="5705640"/>
              </a:tblGrid>
              <a:tr h="2826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ubprefeitura da Região Su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85" name="Text Box 6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1"/>
          <p:cNvGrpSpPr/>
          <p:nvPr/>
        </p:nvGrpSpPr>
        <p:grpSpPr>
          <a:xfrm>
            <a:off x="539640" y="133200"/>
            <a:ext cx="8205840" cy="838440"/>
            <a:chOff x="539640" y="133200"/>
            <a:chExt cx="8205840" cy="838440"/>
          </a:xfrm>
        </p:grpSpPr>
        <p:sp>
          <p:nvSpPr>
            <p:cNvPr id="587" name="AutoShape 2"/>
            <p:cNvSpPr/>
            <p:nvPr/>
          </p:nvSpPr>
          <p:spPr>
            <a:xfrm>
              <a:off x="539640" y="133200"/>
              <a:ext cx="8205840" cy="838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3"/>
            <p:cNvSpPr/>
            <p:nvPr/>
          </p:nvSpPr>
          <p:spPr>
            <a:xfrm>
              <a:off x="571680" y="174600"/>
              <a:ext cx="79689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ULTURA - FCBC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395280" y="1844640"/>
          <a:ext cx="8064360" cy="2922480"/>
        </p:xfrm>
        <a:graphic>
          <a:graphicData uri="http://schemas.openxmlformats.org/drawingml/2006/table">
            <a:tbl>
              <a:tblPr/>
              <a:tblGrid>
                <a:gridCol w="88920"/>
                <a:gridCol w="650880"/>
                <a:gridCol w="7324560"/>
              </a:tblGrid>
              <a:tr h="380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C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FC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3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Culturais e Patrimônios Culturai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mento Cultural - LI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 Projetos Artísticos e Culturai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90" name="Text Box 68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1"/>
          <p:cNvGrpSpPr/>
          <p:nvPr/>
        </p:nvGrpSpPr>
        <p:grpSpPr>
          <a:xfrm>
            <a:off x="468360" y="115920"/>
            <a:ext cx="8132760" cy="838080"/>
            <a:chOff x="468360" y="115920"/>
            <a:chExt cx="8132760" cy="838080"/>
          </a:xfrm>
        </p:grpSpPr>
        <p:sp>
          <p:nvSpPr>
            <p:cNvPr id="592" name="AutoShape 2"/>
            <p:cNvSpPr/>
            <p:nvPr/>
          </p:nvSpPr>
          <p:spPr>
            <a:xfrm>
              <a:off x="468360" y="115920"/>
              <a:ext cx="81327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3"/>
            <p:cNvSpPr/>
            <p:nvPr/>
          </p:nvSpPr>
          <p:spPr>
            <a:xfrm>
              <a:off x="500040" y="157320"/>
              <a:ext cx="80694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EVIDÊNCIA – BCPREVI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500040" y="1125360"/>
          <a:ext cx="6811920" cy="4175280"/>
        </p:xfrm>
        <a:graphic>
          <a:graphicData uri="http://schemas.openxmlformats.org/drawingml/2006/table">
            <a:tbl>
              <a:tblPr/>
              <a:tblGrid>
                <a:gridCol w="52560"/>
                <a:gridCol w="550800"/>
                <a:gridCol w="6208560"/>
              </a:tblGrid>
              <a:tr h="7113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PREV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40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Benefício Previdenciár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Taxa de Administração do RPP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 de Benefícios Previdenciári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Sentenças e Precatórios do RPP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REV - Compensações Previdenciár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95" name="Text Box 66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"/>
          <p:cNvGrpSpPr/>
          <p:nvPr/>
        </p:nvGrpSpPr>
        <p:grpSpPr>
          <a:xfrm>
            <a:off x="436680" y="69840"/>
            <a:ext cx="8278560" cy="836640"/>
            <a:chOff x="436680" y="69840"/>
            <a:chExt cx="8278560" cy="836640"/>
          </a:xfrm>
        </p:grpSpPr>
        <p:sp>
          <p:nvSpPr>
            <p:cNvPr id="597" name="AutoShape 2"/>
            <p:cNvSpPr/>
            <p:nvPr/>
          </p:nvSpPr>
          <p:spPr>
            <a:xfrm>
              <a:off x="436680" y="69840"/>
              <a:ext cx="8278560" cy="836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3"/>
            <p:cNvSpPr/>
            <p:nvPr/>
          </p:nvSpPr>
          <p:spPr>
            <a:xfrm>
              <a:off x="498600" y="93600"/>
              <a:ext cx="8215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MAS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99" name=""/>
          <p:cNvGraphicFramePr/>
          <p:nvPr/>
        </p:nvGraphicFramePr>
        <p:xfrm>
          <a:off x="436680" y="909720"/>
          <a:ext cx="7091280" cy="5305320"/>
        </p:xfrm>
        <a:graphic>
          <a:graphicData uri="http://schemas.openxmlformats.org/drawingml/2006/table">
            <a:tbl>
              <a:tblPr/>
              <a:tblGrid>
                <a:gridCol w="52200"/>
                <a:gridCol w="530280"/>
                <a:gridCol w="6508800"/>
              </a:tblGrid>
              <a:tr h="271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do Déficit Atuarial do RPPS - EMA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EMA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6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na captação de águ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e Rios e Córrego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Reservatório para Água Tratad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nas Estações de Tratamento de Esgo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mentação do Projeto Rio Camboriú 203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Projeto do Parque Inundáve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2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- Praias Agres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Abastecimento de Águ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EMAS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catórios e Sentenças Judiciais - EMA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e Manutenção do Sistema de Água e Esgo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Drenagem Urba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Produtor de Água do Rio Camboriú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Educação Ambiental da EMA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00" name="Text Box 152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1"/>
          <p:cNvGrpSpPr/>
          <p:nvPr/>
        </p:nvGrpSpPr>
        <p:grpSpPr>
          <a:xfrm>
            <a:off x="539640" y="189000"/>
            <a:ext cx="8132760" cy="836640"/>
            <a:chOff x="539640" y="189000"/>
            <a:chExt cx="8132760" cy="836640"/>
          </a:xfrm>
        </p:grpSpPr>
        <p:sp>
          <p:nvSpPr>
            <p:cNvPr id="602" name="AutoShape 2"/>
            <p:cNvSpPr/>
            <p:nvPr/>
          </p:nvSpPr>
          <p:spPr>
            <a:xfrm>
              <a:off x="539640" y="189000"/>
              <a:ext cx="8132760" cy="836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3"/>
            <p:cNvSpPr/>
            <p:nvPr/>
          </p:nvSpPr>
          <p:spPr>
            <a:xfrm>
              <a:off x="571680" y="230040"/>
              <a:ext cx="80690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ÂMARA DE VEREADORE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4" name=""/>
          <p:cNvGraphicFramePr/>
          <p:nvPr/>
        </p:nvGraphicFramePr>
        <p:xfrm>
          <a:off x="539640" y="1197000"/>
          <a:ext cx="6437520" cy="349236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4400"/>
              </a:tblGrid>
              <a:tr h="5824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Administração de Pessoal do Legisla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ssos Administrativos do Legisl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e Reparos da Infraestrutura do Legisla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1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Rádio e TV Câmar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cola do Legisla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05" name="Text Box 50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"/>
          <p:cNvGraphicFramePr/>
          <p:nvPr/>
        </p:nvGraphicFramePr>
        <p:xfrm>
          <a:off x="539640" y="1052640"/>
          <a:ext cx="6437520" cy="108108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4400"/>
              </a:tblGrid>
              <a:tr h="541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Contingência - PM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07" name="Text Box 19"/>
          <p:cNvSpPr/>
          <p:nvPr/>
        </p:nvSpPr>
        <p:spPr>
          <a:xfrm>
            <a:off x="598320" y="4292640"/>
            <a:ext cx="7549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alibri"/>
              </a:rPr>
              <a:t>RESERVA DE CONTINGÊNCIA – R$ 100 MIL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20"/>
          <p:cNvGrpSpPr/>
          <p:nvPr/>
        </p:nvGrpSpPr>
        <p:grpSpPr>
          <a:xfrm>
            <a:off x="473040" y="2717640"/>
            <a:ext cx="8132760" cy="836640"/>
            <a:chOff x="473040" y="2717640"/>
            <a:chExt cx="8132760" cy="836640"/>
          </a:xfrm>
        </p:grpSpPr>
        <p:sp>
          <p:nvSpPr>
            <p:cNvPr id="609" name="AutoShape 21"/>
            <p:cNvSpPr/>
            <p:nvPr/>
          </p:nvSpPr>
          <p:spPr>
            <a:xfrm>
              <a:off x="473040" y="2717640"/>
              <a:ext cx="8132760" cy="836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22"/>
            <p:cNvSpPr/>
            <p:nvPr/>
          </p:nvSpPr>
          <p:spPr>
            <a:xfrm>
              <a:off x="504720" y="2759040"/>
              <a:ext cx="80694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OMAD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Group 23"/>
          <p:cNvGrpSpPr/>
          <p:nvPr/>
        </p:nvGrpSpPr>
        <p:grpSpPr>
          <a:xfrm>
            <a:off x="490680" y="93600"/>
            <a:ext cx="8134200" cy="836640"/>
            <a:chOff x="490680" y="93600"/>
            <a:chExt cx="8134200" cy="836640"/>
          </a:xfrm>
        </p:grpSpPr>
        <p:sp>
          <p:nvSpPr>
            <p:cNvPr id="612" name="AutoShape 24"/>
            <p:cNvSpPr/>
            <p:nvPr/>
          </p:nvSpPr>
          <p:spPr>
            <a:xfrm>
              <a:off x="490680" y="93600"/>
              <a:ext cx="8134200" cy="836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25"/>
            <p:cNvSpPr/>
            <p:nvPr/>
          </p:nvSpPr>
          <p:spPr>
            <a:xfrm>
              <a:off x="522360" y="135000"/>
              <a:ext cx="80708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RESERVA DE CONTINGÊNCI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14" name=""/>
          <p:cNvGraphicFramePr/>
          <p:nvPr/>
        </p:nvGraphicFramePr>
        <p:xfrm>
          <a:off x="485640" y="3687840"/>
          <a:ext cx="6427800" cy="120492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54680"/>
              </a:tblGrid>
              <a:tr h="6030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ealização de Eventos pelo COM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15" name="Text Box 4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1"/>
          <p:cNvSpPr/>
          <p:nvPr/>
        </p:nvSpPr>
        <p:spPr>
          <a:xfrm>
            <a:off x="1763640" y="2602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400" spc="-1" strike="noStrike">
                <a:solidFill>
                  <a:srgbClr val="0070c0"/>
                </a:solidFill>
                <a:latin typeface="Arial"/>
              </a:rPr>
              <a:t>OBRIGADA PELA ATEN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826920" y="2951280"/>
            <a:ext cx="2592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Elaboraçã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Apresentaçã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3616200" y="2392200"/>
            <a:ext cx="2808360" cy="111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4"/>
          <p:cNvSpPr/>
          <p:nvPr/>
        </p:nvSpPr>
        <p:spPr>
          <a:xfrm>
            <a:off x="3571920" y="39146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</a:rPr>
              <a:t>Secretaria da Faz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3562920" y="4508640"/>
            <a:ext cx="34696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</a:rPr>
              <a:t>Secretaria de Planej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</a:rPr>
              <a:t>e Gestão Orçamentá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1619640" y="5676840"/>
            <a:ext cx="59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Liliane Maria </a:t>
            </a:r>
            <a:r>
              <a:rPr b="0" lang="pt-BR" sz="1800" spc="-1" strike="noStrike">
                <a:solidFill>
                  <a:srgbClr val="548235"/>
                </a:solidFill>
                <a:latin typeface="Tahoma"/>
                <a:ea typeface="Tahoma"/>
              </a:rPr>
              <a:t>Novaes</a:t>
            </a: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 – LLN Consultoria Governamen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468360" y="1413000"/>
            <a:ext cx="8496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FEITURA MUNICIPAL – Diversas Unidades Orçamentárias (Secreta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Assistênci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os Direitos da Criança e Adolesc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Assistência a Saúde do Servi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Saú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fesa dos Direitos do Consumi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s. do Me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Rotativo do Bem Estar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Prevenção Contra Sinis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âmara Municipal de Vere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09480" y="27468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L D O –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strutura Administrati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16040" y="981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Di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468360" y="1413000"/>
            <a:ext cx="8496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arquia Municipal de  Trânsito – BC Trâns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to de Previdência Social Servidores Municipais - BCPRE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presa Municipal de Água e Saneamento - EM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Cultural - FC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Municipal de Esporte - F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609480" y="27468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L D O –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strutura Administrati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717840" y="98100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Indi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826920" y="1125360"/>
            <a:ext cx="72010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684360" y="1521000"/>
            <a:ext cx="2592360" cy="3743280"/>
          </a:xfrm>
          <a:prstGeom prst="flowChartAlternateProcess">
            <a:avLst/>
          </a:prstGeom>
          <a:solidFill>
            <a:srgbClr val="1f4e79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 Black"/>
              </a:rPr>
              <a:t>P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3781440" y="1568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5815080" y="153828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349800" y="186228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3341520" y="28558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3325680" y="375300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8"/>
          <p:cNvSpPr/>
          <p:nvPr/>
        </p:nvSpPr>
        <p:spPr>
          <a:xfrm>
            <a:off x="3349800" y="4761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9"/>
          <p:cNvSpPr/>
          <p:nvPr/>
        </p:nvSpPr>
        <p:spPr>
          <a:xfrm>
            <a:off x="5348160" y="174312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5318280" y="27478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1"/>
          <p:cNvSpPr/>
          <p:nvPr/>
        </p:nvSpPr>
        <p:spPr>
          <a:xfrm>
            <a:off x="5337000" y="386244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12"/>
          <p:cNvSpPr/>
          <p:nvPr/>
        </p:nvSpPr>
        <p:spPr>
          <a:xfrm>
            <a:off x="5348160" y="471636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3"/>
          <p:cNvSpPr/>
          <p:nvPr/>
        </p:nvSpPr>
        <p:spPr>
          <a:xfrm>
            <a:off x="5813280" y="360216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4"/>
          <p:cNvSpPr/>
          <p:nvPr/>
        </p:nvSpPr>
        <p:spPr>
          <a:xfrm>
            <a:off x="5813280" y="253224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898560" y="1810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lo entre PPA e LO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6"/>
          <p:cNvSpPr/>
          <p:nvPr/>
        </p:nvSpPr>
        <p:spPr>
          <a:xfrm>
            <a:off x="3816360" y="26082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7"/>
          <p:cNvSpPr/>
          <p:nvPr/>
        </p:nvSpPr>
        <p:spPr>
          <a:xfrm>
            <a:off x="3816360" y="35766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8"/>
          <p:cNvSpPr/>
          <p:nvPr/>
        </p:nvSpPr>
        <p:spPr>
          <a:xfrm>
            <a:off x="3828960" y="45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9"/>
          <p:cNvSpPr/>
          <p:nvPr/>
        </p:nvSpPr>
        <p:spPr>
          <a:xfrm>
            <a:off x="5813280" y="45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7624800" y="1568520"/>
            <a:ext cx="1171440" cy="469800"/>
          </a:xfrm>
          <a:prstGeom prst="ellipse">
            <a:avLst/>
          </a:prstGeom>
          <a:solidFill>
            <a:srgbClr val="dae3f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XECUT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21"/>
          <p:cNvSpPr/>
          <p:nvPr/>
        </p:nvSpPr>
        <p:spPr>
          <a:xfrm>
            <a:off x="7639200" y="2506680"/>
            <a:ext cx="1180800" cy="457200"/>
          </a:xfrm>
          <a:prstGeom prst="ellipse">
            <a:avLst/>
          </a:prstGeom>
          <a:solidFill>
            <a:srgbClr val="70ad4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XECUT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22"/>
          <p:cNvSpPr/>
          <p:nvPr/>
        </p:nvSpPr>
        <p:spPr>
          <a:xfrm>
            <a:off x="7648560" y="3576600"/>
            <a:ext cx="1171440" cy="503280"/>
          </a:xfrm>
          <a:prstGeom prst="ellipse">
            <a:avLst/>
          </a:prstGeom>
          <a:solidFill>
            <a:srgbClr val="ffd96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M EXECUÇÃ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3"/>
          <p:cNvSpPr/>
          <p:nvPr/>
        </p:nvSpPr>
        <p:spPr>
          <a:xfrm>
            <a:off x="7624800" y="4562640"/>
            <a:ext cx="1171440" cy="47592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M ELABORAÇÃ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4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971640" y="1989000"/>
            <a:ext cx="71578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RECEIT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Origem dos Recurs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547640" y="2286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20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971640" y="115920"/>
            <a:ext cx="7010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EVOLUÇÃO DA RECEITA TOTA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55640" y="1165320"/>
          <a:ext cx="7675560" cy="4363920"/>
        </p:xfrm>
        <a:graphic>
          <a:graphicData uri="http://schemas.openxmlformats.org/drawingml/2006/table">
            <a:tbl>
              <a:tblPr/>
              <a:tblGrid>
                <a:gridCol w="808200"/>
                <a:gridCol w="1774800"/>
                <a:gridCol w="1589040"/>
                <a:gridCol w="1592280"/>
                <a:gridCol w="1911240"/>
              </a:tblGrid>
              <a:tr h="89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ARRECAD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(EXECUTA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PREVIST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EVOLUÇÃO EM RELAÇÃO AO ANO ANTER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4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18.09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6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4.86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8.8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8.0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30.7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xecu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86.55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labor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</a:tr>
            </a:tbl>
          </a:graphicData>
        </a:graphic>
      </p:graphicFrame>
      <p:sp>
        <p:nvSpPr>
          <p:cNvPr id="403" name="Text Box 152"/>
          <p:cNvSpPr/>
          <p:nvPr/>
        </p:nvSpPr>
        <p:spPr>
          <a:xfrm>
            <a:off x="6741000" y="847800"/>
            <a:ext cx="1680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53"/>
          <p:cNvSpPr/>
          <p:nvPr/>
        </p:nvSpPr>
        <p:spPr>
          <a:xfrm>
            <a:off x="1222200" y="64371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eline Poleza</dc:creator>
  <dc:description/>
  <dc:language>en-US</dc:language>
  <cp:lastModifiedBy>Liliane Novaes</cp:lastModifiedBy>
  <dcterms:modified xsi:type="dcterms:W3CDTF">2024-08-01T20:47:04Z</dcterms:modified>
  <cp:revision>24</cp:revision>
  <dc:subject/>
  <dc:title>Apresentação do PowerPoint</dc:title>
</cp:coreProperties>
</file>