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385092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90000" y="744480"/>
            <a:ext cx="6613560" cy="3719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385092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FC8F8-EE87-4424-94EA-999787BE6A5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11D68-5B5A-4DEF-9A75-8650F7F22B2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5D9CC-8618-4EB7-A153-56207EDB950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565E6-D252-4C21-A501-CA5A1C003BE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BF55E-08EB-4B59-A00B-21F184571C1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DB231-B2F3-4111-8057-1576F50B5ED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95E20-0269-4D40-8D40-94ECE481CAE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57F1E-82E6-4172-AE2D-4BDE724C325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14DA9-EFCC-4A69-9809-A6E1379DD7D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A9470-37F3-43F4-AB32-5FF1DA81282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4F178-AB04-4904-8ED4-82A6193EC02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D4E1A-A585-4903-A740-46385E39D00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64B72-A5CF-47AF-895D-0A61E44BD06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FCC08-CB52-47CB-96FC-91EE8A75A5B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71632-06F7-4C65-91F9-B49E3687408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A0B8D-EB8C-42D0-807E-17AA1258155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600F4-2A39-45D8-9654-AD2F9463AB6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B3A8B-5504-461E-BB29-68C6F89A811E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02B98-1A3C-4F09-90DA-44CD141CA14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3902D-A05D-432E-8C1E-032EC0FA58F2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AAF9F-0824-4DF4-9F13-E69FAE423DB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BEEB8-55B5-49EF-969C-75B15090A29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12FC1-3C5D-4F22-AACF-9B660B4D2DE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DCE98-D918-4C98-BC08-750F78305B85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912C0-6563-41A9-98CC-099D0523255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6E88F0-8F13-4592-BC01-496C1D47D5A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C041D-3008-4D62-A280-A9FA63B6530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DF941-A1EE-46A9-993C-53E997AA92B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5A33F-820F-4863-B44A-76628F5AE76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3F3E1-76F5-423F-BD6D-8244398318F9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8"/>
          <p:cNvSpPr/>
          <p:nvPr/>
        </p:nvSpPr>
        <p:spPr>
          <a:xfrm>
            <a:off x="38512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68516-9B73-4019-9E0F-744D67B8EB0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EEA07-3744-4816-A8DD-2617968051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2EC4-729D-4F72-8E1B-29D3FAF5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A0DD-2353-4B1A-95BD-14DC4DA0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236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6640" y="182556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236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6640" y="4096800"/>
            <a:ext cx="3384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3176-1568-466C-B1C7-36A1A1A8E4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B0225-6700-41CC-A35F-5FAA28F1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D2CC-149E-4E0D-B786-85BB74D9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2E358-E329-42C9-9044-E9A7C909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3B92-A195-498A-8682-A68F6007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DD029-F883-4A3C-81A3-2E6B80CE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6D389-6B1A-4BC6-B809-859B0048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120" y="409680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9D9F-96BB-43FF-B30E-2C210CCA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120" y="1825560"/>
            <a:ext cx="513000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6800"/>
            <a:ext cx="10512720" cy="20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3A35A-C2BE-4B08-A494-ED9B6A82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272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032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73239-6941-4502-9F39-0FA63C02D512}" type="slidenum">
              <a:rPr b="0" lang="pt-B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1455840" y="0"/>
            <a:ext cx="632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839960" y="1035000"/>
          <a:ext cx="8174160" cy="5138640"/>
        </p:xfrm>
        <a:graphic>
          <a:graphicData uri="http://schemas.openxmlformats.org/drawingml/2006/table">
            <a:tbl>
              <a:tblPr/>
              <a:tblGrid>
                <a:gridCol w="5616360"/>
                <a:gridCol w="1541520"/>
                <a:gridCol w="1016280"/>
              </a:tblGrid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ceit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0872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rrecada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0872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mpostos, Taxas e Contribuição de Melho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.990.6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tribui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322.8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ndas Patrimoni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261.0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rviç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.859.0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nsferências da Uni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.895.9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nsferências do Est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.232.1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UNDE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.306.8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nsferências de Instituições Privadas e Demais Transferência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86.2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peração de Créd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37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lienação de Be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olo Cri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229.39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peração Urban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704.3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CON/IC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969.1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9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ransferência de Capi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5.7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463680">
                <a:tc>
                  <a:txBody>
                    <a:bodyPr lIns="936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mais Receitas Correntes e Capital (multas trânsito, multas diversas,  indenizações, restituições e Aportes RPP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.050.6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85680" rIns="9360" tIns="10872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0872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28.364.0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0872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,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-3168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2341440" y="115920"/>
            <a:ext cx="632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800" spc="-1" strike="noStrike">
                <a:solidFill>
                  <a:srgbClr val="002060"/>
                </a:solidFill>
                <a:latin typeface="Calibri Light"/>
              </a:rPr>
              <a:t>Origem das Receitas </a:t>
            </a:r>
            <a:br>
              <a:rPr sz="38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Gráfico 1" descr=""/>
          <p:cNvPicPr/>
          <p:nvPr/>
        </p:nvPicPr>
        <p:blipFill>
          <a:blip r:embed="rId2"/>
          <a:stretch/>
        </p:blipFill>
        <p:spPr>
          <a:xfrm>
            <a:off x="2243160" y="1371600"/>
            <a:ext cx="7023240" cy="4438800"/>
          </a:xfrm>
          <a:prstGeom prst="rect">
            <a:avLst/>
          </a:prstGeom>
          <a:ln w="0">
            <a:noFill/>
          </a:ln>
        </p:spPr>
      </p:pic>
      <p:sp>
        <p:nvSpPr>
          <p:cNvPr id="95" name="CaixaDeTexto 2"/>
          <p:cNvSpPr/>
          <p:nvPr/>
        </p:nvSpPr>
        <p:spPr>
          <a:xfrm>
            <a:off x="4656240" y="3105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7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CaixaDeTexto 3"/>
          <p:cNvSpPr/>
          <p:nvPr/>
        </p:nvSpPr>
        <p:spPr>
          <a:xfrm>
            <a:off x="5740560" y="45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2424240" y="5813280"/>
            <a:ext cx="6159240" cy="368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Os impostos e taxas representam 39% do valor total arrecadad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727280" y="81000"/>
            <a:ext cx="92120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Impostos e Taxas – até Agosto/2024</a:t>
            </a: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74640" y="4605480"/>
          <a:ext cx="8642520" cy="749160"/>
        </p:xfrm>
        <a:graphic>
          <a:graphicData uri="http://schemas.openxmlformats.org/drawingml/2006/table">
            <a:tbl>
              <a:tblPr/>
              <a:tblGrid>
                <a:gridCol w="1872000"/>
                <a:gridCol w="1657080"/>
                <a:gridCol w="1832040"/>
                <a:gridCol w="1552680"/>
                <a:gridCol w="1728720"/>
              </a:tblGrid>
              <a:tr h="395280"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IPTU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IRRF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ITBI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IS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0" tIns="730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TAX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726.03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793.7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.923.4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887.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659.951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100" name="Imagem 1" descr=""/>
          <p:cNvPicPr/>
          <p:nvPr/>
        </p:nvPicPr>
        <p:blipFill>
          <a:blip r:embed="rId1"/>
          <a:stretch/>
        </p:blipFill>
        <p:spPr>
          <a:xfrm>
            <a:off x="10636200" y="4149720"/>
            <a:ext cx="1035000" cy="1366920"/>
          </a:xfrm>
          <a:prstGeom prst="rect">
            <a:avLst/>
          </a:prstGeom>
          <a:ln w="0">
            <a:noFill/>
          </a:ln>
        </p:spPr>
      </p:pic>
      <p:pic>
        <p:nvPicPr>
          <p:cNvPr id="101" name="Gráfico 1" descr=""/>
          <p:cNvPicPr/>
          <p:nvPr/>
        </p:nvPicPr>
        <p:blipFill>
          <a:blip r:embed="rId2"/>
          <a:stretch/>
        </p:blipFill>
        <p:spPr>
          <a:xfrm>
            <a:off x="1542960" y="890640"/>
            <a:ext cx="864864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169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1336680" y="169920"/>
            <a:ext cx="79866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Desempenho da Despesa</a:t>
            </a:r>
            <a:br>
              <a:rPr sz="4000"/>
            </a:br>
            <a:r>
              <a:rPr b="1" lang="pt-BR" sz="2000" spc="-1" strike="noStrike">
                <a:solidFill>
                  <a:srgbClr val="002060"/>
                </a:solidFill>
                <a:latin typeface="Calibri Light"/>
              </a:rPr>
              <a:t>2º Quadrimestre 202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749680" y="4873680"/>
            <a:ext cx="6132240" cy="36828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spesa liquidada: R$ 130.644.108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163680" y="5425920"/>
            <a:ext cx="5348520" cy="368280"/>
          </a:xfrm>
          <a:prstGeom prst="rect">
            <a:avLst/>
          </a:prstGeom>
          <a:solidFill>
            <a:srgbClr val="1f4e79"/>
          </a:solidFill>
          <a:ln cap="sq"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Executado 3% abaixo do valor estimado para o período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68400" y="1677960"/>
          <a:ext cx="8388360" cy="2914560"/>
        </p:xfrm>
        <a:graphic>
          <a:graphicData uri="http://schemas.openxmlformats.org/drawingml/2006/table">
            <a:tbl>
              <a:tblPr/>
              <a:tblGrid>
                <a:gridCol w="2200320"/>
                <a:gridCol w="2158920"/>
                <a:gridCol w="2041560"/>
                <a:gridCol w="1987560"/>
              </a:tblGrid>
              <a:tr h="728640">
                <a:tc>
                  <a:txBody>
                    <a:bodyPr lIns="9360" rIns="9360" tIns="1800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spe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1800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gram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1800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xecuta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1800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ferenç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2864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rrentes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52.326.94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72.650.73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.323.79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pit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7.318.0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2.502.13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54.815.86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2864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79.644.94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45.152.86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34.492.07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pic>
        <p:nvPicPr>
          <p:cNvPr id="107" name="Picture 62" descr=""/>
          <p:cNvPicPr/>
          <p:nvPr/>
        </p:nvPicPr>
        <p:blipFill>
          <a:blip r:embed="rId2"/>
          <a:stretch/>
        </p:blipFill>
        <p:spPr>
          <a:xfrm>
            <a:off x="9504360" y="4659480"/>
            <a:ext cx="2116080" cy="131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7920"/>
            <a:ext cx="12169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1552680" y="1276200"/>
          <a:ext cx="7553160" cy="4606920"/>
        </p:xfrm>
        <a:graphic>
          <a:graphicData uri="http://schemas.openxmlformats.org/drawingml/2006/table">
            <a:tbl>
              <a:tblPr/>
              <a:tblGrid>
                <a:gridCol w="4545000"/>
                <a:gridCol w="1787400"/>
                <a:gridCol w="1220760"/>
              </a:tblGrid>
              <a:tr h="54792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72.650.7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3,0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44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SSOAL E ENCARGOS SOCIA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.979.079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08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UROS E ENCARGOS DA DÍV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1.749,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884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UTRAS DESPESAS CORREN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.339.900,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588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SPESAS DE 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2.502.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,9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  <a:tr h="51444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VESTIMENT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629.417,9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08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VERSÕES FINANCEI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00.000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6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444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MORTIZAÇÃO DA DÍVI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172.719,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2800">
                <a:tc>
                  <a:txBody>
                    <a:bodyPr lIns="936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314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45.152.8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0,0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8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1336680" y="169920"/>
            <a:ext cx="79866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Aplicação da Despesa</a:t>
            </a:r>
            <a:br>
              <a:rPr sz="4400"/>
            </a:br>
            <a:r>
              <a:rPr b="0" lang="pt-BR" sz="2000" spc="-1" strike="noStrike">
                <a:solidFill>
                  <a:srgbClr val="002060"/>
                </a:solidFill>
                <a:latin typeface="Calibri Light"/>
              </a:rPr>
              <a:t>2º Quadrimestre 202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88" descr=""/>
          <p:cNvPicPr/>
          <p:nvPr/>
        </p:nvPicPr>
        <p:blipFill>
          <a:blip r:embed="rId2"/>
          <a:stretch/>
        </p:blipFill>
        <p:spPr>
          <a:xfrm rot="1680000">
            <a:off x="9704160" y="895320"/>
            <a:ext cx="160956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7604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747720" y="403200"/>
            <a:ext cx="917244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Comparativo da Despesa</a:t>
            </a:r>
            <a:br>
              <a:rPr sz="3200"/>
            </a:br>
            <a:r>
              <a:rPr b="0" lang="pt-BR" sz="1800" spc="-1" strike="noStrike">
                <a:solidFill>
                  <a:srgbClr val="002060"/>
                </a:solidFill>
                <a:latin typeface="Calibri Light"/>
              </a:rPr>
              <a:t>2º Quadrimestre – por exercício – despesa realizada por Modalidade de Aplicação</a:t>
            </a:r>
            <a:br>
              <a:rPr sz="1500"/>
            </a:b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47720" y="1314360"/>
          <a:ext cx="10893240" cy="4562640"/>
        </p:xfrm>
        <a:graphic>
          <a:graphicData uri="http://schemas.openxmlformats.org/drawingml/2006/table">
            <a:tbl>
              <a:tblPr/>
              <a:tblGrid>
                <a:gridCol w="2973240"/>
                <a:gridCol w="1727280"/>
                <a:gridCol w="1479600"/>
                <a:gridCol w="1620720"/>
                <a:gridCol w="1533600"/>
                <a:gridCol w="1558800"/>
              </a:tblGrid>
              <a:tr h="695520"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ODALIDADE APLICAÇÃ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r.202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r.202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r.202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r.202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r.202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7948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ssoal e Encargos Sociai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59.643.46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2.857.50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53.586.95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89.379.88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1.979.07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512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uros e Encargos da Dívid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487.64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030.20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.254.22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.796.65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.331.75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9696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utras Despesas Corrent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3.438.99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4.124.86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8.592.94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32.256.61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77.339.90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56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vestiment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9.276.69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.675.71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6.486.07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.204.84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2.629.418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92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versões Financeir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 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916.16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500.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700.00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6560">
                <a:tc>
                  <a:txBody>
                    <a:bodyPr lIns="9360" rIns="9360" tIns="125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mortização da Dívid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46.984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271.655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.290.16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.714.293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.172.720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5520">
                <a:tc>
                  <a:txBody>
                    <a:bodyPr lIns="9360" rIns="9360" tIns="125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14.793.77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5.959.936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2.126.539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4.852.29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45.152.867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59000" y="25560"/>
            <a:ext cx="7093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Calibri Light"/>
              </a:rPr>
              <a:t>Despesa por Função do Governo</a:t>
            </a:r>
            <a:br>
              <a:rPr sz="32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920960" y="836640"/>
          <a:ext cx="8424720" cy="5835600"/>
        </p:xfrm>
        <a:graphic>
          <a:graphicData uri="http://schemas.openxmlformats.org/drawingml/2006/table">
            <a:tbl>
              <a:tblPr/>
              <a:tblGrid>
                <a:gridCol w="2706480"/>
                <a:gridCol w="1962360"/>
                <a:gridCol w="2071440"/>
                <a:gridCol w="1684440"/>
              </a:tblGrid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Á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08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 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08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 2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083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FERENÇ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Legisla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.064.3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7.366.696,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302.3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05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Judiciár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2.195.2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2.420.938,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25.6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Administr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7.239.5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5.765.226,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.525.6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Segurança Públ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2.736.0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5.415.614,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2.679.5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Assistência So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8.179.9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9.708.886,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1.528.9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Previdên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64.251.0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0.626.200,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.375.1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05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Saú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17.583.5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42.529.822,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4.946.2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Trabalh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1.488.2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1.837.755,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49.4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Educ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14.543.6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258.586.688,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4.043.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Cultu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.301.5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.630.571,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328.9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Direitos da Cidadan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193.3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510.897,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17.57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05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Urbanism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46.144.7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9.722.226,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3.577.4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Habit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5.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10.391,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5.1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Sanea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7.177.7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0.132.435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-7.045.2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Gestão Ambi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6.496.6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.184.963,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688.3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Comércio e Serviç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2.908.5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1.722.051,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-1.186.5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05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Desporto e Laz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5.413.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.796.854,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3.383.4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232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Encargos Especi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85680" tIns="900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66.899.2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76.084.647,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9.185.3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291960">
                <a:tc>
                  <a:txBody>
                    <a:bodyPr lIns="85680" rIns="9360" tIns="1083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TOTAL G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884.852.2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0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.045.152.8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108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2060"/>
                          </a:solidFill>
                          <a:latin typeface="Calibri"/>
                          <a:ea typeface="Arial"/>
                        </a:rPr>
                        <a:t>160.300,57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192240" y="0"/>
            <a:ext cx="121698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1063800" y="1924200"/>
          <a:ext cx="7650000" cy="2570040"/>
        </p:xfrm>
        <a:graphic>
          <a:graphicData uri="http://schemas.openxmlformats.org/drawingml/2006/table">
            <a:tbl>
              <a:tblPr/>
              <a:tblGrid>
                <a:gridCol w="2768400"/>
                <a:gridCol w="2425680"/>
                <a:gridCol w="2455920"/>
              </a:tblGrid>
              <a:tr h="574560"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vis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xecu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574560"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168.278.044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28.364.022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74920"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SPES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79.644.940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  </a:t>
                      </a: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45.152.867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846000"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uperávit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.633.104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3.211.15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46"/>
          <p:cNvSpPr/>
          <p:nvPr/>
        </p:nvSpPr>
        <p:spPr>
          <a:xfrm>
            <a:off x="762120" y="449280"/>
            <a:ext cx="91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 Light"/>
              </a:rPr>
              <a:t>RESULTADO DA EXECUÇÃO ORÇAMENTÁRIA</a:t>
            </a:r>
            <a:br>
              <a:rPr sz="2000"/>
            </a:br>
            <a:r>
              <a:rPr b="0" lang="pt-BR" sz="2500" spc="-1" strike="noStrike">
                <a:solidFill>
                  <a:srgbClr val="002060"/>
                </a:solidFill>
                <a:latin typeface="Calibri Light"/>
              </a:rPr>
              <a:t>Receitas </a:t>
            </a:r>
            <a:r>
              <a:rPr b="0" i="1" lang="pt-BR" sz="2500" spc="-1" strike="noStrike">
                <a:solidFill>
                  <a:srgbClr val="002060"/>
                </a:solidFill>
                <a:latin typeface="Calibri Light"/>
              </a:rPr>
              <a:t>versus</a:t>
            </a:r>
            <a:r>
              <a:rPr b="0" lang="pt-BR" sz="2500" spc="-1" strike="noStrike">
                <a:solidFill>
                  <a:srgbClr val="002060"/>
                </a:solidFill>
                <a:latin typeface="Calibri Light"/>
              </a:rPr>
              <a:t> Despesas</a:t>
            </a:r>
            <a:br>
              <a:rPr sz="25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202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1" name="Picture 47" descr=""/>
          <p:cNvPicPr/>
          <p:nvPr/>
        </p:nvPicPr>
        <p:blipFill>
          <a:blip r:embed="rId2"/>
          <a:stretch/>
        </p:blipFill>
        <p:spPr>
          <a:xfrm>
            <a:off x="8748720" y="3429000"/>
            <a:ext cx="2381400" cy="1476360"/>
          </a:xfrm>
          <a:prstGeom prst="rect">
            <a:avLst/>
          </a:prstGeom>
          <a:ln w="0">
            <a:noFill/>
          </a:ln>
        </p:spPr>
      </p:pic>
      <p:pic>
        <p:nvPicPr>
          <p:cNvPr id="122" name="Imagem 2" descr=""/>
          <p:cNvPicPr/>
          <p:nvPr/>
        </p:nvPicPr>
        <p:blipFill>
          <a:blip r:embed="rId3"/>
          <a:stretch/>
        </p:blipFill>
        <p:spPr>
          <a:xfrm>
            <a:off x="9026640" y="795240"/>
            <a:ext cx="1753920" cy="19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"/>
          <p:cNvSpPr/>
          <p:nvPr/>
        </p:nvSpPr>
        <p:spPr>
          <a:xfrm>
            <a:off x="1735200" y="1792440"/>
            <a:ext cx="7532640" cy="3676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236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PREVISÃO PARA O EXERCÍCIO 2024: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65040" indent="-252360" algn="ctr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pt-BR" sz="3400" spc="-1" strike="noStrike">
                <a:solidFill>
                  <a:srgbClr val="0070c0"/>
                </a:solidFill>
                <a:latin typeface="Tahoma"/>
                <a:ea typeface="Arial"/>
              </a:rPr>
              <a:t>R$ 1.364.966.201,00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65040" indent="-25236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65040" indent="-25236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Tahoma"/>
                <a:ea typeface="Arial"/>
              </a:rPr>
              <a:t>REALIZADA ATÉ AGOSTO DE 2024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 marL="365040" indent="-252360" algn="ctr">
              <a:lnSpc>
                <a:spcPct val="90000"/>
              </a:lnSpc>
              <a:spcBef>
                <a:spcPts val="850"/>
              </a:spcBef>
              <a:buClr>
                <a:srgbClr val="ff9900"/>
              </a:buClr>
              <a:buFont typeface="Arial"/>
              <a:buChar char="•"/>
              <a:tabLst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400" spc="-1" strike="noStrike">
                <a:solidFill>
                  <a:srgbClr val="ff9900"/>
                </a:solidFill>
                <a:latin typeface="Tahoma"/>
                <a:ea typeface="Arial"/>
              </a:rPr>
              <a:t>R$ 1.</a:t>
            </a:r>
            <a:r>
              <a:rPr b="0" lang="pt-B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pt-BR" sz="3400" spc="-1" strike="noStrike">
                <a:solidFill>
                  <a:srgbClr val="ff9900"/>
                </a:solidFill>
                <a:latin typeface="Tahoma"/>
                <a:ea typeface="Arial"/>
              </a:rPr>
              <a:t>438.297.133,07*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536840" y="603360"/>
            <a:ext cx="67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Receita Corrente Líqui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9408960" y="3716280"/>
            <a:ext cx="2160720" cy="1203480"/>
          </a:xfrm>
          <a:prstGeom prst="ellipse">
            <a:avLst/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Meta da RCL deve ser avaliada no encerramento do exercício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CaixaDeTexto 1"/>
          <p:cNvSpPr/>
          <p:nvPr/>
        </p:nvSpPr>
        <p:spPr>
          <a:xfrm>
            <a:off x="1740960" y="547524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Calibri"/>
              </a:rPr>
              <a:t>*RCL sem ajust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49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"/>
          <p:cNvSpPr/>
          <p:nvPr/>
        </p:nvSpPr>
        <p:spPr>
          <a:xfrm>
            <a:off x="1170000" y="304920"/>
            <a:ext cx="748836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  <a:ea typeface="Arial"/>
              </a:rPr>
              <a:t>Resultado Previdenciário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Calibri Light"/>
                <a:ea typeface="Arial"/>
              </a:rPr>
              <a:t>2º Quadrimestre 202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8037360" y="260280"/>
            <a:ext cx="2286000" cy="122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679400" y="1860480"/>
          <a:ext cx="7558200" cy="2919600"/>
        </p:xfrm>
        <a:graphic>
          <a:graphicData uri="http://schemas.openxmlformats.org/drawingml/2006/table">
            <a:tbl>
              <a:tblPr/>
              <a:tblGrid>
                <a:gridCol w="1670400"/>
                <a:gridCol w="2023920"/>
                <a:gridCol w="1944720"/>
                <a:gridCol w="1919160"/>
              </a:tblGrid>
              <a:tr h="538200">
                <a:tc rowSpan="2"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scri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2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2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2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r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r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º Quadr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56340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ceit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5.391.91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9.344.44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.116.48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1604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spes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3.843.81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4.251.07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0.612.16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8200">
                <a:tc>
                  <a:txBody>
                    <a:bodyPr lIns="85680" rIns="9360" tIns="16164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sultad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1.548.09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5.093.37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0.504.32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966"/>
                    </a:solidFill>
                  </a:tcPr>
                </a:tc>
              </a:tr>
            </a:tbl>
          </a:graphicData>
        </a:graphic>
      </p:graphicFrame>
      <p:sp>
        <p:nvSpPr>
          <p:cNvPr id="132" name="Oval 71"/>
          <p:cNvSpPr/>
          <p:nvPr/>
        </p:nvSpPr>
        <p:spPr>
          <a:xfrm>
            <a:off x="9588600" y="2540160"/>
            <a:ext cx="2146320" cy="1777680"/>
          </a:xfrm>
          <a:prstGeom prst="ellipse">
            <a:avLst/>
          </a:prstGeom>
          <a:solidFill>
            <a:srgbClr val="ffc000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Bens e Diretos do RPPS totaliza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$ 982 milhõ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04960" y="5084640"/>
          <a:ext cx="7558200" cy="716040"/>
        </p:xfrm>
        <a:graphic>
          <a:graphicData uri="http://schemas.openxmlformats.org/drawingml/2006/table">
            <a:tbl>
              <a:tblPr/>
              <a:tblGrid>
                <a:gridCol w="5329080"/>
                <a:gridCol w="2229120"/>
              </a:tblGrid>
              <a:tr h="716040">
                <a:tc>
                  <a:txBody>
                    <a:bodyPr lIns="85680" rIns="9360" tIns="16164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ceita Aporte Déficit Atuari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85680" tIns="161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8.309.873,7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-12600"/>
            <a:ext cx="12192120" cy="6870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1293840" y="1279440"/>
            <a:ext cx="95536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AUDIÊNCIA PÚBLICA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30/09/2024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</a:rPr>
              <a:t>Demonstração e Avaliação do Cumprimento das Metas Fiscais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500"/>
            </a:br>
            <a:r>
              <a:rPr b="1" lang="pt-BR" sz="3500" spc="-1" strike="noStrike">
                <a:solidFill>
                  <a:srgbClr val="ffffff"/>
                </a:solidFill>
                <a:latin typeface="Arial"/>
              </a:rPr>
              <a:t>2º Quadrimestre de 2024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"/>
          <p:cNvSpPr/>
          <p:nvPr/>
        </p:nvSpPr>
        <p:spPr>
          <a:xfrm>
            <a:off x="1312920" y="654120"/>
            <a:ext cx="854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  <a:ea typeface="Arial"/>
              </a:rPr>
              <a:t>Resultado Primário*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440" y="1800360"/>
          <a:ext cx="7056360" cy="877680"/>
        </p:xfrm>
        <a:graphic>
          <a:graphicData uri="http://schemas.openxmlformats.org/drawingml/2006/table">
            <a:tbl>
              <a:tblPr/>
              <a:tblGrid>
                <a:gridCol w="3948120"/>
                <a:gridCol w="3108240"/>
              </a:tblGrid>
              <a:tr h="420480">
                <a:tc>
                  <a:txBody>
                    <a:bodyPr lIns="9360" rIns="9360" tIns="14364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ta LDO – Resultado Primári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143640" bIns="0" anchor="b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90.676.5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57200">
                <a:tc>
                  <a:txBody>
                    <a:bodyPr lIns="9360" rIns="9360" tIns="14364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ta Alcançada 2º Quadrimestr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143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1.721.935    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792440" y="4427640"/>
          <a:ext cx="7056360" cy="879480"/>
        </p:xfrm>
        <a:graphic>
          <a:graphicData uri="http://schemas.openxmlformats.org/drawingml/2006/table">
            <a:tbl>
              <a:tblPr/>
              <a:tblGrid>
                <a:gridCol w="3948120"/>
                <a:gridCol w="3108240"/>
              </a:tblGrid>
              <a:tr h="422280">
                <a:tc>
                  <a:txBody>
                    <a:bodyPr lIns="9360" rIns="9360" tIns="14364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ta LDO – Resultado Nomin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  <a:tc>
                  <a:txBody>
                    <a:bodyPr lIns="9360" rIns="9360" tIns="143640" bIns="0" anchor="b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79.123.0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8497b0"/>
                    </a:solidFill>
                  </a:tcPr>
                </a:tc>
              </a:tr>
              <a:tr h="457200">
                <a:tc>
                  <a:txBody>
                    <a:bodyPr lIns="9360" rIns="9360" tIns="143640" bIns="0" anchor="b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ta Alcançada 2º Quadrimestr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14364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775.058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37"/>
          <p:cNvSpPr/>
          <p:nvPr/>
        </p:nvSpPr>
        <p:spPr>
          <a:xfrm>
            <a:off x="1392120" y="3429000"/>
            <a:ext cx="85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800" spc="-1" strike="noStrike">
                <a:solidFill>
                  <a:srgbClr val="002060"/>
                </a:solidFill>
                <a:latin typeface="Calibri Light"/>
                <a:ea typeface="Arial"/>
              </a:rPr>
              <a:t>Resultado Nominal*</a:t>
            </a:r>
            <a:endParaRPr b="0" lang="en-US" sz="3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 Box 38"/>
          <p:cNvSpPr/>
          <p:nvPr/>
        </p:nvSpPr>
        <p:spPr>
          <a:xfrm>
            <a:off x="1890720" y="5749920"/>
            <a:ext cx="5789520" cy="32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*Valor do resultado nominal e primário acima da linha SEM RPPS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Elipse 1"/>
          <p:cNvSpPr/>
          <p:nvPr/>
        </p:nvSpPr>
        <p:spPr>
          <a:xfrm>
            <a:off x="9193320" y="981000"/>
            <a:ext cx="2879640" cy="27352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Meta prevista conta com valor de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R$ 100 milhões de operação de crédito ainda não liberada/executad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22320" y="63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"/>
          <p:cNvSpPr/>
          <p:nvPr/>
        </p:nvSpPr>
        <p:spPr>
          <a:xfrm>
            <a:off x="900000" y="3477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Restos a Paga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74680" y="1719360"/>
          <a:ext cx="9313920" cy="3166920"/>
        </p:xfrm>
        <a:graphic>
          <a:graphicData uri="http://schemas.openxmlformats.org/drawingml/2006/table">
            <a:tbl>
              <a:tblPr/>
              <a:tblGrid>
                <a:gridCol w="4079880"/>
                <a:gridCol w="1668600"/>
                <a:gridCol w="1765080"/>
                <a:gridCol w="1800360"/>
              </a:tblGrid>
              <a:tr h="67140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sição do RP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134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ocess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134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ão Processa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13428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152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ldo a Pagar em 31/12/202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7.888.07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0.854.21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8.742.2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9976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stos Cancelado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85.99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.650.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.936.15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1308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stos pagos até o período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.529.77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4.053.72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0.583.49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1160">
                <a:tc>
                  <a:txBody>
                    <a:bodyPr lIns="0" rIns="0" tIns="13428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LDO A PAGAR EM 31/08/20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72.3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7.150.33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8.222.64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539720" y="366840"/>
            <a:ext cx="767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na Educação Básica M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49360" y="1581120"/>
          <a:ext cx="8339040" cy="3578400"/>
        </p:xfrm>
        <a:graphic>
          <a:graphicData uri="http://schemas.openxmlformats.org/drawingml/2006/table">
            <a:tbl>
              <a:tblPr/>
              <a:tblGrid>
                <a:gridCol w="5896080"/>
                <a:gridCol w="2442960"/>
              </a:tblGrid>
              <a:tr h="54936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ASE DE CÁLCUL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92.167.308,45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6500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PLICAÇÃO MÍNIMA – 25% (no ano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3.041.82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ALOR APLICAD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87.775.15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9676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CENTUAL DE APLICAÇÃO JÁ ALCANÇADO NO PERÍODO (2º QUADRIMESTRE 202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16092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7,13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06760">
                <a:tc>
                  <a:txBody>
                    <a:bodyPr lIns="90000" rIns="90000" tIns="222120" bIns="4536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ASTOS TOTAIS EM EDUCA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58.586.688,32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46" name="Picture 41" descr=""/>
          <p:cNvPicPr/>
          <p:nvPr/>
        </p:nvPicPr>
        <p:blipFill>
          <a:blip r:embed="rId1"/>
          <a:stretch/>
        </p:blipFill>
        <p:spPr>
          <a:xfrm>
            <a:off x="10174320" y="236520"/>
            <a:ext cx="176544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"/>
          <p:cNvSpPr/>
          <p:nvPr/>
        </p:nvSpPr>
        <p:spPr>
          <a:xfrm>
            <a:off x="1539720" y="366840"/>
            <a:ext cx="7672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Fundeb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58880" y="1903320"/>
          <a:ext cx="8240760" cy="3502080"/>
        </p:xfrm>
        <a:graphic>
          <a:graphicData uri="http://schemas.openxmlformats.org/drawingml/2006/table">
            <a:tbl>
              <a:tblPr/>
              <a:tblGrid>
                <a:gridCol w="5864400"/>
                <a:gridCol w="2376360"/>
              </a:tblGrid>
              <a:tr h="64296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LDO ANTERIOR – DEZ 2023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384.76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1928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RRECADAÇÃO + RENDIMENTO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8.806.41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4764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SPESAS PAG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6.401.29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67932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LDO FINANCEIRO 31/08/202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.789.88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12880">
                <a:tc>
                  <a:txBody>
                    <a:bodyPr lIns="90000" rIns="90000" tIns="22284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% APLIC EM PESSOAL MAGISTÉRIO (Mínimo de 70%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5,36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699"/>
                    </a:solidFill>
                  </a:tcPr>
                </a:tc>
              </a:tr>
            </a:tbl>
          </a:graphicData>
        </a:graphic>
      </p:graphicFrame>
      <p:pic>
        <p:nvPicPr>
          <p:cNvPr id="150" name="Picture 41" descr=""/>
          <p:cNvPicPr/>
          <p:nvPr/>
        </p:nvPicPr>
        <p:blipFill>
          <a:blip r:embed="rId2"/>
          <a:stretch/>
        </p:blipFill>
        <p:spPr>
          <a:xfrm>
            <a:off x="8545680" y="210960"/>
            <a:ext cx="2271600" cy="16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" descr=""/>
          <p:cNvPicPr/>
          <p:nvPr/>
        </p:nvPicPr>
        <p:blipFill>
          <a:blip r:embed="rId1"/>
          <a:stretch/>
        </p:blipFill>
        <p:spPr>
          <a:xfrm>
            <a:off x="2376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"/>
          <p:cNvSpPr/>
          <p:nvPr/>
        </p:nvSpPr>
        <p:spPr>
          <a:xfrm>
            <a:off x="1679400" y="52236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Aplicação na Saú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36640" y="1773360"/>
          <a:ext cx="7888320" cy="3373200"/>
        </p:xfrm>
        <a:graphic>
          <a:graphicData uri="http://schemas.openxmlformats.org/drawingml/2006/table">
            <a:tbl>
              <a:tblPr/>
              <a:tblGrid>
                <a:gridCol w="5776920"/>
                <a:gridCol w="2111400"/>
              </a:tblGrid>
              <a:tr h="54612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ASE DE CÁLCULO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87.597.027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5872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PLICAÇÃO MÍNIMA – 15% (anual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3.139.55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4756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ALOR APLICAÇÃ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3.799.47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13040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CENTUAL DE APLICAÇÃO JÁ ALCANÇADO NO PERÍODO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63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2º QUADRIMESTRE 2024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3,82%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90400">
                <a:tc>
                  <a:txBody>
                    <a:bodyPr tIns="22032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ASTOS TOTAIS REALIZADOS COM SAÚDE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08.390.81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41" descr=""/>
          <p:cNvPicPr/>
          <p:nvPr/>
        </p:nvPicPr>
        <p:blipFill>
          <a:blip r:embed="rId2"/>
          <a:stretch/>
        </p:blipFill>
        <p:spPr>
          <a:xfrm>
            <a:off x="9193320" y="122400"/>
            <a:ext cx="1836720" cy="137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1193760" y="48564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Gastos com Pessoal </a:t>
            </a:r>
            <a:r>
              <a:rPr b="1" lang="pt-BR" sz="4000" spc="-1" strike="noStrike" u="sng">
                <a:solidFill>
                  <a:srgbClr val="00b0f0"/>
                </a:solidFill>
                <a:uFillTx/>
                <a:latin typeface="Calibri Light"/>
                <a:ea typeface="Arial"/>
              </a:rPr>
              <a:t>Executivo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 – LRF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338120" y="2197080"/>
          <a:ext cx="8678880" cy="3073320"/>
        </p:xfrm>
        <a:graphic>
          <a:graphicData uri="http://schemas.openxmlformats.org/drawingml/2006/table">
            <a:tbl>
              <a:tblPr/>
              <a:tblGrid>
                <a:gridCol w="6286680"/>
                <a:gridCol w="2392200"/>
              </a:tblGrid>
              <a:tr h="727200">
                <a:tc>
                  <a:txBody>
                    <a:bodyPr lIns="90000" rIns="90000" tIns="21564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ASE DE CÁLCULO – RCL Ajust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725.8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890640">
                <a:tc>
                  <a:txBody>
                    <a:bodyPr lIns="90000" rIns="90000" tIns="2134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9,43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6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ÚLTIMOS 12 MESES – DESPESA LÍQUIDA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6.404.5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85640">
                <a:tc>
                  <a:txBody>
                    <a:bodyPr lIns="90000" rIns="90000" tIns="21564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MITE MÁXIMO (54,0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71.511.9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4200">
                <a:tc>
                  <a:txBody>
                    <a:bodyPr lIns="90000" rIns="90000" tIns="21564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MITE PRUDENCIAL (51,3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32.936.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485640">
                <a:tc>
                  <a:txBody>
                    <a:bodyPr lIns="90000" rIns="90000" tIns="21564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MITE DE ALERTA   (48,6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94.360.7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58" name="Imagem 2" descr=""/>
          <p:cNvPicPr/>
          <p:nvPr/>
        </p:nvPicPr>
        <p:blipFill>
          <a:blip r:embed="rId2"/>
          <a:stretch/>
        </p:blipFill>
        <p:spPr>
          <a:xfrm>
            <a:off x="9369360" y="155520"/>
            <a:ext cx="129564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"/>
          <p:cNvSpPr/>
          <p:nvPr/>
        </p:nvSpPr>
        <p:spPr>
          <a:xfrm>
            <a:off x="1193760" y="485640"/>
            <a:ext cx="856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Gastos com Pessoal </a:t>
            </a:r>
            <a:r>
              <a:rPr b="1" lang="pt-BR" sz="4000" spc="-1" strike="noStrike" u="sng">
                <a:solidFill>
                  <a:srgbClr val="00b0f0"/>
                </a:solidFill>
                <a:uFillTx/>
                <a:latin typeface="Calibri Light"/>
                <a:ea typeface="Arial"/>
              </a:rPr>
              <a:t>Legislativo</a:t>
            </a: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 – LRF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38120" y="2197080"/>
          <a:ext cx="8678880" cy="3073320"/>
        </p:xfrm>
        <a:graphic>
          <a:graphicData uri="http://schemas.openxmlformats.org/drawingml/2006/table">
            <a:tbl>
              <a:tblPr/>
              <a:tblGrid>
                <a:gridCol w="6286680"/>
                <a:gridCol w="2392200"/>
              </a:tblGrid>
              <a:tr h="727200">
                <a:tc>
                  <a:txBody>
                    <a:bodyPr lIns="90000" rIns="90000" tIns="21564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ASE DE CÁLCULO – RCL Ajustada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725.84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890640">
                <a:tc>
                  <a:txBody>
                    <a:bodyPr lIns="90000" rIns="90000" tIns="21348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GASTOS COM PESSOAL –  </a:t>
                      </a:r>
                      <a:r>
                        <a:rPr b="1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,47%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6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7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(ÚLTIMOS 12 MESES – DESPESA LÍQUIDA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360" rIns="85680" tIns="17100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73.1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485640">
                <a:tc>
                  <a:txBody>
                    <a:bodyPr lIns="90000" rIns="90000" tIns="21564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MITE MÁXIMO (6,0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.723.5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4200">
                <a:tc>
                  <a:txBody>
                    <a:bodyPr lIns="90000" rIns="90000" tIns="21564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MITE PRUDENCIAL (5,7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437.3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bdbdb"/>
                    </a:solidFill>
                  </a:tcPr>
                </a:tc>
              </a:tr>
              <a:tr h="485640">
                <a:tc>
                  <a:txBody>
                    <a:bodyPr lIns="90000" rIns="90000" tIns="215640" bIns="4500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IMITE DE ALERTA   (5,4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.151.19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6e6"/>
                    </a:solidFill>
                  </a:tcPr>
                </a:tc>
              </a:tr>
            </a:tbl>
          </a:graphicData>
        </a:graphic>
      </p:graphicFrame>
      <p:pic>
        <p:nvPicPr>
          <p:cNvPr id="162" name="Imagem 1" descr=""/>
          <p:cNvPicPr/>
          <p:nvPr/>
        </p:nvPicPr>
        <p:blipFill>
          <a:blip r:embed="rId2"/>
          <a:stretch/>
        </p:blipFill>
        <p:spPr>
          <a:xfrm>
            <a:off x="9369360" y="155520"/>
            <a:ext cx="129564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/>
          <p:cNvSpPr/>
          <p:nvPr/>
        </p:nvSpPr>
        <p:spPr>
          <a:xfrm>
            <a:off x="1060560" y="51264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Dívida Públic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136600" y="1341360"/>
          <a:ext cx="6985080" cy="2714760"/>
        </p:xfrm>
        <a:graphic>
          <a:graphicData uri="http://schemas.openxmlformats.org/drawingml/2006/table">
            <a:tbl>
              <a:tblPr/>
              <a:tblGrid>
                <a:gridCol w="4251600"/>
                <a:gridCol w="2733480"/>
              </a:tblGrid>
              <a:tr h="527040">
                <a:tc gridSpan="2">
                  <a:txBody>
                    <a:bodyPr lIns="9360" rIns="9360" tIns="16056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aldo da dívida em 31/08/2024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>
                  <a:txBody>
                    <a:bodyPr lIns="9360" rIns="9360" tIns="1605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262626"/>
                          </a:solidFill>
                          <a:latin typeface="Calibri"/>
                          <a:ea typeface="Arial"/>
                        </a:rPr>
                        <a:t>Dívida Contratu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1.526.911,6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4880">
                <a:tc>
                  <a:txBody>
                    <a:bodyPr lIns="9360" rIns="9360" tIns="1605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262626"/>
                          </a:solidFill>
                          <a:latin typeface="Calibri"/>
                          <a:ea typeface="Arial"/>
                        </a:rPr>
                        <a:t>Outras Dívid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299.374,1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09400">
                <a:tc>
                  <a:txBody>
                    <a:bodyPr lIns="9360" rIns="9360" tIns="1605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262626"/>
                          </a:solidFill>
                          <a:latin typeface="Calibri"/>
                          <a:ea typeface="Arial"/>
                        </a:rPr>
                        <a:t>Precatório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1605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0,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63680">
                <a:tc>
                  <a:txBody>
                    <a:bodyPr lIns="9360" rIns="9360" tIns="16056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262626"/>
                          </a:solidFill>
                          <a:latin typeface="Calibri"/>
                          <a:ea typeface="Arial"/>
                        </a:rPr>
                        <a:t>TOTAL DÍVIDA CONSOLIDADA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160560" bIns="0" anchor="ctr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4.826.285,76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24"/>
          <p:cNvSpPr/>
          <p:nvPr/>
        </p:nvSpPr>
        <p:spPr>
          <a:xfrm>
            <a:off x="2727360" y="4610160"/>
            <a:ext cx="5632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  <a:ea typeface="Arial"/>
              </a:rPr>
              <a:t>% Dívida Consolidada Sobre a RCL Ajustada = 10,10%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Retângulo 1"/>
          <p:cNvSpPr/>
          <p:nvPr/>
        </p:nvSpPr>
        <p:spPr>
          <a:xfrm>
            <a:off x="2136600" y="5254560"/>
            <a:ext cx="7056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500" spc="-1" strike="noStrike">
                <a:solidFill>
                  <a:srgbClr val="0070c0"/>
                </a:solidFill>
                <a:latin typeface="Calibri"/>
              </a:rPr>
              <a:t>LIMITE DEFINIDO POR RESOLUÇÃO DO SENADO FEDERAL - 120% = R$ </a:t>
            </a:r>
            <a:r>
              <a:rPr b="0" lang="pt-BR" sz="1600" spc="-1" strike="noStrike">
                <a:solidFill>
                  <a:srgbClr val="0070c0"/>
                </a:solidFill>
                <a:latin typeface="Calibri"/>
              </a:rPr>
              <a:t>1.721.208.950,70</a:t>
            </a:r>
            <a:r>
              <a:rPr b="0" lang="pt-BR" sz="15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2"/>
          <p:cNvSpPr/>
          <p:nvPr/>
        </p:nvSpPr>
        <p:spPr>
          <a:xfrm>
            <a:off x="1311120" y="692280"/>
            <a:ext cx="698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44546a"/>
                </a:solidFill>
                <a:latin typeface="Calibri"/>
                <a:ea typeface="Arial"/>
              </a:rPr>
              <a:t>Operações de Crédito</a:t>
            </a:r>
            <a:endParaRPr b="0" lang="en-US" sz="35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855880" y="4437000"/>
          <a:ext cx="6624720" cy="936720"/>
        </p:xfrm>
        <a:graphic>
          <a:graphicData uri="http://schemas.openxmlformats.org/drawingml/2006/table">
            <a:tbl>
              <a:tblPr/>
              <a:tblGrid>
                <a:gridCol w="4176720"/>
                <a:gridCol w="2448000"/>
              </a:tblGrid>
              <a:tr h="488880">
                <a:tc>
                  <a:txBody>
                    <a:bodyPr tIns="7848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contraído no exercício (0,00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7848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  <a:tr h="447840">
                <a:tc>
                  <a:txBody>
                    <a:bodyPr tIns="7632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mite definido pelo Senado (16,00%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  <a:tc>
                  <a:txBody>
                    <a:bodyPr tIns="7848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9.494.526,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144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f2cc"/>
                    </a:solidFill>
                  </a:tcPr>
                </a:tc>
              </a:tr>
            </a:tbl>
          </a:graphicData>
        </a:graphic>
      </p:graphicFrame>
      <p:sp>
        <p:nvSpPr>
          <p:cNvPr id="171" name="AutoShape 20"/>
          <p:cNvSpPr/>
          <p:nvPr/>
        </p:nvSpPr>
        <p:spPr>
          <a:xfrm>
            <a:off x="2144880" y="1658880"/>
            <a:ext cx="7880040" cy="2087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cap="sq"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té o 2º Quadrimestre de 2024 </a:t>
            </a:r>
            <a:r>
              <a:rPr b="0" lang="pt-BR" sz="2500" spc="-1" strike="noStrike">
                <a:solidFill>
                  <a:srgbClr val="2d2db9"/>
                </a:solidFill>
                <a:latin typeface="Calibri"/>
              </a:rPr>
              <a:t>NÃO</a:t>
            </a: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  foram liberados recursos de Operações de Crédito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"/>
          <p:cNvSpPr/>
          <p:nvPr/>
        </p:nvSpPr>
        <p:spPr>
          <a:xfrm>
            <a:off x="1112760" y="69228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  <a:ea typeface="Arial"/>
              </a:rPr>
              <a:t>Publicaçõ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208160" y="1571760"/>
            <a:ext cx="85690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  <a:ea typeface="Arial"/>
              </a:rPr>
              <a:t>Site: </a:t>
            </a:r>
            <a:r>
              <a:rPr b="0" lang="pt-BR" sz="3400" spc="-1" strike="noStrike">
                <a:solidFill>
                  <a:srgbClr val="3333cc"/>
                </a:solidFill>
                <a:latin typeface="Calibri"/>
                <a:ea typeface="Arial"/>
              </a:rPr>
              <a:t>www.bc.sc.gov.br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  <a:ea typeface="Arial"/>
              </a:rPr>
              <a:t>    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ffcc66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4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lang="pt-BR" sz="3400" spc="-1" strike="noStrike">
                <a:solidFill>
                  <a:srgbClr val="002060"/>
                </a:solidFill>
                <a:latin typeface="Calibri"/>
                <a:ea typeface="Arial"/>
              </a:rPr>
              <a:t>DOM SC – 27/09/2024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RREO - 4° BIMESTRE 2024 - Nº 6465811 - 27/09/2024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RGF - 2° QUADRIMESTRE 2024 - Nº 6465833 - 27/09/2024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2060"/>
                </a:solidFill>
                <a:latin typeface="Calibri"/>
                <a:ea typeface="Arial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"/>
          <p:cNvSpPr/>
          <p:nvPr/>
        </p:nvSpPr>
        <p:spPr>
          <a:xfrm>
            <a:off x="917640" y="131760"/>
            <a:ext cx="1042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Fundamento Legal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681200" y="1000080"/>
            <a:ext cx="9101160" cy="40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LC 101/2000 - LRF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Art. 9º,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§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 4° - Até o final dos meses de </a:t>
            </a:r>
            <a:r>
              <a:rPr b="1" lang="pt-BR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aio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pt-BR" sz="2700" spc="-1" strike="noStrike" u="sng">
                <a:solidFill>
                  <a:srgbClr val="00cc99"/>
                </a:solidFill>
                <a:uFillTx/>
                <a:latin typeface="Calibri"/>
                <a:ea typeface="Arial"/>
              </a:rPr>
              <a:t>setembro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 e </a:t>
            </a:r>
            <a:r>
              <a:rPr b="1" lang="pt-BR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evereiro,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 o Poder Executivo demonstrará e avaliará o cumprimento das metas fiscais de cada quadrimestre, em audiência pública ..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Art. 48 - São instrumentos de transparências: RREO e RGF..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§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1º Inc. I - A transparência será assegurada... incentivo à participação popular e realização de </a:t>
            </a:r>
            <a:r>
              <a:rPr b="1" lang="pt-BR" sz="27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udiências públicas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  <a:ea typeface="Arial"/>
              </a:rPr>
              <a:t>..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"/>
          <p:cNvSpPr/>
          <p:nvPr/>
        </p:nvSpPr>
        <p:spPr>
          <a:xfrm>
            <a:off x="1825560" y="444600"/>
            <a:ext cx="82692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Garamond"/>
                <a:ea typeface="Arial"/>
              </a:rPr>
              <a:t>Audiência Pública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  <a:ea typeface="Arial"/>
              </a:rPr>
              <a:t>“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  <a:ea typeface="Arial"/>
              </a:rPr>
              <a:t>Demonstração e Avaliação do Cumprimento da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pt-BR" sz="2600" spc="-1" strike="noStrike">
                <a:solidFill>
                  <a:srgbClr val="002060"/>
                </a:solidFill>
                <a:latin typeface="Tahoma"/>
                <a:ea typeface="Arial"/>
              </a:rPr>
              <a:t>Metas Fiscais: 2º Quadrimestre de 2024”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9900"/>
                </a:solidFill>
                <a:latin typeface="Tahoma"/>
                <a:ea typeface="Arial"/>
              </a:rPr>
              <a:t>AGRADECEMOS SUA ATENÇÃ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Secretaria da Fazend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Departamento Contábil Financeir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2"/>
          <a:stretch/>
        </p:blipFill>
        <p:spPr>
          <a:xfrm>
            <a:off x="8475840" y="4675320"/>
            <a:ext cx="2317680" cy="8856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152360" y="4675320"/>
            <a:ext cx="2114640" cy="47484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Calibri"/>
              </a:rPr>
              <a:t>Apresentação: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1579680" y="4967280"/>
            <a:ext cx="370188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47 3267-700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Calibri"/>
              </a:rPr>
              <a:t>www.bc.sc.gov.b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Rua Dinamarca, 320 - Paço Municipa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Calibri"/>
              </a:rPr>
              <a:t>88338-900 - Balneário Camboriú - SC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2232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838080" y="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Objetivos da Audiênc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384280" y="5072040"/>
            <a:ext cx="8244000" cy="146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Permitir que a sociedade conheça, acompanhe e analise o desempenho dos seus governant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384280" y="1195560"/>
            <a:ext cx="103032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Prestação de contas à população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Maior transparência dos atos do Governo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Facilitar o acesso às informações pública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 Light"/>
              </a:rPr>
              <a:t>Divulgação dos resultados de forma mais clara e simplificad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 rot="420000">
            <a:off x="528480" y="555120"/>
            <a:ext cx="185436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m 6" descr=""/>
          <p:cNvPicPr/>
          <p:nvPr/>
        </p:nvPicPr>
        <p:blipFill>
          <a:blip r:embed="rId1"/>
          <a:stretch/>
        </p:blipFill>
        <p:spPr>
          <a:xfrm>
            <a:off x="144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988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2060"/>
                </a:solidFill>
                <a:latin typeface="Calibri Light"/>
              </a:rPr>
              <a:t>Abordagens – RREO e RGF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68520" y="3179880"/>
          <a:ext cx="2684520" cy="1004760"/>
        </p:xfrm>
        <a:graphic>
          <a:graphicData uri="http://schemas.openxmlformats.org/drawingml/2006/table">
            <a:tbl>
              <a:tblPr/>
              <a:tblGrid>
                <a:gridCol w="2684520"/>
              </a:tblGrid>
              <a:tr h="100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ÕES ORÇAMENTÁRI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180040" y="5081760"/>
          <a:ext cx="2135160" cy="1149120"/>
        </p:xfrm>
        <a:graphic>
          <a:graphicData uri="http://schemas.openxmlformats.org/drawingml/2006/table">
            <a:tbl>
              <a:tblPr/>
              <a:tblGrid>
                <a:gridCol w="2135160"/>
              </a:tblGrid>
              <a:tr h="114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S E DESPESAS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8242200" y="3067200"/>
          <a:ext cx="2684520" cy="1047600"/>
        </p:xfrm>
        <a:graphic>
          <a:graphicData uri="http://schemas.openxmlformats.org/drawingml/2006/table">
            <a:tbl>
              <a:tblPr/>
              <a:tblGrid>
                <a:gridCol w="2684520"/>
              </a:tblGrid>
              <a:tr h="104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AS PREVISTAS E EXECUTADAS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329080" y="1236600"/>
          <a:ext cx="1836720" cy="897120"/>
        </p:xfrm>
        <a:graphic>
          <a:graphicData uri="http://schemas.openxmlformats.org/drawingml/2006/table">
            <a:tbl>
              <a:tblPr/>
              <a:tblGrid>
                <a:gridCol w="1836720"/>
              </a:tblGrid>
              <a:tr h="897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1160"/>
                          <a:tab algn="l" pos="1825560"/>
                          <a:tab algn="l" pos="2739960"/>
                          <a:tab algn="l" pos="3654360"/>
                          <a:tab algn="l" pos="4568760"/>
                          <a:tab algn="l" pos="5483160"/>
                          <a:tab algn="l" pos="6397560"/>
                          <a:tab algn="l" pos="7311960"/>
                          <a:tab algn="l" pos="8226360"/>
                          <a:tab algn="l" pos="9140760"/>
                          <a:tab algn="l" pos="10055160"/>
                          <a:tab algn="l" pos="10058400"/>
                        </a:tabLst>
                      </a:pPr>
                      <a:r>
                        <a:rPr b="1" lang="pt-B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ÃO FISCAL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7" name="Setas cruzadas 2"/>
          <p:cNvSpPr/>
          <p:nvPr/>
        </p:nvSpPr>
        <p:spPr>
          <a:xfrm>
            <a:off x="4251240" y="2174760"/>
            <a:ext cx="3989520" cy="2830680"/>
          </a:xfrm>
          <a:prstGeom prst="pie">
            <a:avLst/>
          </a:prstGeom>
          <a:solidFill>
            <a:srgbClr val="59595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REO 4º Bim 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alibri"/>
              </a:rPr>
              <a:t>RFG 2º Quadr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22320" y="-14436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1158840" y="131760"/>
            <a:ext cx="687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Desempenho das Receitas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202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9018720" y="1646280"/>
            <a:ext cx="2057400" cy="916920"/>
          </a:xfrm>
          <a:prstGeom prst="rect">
            <a:avLst/>
          </a:prstGeom>
          <a:solidFill>
            <a:srgbClr val="00206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d6dce5"/>
                </a:solidFill>
                <a:latin typeface="Calibri"/>
              </a:rPr>
              <a:t>Média mensal de arrecadação:          R$ 166.045.40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875800" y="2695680"/>
            <a:ext cx="2343240" cy="1191240"/>
          </a:xfrm>
          <a:prstGeom prst="rect">
            <a:avLst/>
          </a:prstGeom>
          <a:solidFill>
            <a:srgbClr val="c55a11"/>
          </a:solidFill>
          <a:ln cap="sq"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Calibri"/>
              </a:rPr>
              <a:t>Arrecadado 13,7% acima da meta  estimada para o quadrimest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58920" y="1646280"/>
          <a:ext cx="7502400" cy="3125880"/>
        </p:xfrm>
        <a:graphic>
          <a:graphicData uri="http://schemas.openxmlformats.org/drawingml/2006/table">
            <a:tbl>
              <a:tblPr/>
              <a:tblGrid>
                <a:gridCol w="2533680"/>
                <a:gridCol w="1655640"/>
                <a:gridCol w="1728720"/>
                <a:gridCol w="1584360"/>
              </a:tblGrid>
              <a:tr h="574560"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ceit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revi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rrecad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iferenç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627120">
                <a:tc>
                  <a:txBody>
                    <a:bodyPr lIns="8568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rrent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031.058.1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117.986.1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6.928.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7640">
                <a:tc>
                  <a:txBody>
                    <a:bodyPr lIns="8568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rrentes de Operação Intraorçamentár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6.035.4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8.319.3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.283.8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666720">
                <a:tc>
                  <a:txBody>
                    <a:bodyPr lIns="85680" rIns="9360" tIns="131400" bIns="0" anchor="ctr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1.184.4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2.058.5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0.874.12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9840">
                <a:tc>
                  <a:txBody>
                    <a:bodyPr lIns="85680" rIns="9360" tIns="131400" bIns="0" anchor="ctr" anchorCtr="1">
                      <a:noAutofit/>
                    </a:bodyPr>
                    <a:p>
                      <a:pPr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 anchorCtr="1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168.278.04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 anchorCtr="1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328.364.0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360" rIns="9360" tIns="131400" bIns="0" anchor="ctr" anchorCtr="1">
                      <a:noAutofit/>
                    </a:bodyPr>
                    <a:p>
                      <a:pPr algn="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60.085.97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</a:tbl>
          </a:graphicData>
        </a:graphic>
      </p:graphicFrame>
      <p:pic>
        <p:nvPicPr>
          <p:cNvPr id="74" name="Picture 76" descr=""/>
          <p:cNvPicPr/>
          <p:nvPr/>
        </p:nvPicPr>
        <p:blipFill>
          <a:blip r:embed="rId2"/>
          <a:stretch/>
        </p:blipFill>
        <p:spPr>
          <a:xfrm>
            <a:off x="9018720" y="4035600"/>
            <a:ext cx="2116080" cy="1311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7147080" y="173160"/>
            <a:ext cx="135864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384120" y="255600"/>
            <a:ext cx="114253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Receita LOA – Arrecadado </a:t>
            </a:r>
            <a:r>
              <a:rPr b="0" i="1" lang="pt-BR" sz="4000" spc="-1" strike="noStrike">
                <a:solidFill>
                  <a:srgbClr val="002060"/>
                </a:solidFill>
                <a:latin typeface="Calibri Light"/>
              </a:rPr>
              <a:t>x</a:t>
            </a: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 A arrecada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alibri Light"/>
              </a:rPr>
              <a:t>2º Quadrimestre de 2024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2382840" y="1566720"/>
            <a:ext cx="8467560" cy="3724560"/>
          </a:xfrm>
          <a:prstGeom prst="rect">
            <a:avLst/>
          </a:prstGeom>
          <a:ln w="0">
            <a:noFill/>
          </a:ln>
        </p:spPr>
      </p:pic>
      <p:pic>
        <p:nvPicPr>
          <p:cNvPr id="79" name="Gráfico 1" descr=""/>
          <p:cNvPicPr/>
          <p:nvPr/>
        </p:nvPicPr>
        <p:blipFill>
          <a:blip r:embed="rId3"/>
          <a:stretch/>
        </p:blipFill>
        <p:spPr>
          <a:xfrm>
            <a:off x="1566720" y="1566720"/>
            <a:ext cx="9064800" cy="3340080"/>
          </a:xfrm>
          <a:prstGeom prst="rect">
            <a:avLst/>
          </a:prstGeom>
          <a:ln w="0">
            <a:noFill/>
          </a:ln>
        </p:spPr>
      </p:pic>
      <p:sp>
        <p:nvSpPr>
          <p:cNvPr id="80" name="CaixaDeTexto 2"/>
          <p:cNvSpPr/>
          <p:nvPr/>
        </p:nvSpPr>
        <p:spPr>
          <a:xfrm>
            <a:off x="6126120" y="4087800"/>
            <a:ext cx="7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72,56%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838080" y="108000"/>
            <a:ext cx="1051560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2060"/>
                </a:solidFill>
                <a:latin typeface="Calibri Light"/>
              </a:rPr>
              <a:t>Evolução da Receita Total</a:t>
            </a:r>
            <a:br>
              <a:rPr sz="4000"/>
            </a:br>
            <a:r>
              <a:rPr b="0" lang="pt-BR" sz="2200" spc="-1" strike="noStrike">
                <a:solidFill>
                  <a:srgbClr val="002060"/>
                </a:solidFill>
                <a:latin typeface="Calibri Light"/>
              </a:rPr>
              <a:t>2º Quadrimestre de 2024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68600" y="1433520"/>
          <a:ext cx="6769080" cy="4083120"/>
        </p:xfrm>
        <a:graphic>
          <a:graphicData uri="http://schemas.openxmlformats.org/drawingml/2006/table">
            <a:tbl>
              <a:tblPr/>
              <a:tblGrid>
                <a:gridCol w="2449440"/>
                <a:gridCol w="2406600"/>
                <a:gridCol w="1913040"/>
              </a:tblGrid>
              <a:tr h="617400"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erío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alizada R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360" rIns="9360" tIns="131400" bIns="0" anchor="ctr">
                      <a:noAutofit/>
                    </a:bodyPr>
                    <a:p>
                      <a:pPr algn="ctr">
                        <a:lnSpc>
                          <a:spcPct val="69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volução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4472c4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446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3.281.3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5.994.04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.282.7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2.965.4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2.272.7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7.367.4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8.922.4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4472c4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º Quad 20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4472c4"/>
                      </a:solidFill>
                    </a:lnT>
                    <a:lnB w="14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28.364.0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4472c4"/>
                      </a:solidFill>
                    </a:lnT>
                    <a:lnB w="1440">
                      <a:solidFill>
                        <a:srgbClr val="4472c4"/>
                      </a:solidFill>
                    </a:lnB>
                    <a:noFill/>
                  </a:tcPr>
                </a:tc>
                <a:tc>
                  <a:txBody>
                    <a:bodyPr lIns="9360" rIns="8568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ctr" marL="9360" marR="8568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4472c4"/>
                      </a:solidFill>
                    </a:lnT>
                    <a:lnB w="1440">
                      <a:solidFill>
                        <a:srgbClr val="4472c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21698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371520" y="28440"/>
            <a:ext cx="114253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pt-BR" sz="4000" spc="-1" strike="noStrike">
                <a:solidFill>
                  <a:srgbClr val="002060"/>
                </a:solidFill>
                <a:latin typeface="Calibri Light"/>
              </a:rPr>
              <a:t>Evolução Gráfica da Receita Realiza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2382840" y="1566720"/>
            <a:ext cx="8467560" cy="3724560"/>
          </a:xfrm>
          <a:prstGeom prst="rect">
            <a:avLst/>
          </a:prstGeom>
          <a:ln w="0">
            <a:noFill/>
          </a:ln>
        </p:spPr>
      </p:pic>
      <p:sp>
        <p:nvSpPr>
          <p:cNvPr id="87" name="CaixaDeTexto 1"/>
          <p:cNvSpPr/>
          <p:nvPr/>
        </p:nvSpPr>
        <p:spPr>
          <a:xfrm>
            <a:off x="1609200" y="5275440"/>
            <a:ext cx="8949960" cy="733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De modo geral a receita pública realizada até o momento apresenta-se acima da linha de tendência projetada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considerando a receia realizada entre os anos de 2017 até 2024. Devemos considerar ainda, a pandemia do COVID-19,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Calibri"/>
              </a:rPr>
              <a:t>entre os anos de 2020 e 2022, que afetou muito negativamente a arrecadação municipal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Gráfico 1" descr=""/>
          <p:cNvPicPr/>
          <p:nvPr/>
        </p:nvPicPr>
        <p:blipFill>
          <a:blip r:embed="rId3"/>
          <a:stretch/>
        </p:blipFill>
        <p:spPr>
          <a:xfrm>
            <a:off x="487440" y="1133640"/>
            <a:ext cx="11217240" cy="373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6T18:19:47Z</dcterms:created>
  <dc:creator>Usuário do Microsoft Office</dc:creator>
  <dc:description/>
  <dc:language>en-US</dc:language>
  <cp:lastModifiedBy>Câmara de Vereadores</cp:lastModifiedBy>
  <cp:lastPrinted>2017-05-25T12:03:44Z</cp:lastPrinted>
  <dcterms:modified xsi:type="dcterms:W3CDTF">2024-09-27T20:13:50Z</dcterms:modified>
  <cp:revision>429</cp:revision>
  <dc:subject/>
  <dc:title>Apresentação do PowerPoint</dc:title>
</cp:coreProperties>
</file>