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3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B1A-4ED3-4D20-B964-23E57A4D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1766-6F3C-4596-8F0C-6D3C3A1B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FE-E54A-402D-BC56-F1B462E2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6F0-2BF3-4C85-9D8D-E11A281B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D1F-21F9-40F9-BCEC-4ADECA3C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B6A-9BE3-42AB-8D8D-B96028AA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DCC-9B2A-4732-8CD0-E78E121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461-F2E1-45D2-A732-D9C3603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223-D8B4-4526-9CF4-6E7BD5A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62E-0792-4A74-9F94-CFCE398D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85B-F5D5-4B83-A91A-DE889F2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5D5-AE95-470C-A37B-B0A0C3A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172200"/>
            <a:ext cx="7772400" cy="53352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46b16a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FEITURA MUNICIPAL DE BALNEÁRIO CAMBORI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DIÊNCIA PÚBLICA – 1º QUADRIMESTRE D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6F8-048D-45BB-A98E-52A05C571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211400" cy="685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685800" y="1066680"/>
            <a:ext cx="0" cy="50292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8458200" y="1066680"/>
            <a:ext cx="0" cy="50292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8.jpeg"/><Relationship Id="rId11" Type="http://schemas.openxmlformats.org/officeDocument/2006/relationships/image" Target="../media/image18.jpeg"/><Relationship Id="rId12" Type="http://schemas.openxmlformats.org/officeDocument/2006/relationships/image" Target="../media/image18.jpe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1600200"/>
            <a:ext cx="64771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elvetica-Bold"/>
              </a:rPr>
              <a:t>Audiência Públ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Helvetica-Bold"/>
              </a:rPr>
              <a:t>1º Quadrimestre de 2010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-Bold"/>
              </a:rPr>
              <a:t>art. 9º, § 4º, da Lei Complementar Federal nº 101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4572000"/>
            <a:ext cx="7467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Helvetica-Bold"/>
              </a:rPr>
              <a:t>Relatório de Gestão Fiscal – RGF do 1º Quadrimestre/201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Helvetica-Bold"/>
              </a:rPr>
              <a:t>Relatório Resumido da Execução Orçamentária – RREO 2º Bimestre/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C9B-748F-499C-BC90-E1E834B486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PES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85800" y="1523880"/>
          <a:ext cx="7772400" cy="4525920"/>
        </p:xfrm>
        <a:graphic>
          <a:graphicData uri="http://schemas.openxmlformats.org/drawingml/2006/table">
            <a:tbl>
              <a:tblPr/>
              <a:tblGrid>
                <a:gridCol w="1244520"/>
                <a:gridCol w="1575000"/>
                <a:gridCol w="1295280"/>
                <a:gridCol w="1295280"/>
                <a:gridCol w="1371600"/>
                <a:gridCol w="9907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ia Econôm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categoria Econôm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ssoal e Encargos Socia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592.0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561.7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80.5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ros e Encargos da Dív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5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3.4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.2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as Despesas Corr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389.07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.080.6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881.2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3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estimen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550.1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97.9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36.8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rtização da Dívid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789.9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33.7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0.9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263.8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087.5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.553.9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6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olução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747720" y="99072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es Liquidados - 1º Quadrimestre de 2008 a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7C5-ED57-4BED-9EAD-95D93E9B69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PES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14400" y="1066680"/>
          <a:ext cx="7315200" cy="4876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1066680"/>
                    <a:ext cx="73152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473-C5D7-4D86-89AE-0417E06297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PES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838080" y="1716120"/>
          <a:ext cx="7391520" cy="4151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716120"/>
                    <a:ext cx="73915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343960" y="1184400"/>
            <a:ext cx="4358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o Fixado X Execu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9548-4388-4ACB-8E5B-6764744836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mparativo Receitas e Despes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14400" y="1295280"/>
          <a:ext cx="7315200" cy="4572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1295280"/>
                    <a:ext cx="7315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DC3-C480-45A3-8D76-2B54BB8AF3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Corrente Líqui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5638680"/>
            <a:ext cx="70866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 Previsto para o exercício de 2010:  R$ 288.173.54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1287360"/>
          <a:ext cx="7162560" cy="4283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1287360"/>
                    <a:ext cx="716256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6C6-2CF5-4874-801E-80E17BD9E8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sultado Previdenciá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143000" y="5029200"/>
          <a:ext cx="6858000" cy="851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5029200"/>
                    <a:ext cx="6858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62120" y="1295280"/>
          <a:ext cx="7567560" cy="35546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120" y="1295280"/>
                    <a:ext cx="756756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73E-3924-4F2F-A165-6157A87CDB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sultado Nominal e Primár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1066680" y="1397160"/>
          <a:ext cx="6553440" cy="4063680"/>
        </p:xfrm>
        <a:graphic>
          <a:graphicData uri="http://schemas.openxmlformats.org/drawingml/2006/table">
            <a:tbl>
              <a:tblPr/>
              <a:tblGrid>
                <a:gridCol w="2184480"/>
                <a:gridCol w="2184480"/>
                <a:gridCol w="2184480"/>
              </a:tblGrid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 Fixad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 Executada até o Períod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M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40.0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3.811.47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MÁRI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2.521.45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901.1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123-70A2-4B0C-BAA0-C7145621B6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stos a Pag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838080" y="1752480"/>
          <a:ext cx="7461360" cy="3538800"/>
        </p:xfrm>
        <a:graphic>
          <a:graphicData uri="http://schemas.openxmlformats.org/drawingml/2006/table">
            <a:tbl>
              <a:tblPr/>
              <a:tblGrid>
                <a:gridCol w="4392720"/>
                <a:gridCol w="3068640"/>
              </a:tblGrid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1/12/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2.431.2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Cancel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82.85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gos no perí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7.939.2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do a pagar em 30/04/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4.309.0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55A-CF98-4812-B3E2-2B657E5CF4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licação em Educa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838080" y="1066680"/>
          <a:ext cx="7543800" cy="3907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066680"/>
                    <a:ext cx="7543800" cy="39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752480" y="4952880"/>
          <a:ext cx="5562720" cy="6033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4952880"/>
                    <a:ext cx="55627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739240" y="56386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 para o exercício: 29,6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79A-D54A-4131-B443-5A2902DFD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UNDE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914400" y="1295280"/>
          <a:ext cx="7308720" cy="4372200"/>
        </p:xfrm>
        <a:graphic>
          <a:graphicData uri="http://schemas.openxmlformats.org/drawingml/2006/table">
            <a:tbl>
              <a:tblPr/>
              <a:tblGrid>
                <a:gridCol w="4419720"/>
                <a:gridCol w="288900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do disponível 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1/12/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083.1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/Rendimen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.800.0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agamentos Efetu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051.38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plicação Pessoal Magistério (mínimo 6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6,61%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Saldo disponível em 30/04/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831.79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07C-7404-4E9F-911A-F14A32355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19280" y="1413000"/>
            <a:ext cx="61927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RF, art. 9º, § 4° - Até o final dos meses de maio, setembro e fevereiro, o    Poder Executivo     demonstrará   e    avaliará o cumprimento das    metas fiscais de cada quadrimestre, em audiência     pública na comissão referida   no § 1º do art. 166 da Constituição ou      equivalente nas Casas Legislativas estaduais e municipai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undamentação Le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C7A-2B0D-4BB7-ADEB-E8674CF4B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plicação em Saú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762120" y="914400"/>
          <a:ext cx="7543800" cy="3979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914400"/>
                    <a:ext cx="754380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981080" y="4876920"/>
          <a:ext cx="5715000" cy="536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1080" y="4876920"/>
                    <a:ext cx="571500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739240" y="5638680"/>
            <a:ext cx="39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 para o exercício: 21,2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74C-C330-4E77-AF43-EA2EECA3A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astos com Pessoal - Executiv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066680" y="1066680"/>
          <a:ext cx="6986880" cy="36864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1066680"/>
                    <a:ext cx="6986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066680" y="4876920"/>
          <a:ext cx="6858000" cy="97776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4876920"/>
                    <a:ext cx="685800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143000" y="586728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 para o exercício: 39,6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862D-0A59-4BF1-A762-AFF04F84F4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ÍVIDA PÚBL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838080" y="1143000"/>
          <a:ext cx="7467840" cy="4724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143000"/>
                    <a:ext cx="7467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71DF-BCFF-4973-B2B7-0775D1B8DB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ÍVIDA PÚBL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38080" y="1073160"/>
          <a:ext cx="7467840" cy="5018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073160"/>
                    <a:ext cx="746784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E1C3-7179-4B50-A6BA-9ED7E187D0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PERAÇÃO DE CRÉDI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38080" y="1066680"/>
          <a:ext cx="7239240" cy="4664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066680"/>
                    <a:ext cx="723924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AAC3-2B38-4CB3-B718-6C2E1B38C4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33720" y="1523880"/>
            <a:ext cx="51814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s números apresentados apontam para o cumprimento das metas estabelecidas e a manutenção do equilíbrio fiscal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235E-A9F6-4B9F-BF96-1BD40391FF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3880" y="1905120"/>
            <a:ext cx="647712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Times New Roman"/>
              </a:rPr>
              <a:t>Os relatórios de Gestão Fiscal e Relatório Resumido da Execução Orçamentária foram publicados no Jornal Diarinho do Litoral no dia 26/05/2010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ublicaçõ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4343400"/>
            <a:ext cx="7010280" cy="123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razo Legal: até 30 dias após encerramento do período (bimestre e quadrimestr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849-4A09-45B6-BEEA-115D0BCE4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8080" y="1219320"/>
          <a:ext cx="7391520" cy="4743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219320"/>
                    <a:ext cx="739152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D79-3ABC-4DBC-AFBF-D4DC704807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85800" y="1676520"/>
          <a:ext cx="7772400" cy="4357440"/>
        </p:xfrm>
        <a:graphic>
          <a:graphicData uri="http://schemas.openxmlformats.org/drawingml/2006/table">
            <a:tbl>
              <a:tblPr/>
              <a:tblGrid>
                <a:gridCol w="1244520"/>
                <a:gridCol w="1575000"/>
                <a:gridCol w="1295280"/>
                <a:gridCol w="1295280"/>
                <a:gridCol w="1371600"/>
                <a:gridCol w="99072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ia Econôm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categoria Econôm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 Quadr.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butár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29.0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26.7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792.5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erências Corr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217.3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652.7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614.1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ais Receitas Corren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761.2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507.9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730.4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0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ções de Crédi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49.6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.1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5.9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erências de Capi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30.5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.887.9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.974.55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.153.43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olução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7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747360" y="990720"/>
            <a:ext cx="58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ores Arrecadados - 1º Quadrimestre de 2008 a 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622-B875-461B-8F35-3E8E9E5D23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762120" y="1057320"/>
          <a:ext cx="7619760" cy="4886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1057320"/>
                    <a:ext cx="76197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11C-3D6C-45D4-9CE5-A62EAE91E8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685800" y="1066680"/>
          <a:ext cx="7772400" cy="50292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1066680"/>
                    <a:ext cx="7772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F2F-9B5D-4274-B2CF-F1CC0CE7C1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CEIT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838080" y="1143000"/>
          <a:ext cx="7467840" cy="48769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143000"/>
                    <a:ext cx="7467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96C-5A00-4C04-8D87-321236795A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30492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380880"/>
            <a:ext cx="6934320" cy="550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SPESA ORÇAMENTÁ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65400" y="1224000"/>
          <a:ext cx="661032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5400" y="1224000"/>
                    <a:ext cx="66103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8080" y="1263600"/>
          <a:ext cx="7467840" cy="4603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1263600"/>
                    <a:ext cx="746784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AF2-A9BD-40F1-BD52-6879F4E2F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6:09:00Z</dcterms:created>
  <dc:creator>apoleza</dc:creator>
  <dc:description/>
  <dc:language>en-US</dc:language>
  <cp:lastModifiedBy>apoleza</cp:lastModifiedBy>
  <dcterms:modified xsi:type="dcterms:W3CDTF">2010-05-26T21:31:10Z</dcterms:modified>
  <cp:revision>62</cp:revision>
  <dc:subject/>
  <dc:title>Apresentação do PowerPoint</dc:title>
</cp:coreProperties>
</file>