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</p:sldIdLst>
  <p:sldSz cx="9144000" cy="6858000"/>
  <p:notesSz cx="6429375" cy="9813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0"/>
            <a:ext cx="6429600" cy="98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dt" idx="52"/>
          </p:nvPr>
        </p:nvSpPr>
        <p:spPr>
          <a:xfrm>
            <a:off x="3642840" y="-36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Img"/>
          </p:nvPr>
        </p:nvSpPr>
        <p:spPr>
          <a:xfrm>
            <a:off x="763560" y="736560"/>
            <a:ext cx="4903920" cy="367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body"/>
          </p:nvPr>
        </p:nvSpPr>
        <p:spPr>
          <a:xfrm>
            <a:off x="642960" y="4660920"/>
            <a:ext cx="51451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53"/>
          </p:nvPr>
        </p:nvSpPr>
        <p:spPr>
          <a:xfrm>
            <a:off x="-360" y="9321840"/>
            <a:ext cx="27860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 type="sldNum" idx="54"/>
          </p:nvPr>
        </p:nvSpPr>
        <p:spPr>
          <a:xfrm>
            <a:off x="3642840" y="9321840"/>
            <a:ext cx="27860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18B4-FF4A-4E7D-A955-B19B335A90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CCF9-7F6B-43A5-AC90-3AC697BFE7DB}" type="slidenum">
              <a:rPr b="0" lang="pt-B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755640" y="77148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0EB-4394-4E4D-9C92-4F339FCF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79A-1EBD-4548-91BD-DE96731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F7759-4FDF-4E2D-9BD7-FAD28B6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CD419-84A7-4AB2-B1C0-FE182061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C56CC-851F-4174-BF0D-FCCB38B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0C5F-0CBB-421B-8463-E736FDAE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05A36-B6D2-4292-871E-F30CB86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4857B-8893-4E86-944E-1162070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4A39C-98B4-4C4C-8D23-D3DF870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0FDEA-8804-4D6C-B5BB-88F5C65E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CC38A-2032-4638-8F5E-925AB43E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BA68B-D685-49A5-B077-69DFA2EF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483-EE24-4B79-92FE-431ECDDB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649B6-1C9F-42D6-93F3-F6AB5E1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A644D-06D9-42A7-A545-0E962406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93543-ACE2-4271-B71D-CB3E0B98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A8D8B-328D-4521-9D61-9AE2B78F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32273-BC5B-43C0-80FE-D0A3420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FB48B-9BEE-458A-964E-E4AA6CF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2AF2A-05A3-4573-8DEB-C893E50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A0646-AA6B-4C86-81B7-44069D1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63798-4BAA-49EB-8141-A776170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C6BE9-9090-43A7-AA45-3C359ED0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C38-7664-46C3-8E31-0052E9EC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87F77-F343-4DC1-A0C0-D348F542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C788-C8EF-41DE-BAC2-9811586B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716E7-95B0-42AD-88F0-32BD6EC8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C8ED7-E33B-4F05-A89F-4CB2B654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F37EF-0268-49D0-B01F-6798ABFE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5E55F-8B26-4C84-8D13-0407B25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CB548-E547-4C70-88CE-F6B5ED97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7526-B7C2-42A4-8E2C-C1FDC942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DCA0-21AB-4C54-8EA0-916BBE1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85734-D073-44ED-9CBC-A95CE05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7C9F-C62A-4C81-AE80-7A0D0F26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5A526-A5E7-43D2-B8D8-15F50799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8D138-D2C7-4982-8AA8-5D39D8FB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F339-F533-43CC-B90A-1E8DE52B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F5FAA-DDC4-4140-8B7B-CB2AB317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3C728-2FD5-496F-A93E-24A736C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C6DCA-2F1E-471F-952F-698F8CCF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69C14-FF60-4235-A4A7-D7D8312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653C1-6291-4FC5-8D45-56BC5EF3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33D5D-6569-4301-8D8A-3A71930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737D5-402F-42D1-8D64-710F227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0B99-DAF4-4898-9657-6DF9E5C1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B9A0A-D1FB-4AE9-8E54-8A01E2B9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E4967-A95C-41D9-9F71-AF48BD6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1DB4C-76DD-475B-9CE1-C5D51F91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64C67-F08C-4187-B44E-F56FBD33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C8BB6-C1E3-461D-B5A6-6562B868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D19AA-419C-4153-ADA7-61B674B5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6D5C8-3593-413B-8087-6A08A88D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E9C95-5F48-4680-B184-CD3D593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AABFF-A7DB-4BE5-BDC0-5912FC07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3D127-E398-4DB4-8D2C-3EB283D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8B49-1B92-423C-B1FB-BD07864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E3B38-E1EF-4297-AB48-3C101BB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0B9C9-8D01-449C-A8BA-12B9657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94CEB-BAA6-4844-B4FF-9FDAB66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3EF57-FE78-4D0A-A910-184C687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2B70D-253E-482C-81F8-E3948E4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C9C48-76CA-45A5-BF40-0A223865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BDA0D-8361-4285-A154-A9868083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C47EB-E3D1-4246-BD62-2EBBA989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779F4-5E17-4BB3-AE2A-8F6C0254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90DB9-C5AB-4266-9A42-78B6B228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E50C-427E-480C-8646-F19CBFA1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FF1BA-0D19-4345-BCE4-2FD824B8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EFEDB-D9FD-4C94-97B8-DA1845F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417B8-0D37-4811-8C1F-B1FABBE2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297D9-8DAD-4AE6-AEFA-969A07D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349C2-78FD-4047-8B3A-7CB1D30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71D38-B4AC-44CC-AC48-CB40415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FD72B-7633-44B3-B712-2AA27307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2FF71-E6BA-4752-B4C8-43370FB3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77663-7A09-4E3D-BECC-C722BFF3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0AC41-EA63-4734-95DA-543E981E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A8D3-D0BD-4FF7-9DC6-C3747DE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E1EC1-35F0-4596-9BF3-CCAED1C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C4871-C724-4BA8-A02D-46395403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FF3A8-B595-48AE-AAA4-07D17DF0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CBF6C-A176-48E8-82DF-88BAC770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4BFB3-D531-404B-9ADB-210D215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C65FF-C7B8-467B-9745-4D1B001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DA2D4-C089-4ADA-BABD-DADB519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39AB5-19C2-4538-A1FB-8FAC06A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09D45-8734-4222-BA89-B177C22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2F779-BEBE-45FA-AAFE-3B8C838E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711-C185-4F4C-A128-5878D799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CF479-0F73-4F66-B9E4-5351B6CB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28E53-E863-43F8-A440-B788DFA2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5AB96-21D2-4F31-B2BE-A7EF61A2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BF6C3-E60D-4D56-9185-F281AC2F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DBB4C-8AB6-4AEC-A2B7-3261DE1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C7EEB-3FCA-4AEA-BC60-4C58051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7E977-9F50-4894-8554-C061E9E6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4600D-E8EE-4AB9-BE22-07A8383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EDE78-F0ED-49D5-A6F2-481EAA6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09A2E-5AF5-4621-871F-74C64F8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ADA4-61BE-4030-BC74-DFC2FDA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D8668-7E53-4BB1-B739-257CBD7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92F38-22A6-4DD8-8E51-89A66306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F5B6D-69DF-46D0-BA99-7F013A7D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EB121-F103-4D07-A967-A208FA9C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10EAD-F46C-4DF3-8C41-A6295F36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AE380-2780-4288-8D9D-B463141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D49CF-D1AB-4B88-8D9C-9C227B33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26C26-D146-47E6-9DCE-DF947E2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03221-F037-4E9B-931E-4E9542BE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38987-D88B-44BD-BDE6-56FFFAD0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B40-FCFB-4010-B6B6-513AE6D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1833-7683-4958-B21F-F8FC9E9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30234-2E26-4CD4-A5B2-89BB0513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225BD-E254-4145-89A1-11FD8C3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16D9D-E24E-44AF-A7FD-35BA60B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70853-46B0-4217-85B1-A4E408FA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19461-A03B-41F4-A9F4-DE164141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0724-B56B-4894-BAC4-8F51850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D1D-9794-49AC-83A2-6610BFA5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10C1-8BB8-4B94-A0A7-9BD2664F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BEA8-F6E1-4BBE-AD2D-58565A56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9417-B909-4F6F-B0D3-2AE0E5AC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4240-588C-43C9-91A5-20BDFD3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221D-8132-4568-B208-750F36C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E5A7-B5FE-463D-A211-D49AA5F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BC7A-25DB-461F-AE94-8EB620B9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0D7-A022-40AF-BA9C-30490E5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B2F5-3248-46E3-B431-85794F1E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02CD-EBD8-4892-8851-BC70A81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4BD2-62F1-4A69-BAA4-A5753B6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CA9F-5051-44F7-9A5A-4253FB2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A500-3937-465F-89F9-E215AFC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A91F-09D3-4A6C-9206-00661A6E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37D4-B79F-412C-BEA3-130590A1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9A84-33FF-41AC-9442-3F86C7DB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4EB8-2F7D-4728-ABD1-4CF522E5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E61D-9485-44D1-9CEC-EE9A11A0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5F3-1AE1-4CED-8153-CEA198D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6EC2-2441-4261-B3E9-8D2F1A7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E769-EB30-4DD9-B024-5C4DAE6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CDFB-B074-4703-AD66-6EF06B0E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73A3-30B8-4715-889A-6C75052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85AF-0D56-4AEF-BFE8-DD86BE2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CF47-7CBF-4F79-B2A6-D9D0DC7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AE90-B00E-4E0B-88C0-B725AC83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EE01-A934-410E-B4AD-B56D23D3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A227-77BA-451E-BF14-4D19986B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4A0C-7694-49B2-BF2F-864DF80E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FE6-86B0-419C-A8E2-AA06CF07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0AF9-D7D0-4469-A041-8CA9B255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2A94-A3DF-4042-B0C6-AE98C26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B159D-81B0-4908-ADB8-9558BD74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034BE-6A45-485F-9D0B-87EA88E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EDA17-62A0-4FFE-AB2C-0B332852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19D6-EA5C-4163-AE69-9BB0FD1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A275-89EF-4D32-8DF2-7B9A92F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C355-E95D-4F8A-8175-F4134FB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E71B-101B-49EA-AE12-53A2C51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9D60-FF9B-41BB-AFC3-E2F41AD8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8CE-C351-46F6-B4A3-210661E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EBD3C-7186-457E-8A42-9D9E8A26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20AE-BA4B-4553-822F-C4B781D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AED0-A403-45B4-BF82-C5A23356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77272-4271-4EF8-BE22-28A8194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69458-617B-47B9-9AA1-05CF592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E650-113B-40F7-918D-0F302591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781F-2FC8-49C1-93CB-2EF069EE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E295-6032-4EFD-84EC-F26563A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0644-07D3-48DB-A23D-74D33C9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DDB4-F8DB-465C-AACD-ACB076F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B0F-CAF7-4D46-A4C9-AD54552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59B6-660E-46F6-ABCC-4C861A7C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4550-D3ED-4BA7-8F14-49D44939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1288-532B-4986-B7AF-FA60D12F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CAD2-1937-4226-A36D-91C4D77D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D525-3DFA-43E8-8C71-B5AE0896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FB23F-EFF0-4C1A-8EFC-7F4E7DD3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BFFBF-129C-4069-8C12-FA8AD05B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4E04-0EB9-421D-8010-82B16E3A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13E5-8804-402E-BC55-AC246D18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476B-A533-49AD-ADD0-520402A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1AC-84E8-4E43-8A01-5548A1F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0303-3C1C-417D-AAC1-54FEEBC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93602-ED47-4BD0-8C42-301F277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74B6A-EB35-4DD5-840C-DD2EDBB3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1BEC6-A404-45B6-B20A-1E935ADF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011E-77ED-452C-8719-51EB86EF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81003-7EA5-4E22-9A3C-A805BE1E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418B-2CBF-41F5-95D2-D091412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E8DAF-8DF8-40C3-826D-73C46FCC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DB982-46CF-4CEF-86FB-D1640DE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52E7C-1D72-4E5B-BE62-6869B8B6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83E-4045-429B-8650-611AB109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18B1-1360-4AFF-8096-88E3A522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3CEB-8AEE-4214-B2FD-CF5990D2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FD1A-2DC4-44D6-B770-85824BF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8E4D-6060-4D8F-827A-2BAA14B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1414-926F-4A65-B2E8-41F12319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675E-CF01-4466-AB98-BBA71321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1BD0A-5B59-4C18-95EA-C41C93E3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0E54-3456-4253-87F7-EA1C89C3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9AA03-2D00-4AED-9343-EFF80827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3EC1-97C4-4A5B-9C00-B26EDB2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DE4-36FB-4483-842A-E52872F751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4D3-83F0-4E50-919D-1D1FB16E809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Triângulo retângulo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0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Conector reto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63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E316-55B0-47C0-9779-CF6BC38E84B6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9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88B4-8D6C-4B68-BBA5-100C5AD6007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56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BC3-F0BE-407D-8613-00553E72E2A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0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12B-6C73-4407-8C56-95673FA5B0E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0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2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78CA-08F5-43B3-BB8F-B26D926842F6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97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9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C1BB-9E08-4848-90F9-20FEDC7E9D56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44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6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1AD7-F653-4DC7-B33B-F67CF3C689A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7EC9-1F8B-4D66-B689-5D32DB25A5C8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Forma livre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orma livre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Forma livre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3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A510-FE08-423E-8822-3732D448F940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0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64646"/>
                </a:solidFill>
                <a:latin typeface="Arial Black"/>
              </a:rPr>
              <a:t>PPA – 2014 A 201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EFF-2D1B-40F3-9B17-6F7B0F9EA3F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1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2AC-C5ED-4F03-8BC5-5DA7919F97F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7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DCCF-A9FF-44A1-89CF-956D70EE0B7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474-2167-4839-9F24-525DAE1E138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5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C3E-DFE6-4ECE-8E9C-E736E8E16A39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2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6C41-0B2D-45CC-A318-F1DEB48F1E15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8"/>
          <p:cNvSpPr/>
          <p:nvPr/>
        </p:nvSpPr>
        <p:spPr>
          <a:xfrm>
            <a:off x="798480" y="1873800"/>
            <a:ext cx="7740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 P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2014  A  20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Título 5" descr=""/>
          <p:cNvPicPr/>
          <p:nvPr/>
        </p:nvPicPr>
        <p:blipFill>
          <a:blip r:embed="rId1"/>
          <a:stretch/>
        </p:blipFill>
        <p:spPr>
          <a:xfrm>
            <a:off x="476280" y="30240"/>
            <a:ext cx="838656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a Escola de Governo – Treinamento e Capacitaçã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o Concurso Anual para Servido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o Projeto Segurança e Saúde Ocupac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artão Alimentação p/ Servido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Formalização de convênios com enti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diversas Secretarias com atividades administr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Text Box 3"/>
          <p:cNvSpPr/>
          <p:nvPr/>
        </p:nvSpPr>
        <p:spPr>
          <a:xfrm>
            <a:off x="2411280" y="692280"/>
            <a:ext cx="446436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GESTÃO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o Cidade Digit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Balcão Cidadã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ntegração dos Sistemas de informát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2411280" y="692280"/>
            <a:ext cx="446436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GESTÃO TECNOLÓGICA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457200" y="19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e Instalação da Central de Veícul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Renovação da Frota de Veícul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Reforma do Paço Municip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Ampliação e Verticalização do Cemitéri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de Capela Mortuár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Desapropriação de Áreas – Aquisição de Terren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de Galpão para Arquivo Intermediári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de Galpão para Depósito de Bens Inservíve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2411280" y="692280"/>
            <a:ext cx="446436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CONSERVAÇÃO DO PATRIMÔNI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5720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agamento de Sentenças Judiciais e Precatóri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o Sistema E-Pro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atividades existen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2411280" y="765000"/>
            <a:ext cx="446436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MODERNIZAÇÃO DAS AÇÕES JUDICIÁR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odernização do Sistema Tributár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agamento e controle da Dívida Públ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tribuição ao Pasep (1%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diversas atividades existentes vinculadas à Gestão Financei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GESTÃO 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stauração do Patrimônio Histór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e Instalação da Sede da FCBC e Teatro Municipal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(Conclusão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formas e ampliações de espaços cultura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Espaço Arte e Cultu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mposição acervo bibliográf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o Mercado Público da Bar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o Centro Histórico da Bar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Unidade Móvel Cul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poio a projetos Artísticos e Cultura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atividades existen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Text Box 3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CULTURA E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mpliações e Reformas -  Núcleos de Educação infanti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Reformas NEIs - Cristo Luz, Sonho de Criança e Recanto dos Passarinh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Reforma e Ampliação do Nei Bom Sucess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Construção de Mini Quadras nos NEIs Meu Primeiro Passo e Novo Temp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e Novos NE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Santa Inês e Bairro dos Municípios – Recursos Federa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DUCAÇÃO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mpliações e Reformas -  Núcleos das Unidades de Ensi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Reforma e Ampliação CEM Alfredo Doming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Coberturas de Quadras e reformas das existentes em todas as Unidades de Ensi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Construção de Muro no CEM Gov.Ivo Silveira e CAIC Ayrton Sen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e Novas Unidades de Ensi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CIEP e CEM Tomaz Francisco Garcia (dependência de recursos extern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DUCAÇÃO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a Sede da Secretaria de Educação – com depósitos para merenda e materia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quisição de 4  Ônibus para o Transporte Escolar e 3 veículos pequen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quisição de Equipamentos para as Creches e Unidades de Ensi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DUCAÇÃO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Formação continuada para Educado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  PNAE e PN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diversas atividades voltadas para a Educação Básica no Municíp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o Programa UPAC -  Unidade Polo de Atividades Contra Tur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Text Box 3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DUCAÇÃO D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Segundo Art. 48 da Lei de Responsabilidade Fiscal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São instrumentos de transparências da gestão fiscal, aos quais será dada ampla divulgação...: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s planos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, orçamentos e leis de diretrizes orçamentárias...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Parágrafo único: A transparência será assegurada também mediante incentivo à participação popular e realização de audiências públicas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urante o processo de elaboração e de discussão dos planos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, leis de diretrizes orçamentárias e orçament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2282400" y="692280"/>
            <a:ext cx="474048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TICIPAÇÃ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xpansão  da Rede de Iluminação PÚbl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e Melhorias do Sistema de Iluminação Públ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Substituição da rede de linha aérea  por rede de linha subterrânea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Text Box 3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BALNEÁRIO CAMBORIÚ MAIS ILU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Incentivo a Instalação de Cooperativas Produtiv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Equipamentos para instalação de Eco-Pont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Implantação de Usina de Aproveitamento de vidr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ursos profissionalizantes a Comunida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das Atividades Existen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tinuação do Projeto Leite Pão Amig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do Conselho Tutelar e Conselho de Direitos da Crianç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DESENVOLVIMENTO E INCLUSÃ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tendimentos das necessidades voltadas ao idos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Desenvolvimento de atividades para os idosos de acordo com a demanda apresent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forma do prédio para instalação da Secreta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quipamentos divers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TENDIMENTO AO ID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e C.R.A.S – Nações e Esta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mpliação e Reforma dos C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veículo p/ atender os C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ementação do Serviço de convivência e fortalecimento de víncul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s projetos existent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SSISTÊNCIA SOCIAL À FAMÍ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CaixaDeTexto 1"/>
          <p:cNvSpPr/>
          <p:nvPr/>
        </p:nvSpPr>
        <p:spPr>
          <a:xfrm>
            <a:off x="3435120" y="1795320"/>
            <a:ext cx="2526120" cy="368280"/>
          </a:xfrm>
          <a:prstGeom prst="rect">
            <a:avLst/>
          </a:prstGeom>
          <a:solidFill>
            <a:srgbClr val="f7c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teção Social 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Instalação de CR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mpliação e Reforma dos C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veículo p/ serviço de resgate soc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o Centro POP e Centro 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ementação do Serviço de acolhimento a mulher vítima de violênc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s projetos existent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SSISTÊNCIA SOCIAL À FAMÍ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CaixaDeTexto 1"/>
          <p:cNvSpPr/>
          <p:nvPr/>
        </p:nvSpPr>
        <p:spPr>
          <a:xfrm>
            <a:off x="3364920" y="1790640"/>
            <a:ext cx="2702880" cy="368280"/>
          </a:xfrm>
          <a:prstGeom prst="rect">
            <a:avLst/>
          </a:prstGeom>
          <a:solidFill>
            <a:srgbClr val="f7c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teção Social 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Formalização de Convênios com entidades da área da infânc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Equipament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tenção a Criança e ao Adoles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2124000" y="765000"/>
            <a:ext cx="504036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SSISTÊNCIA A CRIANÇA E AO ADOLES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odificações e Adequações do Sistema Viár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poio as Polícias: Civil e Militar (em análi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 FUMTR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Desenvolvimento de atividades de educação para o trânsi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Text Box 3"/>
          <p:cNvSpPr/>
          <p:nvPr/>
        </p:nvSpPr>
        <p:spPr>
          <a:xfrm>
            <a:off x="2556000" y="765000"/>
            <a:ext cx="417672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POIO AO TRÂN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quipamentos diversos para o Corpo de Bombeir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o Quar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nstalação e Mobiliários para o novo Quar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Atividades existen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Text Box 3"/>
          <p:cNvSpPr/>
          <p:nvPr/>
        </p:nvSpPr>
        <p:spPr>
          <a:xfrm>
            <a:off x="2050920" y="836640"/>
            <a:ext cx="511200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PREVENÇÃO DE SIN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Atividades existentes do Fundo de Defesa dos Direitos do Consumid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veículo para o Fun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alização de seminários e congressos a estudan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2050920" y="836640"/>
            <a:ext cx="511200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POIO AO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a Sede de Educação Ambient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Divulgação das atividades e aquisição de barco para a Educação Ambient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do projeto Praia Limp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Equipamentos diversos para as atividades do Meio Ambien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e Galpão p/ usina de reciclag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ampanhas para coleta seletiva do lix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2771640" y="765000"/>
            <a:ext cx="3529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ME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 CIDA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ART. 165, § 1º e 4º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a CF 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PPA estabelecerá objetivos e metas d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dministração pública para despesas de capital e outras delas decorrentes e para as relativas aos programas de duração continua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ART. 166, § 3º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e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4º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da CF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Emendas a LDO e LOA soment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rão  realizadas 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quando compatíveis com o PP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Os planos e programas da administração serão elaborados em consonância com o PP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2340000" y="692280"/>
            <a:ext cx="455616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UNDAMENTOS LEG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Lucida Sans Unicode"/>
              </a:rPr>
              <a:t>Construção de Passarela suspensa em área de resting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Lucida Sans Unicode"/>
              </a:rPr>
              <a:t>Recuperação de Áreas degradada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Lucida Sans Unicode"/>
              </a:rPr>
              <a:t>Reforma Trapiche da Praia de Laranjeira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Lucida Sans Unicode"/>
              </a:rPr>
              <a:t>Revitalização do Parque Ecológico contemplando: Ampliação do Ambiart, Ampliação Centro de Fitoterapia, ampliação da sede, construção de decks, passarelas, praça atrativa e outro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Lucida Sans Unicode"/>
              </a:rPr>
              <a:t>Manutenção das Atividades existentes de Proteção e Conservação do Meio Ambient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Lucida Sans Unicode"/>
              </a:rPr>
              <a:t>Estudos para formação da Fundação Municipal do Meio Ambient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Text Box 3"/>
          <p:cNvSpPr/>
          <p:nvPr/>
        </p:nvSpPr>
        <p:spPr>
          <a:xfrm>
            <a:off x="2771640" y="765000"/>
            <a:ext cx="3529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ME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 CIDA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romoção e apoio do turismo lo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articipação em eventos voltados ao tur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ampanhas publicitárias de divulgação do municíp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Text Box 3"/>
          <p:cNvSpPr/>
          <p:nvPr/>
        </p:nvSpPr>
        <p:spPr>
          <a:xfrm>
            <a:off x="2268360" y="765000"/>
            <a:ext cx="47548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BALNEÁRIO CAMBOR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A ROTA DO TU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Construção da Sede da Secretaria de Seguranç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Implantação e manutenção do sistema de monitoramento por imag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Aumento do efetivo para guarda municipal –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estimativa de 100 guardas até 2016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Contenção  de Ocupação Irregular e Degradação ambi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Manutenção das Atividades da Defesa Civ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Manutenção do Trânsito e Engenhar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Coordenação das guardas patrimonial e municip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Manutenção das Atividades de Controle da Migraçã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2268360" y="765000"/>
            <a:ext cx="47548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SEGURANÇA E INCOLUMIDA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1136160" y="213336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a Sede própria do Funserv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obiliários para nova se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dministração do Programa Saúde para o Servid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PLANO DE SAÚDE PARA 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826560" y="206028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agamento de Benefícios Previdenciári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serva para pagamento de benefícios futur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dministração do BCPRE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PREVIDÊNCIA SOCIAL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826560" y="206028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Despoluição da praia centr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Obras de Dragag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Ampliação e Melhorias – rede esgoto e E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Ampliação e Melhorias – rede águ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de Reservatório para Água Tratad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Melhorias na Captação de Água Bru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Recuperação de Áreas Ambienta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Implantação de estação de tratamento de lod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Projeto Parque Inundáve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Operação do sistema de água e esgot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SANEAMENTO E QUALIDADE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826560" y="206028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e novas galeri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 sistema de drenagem urbana exist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DRENAGEM URBANA SUSTEN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826560" y="206028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e Melhorias do sistema de resíduos sólid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 siste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Lucida Sans Unicode"/>
              </a:rPr>
              <a:t>Atendimento a Lei Federal 12.305/2010 e Lei Municipal 3339/2011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Text Box 3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GESTÃO INTEGRADA DE RESÍDUOS SÓL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899640" y="1916280"/>
            <a:ext cx="800748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Realização e apoio a eventos esportiv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Revitalização de espaços  esportiv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Ginásio G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Implantação de Grama sintética campo de futebol B. Barr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da Sede da FMEBC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.Centro Munic.Treinamento (Conv.União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Programa Bolsa Atle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Manutenção e Reforma de Complexos Esportiv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Apoio a Projetos Esportivos – Edit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Construção Praça do Skate Rua 1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2411280" y="692280"/>
            <a:ext cx="460872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ESPORTE BALNEÁRIO CAMBORIÚ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1136160" y="2492280"/>
            <a:ext cx="80074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Terreno p/ Construção de Unidades Habitaciona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e Unidades Habitaciona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gularização Fundiá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quisição de Veículo para o Furb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elhorias em Unidades Habitaciona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2195640" y="836640"/>
            <a:ext cx="460836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HABITAÇÃO DE INTERESSE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organizar em programas as ações de que resultem oferta de bens ou serviços que atendam as demandas da sociedade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definir com clareza as metas e prioridades da administração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estabelecer a necessária relação entre os programas a serem executados e a orientação estratégica do governo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dar transparência à aplicação de recursos e resultados obtidos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Lucida Sans Unicode"/>
              </a:rPr>
              <a:t>nortear a alocação de recursos nos orçamentos anuais compatível com as metas e recursos do plano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integrar ações desenvolvidas pela União, Estados e Municípi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416040" y="642960"/>
            <a:ext cx="221220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611280" y="22273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rolongamento da Av Martin Luther –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Trecho Rua  Venezuela à Arapon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Prolongamento da 4º Aven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evado da Av Estado c/ 4º Aven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Binário da Av Palestina – </a:t>
            </a:r>
            <a:r>
              <a:rPr b="0" lang="pt-BR" sz="2200" spc="-1" strike="noStrike">
                <a:solidFill>
                  <a:srgbClr val="000000"/>
                </a:solidFill>
                <a:latin typeface="Lucida Sans Unicode"/>
              </a:rPr>
              <a:t>(ligando B. Nações com BR 101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Av paralela -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pt-BR" sz="2200" spc="-1" strike="noStrike">
                <a:solidFill>
                  <a:srgbClr val="000000"/>
                </a:solidFill>
                <a:latin typeface="Lucida Sans Unicode"/>
              </a:rPr>
              <a:t>entre Av.Brasil, Estado e 3º Av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mplantação da Avenida entre a 5ª e 6º - Ecopar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1763640" y="981000"/>
            <a:ext cx="626580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OPERAÇÕES URBANAS CONSORCIADA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CaixaDeTexto 1"/>
          <p:cNvSpPr/>
          <p:nvPr/>
        </p:nvSpPr>
        <p:spPr>
          <a:xfrm>
            <a:off x="4447440" y="1917720"/>
            <a:ext cx="37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Dependência de lei específica para cada Ope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611280" y="22273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largamento da faixa de areia e urbanização da Avenida Atlânt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os elevados das marginais (</a:t>
            </a:r>
            <a:r>
              <a:rPr b="0" lang="pt-BR" sz="2200" spc="-1" strike="noStrike">
                <a:solidFill>
                  <a:srgbClr val="000000"/>
                </a:solidFill>
                <a:latin typeface="Lucida Sans Unicode"/>
              </a:rPr>
              <a:t>Ruas 2550 e 3100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 das pontes rodoviárias nas vias laterais Leste e Oeste s/ o Rio Cambori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Revitalização da Av Bras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Construção do Centrevent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o Fundo Especial TP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1763640" y="981000"/>
            <a:ext cx="626580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OPERAÇÕES URBANAS CONSORCIADA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CaixaDeTexto 1"/>
          <p:cNvSpPr/>
          <p:nvPr/>
        </p:nvSpPr>
        <p:spPr>
          <a:xfrm>
            <a:off x="4447440" y="1917720"/>
            <a:ext cx="37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Dependência de lei específica para cada Ope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do Paisagismo e limpeza Urba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permanente do sistema viário Continuação do Deck Pontal Nor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Revitalização de praç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2195640" y="692280"/>
            <a:ext cx="49672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OBRAS E BENFEITORIAS URB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Implantação e Manutenção do sistema Cicloviário – 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contemplando novas vi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Prolongamento da Av Estado até divisa Itajaí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Implantação da Rua paralela ao rio das Ostr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Implantação Av acesso norte – Praia dos Amores a BR10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Revitalização de pequenas ru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2195640" y="692280"/>
            <a:ext cx="496728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INFRA ESTRUTURA VI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826560" y="2492280"/>
            <a:ext cx="800748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e Unidade 24 Horas - UP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Reformas e Melhorias em Unidades de Saú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mpliação de Unidades de Saú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Construção de Novas Unidades de Saú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2268360" y="907920"/>
            <a:ext cx="496764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REESTRUTURAÇÃO DA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826560" y="2133720"/>
            <a:ext cx="8007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dos Blocos de Saúde Públ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tenção Bás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Saúde da Famíl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gentes Comunitá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tenção Bás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Saúde Bu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Assistência Farmacêut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Outr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2050920" y="907920"/>
            <a:ext cx="496728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SAÚDE PARA 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826560" y="2133720"/>
            <a:ext cx="8007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Manutenção dos Blocos de Saúde Públ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Epidemia e Controle de Doenç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Gestão Plena – MA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Serviços Hospitalares e Ambulatoriais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Sam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2124000" y="907920"/>
            <a:ext cx="496728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VIGILÂNCIA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33" descr="MCj03835500000[1]"/>
          <p:cNvPicPr/>
          <p:nvPr/>
        </p:nvPicPr>
        <p:blipFill>
          <a:blip r:embed="rId1"/>
          <a:stretch/>
        </p:blipFill>
        <p:spPr>
          <a:xfrm>
            <a:off x="6084720" y="3227400"/>
            <a:ext cx="1516320" cy="33307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24" descr="MCj03835500000[1]"/>
          <p:cNvPicPr/>
          <p:nvPr/>
        </p:nvPicPr>
        <p:blipFill>
          <a:blip r:embed="rId2"/>
          <a:stretch/>
        </p:blipFill>
        <p:spPr>
          <a:xfrm>
            <a:off x="1042920" y="1916280"/>
            <a:ext cx="1069920" cy="23508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31" descr="MCj03835500000[1]"/>
          <p:cNvPicPr/>
          <p:nvPr/>
        </p:nvPicPr>
        <p:blipFill>
          <a:blip r:embed="rId3"/>
          <a:stretch/>
        </p:blipFill>
        <p:spPr>
          <a:xfrm rot="265200">
            <a:off x="2550960" y="790560"/>
            <a:ext cx="2759400" cy="5572080"/>
          </a:xfrm>
          <a:prstGeom prst="rect">
            <a:avLst/>
          </a:prstGeom>
          <a:ln w="0">
            <a:noFill/>
          </a:ln>
        </p:spPr>
      </p:pic>
      <p:sp>
        <p:nvSpPr>
          <p:cNvPr id="914" name="Texto explicativo em forma de nuvem 2"/>
          <p:cNvSpPr/>
          <p:nvPr/>
        </p:nvSpPr>
        <p:spPr>
          <a:xfrm>
            <a:off x="4427640" y="368280"/>
            <a:ext cx="4176720" cy="162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De onde vem os recursos para execução das ações de governo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Objeto 4" descr=""/>
          <p:cNvPicPr/>
          <p:nvPr/>
        </p:nvPicPr>
        <p:blipFill>
          <a:blip r:embed="rId4"/>
          <a:stretch/>
        </p:blipFill>
        <p:spPr>
          <a:xfrm>
            <a:off x="684360" y="620640"/>
            <a:ext cx="2117520" cy="9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Objeto 5"/>
          <p:cNvGraphicFramePr/>
          <p:nvPr/>
        </p:nvGraphicFramePr>
        <p:xfrm>
          <a:off x="6659640" y="2205000"/>
          <a:ext cx="111276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7" name="Objeto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2205000"/>
                    <a:ext cx="11127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189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Receita de impostos, taxas contribuições, serviços, etc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Receitas de transferências Constitucionais da União e do Estad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Receitas da dívida ativa, de multas e juros, entre outr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PC, Solo criad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1735200" y="861840"/>
            <a:ext cx="5975280" cy="9471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FONTES DE RECURSO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9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Arial Black"/>
              </a:rPr>
              <a:t>PPA – 2014 A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99640" y="2421000"/>
            <a:ext cx="755028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Bitstream Vera Sans"/>
              </a:rPr>
              <a:t>CONVÊNIOS COM A ESFERA FEDERAL E ESTADUA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Bitstream Vera Sans"/>
              </a:rPr>
              <a:t>TRANSFERÊNCIAS DE PESSOAS E INSTITUIÇÕES PRIVADA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Bitstream Vera Sans"/>
              </a:rPr>
              <a:t>OPERAÇÕES DE CRÉDI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Bitstream Vera Sans"/>
              </a:rPr>
              <a:t>ALIENAÇÕES DE BE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22" name="Object 5"/>
          <p:cNvGraphicFramePr/>
          <p:nvPr/>
        </p:nvGraphicFramePr>
        <p:xfrm>
          <a:off x="5796000" y="4005360"/>
          <a:ext cx="111276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005360"/>
                    <a:ext cx="11127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4" name="Text Box 4"/>
          <p:cNvSpPr/>
          <p:nvPr/>
        </p:nvSpPr>
        <p:spPr>
          <a:xfrm>
            <a:off x="1763640" y="1125360"/>
            <a:ext cx="597528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DEMAIS FONTES DE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9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Arial Black"/>
              </a:rPr>
              <a:t>PPA – 2014 A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Line 3"/>
          <p:cNvSpPr/>
          <p:nvPr/>
        </p:nvSpPr>
        <p:spPr>
          <a:xfrm>
            <a:off x="5715000" y="46483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4000" y="3284640"/>
            <a:ext cx="8568720" cy="533160"/>
            <a:chOff x="324000" y="3284640"/>
            <a:chExt cx="8568720" cy="533160"/>
          </a:xfrm>
        </p:grpSpPr>
        <p:sp>
          <p:nvSpPr>
            <p:cNvPr id="805" name="Line 5"/>
            <p:cNvSpPr/>
            <p:nvPr/>
          </p:nvSpPr>
          <p:spPr>
            <a:xfrm>
              <a:off x="399240" y="3512880"/>
              <a:ext cx="8493480" cy="14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"/>
            <p:cNvSpPr/>
            <p:nvPr/>
          </p:nvSpPr>
          <p:spPr>
            <a:xfrm>
              <a:off x="324000" y="3284640"/>
              <a:ext cx="108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>
              <a:off x="2052720" y="3284640"/>
              <a:ext cx="144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8"/>
            <p:cNvSpPr/>
            <p:nvPr/>
          </p:nvSpPr>
          <p:spPr>
            <a:xfrm>
              <a:off x="3707640" y="3284640"/>
              <a:ext cx="144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9"/>
            <p:cNvSpPr/>
            <p:nvPr/>
          </p:nvSpPr>
          <p:spPr>
            <a:xfrm>
              <a:off x="5361480" y="3284640"/>
              <a:ext cx="1080" cy="5331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0"/>
            <p:cNvSpPr/>
            <p:nvPr/>
          </p:nvSpPr>
          <p:spPr>
            <a:xfrm>
              <a:off x="6940080" y="3284640"/>
              <a:ext cx="108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>
              <a:off x="8593920" y="3284640"/>
              <a:ext cx="108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" name="Rectangle 12" descr=""/>
          <p:cNvPicPr/>
          <p:nvPr/>
        </p:nvPicPr>
        <p:blipFill>
          <a:blip r:embed="rId1"/>
          <a:stretch/>
        </p:blipFill>
        <p:spPr>
          <a:xfrm>
            <a:off x="5462640" y="2511360"/>
            <a:ext cx="1650960" cy="103680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13"/>
          <p:cNvSpPr/>
          <p:nvPr/>
        </p:nvSpPr>
        <p:spPr>
          <a:xfrm>
            <a:off x="3984480" y="260820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5385a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35385a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7176960" y="259236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33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219564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5385a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35385a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>
            <a:off x="46836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>
            <a:off x="250920" y="42926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ELABO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>
            <a:off x="3924360" y="4365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5385a"/>
                </a:solidFill>
                <a:latin typeface="Arial"/>
              </a:rPr>
              <a:t>VIG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9"/>
          <p:cNvSpPr/>
          <p:nvPr/>
        </p:nvSpPr>
        <p:spPr>
          <a:xfrm rot="16177200">
            <a:off x="1141920" y="3331440"/>
            <a:ext cx="455760" cy="1371600"/>
          </a:xfrm>
          <a:custGeom>
            <a:avLst/>
            <a:gdLst>
              <a:gd name="textAreaLeft" fmla="*/ 291240 w 455760"/>
              <a:gd name="textAreaRight" fmla="*/ 456120 w 455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20"/>
          <p:cNvSpPr/>
          <p:nvPr/>
        </p:nvSpPr>
        <p:spPr>
          <a:xfrm rot="16201800">
            <a:off x="5422680" y="921600"/>
            <a:ext cx="303480" cy="6326280"/>
          </a:xfrm>
          <a:custGeom>
            <a:avLst/>
            <a:gdLst>
              <a:gd name="textAreaLeft" fmla="*/ 194040 w 303480"/>
              <a:gd name="textAreaRight" fmla="*/ 303840 w 303480"/>
              <a:gd name="textAreaTop" fmla="*/ 164880 h 6326280"/>
              <a:gd name="textAreaBottom" fmla="*/ 6161400 h 632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21"/>
          <p:cNvSpPr/>
          <p:nvPr/>
        </p:nvSpPr>
        <p:spPr>
          <a:xfrm rot="5401200">
            <a:off x="3298680" y="-842760"/>
            <a:ext cx="304920" cy="640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826920" y="1700280"/>
            <a:ext cx="525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N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23"/>
          <p:cNvSpPr/>
          <p:nvPr/>
        </p:nvSpPr>
        <p:spPr>
          <a:xfrm rot="16177200">
            <a:off x="7950960" y="3794400"/>
            <a:ext cx="230040" cy="1371600"/>
          </a:xfrm>
          <a:custGeom>
            <a:avLst/>
            <a:gdLst>
              <a:gd name="textAreaLeft" fmla="*/ 146880 w 230040"/>
              <a:gd name="textAreaRight" fmla="*/ 230400 w 2300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4"/>
          <p:cNvSpPr/>
          <p:nvPr/>
        </p:nvSpPr>
        <p:spPr>
          <a:xfrm>
            <a:off x="6732720" y="4653000"/>
            <a:ext cx="241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33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8"/>
          <p:cNvSpPr/>
          <p:nvPr/>
        </p:nvSpPr>
        <p:spPr>
          <a:xfrm>
            <a:off x="2491920" y="836640"/>
            <a:ext cx="435348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laboração e Vigência 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9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Arial Black"/>
              </a:rPr>
              <a:t>PPA – 2014 A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0"/>
          <p:cNvSpPr/>
          <p:nvPr/>
        </p:nvSpPr>
        <p:spPr>
          <a:xfrm>
            <a:off x="1488960" y="1638360"/>
            <a:ext cx="6085080" cy="3844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3"/>
          <p:cNvSpPr/>
          <p:nvPr/>
        </p:nvSpPr>
        <p:spPr>
          <a:xfrm>
            <a:off x="3127320" y="2168640"/>
            <a:ext cx="44467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014 - R$ 466 Milh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015 - R$ 491 Milh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016 - R$ 518 Milh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017 - R$ 545 Milh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46"/>
          <p:cNvSpPr/>
          <p:nvPr/>
        </p:nvSpPr>
        <p:spPr>
          <a:xfrm>
            <a:off x="2413080" y="50832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 ESTIMADO: R$ 2.023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7"/>
          <p:cNvSpPr/>
          <p:nvPr/>
        </p:nvSpPr>
        <p:spPr>
          <a:xfrm>
            <a:off x="1042920" y="69228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64646"/>
                </a:solidFill>
                <a:latin typeface="Lucida Console"/>
              </a:rPr>
              <a:t>VALOR ESTIMADO PARA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64646"/>
                </a:solidFill>
                <a:latin typeface="Lucida Console"/>
              </a:rPr>
              <a:t>RECEITAS DE CARÁTER PERMANENT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48"/>
          <p:cNvSpPr/>
          <p:nvPr/>
        </p:nvSpPr>
        <p:spPr>
          <a:xfrm>
            <a:off x="1302120" y="5661000"/>
            <a:ext cx="70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 Não foram consideradas as estimativas para as “demais fontes de recursos” e os recursos do TP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Arial Black"/>
              </a:rPr>
              <a:t>PPA – 2014 A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2050920" y="1708200"/>
          <a:ext cx="5185080" cy="3806640"/>
        </p:xfrm>
        <a:graphic>
          <a:graphicData uri="http://schemas.openxmlformats.org/drawingml/2006/table">
            <a:tbl>
              <a:tblPr/>
              <a:tblGrid>
                <a:gridCol w="2293920"/>
                <a:gridCol w="2891160"/>
              </a:tblGrid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def5fa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def5fa"/>
                          </a:solidFill>
                          <a:latin typeface="Arial"/>
                        </a:rPr>
                        <a:t>VALOR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.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.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.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.4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3" name="Rectangle 44"/>
          <p:cNvSpPr/>
          <p:nvPr/>
        </p:nvSpPr>
        <p:spPr>
          <a:xfrm>
            <a:off x="1187280" y="981000"/>
            <a:ext cx="72723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b050"/>
                </a:solidFill>
                <a:latin typeface="Arial Black"/>
              </a:rPr>
              <a:t>COMPARATIVO DAS RECEI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66"/>
          <p:cNvSpPr/>
          <p:nvPr/>
        </p:nvSpPr>
        <p:spPr>
          <a:xfrm>
            <a:off x="5517000" y="5548320"/>
            <a:ext cx="2223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   Em milhões de Re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*  Valor previs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9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Arial Black"/>
              </a:rPr>
              <a:t>PPA – 2014 A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8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755640" y="1267920"/>
            <a:ext cx="7561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600" spc="-1" strike="noStrike">
                <a:solidFill>
                  <a:srgbClr val="00b050"/>
                </a:solidFill>
                <a:latin typeface="Bitstream Vera Sans"/>
              </a:rPr>
              <a:t>OBRIGADA PELA PARTICIPAÇÃO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878040" y="3213000"/>
            <a:ext cx="72658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laboração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ecretaria de Planejamento e Gestão Orçamentária em parceria com a Secretaria da Faz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Diagrama 3" descr=""/>
          <p:cNvPicPr/>
          <p:nvPr/>
        </p:nvPicPr>
        <p:blipFill>
          <a:blip r:embed="rId1"/>
          <a:stretch/>
        </p:blipFill>
        <p:spPr>
          <a:xfrm>
            <a:off x="1500120" y="1390680"/>
            <a:ext cx="6120000" cy="4089240"/>
          </a:xfrm>
          <a:prstGeom prst="rect">
            <a:avLst/>
          </a:prstGeom>
          <a:ln w="0">
            <a:noFill/>
          </a:ln>
        </p:spPr>
      </p:pic>
      <p:sp>
        <p:nvSpPr>
          <p:cNvPr id="828" name="CaixaDeTexto 4"/>
          <p:cNvSpPr/>
          <p:nvPr/>
        </p:nvSpPr>
        <p:spPr>
          <a:xfrm>
            <a:off x="2050920" y="76500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haroni"/>
                <a:ea typeface="Aharoni"/>
              </a:rPr>
              <a:t>Propostas Gerais d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Diagrama 3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61364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684360" y="1916280"/>
            <a:ext cx="80071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Lucida Sans Unicode"/>
              </a:rPr>
              <a:t>PROPOSTAS DA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Lucida Sans Unicode"/>
              </a:rPr>
              <a:t>AÇÕES E INVESTIMENTO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Lucida Sans Unicode"/>
              </a:rPr>
              <a:t>POR PROGRAMAS DE GOVERNO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899640" y="184428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Veículos, Equipamentos e Mobiliários Manutenção da Rádio e TV Câma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Manutenção das atividades Administrativas e Legisl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mpliação da Sede do Legisla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2050920" y="907920"/>
            <a:ext cx="5112000" cy="520560"/>
          </a:xfrm>
          <a:prstGeom prst="rect">
            <a:avLst/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ef5fa"/>
                </a:solidFill>
                <a:latin typeface="Arial"/>
              </a:rPr>
              <a:t>LEGISLATIVO AT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>Adeline Poleza</cp:lastModifiedBy>
  <dcterms:modified xsi:type="dcterms:W3CDTF">2013-05-28T20:36:54Z</dcterms:modified>
  <cp:revision>196</cp:revision>
  <dc:subject/>
  <dc:title>AUDIÊNCIA PÚBLICA 29/09/2005</dc:title>
</cp:coreProperties>
</file>