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1873-B109-4B95-BB00-A570A564B3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8720-4791-4A81-A86D-CBA3283E4F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7F3A-366C-41DA-A6CD-B4D6F23302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F855-90E4-4689-B784-3BD212BC2D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7782-B889-4C82-8E2C-38E472449B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673A-0E54-4905-B642-EA5471630B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C1DE-779D-4BEC-8749-61DE699D24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BFF2-7932-4147-8048-BE5297CDE9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B4D9-F562-426E-A7D1-5D259778565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B50E-83DE-471B-A810-E202E87CA9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AA83-6528-476C-816E-EB52AD33B7C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E54D-8967-4170-A7DB-AD50467046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7F91-C6C8-44B5-8BE5-895C7BD3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39200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20292-5C44-49FF-BD19-4CEF7A46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F53B2-A9F3-46DE-9A47-5E1484FC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4166-DD2E-4A2E-86A5-10F90A43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A57A1-34B8-4C91-85B9-02B2AFFC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10F57-45E8-4A46-8FEA-39E552CE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C7480-C8E8-4E12-93A8-D2AAD786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013D4-4877-4539-8CDD-81C04D86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F9BE-AB6E-4623-8780-E65CB254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400" y="0"/>
            <a:ext cx="8172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53B33-2CB0-4F9D-84DC-D469365F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F3316-4E3A-4D60-B7D1-BD10FC2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8BB9-95FD-4469-BBB7-823291E0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B0EE-FF80-480D-BA2C-9756B6D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5D5D-0BCE-489D-B31D-BE362BB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39200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7C616-7CAA-4A05-B526-6FF0CDCA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BA4AA-0C8F-4D63-A91B-19A22F51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8AFFC-049A-482F-AAF6-392F3292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82DD6-E6FC-447A-BB9A-74D242DF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B4BF-2D28-4C10-903B-209EA622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50F7-1229-4C9F-974F-D5DB22B4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400" y="0"/>
            <a:ext cx="8172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B85D-C443-4065-B253-FBE992F8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B749-2278-4B74-B4D2-3FDBF2A7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87E1A-F790-4A6B-B076-529A4AB2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3B2E-93EC-4FC0-A877-ACBFD10E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24816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1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4A88-72A0-4C0C-9725-8CEA1DB4BE6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2481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0769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24816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2481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A5E6-7E66-4915-BFBB-3DEF5ADA7A2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2481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4076280"/>
            <a:ext cx="648036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AVALIAÇÃO DAS METAS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2º QUADRIMESTRE 2008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83040" y="189000"/>
            <a:ext cx="478764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mic Sans MS"/>
              </a:rPr>
              <a:t>Município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mic Sans MS"/>
              </a:rPr>
              <a:t>BALNEÁRIO CAMBORI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mic Sans MS"/>
              </a:rPr>
              <a:t>CAPITAL CATARINENSE DO 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1484280"/>
            <a:ext cx="64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00"/>
                </a:solidFill>
                <a:latin typeface="Comic Sans MS"/>
              </a:rPr>
              <a:t>Audiência Públ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8880" y="21337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30/09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43000" y="1790640"/>
            <a:ext cx="7532640" cy="40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PREVISÃO PARA O EXERCÍCIO 2008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$ 210.064.84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EALIZADA NOS ÚLTIMOS 12 MES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$ 236.496.839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765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ceita Corrente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03280" y="4869000"/>
            <a:ext cx="1874880" cy="1792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21040" y="5300640"/>
            <a:ext cx="3291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ALOR EXCED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$ 26.431.9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76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sultado Previdenci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00000" y="1844640"/>
          <a:ext cx="7272000" cy="3514680"/>
        </p:xfrm>
        <a:graphic>
          <a:graphicData uri="http://schemas.openxmlformats.org/drawingml/2006/table">
            <a:tbl>
              <a:tblPr/>
              <a:tblGrid>
                <a:gridCol w="4120560"/>
                <a:gridCol w="31514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2.262.1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403.1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7.859.0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/08/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8.253.5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298520" cy="1241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403280" y="5877000"/>
            <a:ext cx="633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ASSIVO ATUARIAL: R$ 55.223.2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sultado Nomi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02920" y="1916280"/>
            <a:ext cx="676908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Palatino"/>
              </a:rPr>
              <a:t>META FIXADA NA LDO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-3.206.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Palatino"/>
              </a:rPr>
              <a:t>META REALIZADA ATÉ O QUADRIMES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-17.551.7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sultado Prim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1280" y="2133720"/>
            <a:ext cx="77040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Palatino"/>
              </a:rPr>
              <a:t>META FIXADA NA LDO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-8.016.4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Palatino"/>
              </a:rPr>
              <a:t>META REALIZADA ATÉ O QUADRIMES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42.117.4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4360" y="692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stos a Pag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116000" y="2276640"/>
          <a:ext cx="7461000" cy="2447280"/>
        </p:xfrm>
        <a:graphic>
          <a:graphicData uri="http://schemas.openxmlformats.org/drawingml/2006/table">
            <a:tbl>
              <a:tblPr/>
              <a:tblGrid>
                <a:gridCol w="3920400"/>
                <a:gridCol w="354060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Saldo 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31/12/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A Pagar em 31/08/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31.807.4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7.774.9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835280" y="5013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GOS ATÉ O PERÍ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R$   24.032.5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917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9640" y="692280"/>
            <a:ext cx="71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Aplicação na Educação Bá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349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11280" y="2205000"/>
          <a:ext cx="8137440" cy="3635280"/>
        </p:xfrm>
        <a:graphic>
          <a:graphicData uri="http://schemas.openxmlformats.org/drawingml/2006/table">
            <a:tbl>
              <a:tblPr/>
              <a:tblGrid>
                <a:gridCol w="5138640"/>
                <a:gridCol w="299880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8.134.21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</a:t>
                      </a:r>
                      <a:r>
                        <a:rPr b="0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2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.533.55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.387.77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22,81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EDUCAÇÃ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8.279.27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700360" y="61545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43640" y="620640"/>
            <a:ext cx="1800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4360" y="692280"/>
            <a:ext cx="43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Funde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55640" y="1916280"/>
          <a:ext cx="7842240" cy="3889080"/>
        </p:xfrm>
        <a:graphic>
          <a:graphicData uri="http://schemas.openxmlformats.org/drawingml/2006/table">
            <a:tbl>
              <a:tblPr/>
              <a:tblGrid>
                <a:gridCol w="5254560"/>
                <a:gridCol w="2587680"/>
              </a:tblGrid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em 31/12/200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990.3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recadação + Rendiment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13.286.6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amentos efetuad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10.220.0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APLIC. EM PESSOAL  MAGISTÉRIO – (Mínimo de 60%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72,8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 - 31/08/200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4.056.9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349360"/>
            <a:ext cx="82296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26920" y="1916280"/>
          <a:ext cx="7534440" cy="3767040"/>
        </p:xfrm>
        <a:graphic>
          <a:graphicData uri="http://schemas.openxmlformats.org/drawingml/2006/table">
            <a:tbl>
              <a:tblPr/>
              <a:tblGrid>
                <a:gridCol w="5069160"/>
                <a:gridCol w="24652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8.134.21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</a:t>
                      </a:r>
                      <a:r>
                        <a:rPr b="0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720.13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.863.74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7,18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SAÚD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.469.3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55640" y="692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Aplicação na Saú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1724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763640" y="1773360"/>
            <a:ext cx="59054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ahoma"/>
              </a:rPr>
              <a:t>GESTÃ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ahoma"/>
              </a:rPr>
              <a:t>FISC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971640" y="3357720"/>
          <a:ext cx="199548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19954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72360" y="3500280"/>
            <a:ext cx="2411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74560" y="54936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Gastos com Pessoal -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68360" y="3213000"/>
          <a:ext cx="8159760" cy="2735280"/>
        </p:xfrm>
        <a:graphic>
          <a:graphicData uri="http://schemas.openxmlformats.org/drawingml/2006/table">
            <a:tbl>
              <a:tblPr/>
              <a:tblGrid>
                <a:gridCol w="5904000"/>
                <a:gridCol w="22557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6.496.83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COM PESSOAL –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32,76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ÚLTIMOS 12 MESE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.477.33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1.322.87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792000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ágrafo 4º, Art. 9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o Poder Executivo demonstrará e avaliará o cumprimento das metas fiscais de cada quadrimestre, em audiência pública na Casa Legislativa Municipal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7650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66"/>
                </a:solidFill>
                <a:latin typeface="Garamond"/>
              </a:rPr>
              <a:t>LEI COMPLEMENTAR 101/2000 – LR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76960" y="5342040"/>
            <a:ext cx="1967040" cy="1515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400536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Objetivo da divulgação: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</a:rPr>
              <a:t> é permitir que a sociedade conheça, acompanhe e analise o desempenho da execução orçamentária e financeira dos Governos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9640" y="692280"/>
            <a:ext cx="68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Dívida Consolidada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42920" y="2421000"/>
          <a:ext cx="7128000" cy="3311640"/>
        </p:xfrm>
        <a:graphic>
          <a:graphicData uri="http://schemas.openxmlformats.org/drawingml/2006/table">
            <a:tbl>
              <a:tblPr/>
              <a:tblGrid>
                <a:gridCol w="4392720"/>
                <a:gridCol w="2735280"/>
              </a:tblGrid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116.55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onibilidade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79.764.35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 Líqui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70.647.79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sobre a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9,8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5825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9640" y="6922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Operações de Créd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4360" y="2781360"/>
          <a:ext cx="8135640" cy="2430360"/>
        </p:xfrm>
        <a:graphic>
          <a:graphicData uri="http://schemas.openxmlformats.org/drawingml/2006/table">
            <a:tbl>
              <a:tblPr/>
              <a:tblGrid>
                <a:gridCol w="5792760"/>
                <a:gridCol w="234288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rações Créditos Interna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602.34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sobre a RCL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68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definido pelo Senado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,0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732720" y="592200"/>
            <a:ext cx="1942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692280"/>
            <a:ext cx="68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Garamond"/>
              </a:rPr>
              <a:t>Publicações dos Relatórios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2276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Jornal: O Atlân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Site: www.camboriu.sc.gov.b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k: Secretarias e Entidades - Contabilid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227640" y="4724280"/>
            <a:ext cx="23050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23880" y="836640"/>
            <a:ext cx="826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monstração e Avaliação do Cumprimento das Metas Fiscais: 2º Quadrimestre de 2008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Apresentação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rlos Roberto Vidal – Secretário da Faz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Liliane Maria Novaes – Contado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Garamond"/>
              </a:rPr>
              <a:t>             </a:t>
            </a: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Abordagens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5326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XECUÇÃO ORÇAMENTÁ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GESTÃO FIS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23176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63640" y="1773360"/>
            <a:ext cx="59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ahoma"/>
              </a:rPr>
              <a:t>EXECUÇÃO ORÇAMENTÁ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71640" y="3357720"/>
          <a:ext cx="199548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19954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72360" y="3500280"/>
            <a:ext cx="2411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Meta de Receita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060640"/>
          <a:ext cx="8137800" cy="3528720"/>
        </p:xfrm>
        <a:graphic>
          <a:graphicData uri="http://schemas.openxmlformats.org/drawingml/2006/table">
            <a:tbl>
              <a:tblPr/>
              <a:tblGrid>
                <a:gridCol w="2090880"/>
                <a:gridCol w="2163600"/>
                <a:gridCol w="2024280"/>
                <a:gridCol w="18590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Previs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0.649.1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1.745.9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1.096.7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02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960.3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3.059.6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68.669.1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86.706.2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8.037.1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6701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Origem da Receita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4360" y="2060640"/>
          <a:ext cx="7488000" cy="3684600"/>
        </p:xfrm>
        <a:graphic>
          <a:graphicData uri="http://schemas.openxmlformats.org/drawingml/2006/table">
            <a:tbl>
              <a:tblPr/>
              <a:tblGrid>
                <a:gridCol w="3671640"/>
                <a:gridCol w="2521080"/>
                <a:gridCol w="1295280"/>
              </a:tblGrid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Fonte de Recurs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Valor Arrecada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esouro Municipal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2.790.3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1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utras Font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3.915.89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86.706.2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0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6701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Meta de Despesa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16280"/>
          <a:ext cx="8351640" cy="3673440"/>
        </p:xfrm>
        <a:graphic>
          <a:graphicData uri="http://schemas.openxmlformats.org/drawingml/2006/table">
            <a:tbl>
              <a:tblPr/>
              <a:tblGrid>
                <a:gridCol w="1942920"/>
                <a:gridCol w="2232000"/>
                <a:gridCol w="2159280"/>
                <a:gridCol w="201744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espes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Fixad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Liquidad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9.940.5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8.275.3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1.665.2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6.897.7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.432.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6.465.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46.838.3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38.707.5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- 8.130.7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732720" y="146160"/>
            <a:ext cx="1726920" cy="1495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76360" y="5877000"/>
            <a:ext cx="6120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TOTAL DESPESA EMPENHAD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R$ 206.962.39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200720" cy="75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Garamond"/>
              </a:rPr>
              <a:t>Despesa por Categoria Econômica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11280" y="1700280"/>
          <a:ext cx="8064360" cy="4897440"/>
        </p:xfrm>
        <a:graphic>
          <a:graphicData uri="http://schemas.openxmlformats.org/drawingml/2006/table">
            <a:tbl>
              <a:tblPr/>
              <a:tblGrid>
                <a:gridCol w="4722840"/>
                <a:gridCol w="1868400"/>
                <a:gridCol w="1473120"/>
              </a:tblGrid>
              <a:tr h="23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SOAL E ENCARGOS PESSOAIS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ROS E ENCARGOS DA DÍVIDA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RAS DESPESAS CORRENTE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TOTAL.............................................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1.040.5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.617.8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4.694.2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07.352.6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6,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,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9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77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9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MENTOS............................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ORTIZAÇÃO DA DÍVIDA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TOTAL.................................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7.619.8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.735.1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1.354.9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9,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,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2,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38.707.5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7905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6551640" cy="82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Garamond"/>
              </a:rPr>
              <a:t>RESUMO - Receitas e Despesas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2565360"/>
          <a:ext cx="7964280" cy="3456000"/>
        </p:xfrm>
        <a:graphic>
          <a:graphicData uri="http://schemas.openxmlformats.org/drawingml/2006/table">
            <a:tbl>
              <a:tblPr/>
              <a:tblGrid>
                <a:gridCol w="2611440"/>
                <a:gridCol w="2674800"/>
                <a:gridCol w="267804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6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6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Previ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6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68.669.1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86.706.2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68.838.3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38.707.5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PUR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-169.20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47.998.7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15001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5:59:12Z</dcterms:created>
  <dc:creator>adeline</dc:creator>
  <dc:description/>
  <dc:language>en-US</dc:language>
  <cp:lastModifiedBy>apoleza</cp:lastModifiedBy>
  <dcterms:modified xsi:type="dcterms:W3CDTF">2009-05-29T16:11:09Z</dcterms:modified>
  <cp:revision>102</cp:revision>
  <dc:subject/>
  <dc:title> FUNDE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