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E5EB9-C8D4-446B-A0BE-94EBB616A34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00F-CC68-42B3-9A09-C0F49599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9000" y="414000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3820-3AD6-4219-B7F7-AAFFD4EC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096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19000" y="414000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00960" y="414000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8B37-348B-46A3-BD98-8B23CF3D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6640" y="198072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3920" y="198072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19000" y="414000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6640" y="414000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3920" y="414000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1FBE-9F0E-4936-878D-9509C211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4F6C-8FB0-4961-8C03-EB95F369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19000" y="1980720"/>
            <a:ext cx="77709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B6FE-C698-4879-B483-BF752765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777096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6913-21AC-4FDB-9C8F-CD046EAB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379188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960" y="1980720"/>
            <a:ext cx="379188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15D4-2DC7-4F04-906D-B23A600F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4073-6B16-48FE-AD1A-A50B8659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200" y="465120"/>
            <a:ext cx="80787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0EB4-D738-4091-B520-76E13BE3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980720"/>
            <a:ext cx="379188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19000" y="414000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9916-2BBF-4CCD-86D0-A145C582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19000" y="1980720"/>
            <a:ext cx="77709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42DD-5437-4B44-A970-DE4699E5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379188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096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00960" y="414000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0625-D240-4AEB-B697-E422C6BC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096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19000" y="414000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6D3D-DBFC-401C-86A5-09064253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19000" y="414000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45A4-6666-45F2-800C-F1D39DA5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0096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19000" y="414000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00960" y="414000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C5E3-5068-4C2A-ACE5-2383A3C9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6640" y="198072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3920" y="198072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19000" y="414000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6640" y="414000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3920" y="4140000"/>
            <a:ext cx="250200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BBDC-DE8E-47AC-BD53-36D00963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777096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7E5C-4143-45C0-931D-0EC78303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379188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00960" y="1980720"/>
            <a:ext cx="379188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0C3D-9B6B-45F0-84C8-42A307AA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16E-E9AC-4124-A3C6-B92ECED3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200" y="465120"/>
            <a:ext cx="80787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88FD-27CE-4C46-A2EA-6DB1ADA7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00960" y="1980720"/>
            <a:ext cx="379188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9000" y="414000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ED6-0537-47E0-BBE4-E5393006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379188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0096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00960" y="414000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40D1-84A0-4D33-AE3A-45D67F54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900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00960" y="1980720"/>
            <a:ext cx="379188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9000" y="4140000"/>
            <a:ext cx="7770960" cy="1971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43B-CAA4-4028-949B-4976F1A5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200" y="465120"/>
            <a:ext cx="80787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819000" y="1980720"/>
            <a:ext cx="7770960" cy="4133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943600" y="6477120"/>
            <a:ext cx="26812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200" y="6365880"/>
            <a:ext cx="42656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00800" y="5867280"/>
            <a:ext cx="220824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fld id="{5FDDB91A-1FE5-4D93-B421-D0A5300C2574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28866960" y="1463760"/>
            <a:ext cx="42225840" cy="21589920"/>
            <a:chOff x="-28866960" y="1463760"/>
            <a:chExt cx="42225840" cy="2158992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28866960" y="1463760"/>
              <a:ext cx="42225840" cy="21589920"/>
            </a:xfrm>
            <a:custGeom>
              <a:avLst/>
              <a:gdLst>
                <a:gd name="textAreaLeft" fmla="*/ 21111120 w 42225840"/>
                <a:gd name="textAreaRight" fmla="*/ 24535800 w 42225840"/>
                <a:gd name="textAreaTop" fmla="*/ 0 h 21589920"/>
                <a:gd name="textAreaBottom" fmla="*/ 10793880 h 2158992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609120"/>
            <a:ext cx="7770960" cy="152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009920" y="6171840"/>
            <a:ext cx="2132280" cy="6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4920" y="6365880"/>
            <a:ext cx="42656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10280" y="5486040"/>
            <a:ext cx="211608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FAEA49-5040-4212-B673-5E860E777E7D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10280" y="6172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587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65160"/>
            <a:ext cx="7416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900" spc="-1" strike="noStrike">
                <a:solidFill>
                  <a:srgbClr val="ffff00"/>
                </a:solidFill>
                <a:latin typeface="Tahoma"/>
              </a:rPr>
              <a:t>Município d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ahoma"/>
              </a:rPr>
              <a:t>BALNEÁRIO CAMBORIÚ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CAPITAL CATARINENSE DO 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205000"/>
            <a:ext cx="828036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5000" spc="-1" strike="noStrike">
                <a:solidFill>
                  <a:srgbClr val="ffffff"/>
                </a:solidFill>
                <a:latin typeface="Tahoma"/>
              </a:rPr>
              <a:t>Audiência Pública</a:t>
            </a:r>
            <a:br>
              <a:rPr sz="5000"/>
            </a:b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29/05/2009</a:t>
            </a:r>
            <a:br>
              <a:rPr sz="3800"/>
            </a:br>
            <a:br>
              <a:rPr sz="3800"/>
            </a:br>
            <a:r>
              <a:rPr b="1" lang="pt-BR" sz="3600" spc="-1" strike="noStrike">
                <a:solidFill>
                  <a:srgbClr val="ffffcc"/>
                </a:solidFill>
                <a:latin typeface="Arial"/>
              </a:rPr>
              <a:t>Demonstração e Avaliação do Cumprimento das Metas Fiscais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1º Quadrimestre de 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6000" y="433440"/>
            <a:ext cx="684072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RESUMO</a:t>
            </a: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Receitas e Despesa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24000" y="2565360"/>
          <a:ext cx="8251560" cy="3272040"/>
        </p:xfrm>
        <a:graphic>
          <a:graphicData uri="http://schemas.openxmlformats.org/drawingml/2006/table">
            <a:tbl>
              <a:tblPr/>
              <a:tblGrid>
                <a:gridCol w="2811240"/>
                <a:gridCol w="2735280"/>
                <a:gridCol w="2705040"/>
              </a:tblGrid>
              <a:tr h="574560">
                <a:tc>
                  <a:txBody>
                    <a:bodyPr lIns="90000" rIns="9000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criçã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evist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alizad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36720"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CEI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4.408.6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0.974.5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DESPES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94.520.7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68.087.5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680"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PERÁVI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887.8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.887.0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18640" y="1980720"/>
            <a:ext cx="7533000" cy="3676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PREVISÃO PARA O EXERCÍCIO 2009: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3400" spc="-1" strike="noStrike">
                <a:solidFill>
                  <a:srgbClr val="ffcc66"/>
                </a:solidFill>
                <a:latin typeface="Tahoma"/>
              </a:rPr>
              <a:t>R$ 255.369.911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REALIZADA NOS ÚLTIMOS 12 MES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ffcc66"/>
                </a:solidFill>
                <a:latin typeface="Tahoma"/>
              </a:rPr>
              <a:t>R$ 251.838.276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765000"/>
            <a:ext cx="67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Receita Corrente Líqu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76500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Resultado Previdenciá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95280" y="2205000"/>
          <a:ext cx="8209080" cy="3271680"/>
        </p:xfrm>
        <a:graphic>
          <a:graphicData uri="http://schemas.openxmlformats.org/drawingml/2006/table">
            <a:tbl>
              <a:tblPr/>
              <a:tblGrid>
                <a:gridCol w="3529080"/>
                <a:gridCol w="2448000"/>
                <a:gridCol w="2232000"/>
              </a:tblGrid>
              <a:tr h="601560"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criçã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evis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aliz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32440">
                <a:tc>
                  <a:txBody>
                    <a:bodyPr lIns="90000" rIns="90000" tIns="3636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ceit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.348.6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.041.4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3636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es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.247.3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.643.3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3636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32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Resultad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5.101.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4.398.0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3520">
                <a:tc>
                  <a:txBody>
                    <a:bodyPr lIns="90000" rIns="90000" tIns="3636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do Financeir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/04/200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8.618.8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2064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Resultado Nomi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095560"/>
            <a:ext cx="676908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META FIXADA NA LDO 200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ffcc66"/>
                </a:solidFill>
                <a:latin typeface="Tahoma"/>
              </a:rPr>
              <a:t>R$ 1.915.55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META REALIZADA N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QUADRIMESTRE 200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ffcc66"/>
                </a:solidFill>
                <a:latin typeface="Tahoma"/>
              </a:rPr>
              <a:t>R$ (43.195.326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62064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Resultado Primá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2133720"/>
            <a:ext cx="770400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META FIXADA NA LDO 200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ffcc66"/>
                </a:solidFill>
                <a:latin typeface="Tahoma"/>
              </a:rPr>
              <a:t>R$ (15.374.850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META REALIZADA N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QUADRIMESTRE DE 200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ffcc66"/>
                </a:solidFill>
                <a:latin typeface="Tahoma"/>
              </a:rPr>
              <a:t>R$ 47.368.792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69228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Restos a Pag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55640" y="2205000"/>
          <a:ext cx="7461360" cy="3529080"/>
        </p:xfrm>
        <a:graphic>
          <a:graphicData uri="http://schemas.openxmlformats.org/drawingml/2006/table">
            <a:tbl>
              <a:tblPr/>
              <a:tblGrid>
                <a:gridCol w="4392720"/>
                <a:gridCol w="3068640"/>
              </a:tblGrid>
              <a:tr h="1081080"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Saldo 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1/12/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336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36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23.012.74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ancelad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336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36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184.37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Pag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336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36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8.844.08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A pagar em 30/04/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336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36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13.984.28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692280"/>
            <a:ext cx="719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Aplicação na Educação Bás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0820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234936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8360" y="2708280"/>
          <a:ext cx="8137440" cy="3678120"/>
        </p:xfrm>
        <a:graphic>
          <a:graphicData uri="http://schemas.openxmlformats.org/drawingml/2006/table">
            <a:tbl>
              <a:tblPr/>
              <a:tblGrid>
                <a:gridCol w="5138640"/>
                <a:gridCol w="2998800"/>
              </a:tblGrid>
              <a:tr h="71100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DE CÁLCUL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.627.22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71712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LICAÇÃO MÍNIMA – 25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.156.80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70596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LOR APLICA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996.73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71100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UAL APLICA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,47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8330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TOS TOTAIS EM EDUCAÇÃ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080.43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2700360" y="615456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692280"/>
            <a:ext cx="66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Aplicação </a:t>
            </a:r>
            <a:r>
              <a:rPr b="1" lang="pt-BR" sz="4000" spc="-1" strike="noStrike" u="sng">
                <a:solidFill>
                  <a:srgbClr val="ffff00"/>
                </a:solidFill>
                <a:uFillTx/>
                <a:latin typeface="Arial"/>
              </a:rPr>
              <a:t>Funde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11280" y="1916280"/>
          <a:ext cx="7921440" cy="4108320"/>
        </p:xfrm>
        <a:graphic>
          <a:graphicData uri="http://schemas.openxmlformats.org/drawingml/2006/table">
            <a:tbl>
              <a:tblPr/>
              <a:tblGrid>
                <a:gridCol w="5306760"/>
                <a:gridCol w="2614680"/>
              </a:tblGrid>
              <a:tr h="5756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do em 31/12/200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475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42.24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57600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recadação + Rendimento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475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.474.06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82080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gamentos efetuado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475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.037.58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120420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 APLIC. EM PESSOAL  MAGISTÉRIO – (Mínimo de 60%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475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91,10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93168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do Financeiro - 30/04/200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475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378.72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0820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2349360"/>
            <a:ext cx="8229600" cy="37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4360" y="2421000"/>
          <a:ext cx="7848360" cy="3451320"/>
        </p:xfrm>
        <a:graphic>
          <a:graphicData uri="http://schemas.openxmlformats.org/drawingml/2006/table">
            <a:tbl>
              <a:tblPr/>
              <a:tblGrid>
                <a:gridCol w="5279760"/>
                <a:gridCol w="2568600"/>
              </a:tblGrid>
              <a:tr h="6890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DE CÁLCUL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.627.22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69696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LICAÇÃO MÍNIMA – </a:t>
                      </a: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15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694.08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68580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LOR APLICA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774.40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69048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UAL APLICA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12,02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  <a:tr h="6890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TOS TOTAIS EM SAÚD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866.03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>
                        <a:alpha val="-490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755640" y="69228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Aplicação na Saú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404640"/>
            <a:ext cx="8353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Tahoma"/>
              </a:rPr>
              <a:t>RELATÓRIO 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Tahoma"/>
              </a:rPr>
              <a:t>GESTÃO FIS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164360" y="3357720"/>
          <a:ext cx="1305000" cy="16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3357720"/>
                    <a:ext cx="130500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395280" y="2637000"/>
            <a:ext cx="874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strumento imprescindível no acompanhamento das atividades financeiras e de gest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ublicação por pode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Gastos com pessoal, dívida, operações de crédito, restos a pagar e disponibilidade de caix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27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3645000"/>
            <a:ext cx="8137440" cy="180036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Objetivo da </a:t>
            </a:r>
            <a:r>
              <a:rPr b="1" lang="pt-BR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vulgação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 dos relatórios é permitir que a sociedade conheça, acompanhe e analise o desempenho da execução orçamentária e financeira dos Gover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2200" y="35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PUBLICAÇÃO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141300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LATÓRIOS PUBLICADOS ATÉ 30 D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ÓS ENCERRAMENTO DO BIMESTRE E QUADRIMES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4560" y="476280"/>
            <a:ext cx="85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Gastos com Pessoal – LR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Execu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68360" y="3213000"/>
          <a:ext cx="8159760" cy="2952720"/>
        </p:xfrm>
        <a:graphic>
          <a:graphicData uri="http://schemas.openxmlformats.org/drawingml/2006/table">
            <a:tbl>
              <a:tblPr/>
              <a:tblGrid>
                <a:gridCol w="5759280"/>
                <a:gridCol w="2400480"/>
              </a:tblGrid>
              <a:tr h="8636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DE CÁLCULO - RC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1.838.27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2844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TOS COM PESSOAL –</a:t>
                      </a: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34,95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ÚLTIMOS 12 MESES – DESPESA LÍQUID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7.954.54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MITE PRUDENCIAL – 51,30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9.193.03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3809880" cy="13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4560" y="476280"/>
            <a:ext cx="85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Gastos com Pessoal – LR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Legisla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68360" y="3213000"/>
          <a:ext cx="8159760" cy="2952720"/>
        </p:xfrm>
        <a:graphic>
          <a:graphicData uri="http://schemas.openxmlformats.org/drawingml/2006/table">
            <a:tbl>
              <a:tblPr/>
              <a:tblGrid>
                <a:gridCol w="5759280"/>
                <a:gridCol w="2400480"/>
              </a:tblGrid>
              <a:tr h="8636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DE CÁLCULO - RC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1.838.27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2844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TOS COM PESSOAL –</a:t>
                      </a: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1,37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ÚLTIMOS 12 MESES – DESPESA LÍQUID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457.30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MITE PRUDENCIAL – 5,70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354.78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3809880" cy="13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404640"/>
            <a:ext cx="73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Dívida Consolidada Líqu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826920" y="1844640"/>
          <a:ext cx="7344000" cy="3311640"/>
        </p:xfrm>
        <a:graphic>
          <a:graphicData uri="http://schemas.openxmlformats.org/drawingml/2006/table">
            <a:tbl>
              <a:tblPr/>
              <a:tblGrid>
                <a:gridCol w="4608720"/>
                <a:gridCol w="2735280"/>
              </a:tblGrid>
              <a:tr h="8222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ívida Consolidad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998.28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ponibilidade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4.169.03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ívida Consolidada Líquid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5.170.75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ual sobre a RC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33,82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69228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Operações de Crédi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11280" y="1844640"/>
          <a:ext cx="7632720" cy="2430360"/>
        </p:xfrm>
        <a:graphic>
          <a:graphicData uri="http://schemas.openxmlformats.org/drawingml/2006/table">
            <a:tbl>
              <a:tblPr/>
              <a:tblGrid>
                <a:gridCol w="5472000"/>
                <a:gridCol w="2160720"/>
              </a:tblGrid>
              <a:tr h="9050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perações Créditos Internas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7.12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 sobre a RCL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15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mite definido pelo Senado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,00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692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Publicações dos Relatórios LR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2276640"/>
            <a:ext cx="8569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400" spc="-1" strike="noStrike">
                <a:solidFill>
                  <a:srgbClr val="ffffff"/>
                </a:solidFill>
                <a:latin typeface="Arial"/>
              </a:rPr>
              <a:t>Jornal O Atlântico em 30/05/09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400" spc="-1" strike="noStrike">
                <a:solidFill>
                  <a:srgbClr val="ffffff"/>
                </a:solidFill>
                <a:latin typeface="Arial"/>
              </a:rPr>
              <a:t>Site: www.balneariocamboriu.sc.gov.br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ink: Secretarias e Entidades - Contabil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63640" y="4653000"/>
            <a:ext cx="2457360" cy="19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3880" y="836640"/>
            <a:ext cx="826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Garamond"/>
              </a:rPr>
              <a:t>Audiência Pública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Demonstração e Avaliação do Cumprimento das Metas Fiscais: 1º Quadrimestre de 2009”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ahoma"/>
              </a:rPr>
              <a:t>OBRIGADO PELA PRESENÇ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presentação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Yedon Emanoel Nunes – Secretário da Fazen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iliane Maria Novaes – Contado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27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2133720"/>
            <a:ext cx="8064720" cy="3506760"/>
          </a:xfrm>
          <a:prstGeom prst="rect">
            <a:avLst/>
          </a:prstGeom>
          <a:solidFill>
            <a:srgbClr val="ffffcc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Maior transparência dos atos do Gove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restação de contas à popul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Facilitar o acesso às informa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Divulgação dos resultados de forma mais clara e simplific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32200" y="35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585360"/>
            <a:ext cx="808056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Audiência Pública</a:t>
            </a:r>
            <a:br>
              <a:rPr sz="3600"/>
            </a:b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ABORDAGEN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56936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RELATÓRIO RESUMIDO DA EXECUÇÃO ORÇAMENTÁR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Times New Roman"/>
              </a:rPr>
              <a:t>RELATÓRIO DE GESTÃO FISC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27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476280"/>
            <a:ext cx="842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RELATÓRIO RESUM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DA EXECUÇÃO ORÇAMENTÁ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130880" y="4927680"/>
            <a:ext cx="2013120" cy="1930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76560" y="3522600"/>
            <a:ext cx="44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08200" y="3233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2349360"/>
            <a:ext cx="820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brange todas as Unidades Gesto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parativo entre metas previstas e execut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quilíbrio entre receitas e despe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monstraçã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3640" y="108000"/>
            <a:ext cx="828036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lang="pt-BR" sz="4400" spc="-1" strike="noStrike">
                <a:solidFill>
                  <a:srgbClr val="ffff00"/>
                </a:solidFill>
                <a:latin typeface="Arial"/>
              </a:rPr>
              <a:t>Desempenho de Receit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9640" y="2060640"/>
          <a:ext cx="8137800" cy="3363840"/>
        </p:xfrm>
        <a:graphic>
          <a:graphicData uri="http://schemas.openxmlformats.org/drawingml/2006/table">
            <a:tbl>
              <a:tblPr/>
              <a:tblGrid>
                <a:gridCol w="2090880"/>
                <a:gridCol w="2163600"/>
                <a:gridCol w="2024280"/>
                <a:gridCol w="1859040"/>
              </a:tblGrid>
              <a:tr h="403920"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ceit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evista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rrecad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ferenç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83016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Corrent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9.115.2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7.238.5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.876.7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248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tra-Orçamentár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151.8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348.8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97.0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.141.5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87.1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.754.3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4.408.6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0.974.5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3.434.0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656640" y="597060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* Previsto para o quadrimestre conforme estimativa de arrecad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Arial"/>
              </a:rPr>
              <a:t>Origem das Receita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981080"/>
          <a:ext cx="7920000" cy="3392640"/>
        </p:xfrm>
        <a:graphic>
          <a:graphicData uri="http://schemas.openxmlformats.org/drawingml/2006/table">
            <a:tbl>
              <a:tblPr/>
              <a:tblGrid>
                <a:gridCol w="2374920"/>
                <a:gridCol w="2089080"/>
                <a:gridCol w="2087640"/>
                <a:gridCol w="1368360"/>
              </a:tblGrid>
              <a:tr h="658800"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ceit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evis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rrecad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92880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PRÓPRI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7.212.3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2.533.6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4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UTRAS FON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7.196.2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8.440.9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,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4.408.6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0.974.5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971640" y="5661000"/>
            <a:ext cx="69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ff00"/>
                </a:solidFill>
                <a:latin typeface="Arial"/>
              </a:rPr>
              <a:t>IMPORTANTE: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70% IPTU previsto foi arrecadado até o perí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-44280"/>
            <a:ext cx="75610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600"/>
            </a:br>
            <a:r>
              <a:rPr b="1" lang="pt-BR" sz="4400" spc="-1" strike="noStrike">
                <a:solidFill>
                  <a:srgbClr val="ffff00"/>
                </a:solidFill>
                <a:latin typeface="Arial"/>
              </a:rPr>
              <a:t>Desempenho de Despes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68360" y="1916280"/>
          <a:ext cx="8424720" cy="3695040"/>
        </p:xfrm>
        <a:graphic>
          <a:graphicData uri="http://schemas.openxmlformats.org/drawingml/2006/table">
            <a:tbl>
              <a:tblPr/>
              <a:tblGrid>
                <a:gridCol w="2109600"/>
                <a:gridCol w="2181240"/>
                <a:gridCol w="2043360"/>
                <a:gridCol w="2090520"/>
              </a:tblGrid>
              <a:tr h="506160"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pe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evista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xecut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ferenç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64512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Corrent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3.608.8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2.953.6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0.655.1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.388.6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931.6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22.456.9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44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tra-Orçamentári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523.3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.202.2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67.3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4.520.7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0.087.5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34.433.2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657720" y="5970600"/>
            <a:ext cx="64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* Previsto para o quadrimestre conforme cronograma de desembol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640" y="325440"/>
            <a:ext cx="7092720" cy="1311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Despesa por Categoria Econômic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9640" y="1989000"/>
          <a:ext cx="8136000" cy="4140360"/>
        </p:xfrm>
        <a:graphic>
          <a:graphicData uri="http://schemas.openxmlformats.org/drawingml/2006/table">
            <a:tbl>
              <a:tblPr/>
              <a:tblGrid>
                <a:gridCol w="4753080"/>
                <a:gridCol w="1909800"/>
                <a:gridCol w="1473120"/>
              </a:tblGrid>
              <a:tr h="2049840">
                <a:tc>
                  <a:txBody>
                    <a:bodyPr lIns="90000" rIns="90000" tIns="2268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DESPESAS CORRE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SSOAL E ENCARGOS SOCIAIS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ROS E ENCARGOS DA DÍVIDA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UTRAS DESPESAS CORRENTES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22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56.155.8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27.561.7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513.4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28.080.6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22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93,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45,8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0,8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46,7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</a:tr>
              <a:tr h="1648800">
                <a:tc>
                  <a:txBody>
                    <a:bodyPr lIns="90000" rIns="90000" tIns="2268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DESPESAS DE CAPI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MENTOS.............................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ORTIZAÇÃO DA DÍVIDA........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22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3.931.6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2.397.9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.533.7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22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6,5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4,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2,5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2268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GE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22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.087.5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22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,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4:57:28Z</dcterms:created>
  <dc:creator>apoleza</dc:creator>
  <dc:description/>
  <dc:language>en-US</dc:language>
  <cp:lastModifiedBy>apoleza</cp:lastModifiedBy>
  <dcterms:modified xsi:type="dcterms:W3CDTF">2009-05-29T16:12:24Z</dcterms:modified>
  <cp:revision>82</cp:revision>
  <dc:subject/>
  <dc:title>AVALIAÇÃO DAS METAS  2º QUADRIMESTRE 2007</dc:title>
</cp:coreProperties>
</file>