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6D84-8293-4EE0-A812-F5290E496D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79-392A-4FB9-91AF-DF144B55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CFF-2A2C-4050-856E-CDF0F15B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B5A-9BE2-440B-B8BF-00B0A16C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92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900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92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FE7-925B-4139-9EF2-53222FDA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16FD-0B46-48EF-8A29-D51D6BA3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DB23-DB71-47F9-A742-AF305FC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41B-61C7-4538-AD94-8A56860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15B3-68E6-4C4D-B495-0BA6D5E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C88-316E-455D-9AF7-8D9E45C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465120"/>
            <a:ext cx="80787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3BD5-C59B-4A4F-8AE7-AB828E0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963-A2F7-4D79-B2F2-56B2951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97D-66A5-4097-9053-A67B67B6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4DE6-5560-41C0-8373-113EE184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B8F-D148-4AB3-B9F2-0F820D3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D7D6-9E99-46B4-9442-17CC492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14EB-9CB5-412F-80F4-0F6844C6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664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392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900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664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392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709-8FFD-4C77-9F1A-A1BE1C07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CFA-43E4-41E8-A69F-F37D088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822-1944-4763-BACD-2F695A86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538-A286-459B-B0F1-7AE4032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200" y="465120"/>
            <a:ext cx="80787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054-FA5A-4ACD-82BF-730DD710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EC5-CCB4-4083-AC78-AD8AEF6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484-F508-4DA3-B6C5-0A3EBC1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576-0295-4A1C-A53C-D31E70B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43600" y="6477120"/>
            <a:ext cx="26812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5867280"/>
            <a:ext cx="220824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fld id="{DC9698EF-EC12-4C39-AD73-D412DC0EB166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28866960" y="1463760"/>
            <a:ext cx="42225840" cy="21589920"/>
            <a:chOff x="-28866960" y="1463760"/>
            <a:chExt cx="42225840" cy="215899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28866960" y="1463760"/>
              <a:ext cx="42225840" cy="21589920"/>
            </a:xfrm>
            <a:custGeom>
              <a:avLst/>
              <a:gdLst>
                <a:gd name="textAreaLeft" fmla="*/ 21111120 w 42225840"/>
                <a:gd name="textAreaRight" fmla="*/ 24535800 w 42225840"/>
                <a:gd name="textAreaTop" fmla="*/ 0 h 21589920"/>
                <a:gd name="textAreaBottom" fmla="*/ 10793880 h 21589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609120"/>
            <a:ext cx="777096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09920" y="6171840"/>
            <a:ext cx="213228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5486040"/>
            <a:ext cx="2116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BAF153-DA51-43A5-97E3-3129778EA53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6172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65160"/>
            <a:ext cx="74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00"/>
                </a:solidFill>
                <a:latin typeface="Tahoma"/>
              </a:rPr>
              <a:t>Município 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ahoma"/>
              </a:rPr>
              <a:t>BALNEÁRIO CAMBORIÚ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205000"/>
            <a:ext cx="8280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000" spc="-1" strike="noStrike">
                <a:solidFill>
                  <a:srgbClr val="ffffff"/>
                </a:solidFill>
                <a:latin typeface="Tahoma"/>
              </a:rPr>
              <a:t>Audiência Pública</a:t>
            </a:r>
            <a:br>
              <a:rPr sz="5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29/05/2009</a:t>
            </a:r>
            <a:br>
              <a:rPr sz="3800"/>
            </a:br>
            <a:br>
              <a:rPr sz="3800"/>
            </a:b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Demonstração e Avaliação do Cumprimento das Metas Fiscais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1º Quadrimestre de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433440"/>
            <a:ext cx="684072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MO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ceitas e Despes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565360"/>
          <a:ext cx="8251560" cy="3272040"/>
        </p:xfrm>
        <a:graphic>
          <a:graphicData uri="http://schemas.openxmlformats.org/drawingml/2006/table">
            <a:tbl>
              <a:tblPr/>
              <a:tblGrid>
                <a:gridCol w="2811240"/>
                <a:gridCol w="2735280"/>
                <a:gridCol w="2705040"/>
              </a:tblGrid>
              <a:tr h="574560"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72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94.520.7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68.087.5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ÁV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887.8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887.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9: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5.369.91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1.838.276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2205000"/>
          <a:ext cx="8209080" cy="3271680"/>
        </p:xfrm>
        <a:graphic>
          <a:graphicData uri="http://schemas.openxmlformats.org/drawingml/2006/table">
            <a:tbl>
              <a:tblPr/>
              <a:tblGrid>
                <a:gridCol w="3529080"/>
                <a:gridCol w="2448000"/>
                <a:gridCol w="2232000"/>
              </a:tblGrid>
              <a:tr h="601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244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348.6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041.4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247.3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643.3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5.101.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4.398.0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/04/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8.618.8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095560"/>
            <a:ext cx="676908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1.915.55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43.195.326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15.374.85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DE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47.368.79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55640" y="2205000"/>
          <a:ext cx="7461360" cy="3529080"/>
        </p:xfrm>
        <a:graphic>
          <a:graphicData uri="http://schemas.openxmlformats.org/drawingml/2006/table">
            <a:tbl>
              <a:tblPr/>
              <a:tblGrid>
                <a:gridCol w="4392720"/>
                <a:gridCol w="3068640"/>
              </a:tblGrid>
              <a:tr h="108108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1/12/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3.012.7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ncel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84.37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ag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8.844.08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 pagar em 30/04/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3.984.28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708280"/>
          <a:ext cx="8137440" cy="3678120"/>
        </p:xfrm>
        <a:graphic>
          <a:graphicData uri="http://schemas.openxmlformats.org/drawingml/2006/table">
            <a:tbl>
              <a:tblPr/>
              <a:tblGrid>
                <a:gridCol w="5138640"/>
                <a:gridCol w="2998800"/>
              </a:tblGrid>
              <a:tr h="711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27.22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171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156.80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059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996.73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11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4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833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080.43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92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</a:t>
            </a:r>
            <a:r>
              <a:rPr b="1" lang="pt-BR" sz="4000" spc="-1" strike="noStrike" u="sng">
                <a:solidFill>
                  <a:srgbClr val="ffff00"/>
                </a:solidFill>
                <a:uFillTx/>
                <a:latin typeface="Arial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1280" y="1916280"/>
          <a:ext cx="7921440" cy="4108320"/>
        </p:xfrm>
        <a:graphic>
          <a:graphicData uri="http://schemas.openxmlformats.org/drawingml/2006/table">
            <a:tbl>
              <a:tblPr/>
              <a:tblGrid>
                <a:gridCol w="5306760"/>
                <a:gridCol w="2614680"/>
              </a:tblGrid>
              <a:tr h="575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em 31/12/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2.2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474.06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amentos efetuad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037.58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12042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APLIC. EM PESSOAL  MAGISTÉRIO – 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1,1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9316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 - 30/04/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378.72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2421000"/>
          <a:ext cx="7848360" cy="3451320"/>
        </p:xfrm>
        <a:graphic>
          <a:graphicData uri="http://schemas.openxmlformats.org/drawingml/2006/table">
            <a:tbl>
              <a:tblPr/>
              <a:tblGrid>
                <a:gridCol w="5279760"/>
                <a:gridCol w="2568600"/>
              </a:tblGrid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27.22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94.08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774.40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90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2,0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66.0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0464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RELATÓRIO 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GESTÃO FIS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164360" y="3357720"/>
          <a:ext cx="13050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3357720"/>
                    <a:ext cx="130500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95280" y="26370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mento imprescindível no acompanhamento das atividades financeiras e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ublicação por pod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astos com pessoal, dívida, operações de crédito, restos a pagar e disponibilidade de cai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645000"/>
            <a:ext cx="8137440" cy="180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Objetivo da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vulgação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 dos relatórios é permitir que a sociedade conheça, acompanhe e analise o desempenho da execução orçamentária e financeira dos Gov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UBLICAÇÃ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13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LATÓRIOS PUBLICADOS ATÉ 30 D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ÓS ENCERRAMENTO DO BIMESTRE E QUADRIMES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Execu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3213000"/>
          <a:ext cx="8159760" cy="2952720"/>
        </p:xfrm>
        <a:graphic>
          <a:graphicData uri="http://schemas.openxmlformats.org/drawingml/2006/table">
            <a:tbl>
              <a:tblPr/>
              <a:tblGrid>
                <a:gridCol w="5759280"/>
                <a:gridCol w="240048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.838.27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4,9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.954.5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.193.03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Legisl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8360" y="3213000"/>
          <a:ext cx="8159760" cy="2952720"/>
        </p:xfrm>
        <a:graphic>
          <a:graphicData uri="http://schemas.openxmlformats.org/drawingml/2006/table">
            <a:tbl>
              <a:tblPr/>
              <a:tblGrid>
                <a:gridCol w="5759280"/>
                <a:gridCol w="240048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.838.27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,3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57.30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,7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354.78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0464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6920" y="1844640"/>
          <a:ext cx="7344000" cy="3311640"/>
        </p:xfrm>
        <a:graphic>
          <a:graphicData uri="http://schemas.openxmlformats.org/drawingml/2006/table">
            <a:tbl>
              <a:tblPr/>
              <a:tblGrid>
                <a:gridCol w="4608720"/>
                <a:gridCol w="2735280"/>
              </a:tblGrid>
              <a:tr h="8222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998.28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.169.03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.170.75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3,8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1280" y="1844640"/>
          <a:ext cx="7632720" cy="2430360"/>
        </p:xfrm>
        <a:graphic>
          <a:graphicData uri="http://schemas.openxmlformats.org/drawingml/2006/table">
            <a:tbl>
              <a:tblPr/>
              <a:tblGrid>
                <a:gridCol w="5472000"/>
                <a:gridCol w="2160720"/>
              </a:tblGrid>
              <a:tr h="905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7.12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276640"/>
            <a:ext cx="856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Jornal O Atlântico em 30/05/09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Site: www.balneariocamboriu.sc.gov.br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4653000"/>
            <a:ext cx="245736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3880" y="836640"/>
            <a:ext cx="826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 Metas Fiscais: 1º Quadrimestre de 2009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presentaçã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edon Emanoel Nunes – Secretário da Faz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liane Maria Novaes – Contado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133720"/>
            <a:ext cx="8064720" cy="3506760"/>
          </a:xfrm>
          <a:prstGeom prst="rect">
            <a:avLst/>
          </a:prstGeom>
          <a:solidFill>
            <a:srgbClr val="ffffc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ior transparência dos atos do Gov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estação de contas à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cilitar o acesso às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ivulgação dos resultados de forma mais clara e simplif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585360"/>
            <a:ext cx="808056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udiência Pública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BORDAGE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56936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ELATÓRIO RESUMIDO DA EXECUÇÃO ORÇAMENTÁ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ELATÓRIO DE GESTÃO FISC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76280"/>
            <a:ext cx="842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RELATÓRIO RESUM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DA EXECUÇÃO ORÇAMENTÁ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30880" y="492768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76560" y="352260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323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349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brange todas as Unidades Gest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arativo entre metas previstas e execu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quilíbrio entre receitas e desp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monstraçã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08000"/>
            <a:ext cx="828036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sempenho de Recei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060640"/>
          <a:ext cx="8137800" cy="3363840"/>
        </p:xfrm>
        <a:graphic>
          <a:graphicData uri="http://schemas.openxmlformats.org/drawingml/2006/table">
            <a:tbl>
              <a:tblPr/>
              <a:tblGrid>
                <a:gridCol w="2090880"/>
                <a:gridCol w="2163600"/>
                <a:gridCol w="2024280"/>
                <a:gridCol w="1859040"/>
              </a:tblGrid>
              <a:tr h="40392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9.115.2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7.238.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.876.7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151.8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348.8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7.0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141.5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7.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.754.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.434.0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56640" y="59706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estimativa de arrecad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Origem das Receita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1080"/>
          <a:ext cx="7920000" cy="3392640"/>
        </p:xfrm>
        <a:graphic>
          <a:graphicData uri="http://schemas.openxmlformats.org/drawingml/2006/table">
            <a:tbl>
              <a:tblPr/>
              <a:tblGrid>
                <a:gridCol w="2374920"/>
                <a:gridCol w="2089080"/>
                <a:gridCol w="2087640"/>
                <a:gridCol w="1368360"/>
              </a:tblGrid>
              <a:tr h="65880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9288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ÓP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7.212.3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2.533.6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RAS FO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.196.2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.440.9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,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971640" y="5661000"/>
            <a:ext cx="69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ff00"/>
                </a:solidFill>
                <a:latin typeface="Arial"/>
              </a:rPr>
              <a:t>IMPORTANTE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70% IPTU previsto foi arrecadado até o perí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-44280"/>
            <a:ext cx="75610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sempenho de Despe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916280"/>
          <a:ext cx="8424720" cy="3695040"/>
        </p:xfrm>
        <a:graphic>
          <a:graphicData uri="http://schemas.openxmlformats.org/drawingml/2006/table">
            <a:tbl>
              <a:tblPr/>
              <a:tblGrid>
                <a:gridCol w="2109600"/>
                <a:gridCol w="2181240"/>
                <a:gridCol w="2043360"/>
                <a:gridCol w="2090520"/>
              </a:tblGrid>
              <a:tr h="50616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xecu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4512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3.608.8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953.6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0.655.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.388.6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93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2.456.9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523.3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202.2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67.3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4.520.7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.087.5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4.433.2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57720" y="597060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cronograma de desembo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325440"/>
            <a:ext cx="7092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espesa por Categoria Econôm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989000"/>
          <a:ext cx="8136000" cy="4140360"/>
        </p:xfrm>
        <a:graphic>
          <a:graphicData uri="http://schemas.openxmlformats.org/drawingml/2006/table">
            <a:tbl>
              <a:tblPr/>
              <a:tblGrid>
                <a:gridCol w="4753080"/>
                <a:gridCol w="1909800"/>
                <a:gridCol w="1473120"/>
              </a:tblGrid>
              <a:tr h="204984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SOCIAI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6.155.8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7.561.7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13.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8.080.6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3,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5,8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8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6,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164880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.931.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.397.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533.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,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,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087.5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28Z</dcterms:created>
  <dc:creator>apoleza</dc:creator>
  <dc:description/>
  <dc:language>en-US</dc:language>
  <cp:lastModifiedBy>apoleza</cp:lastModifiedBy>
  <dcterms:modified xsi:type="dcterms:W3CDTF">2009-05-29T16:12:24Z</dcterms:modified>
  <cp:revision>82</cp:revision>
  <dc:subject/>
  <dc:title>AVALIAÇÃO DAS METAS  2º QUADRIMESTRE 2007</dc:title>
</cp:coreProperties>
</file>