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3.wmf" ContentType="image/x-wmf"/>
  <Override PartName="/ppt/media/image26.png" ContentType="image/png"/>
  <Override PartName="/ppt/media/image1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5.png" ContentType="image/png"/>
  <Override PartName="/ppt/media/image24.wmf" ContentType="image/x-wmf"/>
  <Override PartName="/ppt/media/image1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84F2-5B96-4DEB-A969-B5EA4FEEDE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DF7-1857-4E23-811D-9E34DC7A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073-4504-420F-B104-D2296849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6F3-5A10-44E7-AF28-4F19DE4E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7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6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9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7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6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BA7-9492-4BA6-B517-493D9456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219F-42AC-4F77-838B-3FA81F84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E68B-2EDD-4BD5-844D-8511E4FF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B6B4-24D7-43D5-9D87-ECD9073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6D5F-A340-4A28-A37C-F76FCE09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7A14-402F-400B-BF4D-8591DCCC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1FEC-F729-49D4-A4B6-AF4D05F8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47AB-B54C-452A-B03C-BED8453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6485-5FD5-449D-BF9B-64055F57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60C6-54F6-4D1A-A36C-0C828C2B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E1B8-F232-442C-81E5-467629E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D59D-1773-4D60-A8CD-E23385D7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192E-502F-42F4-ABED-A78D7528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70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46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19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70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46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2EEB-D0CC-4427-A343-1279E96F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AF3-56D3-4B18-A1BF-70B2363E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12E-E72C-454C-8D6E-C72E91B3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F49-5EEB-49B8-8DB8-3912D51E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CFE-0EFF-4E43-9738-142760A4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D921-2CF7-4C1B-829E-F71C9A5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16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5DA-E163-41B7-A018-AE42A212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90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16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90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546-D5A6-44A3-88BB-840E438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8190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400800" y="586728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DB26-AF8E-45B9-B826-73A55FBEDC1E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009920" y="61718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09920" y="5486040"/>
            <a:ext cx="2117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D083-4418-48F2-A785-2671251D1C5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0072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65160"/>
            <a:ext cx="7416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cc66"/>
                </a:solidFill>
                <a:latin typeface="Tahoma"/>
              </a:rPr>
              <a:t>Município d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BALNEÁRIO CAMBORIÚ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CAPITAL CATARINENSE DO 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1700280"/>
            <a:ext cx="79912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Audiência Pública</a:t>
            </a:r>
            <a:br>
              <a:rPr sz="5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25/02/2010</a:t>
            </a:r>
            <a:br>
              <a:rPr sz="2000"/>
            </a:br>
            <a:br>
              <a:rPr sz="3800"/>
            </a:br>
            <a:r>
              <a:rPr b="1" lang="en-US" sz="2900" spc="-1" strike="noStrike">
                <a:solidFill>
                  <a:srgbClr val="ffcc66"/>
                </a:solidFill>
                <a:latin typeface="Tahoma"/>
              </a:rPr>
              <a:t>Demonstração e Avaliação do Cumprimento das Metas Fiscais</a:t>
            </a:r>
            <a:br>
              <a:rPr sz="2900"/>
            </a:br>
            <a:br>
              <a:rPr sz="2900"/>
            </a:br>
            <a:br>
              <a:rPr sz="1100"/>
            </a:br>
            <a:r>
              <a:rPr b="1" lang="en-US" sz="2900" spc="-1" strike="noStrike" u="sng">
                <a:solidFill>
                  <a:srgbClr val="ffcc66"/>
                </a:solidFill>
                <a:uFillTx/>
                <a:latin typeface="Tahoma"/>
              </a:rPr>
              <a:t>3º Quadrimestre de 2009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18640" y="1980720"/>
            <a:ext cx="7533000" cy="3676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PREVISÃO PARA O EXERCÍCIO 2009: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$ 258.174.911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EALIZADA NOS ÚLTIMOS 12 MES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$ 262.355.706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187488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21040" y="5300640"/>
            <a:ext cx="3291120" cy="8254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LOR EXCED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$ 4.180.7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76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ltado Previdenci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2492280"/>
          <a:ext cx="7775640" cy="3272040"/>
        </p:xfrm>
        <a:graphic>
          <a:graphicData uri="http://schemas.openxmlformats.org/drawingml/2006/table">
            <a:tbl>
              <a:tblPr/>
              <a:tblGrid>
                <a:gridCol w="4405320"/>
                <a:gridCol w="3370320"/>
              </a:tblGrid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.223.4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.347.8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16.875.6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/12/200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0.731.1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2985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ltado Nom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79640" y="2095200"/>
            <a:ext cx="6805440" cy="385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FIXADA NA LDO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1.915.5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REALIZADA NO EXERCÍCIO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-21.370.69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ltado Prim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2133720"/>
            <a:ext cx="7704000" cy="4076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FIXADA NA LDO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-15.374.85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META REALIZADA NO EXERCÍCIO DE 200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13.775.00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4360" y="692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67640" y="260280"/>
            <a:ext cx="1200240" cy="179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11280" y="2349360"/>
          <a:ext cx="7704000" cy="3384720"/>
        </p:xfrm>
        <a:graphic>
          <a:graphicData uri="http://schemas.openxmlformats.org/drawingml/2006/table">
            <a:tbl>
              <a:tblPr/>
              <a:tblGrid>
                <a:gridCol w="4537080"/>
                <a:gridCol w="3166920"/>
              </a:tblGrid>
              <a:tr h="990360"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Garamond"/>
                          <a:ea typeface="Times New Roman"/>
                        </a:rPr>
                        <a:t>Saldo em 31/12/200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Garamond"/>
                          <a:ea typeface="Times New Roman"/>
                        </a:rPr>
                        <a:t>23.012.74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Garamond"/>
                          <a:ea typeface="Times New Roman"/>
                        </a:rPr>
                        <a:t>Cancelado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Garamond"/>
                          <a:ea typeface="Times New Roman"/>
                        </a:rPr>
                        <a:t>3.440.83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4280"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Garamond"/>
                          <a:ea typeface="Times New Roman"/>
                        </a:rPr>
                        <a:t>Pago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Garamond"/>
                          <a:ea typeface="Times New Roman"/>
                        </a:rPr>
                        <a:t>14.137.20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Garamond"/>
                          <a:ea typeface="Times New Roman"/>
                        </a:rPr>
                        <a:t>A pagar em 31/12/200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Garamond"/>
                          <a:ea typeface="Times New Roman"/>
                        </a:rPr>
                        <a:t>5.434.05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692280"/>
            <a:ext cx="71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plicação na Educação Bá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349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5280" y="2492280"/>
          <a:ext cx="8497800" cy="3921120"/>
        </p:xfrm>
        <a:graphic>
          <a:graphicData uri="http://schemas.openxmlformats.org/drawingml/2006/table">
            <a:tbl>
              <a:tblPr/>
              <a:tblGrid>
                <a:gridCol w="3570120"/>
                <a:gridCol w="2519640"/>
                <a:gridCol w="240804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eta Previ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Meta Execut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2.975.2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3.130.8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25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.743.81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.782.7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.965.37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.757.10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 DE APLICA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30,8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29,8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EDUCAÇÃ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6.926,32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.370.20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700360" y="6154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43640" y="620640"/>
            <a:ext cx="180036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92280"/>
            <a:ext cx="66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Aplicação </a:t>
            </a:r>
            <a:r>
              <a:rPr b="1" lang="pt-BR" sz="4000" spc="-1" strike="noStrike" u="sng">
                <a:solidFill>
                  <a:srgbClr val="ffff00"/>
                </a:solidFill>
                <a:uFillTx/>
                <a:latin typeface="Arial"/>
              </a:rPr>
              <a:t>Funde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916280"/>
          <a:ext cx="7921440" cy="4597200"/>
        </p:xfrm>
        <a:graphic>
          <a:graphicData uri="http://schemas.openxmlformats.org/drawingml/2006/table">
            <a:tbl>
              <a:tblPr/>
              <a:tblGrid>
                <a:gridCol w="5306760"/>
                <a:gridCol w="261468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Anterior – Dez 200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42.2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recadação + Rendiment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3.555.83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 Paga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3.414.92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 - 31/12/20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083.15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s a Pagar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59.76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18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APLIC. EM PESSOAL  MAGISTÉRIO – (Mínimo de 60%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94,11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2349360"/>
            <a:ext cx="82296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4360" y="2421000"/>
          <a:ext cx="7848360" cy="3451320"/>
        </p:xfrm>
        <a:graphic>
          <a:graphicData uri="http://schemas.openxmlformats.org/drawingml/2006/table">
            <a:tbl>
              <a:tblPr/>
              <a:tblGrid>
                <a:gridCol w="5279760"/>
                <a:gridCol w="25686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2.317.69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0" lang="en-US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469.6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.427.97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9,2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SAÚD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.977.58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1724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erações de Crédi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55640" y="2565360"/>
          <a:ext cx="8007480" cy="3241800"/>
        </p:xfrm>
        <a:graphic>
          <a:graphicData uri="http://schemas.openxmlformats.org/drawingml/2006/table">
            <a:tbl>
              <a:tblPr/>
              <a:tblGrid>
                <a:gridCol w="5111640"/>
                <a:gridCol w="2895840"/>
              </a:tblGrid>
              <a:tr h="117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erações Créditos Contraídas (I)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447.807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pesas de Capital Empenhada (II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.545.58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9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egra de Ouro (I-II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40.097.77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ienação de Ativ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16280"/>
          <a:ext cx="8080200" cy="3632040"/>
        </p:xfrm>
        <a:graphic>
          <a:graphicData uri="http://schemas.openxmlformats.org/drawingml/2006/table">
            <a:tbl>
              <a:tblPr/>
              <a:tblGrid>
                <a:gridCol w="5184720"/>
                <a:gridCol w="2895480"/>
              </a:tblGrid>
              <a:tr h="86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Saldo Financ. 200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77.91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recadado 200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.13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98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licação de recurso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1.14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Saldo Financ. 200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44.90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19000" y="1981080"/>
            <a:ext cx="695808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Parágrafo 4º, Art. 9º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811"/>
              </a:spcBef>
              <a:spcAft>
                <a:spcPts val="7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..o Poder Executivo demonstrará e avaliará o cumprimento das metas fiscais de cada quadrimestre, em audiência pública na Casa Legislativa Municipal...”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7650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I COMPLEMENTAR 101/2000 –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88000" y="4843440"/>
            <a:ext cx="261468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92360" y="907920"/>
            <a:ext cx="611964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RELATÓRI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DE GESTÃO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ahoma"/>
              </a:rPr>
              <a:t>FISC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4360" y="3860640"/>
          <a:ext cx="1995480" cy="24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860640"/>
                    <a:ext cx="1995480" cy="24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227640" y="4292640"/>
            <a:ext cx="24116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74560" y="54936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astos com Pessoal -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68360" y="3213000"/>
          <a:ext cx="8159760" cy="2735280"/>
        </p:xfrm>
        <a:graphic>
          <a:graphicData uri="http://schemas.openxmlformats.org/drawingml/2006/table">
            <a:tbl>
              <a:tblPr/>
              <a:tblGrid>
                <a:gridCol w="5904000"/>
                <a:gridCol w="22557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2.355.70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 </a:t>
                      </a:r>
                      <a:r>
                        <a:rPr b="1" lang="en-US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38,92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 – DESPESA LÍQUID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2.101.64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5.588.47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51280" y="1484280"/>
            <a:ext cx="38098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404640"/>
            <a:ext cx="73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ívida Consolidada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42920" y="2421000"/>
          <a:ext cx="7128000" cy="3311640"/>
        </p:xfrm>
        <a:graphic>
          <a:graphicData uri="http://schemas.openxmlformats.org/drawingml/2006/table">
            <a:tbl>
              <a:tblPr/>
              <a:tblGrid>
                <a:gridCol w="4392720"/>
                <a:gridCol w="273528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716.76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73.916.50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 Líqui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63.199.73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sobre a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4,09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164360" y="620640"/>
            <a:ext cx="15829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9640" y="69228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erações de Créd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4360" y="2781360"/>
          <a:ext cx="8135640" cy="2430360"/>
        </p:xfrm>
        <a:graphic>
          <a:graphicData uri="http://schemas.openxmlformats.org/drawingml/2006/table">
            <a:tbl>
              <a:tblPr/>
              <a:tblGrid>
                <a:gridCol w="5792760"/>
                <a:gridCol w="234288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rações Créditos Interna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447.80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sobre a RCL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7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definido pelo Senado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0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732720" y="592200"/>
            <a:ext cx="1942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9640" y="692280"/>
            <a:ext cx="65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ponibilidades de Ca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xceto R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2997360"/>
          <a:ext cx="7993080" cy="2736720"/>
        </p:xfrm>
        <a:graphic>
          <a:graphicData uri="http://schemas.openxmlformats.org/drawingml/2006/table">
            <a:tbl>
              <a:tblPr/>
              <a:tblGrid>
                <a:gridCol w="5483160"/>
                <a:gridCol w="250992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 FINANCEIR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.338.33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IGAÇÕES A PAGAR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.015.09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FICIENTE EM 31/12/20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5.323.23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2002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9640" y="692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tos a Pagar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– Poder Execu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26920" y="2349360"/>
          <a:ext cx="7561440" cy="3762360"/>
        </p:xfrm>
        <a:graphic>
          <a:graphicData uri="http://schemas.openxmlformats.org/drawingml/2006/table">
            <a:tbl>
              <a:tblPr/>
              <a:tblGrid>
                <a:gridCol w="5187960"/>
                <a:gridCol w="2373480"/>
              </a:tblGrid>
              <a:tr h="97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tos a Pagar - Ex. Anteriore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434.60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tos a Pagar Processados - do Exercício 20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22.41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tos a Pagar Não Processados - do Exercício 200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.758.38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TOS A PAGAR TOTA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1">
                        <a:alphaModFix amt="5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615.40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">
                        <a:alphaModFix amt="50000"/>
                      </a:blip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blicações dos Relatórios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2276640"/>
            <a:ext cx="849780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500" spc="-1" strike="noStrike">
                <a:solidFill>
                  <a:srgbClr val="ffffff"/>
                </a:solidFill>
                <a:latin typeface="Arial"/>
              </a:rPr>
              <a:t>Jornal O Atlântico em 30/01/2010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500" spc="-1" strike="noStrike">
                <a:solidFill>
                  <a:srgbClr val="ffffff"/>
                </a:solidFill>
                <a:latin typeface="Arial"/>
              </a:rPr>
              <a:t>Site: www.balneariocamboriu.sc.gov.br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nk: Secretarias e Entidades - Conta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305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2060640"/>
            <a:ext cx="828036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pt-BR" sz="4000" spc="-1" strike="noStrike">
                <a:solidFill>
                  <a:srgbClr val="ffff00"/>
                </a:solidFill>
                <a:latin typeface="Arial"/>
              </a:rPr>
              <a:t>Quando se tem uma meta, o que era um obstáculo passa a ser uma das etapas do plano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Gerhard Erich Boeh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23880" y="836640"/>
            <a:ext cx="826920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monstração e Avaliação do Cumprimento das Metas       Fiscais: 3º Quadrimestre de 2009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presentaçã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don Emanoel Nunes – Secretário da Faz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liane Maria Novaes – Contad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bordage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2204640"/>
            <a:ext cx="8064360" cy="381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ÓRIO RESUMIDO DA EXECUÇÃO ORÇAMENTÁR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LATÓRIO DE GESTÃO FISC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4360" y="981000"/>
            <a:ext cx="7559640" cy="34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RELATÓRI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RESUMID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DA EXECUÇÃ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ORÇAMENTÁ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0880" y="492768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518292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a de Recei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9640" y="2060640"/>
          <a:ext cx="8137800" cy="3363840"/>
        </p:xfrm>
        <a:graphic>
          <a:graphicData uri="http://schemas.openxmlformats.org/drawingml/2006/table">
            <a:tbl>
              <a:tblPr/>
              <a:tblGrid>
                <a:gridCol w="2090880"/>
                <a:gridCol w="2163600"/>
                <a:gridCol w="2024280"/>
                <a:gridCol w="185904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3.024.9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8.775.1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.750.2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a-Orçamentá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.939.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.730.0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209.1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.562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.597.8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11.964.1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4.526.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8.102.9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6.423.1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6701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6477120"/>
            <a:ext cx="268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725400"/>
            <a:ext cx="80820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rigem das Receita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1981080"/>
          <a:ext cx="7921440" cy="3392640"/>
        </p:xfrm>
        <a:graphic>
          <a:graphicData uri="http://schemas.openxmlformats.org/drawingml/2006/table">
            <a:tbl>
              <a:tblPr/>
              <a:tblGrid>
                <a:gridCol w="2374920"/>
                <a:gridCol w="2090520"/>
                <a:gridCol w="2087640"/>
                <a:gridCol w="1368360"/>
              </a:tblGrid>
              <a:tr h="658800"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it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s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248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ecad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  <a:tr h="92880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ÓPRI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.704.6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.405.5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,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R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O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.821.4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.697.4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,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2480" bIns="4680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.526.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.102.9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9320" bIns="46800" anchor="ctr">
                      <a:noAutofit/>
                    </a:bodyPr>
                    <a:p>
                      <a:pPr algn="r">
                        <a:lnSpc>
                          <a:spcPct val="8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825800" cy="55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a de Despe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916280"/>
          <a:ext cx="8424720" cy="3849480"/>
        </p:xfrm>
        <a:graphic>
          <a:graphicData uri="http://schemas.openxmlformats.org/drawingml/2006/table">
            <a:tbl>
              <a:tblPr/>
              <a:tblGrid>
                <a:gridCol w="2109600"/>
                <a:gridCol w="2181240"/>
                <a:gridCol w="2043360"/>
                <a:gridCol w="209052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pe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ixada Atualiz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xecu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1.295.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01.819.0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.476.8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tra-Orçamentá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.156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4.578.5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78.0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3.522.7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4.545.5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.977.1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9.975.1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60.943.1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9.031.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6732720" y="146160"/>
            <a:ext cx="17269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200720" cy="750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pesa por Categoria Econôm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1989000"/>
          <a:ext cx="8136000" cy="4537080"/>
        </p:xfrm>
        <a:graphic>
          <a:graphicData uri="http://schemas.openxmlformats.org/drawingml/2006/table">
            <a:tbl>
              <a:tblPr/>
              <a:tblGrid>
                <a:gridCol w="4753080"/>
                <a:gridCol w="1909800"/>
                <a:gridCol w="1473120"/>
              </a:tblGrid>
              <a:tr h="23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SOAL E ENCARGOS SOCIAI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ROS E ENCARGOS DA DÍVIDA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RAS DESPESAS CORRENTE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UBTOTAL........................................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06.125.5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.568.6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08.703.460216.397.5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0,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6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1,6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82,9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7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MENTOS............................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ORTIZAÇÃO DA DÍVIDA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SUBTOTAL...........................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0.456.1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.089.4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44.545.5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5,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,5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7,0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0.943.1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596360" y="260280"/>
            <a:ext cx="7905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6551640" cy="8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UM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eitas e Despesa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2565360"/>
          <a:ext cx="8251560" cy="3272040"/>
        </p:xfrm>
        <a:graphic>
          <a:graphicData uri="http://schemas.openxmlformats.org/drawingml/2006/table">
            <a:tbl>
              <a:tblPr/>
              <a:tblGrid>
                <a:gridCol w="2811240"/>
                <a:gridCol w="2735280"/>
                <a:gridCol w="270504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CEI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94.526.1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8.102.9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DESPES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- </a:t>
                      </a: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309.975.1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-</a:t>
                      </a: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60.943.1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PERÁVI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-15.490.0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.159.7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efefe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15001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4:57:28Z</dcterms:created>
  <dc:creator>apoleza</dc:creator>
  <dc:description/>
  <dc:language>en-US</dc:language>
  <cp:lastModifiedBy>lnovaes</cp:lastModifiedBy>
  <dcterms:modified xsi:type="dcterms:W3CDTF">2010-02-25T18:36:50Z</dcterms:modified>
  <cp:revision>54</cp:revision>
  <dc:subject/>
  <dc:title>AVALIAÇÃO DAS METAS  2º QUADRIMESTRE 2007</dc:title>
</cp:coreProperties>
</file>