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429375" cy="9813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8F04-1A0C-4BFE-8963-5B6EEBC52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C875-7F56-4889-B1AF-6FB6E82D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F237-E185-44A7-96DE-155E67B0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0D61-A705-45FF-802F-0EC3305F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1AB5-38C8-4CD6-BDDD-582B1ECBA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8B8B-EB3F-4EF4-B12B-3B88E302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4CDB-859B-498A-981B-6DCA4274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9CA9-03C0-4E5D-8E39-B7F3FCF1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47FB-A882-4790-84FA-E9999677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A7DA-E5E6-4A4A-B918-33A6153A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F3D8-9A6A-4450-8A4B-4EFBC7B5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C462-DD4E-4249-AAB8-AC650C36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3CFC-1E13-4513-988F-FD9D88EE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7D7A-C07F-4AE4-8C93-6230E1FD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1976-4FEC-427C-A56C-2714667E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486B-3DAF-4110-BD0C-19D6FCFA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ACC0-2EDC-4601-91EB-EC6A79576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69041-D5E0-412F-8DE2-81AD1669F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1E06A-B21B-402C-A2DB-E395AE7D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B75B1-42B3-44DC-8AB4-0A45842C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13909-DEC7-4834-93BC-4A972500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F088B-35CC-4D1A-9319-2A12B29B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BCEC-AD8E-4B25-ABD4-3E67A484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536DC-BACF-411C-8988-4F98B15F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1FEC3-E4A6-49E9-9426-4005C9E0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EB18D-BBC6-4347-B9E2-6DF1F16D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C0F8C-E115-434F-9897-7C1AA145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B1617-4337-415F-B760-6B77D861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8D80C-C540-4DE3-AB9E-C7BFF83E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07084-F230-499C-8902-D4A5BC4A2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3E95-122F-4816-9659-6484913C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79D1-70AF-4EA3-A4BB-42192445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6663-5AEA-4421-8E35-C77C276C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8DF1-15DF-4671-BF7E-6A2180BA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8921-D3A1-46F6-B600-5545C2A6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7FB1-021E-4D35-829E-B44852B4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DB23-4F8F-4564-AE62-BBCC6ABEA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0E23-C290-4DB1-9300-296497B00DB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B33C-B176-49B9-AFAC-7354879A3C2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71640" y="2276640"/>
            <a:ext cx="763272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ÇAMENTO ANU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EXERCÍCIO DE 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30/09/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95280" y="907920"/>
            <a:ext cx="835344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5856"/>
                  </a:solidFill>
                  <a:miter/>
                </a:ln>
                <a:solidFill>
                  <a:srgbClr val="ffcc66"/>
                </a:solidFill>
                <a:latin typeface="Arial Black"/>
              </a:rPr>
              <a:t>AUDIÊNCIA PÚBLICA</a:t>
            </a:r>
            <a:endParaRPr b="0" lang="en-US" sz="1800" spc="1" strike="noStrike">
              <a:ln w="9360">
                <a:solidFill>
                  <a:srgbClr val="005856"/>
                </a:solidFill>
                <a:miter/>
              </a:ln>
              <a:solidFill>
                <a:srgbClr val="ffcc66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050920" y="0"/>
            <a:ext cx="504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UDIÊNCIA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LOA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32000" y="2349360"/>
            <a:ext cx="6553080" cy="22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ESPESAS</a:t>
            </a:r>
            <a:endParaRPr b="0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920" y="907920"/>
            <a:ext cx="763272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66"/>
                </a:solidFill>
                <a:latin typeface="Arial"/>
              </a:rPr>
              <a:t>DESPESAS</a:t>
            </a:r>
            <a:br>
              <a:rPr sz="3000"/>
            </a:b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SEGUNDO A NATUREZA ECONÔMICA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95280" y="2060640"/>
          <a:ext cx="8424720" cy="3673440"/>
        </p:xfrm>
        <a:graphic>
          <a:graphicData uri="http://schemas.openxmlformats.org/drawingml/2006/table">
            <a:tbl>
              <a:tblPr/>
              <a:tblGrid>
                <a:gridCol w="4175280"/>
                <a:gridCol w="2593800"/>
                <a:gridCol w="1655640"/>
              </a:tblGrid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PESAS CORREN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3.115.4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3,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PESAS DE CAPI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8.481.8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,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SERVA RP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.675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,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SERVA DE CONTINGÊN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0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,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8080"/>
                          </a:solidFill>
                          <a:latin typeface="Bitstream Vera Sans"/>
                        </a:rPr>
                        <a:t>TOTAL GER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8080"/>
                          </a:solidFill>
                          <a:latin typeface="Bitstream Vera Sans"/>
                        </a:rPr>
                        <a:t>328.772.34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8080"/>
                          </a:solidFill>
                          <a:latin typeface="Bitstream Vera Sans"/>
                        </a:rPr>
                        <a:t>100,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2411280" y="0"/>
            <a:ext cx="504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UDIÊNCIA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LOA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71640" y="907560"/>
            <a:ext cx="741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66"/>
                </a:solidFill>
                <a:latin typeface="Arial"/>
              </a:rPr>
              <a:t>DESPESAS</a:t>
            </a:r>
            <a:br>
              <a:rPr sz="3000"/>
            </a:b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POR GRUPOS DE NATUREZA DA DESPESA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24000" y="2060640"/>
          <a:ext cx="8496000" cy="3728880"/>
        </p:xfrm>
        <a:graphic>
          <a:graphicData uri="http://schemas.openxmlformats.org/drawingml/2006/table">
            <a:tbl>
              <a:tblPr/>
              <a:tblGrid>
                <a:gridCol w="4679640"/>
                <a:gridCol w="2232360"/>
                <a:gridCol w="158400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ssoal e Enc. Sociai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9.021.9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6.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uros e Encargos da Dívid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.54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,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utras Desp. Corrent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1.553.48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6,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vestiment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.756.1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,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ortização da Dívid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.725.1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,8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serva RP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.675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,0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serva de Contingênc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0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,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8080"/>
                          </a:solidFill>
                          <a:latin typeface="Verdana"/>
                        </a:rPr>
                        <a:t>TOTAL GE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8080"/>
                          </a:solidFill>
                          <a:latin typeface="Verdana"/>
                        </a:rPr>
                        <a:t>328.772.34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80"/>
                          </a:solidFill>
                          <a:latin typeface="Verdana"/>
                        </a:rPr>
                        <a:t>100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2411280" y="0"/>
            <a:ext cx="504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UDIÊNCIA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LOA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411280" y="0"/>
            <a:ext cx="504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UDIÊNCIA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LOA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19920" y="49608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56"/>
                </a:solidFill>
                <a:latin typeface="Arial"/>
              </a:rPr>
              <a:t>DESPE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31160" y="458136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56"/>
                </a:solidFill>
                <a:latin typeface="Arial"/>
              </a:rPr>
              <a:t>RECE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408720" cy="45576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911960" y="3860640"/>
            <a:ext cx="1278000" cy="353160"/>
          </a:xfrm>
          <a:prstGeom prst="rect">
            <a:avLst/>
          </a:prstGeom>
          <a:noFill/>
          <a:ln w="9360">
            <a:solidFill>
              <a:srgbClr val="0058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5856"/>
                </a:solidFill>
                <a:latin typeface="Arial"/>
              </a:rPr>
              <a:t>RECEIT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88680" y="3860640"/>
            <a:ext cx="1363320" cy="353160"/>
          </a:xfrm>
          <a:prstGeom prst="rect">
            <a:avLst/>
          </a:prstGeom>
          <a:noFill/>
          <a:ln w="9360">
            <a:solidFill>
              <a:srgbClr val="0058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5856"/>
                </a:solidFill>
                <a:latin typeface="Arial"/>
              </a:rPr>
              <a:t>DESPES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11600" y="443700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28.772.3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15240" y="443700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28.772.3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149720" y="6165720"/>
            <a:ext cx="37242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rva = R$ 17.175.000 – 5,2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6948360" y="4941360"/>
            <a:ext cx="0" cy="1008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411280" y="0"/>
            <a:ext cx="504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UDIÊNCIA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LOA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71640" y="1125360"/>
            <a:ext cx="6842160" cy="4896000"/>
          </a:xfrm>
          <a:prstGeom prst="wedgeEllipseCallout">
            <a:avLst>
              <a:gd name="adj1" fmla="val 53712"/>
              <a:gd name="adj2" fmla="val 4598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856"/>
                </a:solidFill>
                <a:latin typeface="Arial"/>
              </a:rPr>
              <a:t>Proposta Orçamentária para repasse à entidades sem fins lucr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5856"/>
                </a:solidFill>
                <a:uFillTx/>
                <a:latin typeface="Arial"/>
              </a:rPr>
              <a:t>R$ 8.882.5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411280" y="0"/>
            <a:ext cx="504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UDIÊNCIA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LOA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8360" y="1341360"/>
            <a:ext cx="835344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66"/>
                </a:solidFill>
                <a:latin typeface="Arial"/>
              </a:rPr>
              <a:t>REPASSES PARA CONSÓRCIOS DA AMFR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URISMO:    R$ 209.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AÚDE:        R$ 366.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0400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CAPACIDADE DE INVESTIMENTO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411280" y="0"/>
            <a:ext cx="504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UDIÊNCIA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LOA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468360" y="2421000"/>
          <a:ext cx="8351640" cy="3894120"/>
        </p:xfrm>
        <a:graphic>
          <a:graphicData uri="http://schemas.openxmlformats.org/drawingml/2006/table">
            <a:tbl>
              <a:tblPr/>
              <a:tblGrid>
                <a:gridCol w="2089080"/>
                <a:gridCol w="2125800"/>
                <a:gridCol w="2047680"/>
                <a:gridCol w="2089080"/>
              </a:tblGrid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8080"/>
                          </a:solidFill>
                          <a:latin typeface="Verdana"/>
                        </a:rPr>
                        <a:t>AN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8080"/>
                          </a:solidFill>
                          <a:latin typeface="Verdana"/>
                        </a:rPr>
                        <a:t>VALOR INVESTID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8080"/>
                          </a:solidFill>
                          <a:latin typeface="Verdana"/>
                        </a:rPr>
                        <a:t>TOTAL DE GAST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8080"/>
                          </a:solidFill>
                          <a:latin typeface="Verdana"/>
                        </a:rPr>
                        <a:t>% DE INVESTIMEN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.4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30.5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4.8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0.7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.2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22.5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0.4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61.0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9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2.0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0.0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10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.7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11.5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"/>
          <p:cNvSpPr/>
          <p:nvPr/>
        </p:nvSpPr>
        <p:spPr>
          <a:xfrm>
            <a:off x="6372360" y="234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59600" y="206064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ores em R$ 1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46160" y="649116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Previsão Orçamentá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86920" y="1052280"/>
            <a:ext cx="6481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APLICAÇÃO EM PESSOA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411280" y="0"/>
            <a:ext cx="504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UDIÊNCIA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LOA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611280" y="2565360"/>
          <a:ext cx="7921440" cy="3024360"/>
        </p:xfrm>
        <a:graphic>
          <a:graphicData uri="http://schemas.openxmlformats.org/drawingml/2006/table">
            <a:tbl>
              <a:tblPr/>
              <a:tblGrid>
                <a:gridCol w="5153040"/>
                <a:gridCol w="2768400"/>
              </a:tblGrid>
              <a:tr h="89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5856"/>
                          </a:solidFill>
                          <a:latin typeface="Arial"/>
                        </a:rPr>
                        <a:t>REC CORRENTE LÍQUID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5856"/>
                          </a:solidFill>
                          <a:latin typeface="Verdana"/>
                        </a:rPr>
                        <a:t>288.224.54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5856"/>
                          </a:solidFill>
                          <a:latin typeface="Arial"/>
                        </a:rPr>
                        <a:t>DESP LÍQUIDA DE PESSO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5856"/>
                          </a:solidFill>
                          <a:latin typeface="Verdana"/>
                        </a:rPr>
                        <a:t>118.771.98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4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5856"/>
                          </a:solidFill>
                          <a:latin typeface="Arial"/>
                        </a:rPr>
                        <a:t>PERCENTUAL DE APLICAÇÃ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5856"/>
                          </a:solidFill>
                          <a:latin typeface="Verdana"/>
                        </a:rPr>
                        <a:t>41,21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2340000" y="5877000"/>
            <a:ext cx="3960720" cy="430200"/>
          </a:xfrm>
          <a:prstGeom prst="flowChartTerminator">
            <a:avLst/>
          </a:prstGeom>
          <a:solidFill>
            <a:srgbClr val="1ace9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856"/>
                </a:solidFill>
                <a:latin typeface="바탕"/>
              </a:rPr>
              <a:t>Máximo 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42920" y="1125000"/>
            <a:ext cx="73454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APLICAÇÃO EM EDUCAÇÃO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574560" y="2349360"/>
          <a:ext cx="8174160" cy="3394080"/>
        </p:xfrm>
        <a:graphic>
          <a:graphicData uri="http://schemas.openxmlformats.org/drawingml/2006/table">
            <a:tbl>
              <a:tblPr/>
              <a:tblGrid>
                <a:gridCol w="5256360"/>
                <a:gridCol w="2917800"/>
              </a:tblGrid>
              <a:tr h="934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b3804"/>
                          </a:solidFill>
                          <a:latin typeface="Verdana"/>
                        </a:rPr>
                        <a:t>Receita de Impostos e Transferênci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b3804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b380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b3804"/>
                          </a:solidFill>
                          <a:latin typeface="Verdana"/>
                        </a:rPr>
                        <a:t>167.067.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380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b380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4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b3804"/>
                          </a:solidFill>
                          <a:latin typeface="Verdana"/>
                        </a:rPr>
                        <a:t>GASTOS com EDUCAÇÃO – Rec Própri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b3804"/>
                      </a:solidFill>
                    </a:lnR>
                    <a:lnT w="5760">
                      <a:solidFill>
                        <a:srgbClr val="0b3804"/>
                      </a:solidFill>
                    </a:lnT>
                    <a:lnB w="5760">
                      <a:solidFill>
                        <a:srgbClr val="0b380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b3804"/>
                          </a:solidFill>
                          <a:latin typeface="Verdana"/>
                        </a:rPr>
                        <a:t>50.120.2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380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b3804"/>
                      </a:solidFill>
                    </a:lnT>
                    <a:lnB w="5760">
                      <a:solidFill>
                        <a:srgbClr val="0b380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80"/>
                          </a:solidFill>
                          <a:latin typeface="Verdana"/>
                        </a:rPr>
                        <a:t>Percentual de Aplicaç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b3804"/>
                      </a:solidFill>
                    </a:lnR>
                    <a:lnT w="5760">
                      <a:solidFill>
                        <a:srgbClr val="0b3804"/>
                      </a:solidFill>
                    </a:lnT>
                    <a:lnB w="5760">
                      <a:solidFill>
                        <a:srgbClr val="0b3804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80"/>
                          </a:solidFill>
                          <a:latin typeface="Verdana"/>
                        </a:rPr>
                        <a:t>30,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380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b3804"/>
                      </a:solidFill>
                    </a:lnT>
                    <a:lnB w="5760">
                      <a:solidFill>
                        <a:srgbClr val="0b3804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b3804"/>
                          </a:solidFill>
                          <a:latin typeface="Verdana"/>
                        </a:rPr>
                        <a:t>GASTO TOTAL COM EDUCAÇ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b3804"/>
                      </a:solidFill>
                    </a:lnR>
                    <a:lnT w="5760">
                      <a:solidFill>
                        <a:srgbClr val="0b3804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b3804"/>
                          </a:solidFill>
                          <a:latin typeface="Verdana"/>
                        </a:rPr>
                        <a:t>71.132.3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380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b3804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7" name=""/>
          <p:cNvSpPr/>
          <p:nvPr/>
        </p:nvSpPr>
        <p:spPr>
          <a:xfrm>
            <a:off x="2411280" y="0"/>
            <a:ext cx="504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UDIÊNCIA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LOA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00360" y="5950080"/>
            <a:ext cx="3960720" cy="430200"/>
          </a:xfrm>
          <a:prstGeom prst="flowChartTerminator">
            <a:avLst/>
          </a:prstGeom>
          <a:solidFill>
            <a:srgbClr val="1ace9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856"/>
                </a:solidFill>
                <a:latin typeface="바탕"/>
              </a:rPr>
              <a:t>Mínimo 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916000" y="980640"/>
            <a:ext cx="3313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c66"/>
                </a:solidFill>
                <a:uFillTx/>
                <a:latin typeface="Arial"/>
              </a:rPr>
              <a:t>F U N D E B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468360" y="1989000"/>
          <a:ext cx="8351640" cy="4035600"/>
        </p:xfrm>
        <a:graphic>
          <a:graphicData uri="http://schemas.openxmlformats.org/drawingml/2006/table">
            <a:tbl>
              <a:tblPr/>
              <a:tblGrid>
                <a:gridCol w="4680000"/>
                <a:gridCol w="2376360"/>
                <a:gridCol w="1295280"/>
              </a:tblGrid>
              <a:tr h="86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5856"/>
                          </a:solidFill>
                          <a:latin typeface="Verdana"/>
                        </a:rPr>
                        <a:t>REPASSE FUNDE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b3804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b380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5856"/>
                          </a:solidFill>
                          <a:latin typeface="Verdana"/>
                        </a:rPr>
                        <a:t>26.00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3804"/>
                      </a:solidFill>
                    </a:lnL>
                    <a:lnR w="5760">
                      <a:solidFill>
                        <a:srgbClr val="0b3804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b380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5856"/>
                          </a:solidFill>
                          <a:latin typeface="Verdana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380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b380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5856"/>
                          </a:solidFill>
                          <a:latin typeface="Verdana"/>
                        </a:rPr>
                        <a:t>DEDUÇ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b3804"/>
                      </a:solidFill>
                    </a:lnR>
                    <a:lnT w="5760">
                      <a:solidFill>
                        <a:srgbClr val="0b3804"/>
                      </a:solidFill>
                    </a:lnT>
                    <a:lnB w="5760">
                      <a:solidFill>
                        <a:srgbClr val="0b380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5856"/>
                          </a:solidFill>
                          <a:latin typeface="Verdana"/>
                        </a:rPr>
                        <a:t>-11.021.0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3804"/>
                      </a:solidFill>
                    </a:lnL>
                    <a:lnR w="5760">
                      <a:solidFill>
                        <a:srgbClr val="0b3804"/>
                      </a:solidFill>
                    </a:lnR>
                    <a:lnT w="5760">
                      <a:solidFill>
                        <a:srgbClr val="0b3804"/>
                      </a:solidFill>
                    </a:lnT>
                    <a:lnB w="5760">
                      <a:solidFill>
                        <a:srgbClr val="0b380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5856"/>
                          </a:solidFill>
                          <a:latin typeface="Verdana"/>
                        </a:rPr>
                        <a:t>4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380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b3804"/>
                      </a:solidFill>
                    </a:lnT>
                    <a:lnB w="5760">
                      <a:solidFill>
                        <a:srgbClr val="0b380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5856"/>
                          </a:solidFill>
                          <a:latin typeface="Verdana"/>
                        </a:rPr>
                        <a:t>GANHO NO REPAS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b3804"/>
                      </a:solidFill>
                    </a:lnR>
                    <a:lnT w="5760">
                      <a:solidFill>
                        <a:srgbClr val="0b3804"/>
                      </a:solidFill>
                    </a:lnT>
                    <a:lnB w="5760">
                      <a:solidFill>
                        <a:srgbClr val="0b380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5856"/>
                          </a:solidFill>
                          <a:latin typeface="Verdana"/>
                        </a:rPr>
                        <a:t>14.978.9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3804"/>
                      </a:solidFill>
                    </a:lnL>
                    <a:lnR w="5760">
                      <a:solidFill>
                        <a:srgbClr val="0b3804"/>
                      </a:solidFill>
                    </a:lnR>
                    <a:lnT w="5760">
                      <a:solidFill>
                        <a:srgbClr val="0b3804"/>
                      </a:solidFill>
                    </a:lnT>
                    <a:lnB w="5760">
                      <a:solidFill>
                        <a:srgbClr val="0b380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5856"/>
                          </a:solidFill>
                          <a:latin typeface="Verdana"/>
                        </a:rPr>
                        <a:t>5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380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b3804"/>
                      </a:solidFill>
                    </a:lnT>
                    <a:lnB w="5760">
                      <a:solidFill>
                        <a:srgbClr val="0b380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4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5856"/>
                          </a:solidFill>
                          <a:latin typeface="Verdana"/>
                        </a:rPr>
                        <a:t>PESSOAL MAGISTÉRIO – 60% (Mínim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b3804"/>
                      </a:solidFill>
                    </a:lnR>
                    <a:lnT w="5760">
                      <a:solidFill>
                        <a:srgbClr val="0b3804"/>
                      </a:solidFill>
                    </a:lnT>
                    <a:lnB w="5760">
                      <a:solidFill>
                        <a:srgbClr val="0b380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5856"/>
                          </a:solidFill>
                          <a:latin typeface="Verdana"/>
                        </a:rPr>
                        <a:t>23.22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3804"/>
                      </a:solidFill>
                    </a:lnL>
                    <a:lnR w="5760">
                      <a:solidFill>
                        <a:srgbClr val="0b3804"/>
                      </a:solidFill>
                    </a:lnR>
                    <a:lnT w="5760">
                      <a:solidFill>
                        <a:srgbClr val="0b3804"/>
                      </a:solidFill>
                    </a:lnT>
                    <a:lnB w="5760">
                      <a:solidFill>
                        <a:srgbClr val="0b380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5856"/>
                          </a:solidFill>
                          <a:latin typeface="Verdana"/>
                        </a:rPr>
                        <a:t>8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380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b3804"/>
                      </a:solidFill>
                    </a:lnT>
                    <a:lnB w="5760">
                      <a:solidFill>
                        <a:srgbClr val="0b380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4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5856"/>
                          </a:solidFill>
                          <a:latin typeface="Verdana"/>
                        </a:rPr>
                        <a:t>OUTRAS DESPESAS – 40% (Máxim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b3804"/>
                      </a:solidFill>
                    </a:lnR>
                    <a:lnT w="5760">
                      <a:solidFill>
                        <a:srgbClr val="0b3804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5856"/>
                          </a:solidFill>
                          <a:latin typeface="Verdana"/>
                        </a:rPr>
                        <a:t>2.78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3804"/>
                      </a:solidFill>
                    </a:lnL>
                    <a:lnR w="5760">
                      <a:solidFill>
                        <a:srgbClr val="0b3804"/>
                      </a:solidFill>
                    </a:lnR>
                    <a:lnT w="5760">
                      <a:solidFill>
                        <a:srgbClr val="0b3804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5856"/>
                          </a:solidFill>
                          <a:latin typeface="Verdana"/>
                        </a:rPr>
                        <a:t>1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380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b3804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2411280" y="0"/>
            <a:ext cx="504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UDIÊNCIA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LOA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971640" y="404640"/>
            <a:ext cx="7338960" cy="54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124000" y="260280"/>
            <a:ext cx="504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UDIÊNCIA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LOA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26920" y="1192320"/>
            <a:ext cx="741708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Princípios que regem o orçamento públ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clusivida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ão Afetação da Rece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ualida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versalidade ou Integralida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galida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quilíbrio Orçament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pecificação ou Discrimin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çamento Br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834920" y="1125000"/>
            <a:ext cx="5769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APLICAÇÃO EM SAÚD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611280" y="2492280"/>
          <a:ext cx="7921440" cy="3054600"/>
        </p:xfrm>
        <a:graphic>
          <a:graphicData uri="http://schemas.openxmlformats.org/drawingml/2006/table">
            <a:tbl>
              <a:tblPr/>
              <a:tblGrid>
                <a:gridCol w="5329080"/>
                <a:gridCol w="2592360"/>
              </a:tblGrid>
              <a:tr h="934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b3804"/>
                          </a:solidFill>
                          <a:latin typeface="Verdana"/>
                        </a:rPr>
                        <a:t>Receita de Impostos e Transferênci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b3804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b380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b3804"/>
                          </a:solidFill>
                          <a:latin typeface="Verdana"/>
                        </a:rPr>
                        <a:t>167.067.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380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b380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4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b3804"/>
                          </a:solidFill>
                          <a:latin typeface="Verdana"/>
                        </a:rPr>
                        <a:t>GASTOS com SAÚDE – Rec Própri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b3804"/>
                      </a:solidFill>
                    </a:lnR>
                    <a:lnT w="5760">
                      <a:solidFill>
                        <a:srgbClr val="0b3804"/>
                      </a:solidFill>
                    </a:lnT>
                    <a:lnB w="5760">
                      <a:solidFill>
                        <a:srgbClr val="0b380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b3804"/>
                          </a:solidFill>
                          <a:latin typeface="Verdana"/>
                        </a:rPr>
                        <a:t>35.549.4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380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b3804"/>
                      </a:solidFill>
                    </a:lnT>
                    <a:lnB w="5760">
                      <a:solidFill>
                        <a:srgbClr val="0b380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b3804"/>
                          </a:solidFill>
                          <a:latin typeface="Verdana"/>
                        </a:rPr>
                        <a:t>Percentual de Aplicaç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b3804"/>
                      </a:solidFill>
                    </a:lnR>
                    <a:lnT w="5760">
                      <a:solidFill>
                        <a:srgbClr val="0b3804"/>
                      </a:solidFill>
                    </a:lnT>
                    <a:lnB w="5760">
                      <a:solidFill>
                        <a:srgbClr val="0b380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b3804"/>
                          </a:solidFill>
                          <a:latin typeface="Verdana"/>
                        </a:rPr>
                        <a:t>21,2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380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b3804"/>
                      </a:solidFill>
                    </a:lnT>
                    <a:lnB w="5760">
                      <a:solidFill>
                        <a:srgbClr val="0b380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b3804"/>
                          </a:solidFill>
                          <a:latin typeface="Verdana"/>
                        </a:rPr>
                        <a:t>GASTO TOTAL COM SAÚ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b3804"/>
                      </a:solidFill>
                    </a:lnR>
                    <a:lnT w="5760">
                      <a:solidFill>
                        <a:srgbClr val="0b3804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b3804"/>
                          </a:solidFill>
                          <a:latin typeface="Verdana"/>
                        </a:rPr>
                        <a:t>54.669.4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b380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b3804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64" name=""/>
          <p:cNvSpPr/>
          <p:nvPr/>
        </p:nvSpPr>
        <p:spPr>
          <a:xfrm>
            <a:off x="2411280" y="0"/>
            <a:ext cx="504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UDIÊNCIA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LOA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68360" y="5950080"/>
            <a:ext cx="3961080" cy="430200"/>
          </a:xfrm>
          <a:prstGeom prst="flowChartTerminator">
            <a:avLst/>
          </a:prstGeom>
          <a:solidFill>
            <a:srgbClr val="1ace9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856"/>
                </a:solidFill>
                <a:latin typeface="바탕"/>
              </a:rPr>
              <a:t>Mínimo 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espesa por Entidade - Proposta LOA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979640" y="692280"/>
          <a:ext cx="5256360" cy="5952960"/>
        </p:xfrm>
        <a:graphic>
          <a:graphicData uri="http://schemas.openxmlformats.org/drawingml/2006/table">
            <a:tbl>
              <a:tblPr/>
              <a:tblGrid>
                <a:gridCol w="2628720"/>
                <a:gridCol w="262764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FEITUR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9.589.0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.M.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.066.5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UMTU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.050.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UNSERVI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.065.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UNREBO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14.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.M.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4.669.48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UNDEM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.445.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UMTR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.545.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.M.D.C.A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.179.5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URB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.790.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.M.A.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.805.72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.M.D.C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7.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.C.B.C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.427.3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CPREV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.159.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MAS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3.383.8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ÂMAR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.506.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856"/>
                          </a:solidFill>
                          <a:latin typeface="Verdana"/>
                        </a:rPr>
                        <a:t>TOTAL G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856"/>
                          </a:solidFill>
                          <a:latin typeface="Verdana"/>
                        </a:rPr>
                        <a:t>328.772.3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496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7600" spc="-1" strike="noStrike">
                <a:solidFill>
                  <a:srgbClr val="ffffff"/>
                </a:solidFill>
                <a:latin typeface="Arial"/>
              </a:rPr>
              <a:t>INVESTIMENTOS</a:t>
            </a:r>
            <a:br>
              <a:rPr sz="7600"/>
            </a:br>
            <a:r>
              <a:rPr b="1" lang="en-US" sz="7600" spc="-1" strike="noStrike">
                <a:solidFill>
                  <a:srgbClr val="ffffff"/>
                </a:solidFill>
                <a:latin typeface="Arial"/>
              </a:rPr>
              <a:t>PARA 2010</a:t>
            </a:r>
            <a:endParaRPr b="0" lang="en-US" sz="7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411280" y="0"/>
            <a:ext cx="504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UDIÊNCIA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LOA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755640" y="260280"/>
            <a:ext cx="756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VESTIMENTO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OR ENTIDADE/ÓRG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826920" y="1916280"/>
            <a:ext cx="75600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66"/>
                </a:solidFill>
                <a:uFillTx/>
                <a:latin typeface="Verdana"/>
              </a:rPr>
              <a:t>CÂMA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quisição de Terreno para estacionamen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biliários e Equipament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755640" y="260280"/>
            <a:ext cx="756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VESTIMENTO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OR ENTIDADE/ÓRG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c66"/>
                </a:solidFill>
                <a:uFillTx/>
                <a:latin typeface="Verdana"/>
              </a:rPr>
              <a:t>EDUCAÇÃO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pliação reforma NE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strução de NE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formatização da Rede Escol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pliação e Reforma em Unidades Escolar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strução de Unidade Escol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55640" y="260280"/>
            <a:ext cx="756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VESTIMENTO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OR ENTIDADE/ÓRG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ffcc66"/>
                </a:solidFill>
                <a:uFillTx/>
                <a:latin typeface="Verdana"/>
              </a:rPr>
              <a:t>EDUCAÇÃ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Construção de Quadras Poliesportivas Cobert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Equipamentos para as Unidades Escola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Apoio ao Ensino Fundamental e Superi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Apoio a Educação Infantil, Especial e Jovens e Adult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Capacitação para professo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755640" y="260280"/>
            <a:ext cx="756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VESTIMENTO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OR ENTIDADE/ÓRG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66"/>
                </a:solidFill>
                <a:uFillTx/>
                <a:latin typeface="Verdana"/>
              </a:rPr>
              <a:t>ESPOR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nutenção e Reforma de Complexos Esportiv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quisição de Veículo para F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vitalização de Espaços Esportiv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strução de Praças Esportiv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mplantação do Projeto Onda Perfei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755640" y="260280"/>
            <a:ext cx="756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VESTIMENTO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OR ENTIDADE/ÓRG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c66"/>
                </a:solidFill>
                <a:uFillTx/>
                <a:latin typeface="Verdana"/>
              </a:rPr>
              <a:t>TURISMO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oio a projetos de promoção do turism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vulgações do Municípi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quisição de Veículo para o FUMTU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strução do Centro de Desenvolvimento Turístic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755640" y="260280"/>
            <a:ext cx="756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VESTIMENTO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OR ENTIDADE/ÓRG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899640" y="1628640"/>
            <a:ext cx="7559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66"/>
                </a:solidFill>
                <a:uFillTx/>
                <a:latin typeface="Verdana"/>
              </a:rPr>
              <a:t>PLANEJAMEN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mplantação Software de Gestão Públic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mplantação Setor Ouvidoria Digit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mplantação do Escritório de Projet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755640" y="260280"/>
            <a:ext cx="756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VESTIMENTO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OR ENTIDADE/ÓRG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899640" y="1628280"/>
            <a:ext cx="755964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66"/>
                </a:solidFill>
                <a:uFillTx/>
                <a:latin typeface="Verdana"/>
              </a:rPr>
              <a:t>OBRAS – Iluminação Públic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pansão da Rede de Iluminação Públic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nutenção e Melhorias do Sistema de Iluminação Públic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971640" y="404640"/>
            <a:ext cx="7338960" cy="54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2124000" y="260280"/>
            <a:ext cx="504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UDIÊNCIA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LOA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26920" y="1773360"/>
            <a:ext cx="741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RAZ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- Audiência: 15 de Outub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- Projeto de Lei: 31 de Outub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- Aprovação: 15 de Dezemb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755640" y="260280"/>
            <a:ext cx="756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VESTIMENTO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OR ENTIDADE/ÓRG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899640" y="1628640"/>
            <a:ext cx="75596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ffcc66"/>
                </a:solidFill>
                <a:uFillTx/>
                <a:latin typeface="Verdana"/>
              </a:rPr>
              <a:t>OBR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Construção de Ciclov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Pavimentação de Diversas Ru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Construção de Ponte sobre o Rio Cambori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Aquisição de Máquinas e Equipamentos para a Secretar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Canalização do Canal do Maramba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Ampliação do Leito do Rio Perob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755640" y="260280"/>
            <a:ext cx="756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VESTIMENTO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OR ENTIDADE/ÓRG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99640" y="1628640"/>
            <a:ext cx="75596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66"/>
                </a:solidFill>
                <a:uFillTx/>
                <a:latin typeface="Verdana"/>
              </a:rPr>
              <a:t>OBR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lhorias e Manutenção do Sistema de Drenagem e Sistema Viári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clusão da Reurbanização da 5ª Avenid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clusão das Obras da Avenida do Estad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inuação das Obras do Binári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ício Construção do Trajeto Linha Ver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755640" y="260280"/>
            <a:ext cx="756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VESTIMENTO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OR ENTIDADE/ÓRG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826920" y="1628280"/>
            <a:ext cx="75600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66"/>
                </a:solidFill>
                <a:uFillTx/>
                <a:latin typeface="Verdana"/>
              </a:rPr>
              <a:t>ADMINISTRAÇÃ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novação da Fro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sapropriação de áre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rtão Alimentação – Servid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pacitação e Treinamento de Servidor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755640" y="260280"/>
            <a:ext cx="756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VESTIMENTO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OR ENTIDADE/ÓRG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826920" y="1628280"/>
            <a:ext cx="75600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66"/>
                </a:solidFill>
                <a:uFillTx/>
                <a:latin typeface="Verdana"/>
              </a:rPr>
              <a:t>FAZEND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ortização da Dívida Públi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dernização do Sistema Tributári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755640" y="260280"/>
            <a:ext cx="756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VESTIMENTO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OR ENTIDADE/ÓRG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826920" y="1628280"/>
            <a:ext cx="7848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c66"/>
                </a:solidFill>
                <a:uFillTx/>
                <a:latin typeface="Verdana"/>
              </a:rPr>
              <a:t>GABINET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mplantação de Unidades de Atendimento nos bairr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malização de Convênios c/ Entidad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gamentos de Sentenças Judiciai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755640" y="260280"/>
            <a:ext cx="756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VESTIMENTO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OR ENTIDADE/ÓRG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755280" y="1773000"/>
            <a:ext cx="755964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66"/>
                </a:solidFill>
                <a:uFillTx/>
                <a:latin typeface="Verdana"/>
              </a:rPr>
              <a:t>SAÚ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strução e Instalação de Unidade de Saúde 24 Hor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forma e Melhorias em Unidades de Saú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strução de Unidade de Saú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nutenção dos Programas de Saúde Existen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755640" y="260280"/>
            <a:ext cx="756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VESTIMENTO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OR ENTIDADE/ÓRG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899640" y="1628280"/>
            <a:ext cx="72723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66"/>
                </a:solidFill>
                <a:uFillTx/>
                <a:latin typeface="Verdana"/>
              </a:rPr>
              <a:t>BOMBEIR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quipamentos para o Corpo de Bombeir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strução do Quartel do Corpo de Bombeir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755640" y="260280"/>
            <a:ext cx="756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VESTIMENTO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OR ENTIDADE/ÓRG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610920" y="1628640"/>
            <a:ext cx="784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66"/>
                </a:solidFill>
                <a:uFillTx/>
                <a:latin typeface="Verdana"/>
              </a:rPr>
              <a:t>SEGURANÇA E DEFESA SOCI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strução e Instalação de Módulos de Seguranç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role da Migraçã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ção da Ocupação Irregular e Degradação Ambient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ordenação das Guardas Patrimonial e Municip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nutenção da Defesa Civi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755640" y="260280"/>
            <a:ext cx="756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VESTIMENTO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OR ENTIDADE/ÓRG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20908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66"/>
                </a:solidFill>
                <a:uFillTx/>
                <a:latin typeface="Verdana"/>
              </a:rPr>
              <a:t>FURB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rrenos para Programa Minha Casa Minha Vid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strução de Unidades Habitacionai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rbanização, Regularização e Integração de Assentamentos Precári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755640" y="260280"/>
            <a:ext cx="756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VESTIMENTO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OR ENTIDADE/ÓRG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899640" y="1773360"/>
            <a:ext cx="7272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66"/>
                </a:solidFill>
                <a:uFillTx/>
                <a:latin typeface="Verdana"/>
              </a:rPr>
              <a:t>TRÂNSI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dernização da Sinalização de Trânsi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dificações e Adequações Sistema Viári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50920" y="333360"/>
            <a:ext cx="8496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UDIÊNCIA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LOA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476360" y="2565360"/>
            <a:ext cx="6553080" cy="233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RECEITAS</a:t>
            </a:r>
            <a:endParaRPr b="0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755640" y="260280"/>
            <a:ext cx="756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VESTIMENTO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OR ENTIDADE/ÓRG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899640" y="1773360"/>
            <a:ext cx="7272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66"/>
                </a:solidFill>
                <a:uFillTx/>
                <a:latin typeface="Verdana"/>
              </a:rPr>
              <a:t>FUNSERV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strução e Instalação de Consultório Odontológic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755640" y="260280"/>
            <a:ext cx="756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VESTIMENTO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OR ENTIDADE/ÓRG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899640" y="1773360"/>
            <a:ext cx="7272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66"/>
                </a:solidFill>
                <a:uFillTx/>
                <a:latin typeface="Verdana"/>
              </a:rPr>
              <a:t>BCPREV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gamento de Benefíci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serva de Recursos para Benefícios Futur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755640" y="260280"/>
            <a:ext cx="756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VESTIMENTO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OR ENTIDADE/ÓRG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39640" y="1484280"/>
            <a:ext cx="81360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66"/>
                </a:solidFill>
                <a:uFillTx/>
                <a:latin typeface="Verdana"/>
              </a:rPr>
              <a:t>C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érmino da Construção do Teatro Municipal e Sede da Fundação Cul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orma e Ampliação de Espaços Cultur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tauração de Patrimônio Histó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quisição de Acervo Bibliográ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755640" y="260280"/>
            <a:ext cx="756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VESTIMENTO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OR ENTIDADE/ÓRG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628640"/>
            <a:ext cx="828036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66"/>
                </a:solidFill>
                <a:uFillTx/>
                <a:latin typeface="Verdana"/>
              </a:rPr>
              <a:t>EM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25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poluição da Praia Cent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bras de Drag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strução de Galer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strução Reservatório p/ Água Trat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lhorias na Captação de Água Bru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lantação do Projeto Água 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ú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755640" y="260280"/>
            <a:ext cx="756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VESTIMENTO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OR ENTIDADE/ÓRG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8360" y="1413000"/>
            <a:ext cx="83516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66"/>
                </a:solidFill>
                <a:uFillTx/>
                <a:latin typeface="Verdana"/>
              </a:rPr>
              <a:t>EM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25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mpliação e Melhorias na Rede Coletora de Esg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mpliação e Melhorias no Sistema de Abastecimento de Ág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uperação de Áreas Ambient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antação de Novas Estações de Tratamento de Esg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755640" y="260280"/>
            <a:ext cx="756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VESTIMENTO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OR ENTIDADE/ÓRG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84360" y="1773360"/>
            <a:ext cx="7921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66"/>
                </a:solidFill>
                <a:uFillTx/>
                <a:latin typeface="Verdana"/>
              </a:rPr>
              <a:t>MEIO AMB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quisição de Equipamen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estruturação Física das Unidade Ambienta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uperação de áreas de Encos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nutenção da Coleta Seletiva do Lix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ções de Proteção do Meio Ambi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755640" y="260280"/>
            <a:ext cx="756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VESTIMENTO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OR ENTIDADE/ÓRG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84360" y="1773360"/>
            <a:ext cx="7921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66"/>
                </a:solidFill>
                <a:uFillTx/>
                <a:latin typeface="Verdana"/>
              </a:rPr>
              <a:t>FUNDO CRIANÇ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quisição de Equipa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vênios com entidades para apoio às crianças e adolesc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755640" y="260280"/>
            <a:ext cx="756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VESTIMENTO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OR ENTIDADE/ÓRG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11280" y="1628640"/>
            <a:ext cx="8532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cc66"/>
                </a:solidFill>
                <a:uFillTx/>
                <a:latin typeface="Verdana"/>
              </a:rPr>
              <a:t>ASSISTÊNCIA SOCIAL/INCLUSÃO SO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strução e Instalação do C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strução e Instalação do CR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iços Diversos de Assistência So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ace9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rsos Profissionalizantes a Comunida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116000" y="0"/>
            <a:ext cx="7201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UDIÊNCIA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LOA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332000" y="1341360"/>
            <a:ext cx="626436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OBRIGADO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ELA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TENÇÃO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900000" y="404640"/>
            <a:ext cx="7266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Elaboração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omissão de Planejamento</a:t>
            </a:r>
            <a:br>
              <a:rPr sz="3900"/>
            </a:b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Decreto 5.366 de 24/03/2009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1619280" y="1989000"/>
            <a:ext cx="6624720" cy="25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Presidente: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laudir Maci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Membros: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Rubens Ricardo Franz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Yedon Emanoel Nun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Marcos Weissheimer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Liliane Maria Novae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Sahionara Adriana Savariz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86920" y="1197000"/>
            <a:ext cx="727236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VOLUÇÃO DAS RECEITA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95640" y="0"/>
            <a:ext cx="504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UDIÊNCIA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LOA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900000" y="2349360"/>
          <a:ext cx="7632720" cy="3440160"/>
        </p:xfrm>
        <a:graphic>
          <a:graphicData uri="http://schemas.openxmlformats.org/drawingml/2006/table">
            <a:tbl>
              <a:tblPr/>
              <a:tblGrid>
                <a:gridCol w="2529000"/>
                <a:gridCol w="2798640"/>
                <a:gridCol w="230508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Verdana"/>
                        </a:rPr>
                        <a:t>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Verdana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Verdana"/>
                        </a:rPr>
                        <a:t>% DE CRESCI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8.466.8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3.312.1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5.747.0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9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4.526.1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10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28.772.3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1695240" y="616572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Valores Previ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908000" y="0"/>
            <a:ext cx="504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UDIÊNCIA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LOA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24000" y="1700280"/>
          <a:ext cx="8350200" cy="46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00280"/>
                    <a:ext cx="8350200" cy="46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2291040" y="907920"/>
            <a:ext cx="44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volução gráfica - RECEI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920" y="1412640"/>
            <a:ext cx="71280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66"/>
                </a:solidFill>
                <a:latin typeface="Arial"/>
              </a:rPr>
              <a:t>RECEITAS – LOA 2010</a:t>
            </a:r>
            <a:br>
              <a:rPr sz="3000"/>
            </a:b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POR CATEGORIA ECONÔMICA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900000" y="2565360"/>
          <a:ext cx="7632720" cy="3462480"/>
        </p:xfrm>
        <a:graphic>
          <a:graphicData uri="http://schemas.openxmlformats.org/drawingml/2006/table">
            <a:tbl>
              <a:tblPr/>
              <a:tblGrid>
                <a:gridCol w="4608360"/>
                <a:gridCol w="3024360"/>
              </a:tblGrid>
              <a:tr h="576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EITAS CORREN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5.000.6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EITAS DE CAPI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.35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DUÇÕES DA RECE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11.021.0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272.486.9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EITAS INTRA-ORÇAMENTÁRI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.442.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TOTAL G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328.772.3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395280" y="189000"/>
            <a:ext cx="8424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UDIÊNCIA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LOA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26560" y="2276280"/>
            <a:ext cx="750276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ceita de impostos, taxas, contribuições e Serviços prestados pelo municípi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nsferências Constitucionais do Estado e da Uniã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vênios firmad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perações de Crédi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122120" y="1141560"/>
            <a:ext cx="733716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66"/>
                </a:solidFill>
                <a:latin typeface="Arial"/>
              </a:rPr>
              <a:t>FONTES DE RECURSOS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08000" y="0"/>
            <a:ext cx="504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UDIÊNCIA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LOA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26560" y="2276280"/>
            <a:ext cx="750276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ceita Própria em relação do total de receitas: </a:t>
            </a:r>
            <a:r>
              <a:rPr b="1" lang="en-US" sz="2800" spc="-1" strike="noStrike" u="sng">
                <a:solidFill>
                  <a:srgbClr val="ffcc66"/>
                </a:solidFill>
                <a:uFillTx/>
                <a:latin typeface="Verdana"/>
              </a:rPr>
              <a:t>66,7 %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ceita de Transferências em relação do total de receitas: </a:t>
            </a:r>
            <a:r>
              <a:rPr b="1" lang="en-US" sz="2800" spc="-1" strike="noStrike" u="sng">
                <a:solidFill>
                  <a:srgbClr val="ffcc66"/>
                </a:solidFill>
                <a:uFillTx/>
                <a:latin typeface="Verdana"/>
              </a:rPr>
              <a:t>32,7 %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ceita de Operações de Créditos em relação do total de receitas: </a:t>
            </a:r>
            <a:r>
              <a:rPr b="1" lang="en-US" sz="2800" spc="-1" strike="noStrike" u="sng">
                <a:solidFill>
                  <a:srgbClr val="ffcc66"/>
                </a:solidFill>
                <a:uFillTx/>
                <a:latin typeface="Verdana"/>
              </a:rPr>
              <a:t>0,6 %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733752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66"/>
                </a:solidFill>
                <a:latin typeface="Arial"/>
              </a:rPr>
              <a:t>PARTICIPAÇÃO DAS RECEITAS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908000" y="0"/>
            <a:ext cx="504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UDIÊNCIA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LOA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9:06:37Z</dcterms:created>
  <dc:creator>adeline</dc:creator>
  <dc:description/>
  <dc:language>en-US</dc:language>
  <cp:lastModifiedBy>lnovaes</cp:lastModifiedBy>
  <dcterms:modified xsi:type="dcterms:W3CDTF">2009-09-26T22:34:22Z</dcterms:modified>
  <cp:revision>176</cp:revision>
  <dc:subject/>
  <dc:title>AUDIÊNCIA PÚBLICA 29/09/2005</dc:title>
</cp:coreProperties>
</file>