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8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CB43A2-A879-4BB8-970F-9C97AD0D6E8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14444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14444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bra a sua apresentação com um incidente chamativo. Escolha um incidente ao qual seu público esteja relacionado. A incidência será a evidência que dará suporte à ação e prova o benefício. Iniciar com um incidente motivadora irá preparar seu público para a etapa de ação segui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14444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bra a sua apresentação com um incidente chamativo. Escolha um incidente ao qual seu público esteja relacionado. A incidência será a evidência que dará suporte à ação e prova o benefício. Iniciar com um incidente motivadora irá preparar seu público para a etapa de ação segui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14444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bra a sua apresentação com um incidente chamativo. Escolha um incidente ao qual seu público esteja relacionado. A incidência será a evidência que dará suporte à ação e prova o benefício. Iniciar com um incidente motivadora irá preparar seu público para a etapa de ação segui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14444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bra a sua apresentação com um incidente chamativo. Escolha um incidente ao qual seu público esteja relacionado. A incidência será a evidência que dará suporte à ação e prova o benefício. Iniciar com um incidente motivadora irá preparar seu público para a etapa de ação segui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114444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bra a sua apresentação com um incidente chamativo. Escolha um incidente ao qual seu público esteja relacionado. A incidência será a evidência que dará suporte à ação e prova o benefício. Iniciar com um incidente motivadora irá preparar seu público para a etapa de ação segui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14444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14444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bra a sua apresentação com um incidente chamativo. Escolha um incidente ao qual seu público esteja relacionado. A incidência será a evidência que dará suporte à ação e prova o benefício. Iniciar com um incidente motivadora irá preparar seu público para a etapa de ação segui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14444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263DAC-D689-460A-983B-C9A02B66DA3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14444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14444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14444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bra a sua apresentação com um incidente chamativo. Escolha um incidente ao qual seu público esteja relacionado. A incidência será a evidência que dará suporte à ação e prova o benefício. Iniciar com um incidente motivadora irá preparar seu público para a etapa de ação segui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14444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bra a sua apresentação com um incidente chamativo. Escolha um incidente ao qual seu público esteja relacionado. A incidência será a evidência que dará suporte à ação e prova o benefício. Iniciar com um incidente motivadora irá preparar seu público para a etapa de ação segui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14444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bra a sua apresentação com um incidente chamativo. Escolha um incidente ao qual seu público esteja relacionado. A incidência será a evidência que dará suporte à ação e prova o benefício. Iniciar com um incidente motivadora irá preparar seu público para a etapa de ação segui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14444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bra a sua apresentação com um incidente chamativo. Escolha um incidente ao qual seu público esteja relacionado. A incidência será a evidência que dará suporte à ação e prova o benefício. Iniciar com um incidente motivadora irá preparar seu público para a etapa de ação segui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E5AA-479D-4EB7-AC34-02B161720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D24F-F5C4-41CC-B1F4-EA86B4607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39FA-9CA3-4734-9644-6A0684780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3599-9618-4D82-86F8-449B899D7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37D28-7036-41D5-95C9-8575E2ACC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5D5E2-69B9-44E9-B8B0-DE156F007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E17FD-A9E7-404D-855D-EB43B15BF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B8306-4AED-4BD1-9304-CA83A43B8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324F5-7F8D-4F16-A6DD-0D45563F6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73779-3963-40CF-894C-23B4E86E1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B271E-5769-4D6B-AF06-3706AA98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02B7-204C-4B52-9286-8588EF50F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74B35-7DC4-4DF1-96FA-7A882ED9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4C950-D194-4A43-876D-0DCF2475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F7D59-054E-44FB-BE6A-AD7538F63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32E47-388E-48EB-B8B6-82056D898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FBB10-AFE1-4511-9F46-0ED949501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3F24-8FB3-40CC-A6F6-F2B9C1748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E464-3602-4B18-9FB1-D2BF2B7AB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FEE5-B79D-4767-83EB-C8C1495D3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05A6-3E84-457C-9402-2D7E84DB7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0CE8-6E93-426E-900D-4DD29A71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B889-8CB7-48E0-A7B2-867444F0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D558-73DB-4399-ABB3-96E452A7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61AA972-43A8-4859-8A57-1FEC56719797}" type="slidenum">
              <a:rPr b="0" lang="pt-BR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AFAA4A8-4A55-4037-A750-28CECF84724D}" type="slidenum">
              <a:rPr b="0" lang="pt-BR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ssv03/User/Configura&#231;&#245;es%20locais/Temp/Lei%20101_2000%20-%20LRF.pdf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6172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00720" y="5877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55640" y="65160"/>
            <a:ext cx="741672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900" spc="-1" strike="noStrike">
                <a:solidFill>
                  <a:srgbClr val="ffff00"/>
                </a:solidFill>
                <a:latin typeface="Tahoma"/>
              </a:rPr>
              <a:t>Município d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900" spc="-1" strike="noStrike">
                <a:solidFill>
                  <a:srgbClr val="ffffff"/>
                </a:solidFill>
                <a:latin typeface="Tahoma"/>
              </a:rPr>
              <a:t>BALNEÁRIO CAMBORIÚ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Tahoma"/>
              </a:rPr>
              <a:t>CAPITAL CATARINENSE DO TURIS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5280" y="2205000"/>
            <a:ext cx="828036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5000" spc="-1" strike="noStrike">
                <a:solidFill>
                  <a:srgbClr val="ffffff"/>
                </a:solidFill>
                <a:latin typeface="Tahoma"/>
              </a:rPr>
              <a:t>Audiência Pública</a:t>
            </a:r>
            <a:br>
              <a:rPr sz="5000"/>
            </a:br>
            <a:r>
              <a:rPr b="1" lang="pt-BR" sz="2000" spc="-1" strike="noStrike">
                <a:solidFill>
                  <a:srgbClr val="ffffff"/>
                </a:solidFill>
                <a:latin typeface="Tahoma"/>
              </a:rPr>
              <a:t>30/09/2009</a:t>
            </a:r>
            <a:br>
              <a:rPr sz="3800"/>
            </a:br>
            <a:br>
              <a:rPr sz="3800"/>
            </a:br>
            <a:r>
              <a:rPr b="1" lang="pt-BR" sz="3600" spc="-1" strike="noStrike">
                <a:solidFill>
                  <a:srgbClr val="ffffcc"/>
                </a:solidFill>
                <a:latin typeface="Arial"/>
              </a:rPr>
              <a:t>Demonstração e Avaliação do Cumprimento das Metas Fiscais</a:t>
            </a:r>
            <a:br>
              <a:rPr sz="3600"/>
            </a:br>
            <a:br>
              <a:rPr sz="3600"/>
            </a:br>
            <a:r>
              <a:rPr b="1" lang="pt-BR" sz="3600" spc="-1" strike="noStrike">
                <a:solidFill>
                  <a:srgbClr val="ffff00"/>
                </a:solidFill>
                <a:latin typeface="Arial"/>
              </a:rPr>
              <a:t>2º Quadrimestre de 200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943600" y="6477120"/>
            <a:ext cx="268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63720" y="339840"/>
            <a:ext cx="6959520" cy="1046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00"/>
                </a:solidFill>
                <a:latin typeface="Garamond"/>
              </a:rPr>
              <a:t>Despesa por Categoria Econômica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39640" y="1989000"/>
          <a:ext cx="8137800" cy="4356360"/>
        </p:xfrm>
        <a:graphic>
          <a:graphicData uri="http://schemas.openxmlformats.org/drawingml/2006/table">
            <a:tbl>
              <a:tblPr/>
              <a:tblGrid>
                <a:gridCol w="4754520"/>
                <a:gridCol w="1909800"/>
                <a:gridCol w="1473480"/>
              </a:tblGrid>
              <a:tr h="2057400">
                <a:tc>
                  <a:txBody>
                    <a:bodyPr lIns="90000" rIns="90000" tIns="2268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DESPESAS CORREN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SSOAL E ENCARGOS SOCIAIS....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UROS E ENCARGOS DA DÍVIDA....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UTRAS DESPESAS CORRENTES....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ccff"/>
                      </a:solidFill>
                    </a:lnL>
                    <a:lnR w="5760">
                      <a:solidFill>
                        <a:srgbClr val="66ccff"/>
                      </a:solidFill>
                    </a:lnR>
                    <a:lnT w="5760">
                      <a:solidFill>
                        <a:srgbClr val="66ccff"/>
                      </a:solidFill>
                    </a:lnT>
                    <a:lnB w="5760">
                      <a:solidFill>
                        <a:srgbClr val="66ccff"/>
                      </a:solidFill>
                    </a:lnB>
                    <a:noFill/>
                  </a:tcPr>
                </a:tc>
                <a:tc>
                  <a:txBody>
                    <a:bodyPr lIns="90000" rIns="90000" tIns="2268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126.867.1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63.194.7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1.048.28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62.624.06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ccff"/>
                      </a:solidFill>
                    </a:lnL>
                    <a:lnR w="5760">
                      <a:solidFill>
                        <a:srgbClr val="66ccff"/>
                      </a:solidFill>
                    </a:lnR>
                    <a:lnT w="5760">
                      <a:solidFill>
                        <a:srgbClr val="66ccff"/>
                      </a:solidFill>
                    </a:lnT>
                    <a:lnB w="5760">
                      <a:solidFill>
                        <a:srgbClr val="66ccff"/>
                      </a:solidFill>
                    </a:lnB>
                    <a:noFill/>
                  </a:tcPr>
                </a:tc>
                <a:tc>
                  <a:txBody>
                    <a:bodyPr lIns="90000" rIns="90000" tIns="2268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90,6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45,1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0,7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44,7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ccff"/>
                      </a:solidFill>
                    </a:lnL>
                    <a:lnR w="5760">
                      <a:solidFill>
                        <a:srgbClr val="66ccff"/>
                      </a:solidFill>
                    </a:lnR>
                    <a:lnT w="5760">
                      <a:solidFill>
                        <a:srgbClr val="66ccff"/>
                      </a:solidFill>
                    </a:lnT>
                    <a:lnB w="5760">
                      <a:solidFill>
                        <a:srgbClr val="66ccff"/>
                      </a:solidFill>
                    </a:lnB>
                    <a:noFill/>
                  </a:tcPr>
                </a:tc>
              </a:tr>
              <a:tr h="1930680">
                <a:tc>
                  <a:txBody>
                    <a:bodyPr lIns="90000" rIns="90000" tIns="2268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DESPESAS DE CAPI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MENTOS.............................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MORTIZAÇÃO DA DÍVIDA............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ccff"/>
                      </a:solidFill>
                    </a:lnL>
                    <a:lnR w="5760">
                      <a:solidFill>
                        <a:srgbClr val="66ccff"/>
                      </a:solidFill>
                    </a:lnR>
                    <a:lnT w="5760">
                      <a:solidFill>
                        <a:srgbClr val="66ccff"/>
                      </a:solidFill>
                    </a:lnT>
                    <a:lnB w="5760">
                      <a:solidFill>
                        <a:srgbClr val="66ccff"/>
                      </a:solidFill>
                    </a:lnB>
                    <a:noFill/>
                  </a:tcPr>
                </a:tc>
                <a:tc>
                  <a:txBody>
                    <a:bodyPr lIns="90000" rIns="90000" tIns="2268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13.089.2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10.325.5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2.763.72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ccff"/>
                      </a:solidFill>
                    </a:lnL>
                    <a:lnR w="5760">
                      <a:solidFill>
                        <a:srgbClr val="66ccff"/>
                      </a:solidFill>
                    </a:lnR>
                    <a:lnT w="5760">
                      <a:solidFill>
                        <a:srgbClr val="66ccff"/>
                      </a:solidFill>
                    </a:lnT>
                    <a:lnB w="5760">
                      <a:solidFill>
                        <a:srgbClr val="66ccff"/>
                      </a:solidFill>
                    </a:lnB>
                    <a:noFill/>
                  </a:tcPr>
                </a:tc>
                <a:tc>
                  <a:txBody>
                    <a:bodyPr lIns="90000" rIns="90000" tIns="2268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9,3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7,3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1,9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ccff"/>
                      </a:solidFill>
                    </a:lnL>
                    <a:lnR w="5760">
                      <a:solidFill>
                        <a:srgbClr val="66ccff"/>
                      </a:solidFill>
                    </a:lnR>
                    <a:lnT w="5760">
                      <a:solidFill>
                        <a:srgbClr val="66ccff"/>
                      </a:solidFill>
                    </a:lnT>
                    <a:lnB w="5760">
                      <a:solidFill>
                        <a:srgbClr val="66cc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2268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 GER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ccff"/>
                      </a:solidFill>
                    </a:lnL>
                    <a:lnR w="5760">
                      <a:solidFill>
                        <a:srgbClr val="66ccff"/>
                      </a:solidFill>
                    </a:lnR>
                    <a:lnT w="5760">
                      <a:solidFill>
                        <a:srgbClr val="66ccff"/>
                      </a:solidFill>
                    </a:lnT>
                    <a:lnB w="5760">
                      <a:solidFill>
                        <a:srgbClr val="66ccff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lIns="90000" rIns="90000" tIns="2268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9.956.34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ccff"/>
                      </a:solidFill>
                    </a:lnL>
                    <a:lnR w="5760">
                      <a:solidFill>
                        <a:srgbClr val="66ccff"/>
                      </a:solidFill>
                    </a:lnR>
                    <a:lnT w="5760">
                      <a:solidFill>
                        <a:srgbClr val="66ccff"/>
                      </a:solidFill>
                    </a:lnT>
                    <a:lnB w="5760">
                      <a:solidFill>
                        <a:srgbClr val="66ccff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2268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,0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ccff"/>
                      </a:solidFill>
                    </a:lnL>
                    <a:lnR w="5760">
                      <a:solidFill>
                        <a:srgbClr val="66ccff"/>
                      </a:solidFill>
                    </a:lnR>
                    <a:lnT w="5760">
                      <a:solidFill>
                        <a:srgbClr val="66ccff"/>
                      </a:solidFill>
                    </a:lnT>
                    <a:lnB w="5760">
                      <a:solidFill>
                        <a:srgbClr val="66ccff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943600" y="6477120"/>
            <a:ext cx="268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0800" y="375840"/>
            <a:ext cx="724212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00"/>
                </a:solidFill>
                <a:latin typeface="Garamond"/>
              </a:rPr>
              <a:t>RESUMO</a:t>
            </a:r>
            <a:br>
              <a:rPr sz="4000"/>
            </a:br>
            <a:r>
              <a:rPr b="0" lang="pt-BR" sz="4000" spc="-1" strike="noStrike">
                <a:solidFill>
                  <a:srgbClr val="ffff00"/>
                </a:solidFill>
                <a:latin typeface="Garamond"/>
              </a:rPr>
              <a:t>Receitas e Despesas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324000" y="2565360"/>
          <a:ext cx="8253360" cy="3272040"/>
        </p:xfrm>
        <a:graphic>
          <a:graphicData uri="http://schemas.openxmlformats.org/drawingml/2006/table">
            <a:tbl>
              <a:tblPr/>
              <a:tblGrid>
                <a:gridCol w="2811240"/>
                <a:gridCol w="2737080"/>
                <a:gridCol w="2705040"/>
              </a:tblGrid>
              <a:tr h="574560">
                <a:tc>
                  <a:txBody>
                    <a:bodyPr lIns="90000" rIns="90000" bIns="4680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Descrição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bIns="4680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Previsto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bIns="4680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6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Realizado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936720">
                <a:tc>
                  <a:txBody>
                    <a:bodyPr lIns="90000" rIns="90000" tIns="31680" bIns="46800" anchor="ctr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CEIT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3168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7.010.08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3168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3.309.6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5080">
                <a:tc>
                  <a:txBody>
                    <a:bodyPr lIns="90000" rIns="90000" tIns="31680" bIns="46800" anchor="ctr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DESPES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168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183.904.5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168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139.956.3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5680">
                <a:tc>
                  <a:txBody>
                    <a:bodyPr lIns="90000" rIns="90000" tIns="31680" bIns="46800" anchor="ctr">
                      <a:noAutofit/>
                    </a:bodyPr>
                    <a:p>
                      <a:pPr algn="ctr">
                        <a:lnSpc>
                          <a:spcPct val="9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PERÁVI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3168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.105.55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3168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3.353.2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943600" y="6477120"/>
            <a:ext cx="268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7978680" cy="40021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850"/>
              </a:spcBef>
              <a:buClr>
                <a:srgbClr val="00ff99"/>
              </a:buClr>
              <a:buFont typeface="Tahom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pt-BR" sz="3400" spc="-1" strike="noStrike">
                <a:solidFill>
                  <a:srgbClr val="ffffff"/>
                </a:solidFill>
                <a:latin typeface="Tahoma"/>
              </a:rPr>
              <a:t>PREVISÃO PARA O EXERCÍCIO 2009: 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ctr">
              <a:lnSpc>
                <a:spcPct val="100000"/>
              </a:lnSpc>
              <a:spcBef>
                <a:spcPts val="850"/>
              </a:spcBef>
              <a:buClr>
                <a:srgbClr val="00ff99"/>
              </a:buClr>
              <a:buFont typeface="Tahom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pt-BR" sz="3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3400" spc="-1" strike="noStrike">
                <a:solidFill>
                  <a:srgbClr val="ffcc66"/>
                </a:solidFill>
                <a:latin typeface="Tahoma"/>
              </a:rPr>
              <a:t>R$ 258.174.911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ctr">
              <a:lnSpc>
                <a:spcPct val="100000"/>
              </a:lnSpc>
              <a:spcBef>
                <a:spcPts val="850"/>
              </a:spcBef>
              <a:buClr>
                <a:srgbClr val="00ff99"/>
              </a:buClr>
              <a:buFont typeface="Tahom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pt-BR" sz="3400" spc="-1" strike="noStrike">
                <a:solidFill>
                  <a:srgbClr val="ffffff"/>
                </a:solidFill>
                <a:latin typeface="Tahoma"/>
              </a:rPr>
              <a:t>REALIZADA NOS ÚLTIMOS 12 MESES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ctr">
              <a:lnSpc>
                <a:spcPct val="100000"/>
              </a:lnSpc>
              <a:spcBef>
                <a:spcPts val="850"/>
              </a:spcBef>
              <a:buClr>
                <a:srgbClr val="00ff99"/>
              </a:buClr>
              <a:buFont typeface="Tahoma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pt-BR" sz="3400" spc="-1" strike="noStrike">
                <a:solidFill>
                  <a:srgbClr val="ffcc66"/>
                </a:solidFill>
                <a:latin typeface="Tahoma"/>
              </a:rPr>
              <a:t>R$ 257.163.162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"/>
          <p:cNvSpPr/>
          <p:nvPr/>
        </p:nvSpPr>
        <p:spPr>
          <a:xfrm>
            <a:off x="684360" y="765000"/>
            <a:ext cx="67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Arial"/>
              </a:rPr>
              <a:t>Receita Corrente Líquid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943600" y="6477120"/>
            <a:ext cx="268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39640" y="76500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Arial"/>
              </a:rPr>
              <a:t>Resultado Previdenciári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95280" y="2205000"/>
          <a:ext cx="8424360" cy="3271680"/>
        </p:xfrm>
        <a:graphic>
          <a:graphicData uri="http://schemas.openxmlformats.org/drawingml/2006/table">
            <a:tbl>
              <a:tblPr/>
              <a:tblGrid>
                <a:gridCol w="3621600"/>
                <a:gridCol w="2512440"/>
                <a:gridCol w="2290320"/>
              </a:tblGrid>
              <a:tr h="601560"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Descriçã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Previst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Realizad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532440">
                <a:tc>
                  <a:txBody>
                    <a:bodyPr lIns="90000" rIns="90000" tIns="3636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ceit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6.697.3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5.116.7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3636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spes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6.580.8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5.681.0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3636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32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Resultad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cc66"/>
                          </a:solidFill>
                          <a:latin typeface="Bookman Old Style"/>
                        </a:rPr>
                        <a:t>10.116.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cc66"/>
                          </a:solidFill>
                          <a:latin typeface="Bookman Old Style"/>
                        </a:rPr>
                        <a:t>9.435.69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73520">
                <a:tc>
                  <a:txBody>
                    <a:bodyPr lIns="90000" rIns="90000" tIns="3636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aldo Financeir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1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1/08/200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8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73.599.1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943600" y="6477120"/>
            <a:ext cx="268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11280" y="620640"/>
            <a:ext cx="698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Arial"/>
              </a:rPr>
              <a:t>Resultado Nomin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79640" y="2095560"/>
            <a:ext cx="6769080" cy="34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META FIXADA NA LDO 200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t-BR" sz="3400" spc="-1" strike="noStrike">
                <a:solidFill>
                  <a:srgbClr val="ffcc66"/>
                </a:solidFill>
                <a:latin typeface="Tahoma"/>
              </a:rPr>
              <a:t>R$ 1.915.550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META REALIZADA N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QUADRIMESTRE 200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t-BR" sz="3400" spc="-1" strike="noStrike">
                <a:solidFill>
                  <a:srgbClr val="ffcc66"/>
                </a:solidFill>
                <a:latin typeface="Tahoma"/>
              </a:rPr>
              <a:t>R$ (38.943.531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943600" y="6477120"/>
            <a:ext cx="268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1280" y="620640"/>
            <a:ext cx="698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Arial"/>
              </a:rPr>
              <a:t>Resultado Primári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1280" y="2133720"/>
            <a:ext cx="7704000" cy="40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META FIXADA NA LDO 200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t-BR" sz="3400" spc="-1" strike="noStrike">
                <a:solidFill>
                  <a:srgbClr val="ffcc66"/>
                </a:solidFill>
                <a:latin typeface="Tahoma"/>
              </a:rPr>
              <a:t>R$ (15.374.850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META REALIZADA N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QUADRIMESTRE DE 200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t-BR" sz="3400" spc="-1" strike="noStrike">
                <a:solidFill>
                  <a:srgbClr val="ffcc66"/>
                </a:solidFill>
                <a:latin typeface="Tahoma"/>
              </a:rPr>
              <a:t>R$ 45.960.320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943600" y="6477120"/>
            <a:ext cx="268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4360" y="692280"/>
            <a:ext cx="74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Arial"/>
              </a:rPr>
              <a:t>Restos a Paga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755640" y="2205000"/>
          <a:ext cx="7703640" cy="3529080"/>
        </p:xfrm>
        <a:graphic>
          <a:graphicData uri="http://schemas.openxmlformats.org/drawingml/2006/table">
            <a:tbl>
              <a:tblPr/>
              <a:tblGrid>
                <a:gridCol w="4536000"/>
                <a:gridCol w="3167640"/>
              </a:tblGrid>
              <a:tr h="1081080"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Saldo e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31/12/200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336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600" spc="-1" strike="noStrike">
                          <a:solidFill>
                            <a:srgbClr val="ffffff"/>
                          </a:solidFill>
                          <a:latin typeface="Bookman Old Style"/>
                          <a:ea typeface="Times New Roman"/>
                        </a:rPr>
                        <a:t>23.012.74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Cancelad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336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600" spc="-1" strike="noStrike">
                          <a:solidFill>
                            <a:srgbClr val="ffffff"/>
                          </a:solidFill>
                          <a:latin typeface="Bookman Old Style"/>
                          <a:ea typeface="Times New Roman"/>
                        </a:rPr>
                        <a:t>286.957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Pag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336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600" spc="-1" strike="noStrike">
                          <a:solidFill>
                            <a:srgbClr val="ffffff"/>
                          </a:solidFill>
                          <a:latin typeface="Bookman Old Style"/>
                          <a:ea typeface="Times New Roman"/>
                        </a:rPr>
                        <a:t>11.224.474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A pagar em 31/08/200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336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600" spc="-1" strike="noStrike">
                          <a:solidFill>
                            <a:srgbClr val="ffffff"/>
                          </a:solidFill>
                          <a:latin typeface="Bookman Old Style"/>
                          <a:ea typeface="Times New Roman"/>
                        </a:rPr>
                        <a:t>11.501.314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43600" y="6477120"/>
            <a:ext cx="268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9640" y="692280"/>
            <a:ext cx="719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Arial"/>
              </a:rPr>
              <a:t>Aplicação na Educação Básic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608200" y="359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68360" y="2349360"/>
            <a:ext cx="822960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468360" y="2708280"/>
          <a:ext cx="8139240" cy="3679920"/>
        </p:xfrm>
        <a:graphic>
          <a:graphicData uri="http://schemas.openxmlformats.org/drawingml/2006/table">
            <a:tbl>
              <a:tblPr/>
              <a:tblGrid>
                <a:gridCol w="5543640"/>
                <a:gridCol w="2595600"/>
              </a:tblGrid>
              <a:tr h="711360">
                <a:tc>
                  <a:txBody>
                    <a:bodyPr lIns="90000" rIns="90000" tIns="3060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SE DE CÁLCULO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efee">
                        <a:alpha val="-4900000"/>
                      </a:srgbClr>
                    </a:solidFill>
                  </a:tcPr>
                </a:tc>
                <a:tc>
                  <a:txBody>
                    <a:bodyPr lIns="90000" rIns="90000" tIns="3060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2.338.515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efee">
                        <a:alpha val="-4900000"/>
                      </a:srgbClr>
                    </a:solidFill>
                  </a:tcPr>
                </a:tc>
              </a:tr>
              <a:tr h="717480">
                <a:tc>
                  <a:txBody>
                    <a:bodyPr lIns="90000" rIns="90000" tIns="3060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PLICAÇÃO MÍNIMA – 25%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efee">
                        <a:alpha val="-4900000"/>
                      </a:srgbClr>
                    </a:solidFill>
                  </a:tcPr>
                </a:tc>
                <a:tc>
                  <a:txBody>
                    <a:bodyPr lIns="90000" rIns="90000" tIns="3060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.584.628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efee">
                        <a:alpha val="-4900000"/>
                      </a:srgbClr>
                    </a:solidFill>
                  </a:tcPr>
                </a:tc>
              </a:tr>
              <a:tr h="706320">
                <a:tc>
                  <a:txBody>
                    <a:bodyPr lIns="90000" rIns="90000" tIns="3060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OR APLICADO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efee">
                        <a:alpha val="-4900000"/>
                      </a:srgbClr>
                    </a:solidFill>
                  </a:tcPr>
                </a:tc>
                <a:tc>
                  <a:txBody>
                    <a:bodyPr lIns="90000" rIns="90000" tIns="3060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.418.36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efee">
                        <a:alpha val="-4900000"/>
                      </a:srgbClr>
                    </a:solidFill>
                  </a:tcPr>
                </a:tc>
              </a:tr>
              <a:tr h="711360">
                <a:tc>
                  <a:txBody>
                    <a:bodyPr lIns="90000" rIns="90000" tIns="3060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CENTUAL APLICADO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9efee">
                        <a:alpha val="-4900000"/>
                      </a:srgbClr>
                    </a:solidFill>
                  </a:tcPr>
                </a:tc>
                <a:tc>
                  <a:txBody>
                    <a:bodyPr lIns="90000" rIns="90000" tIns="3060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,86%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9efee">
                        <a:alpha val="-4900000"/>
                      </a:srgbClr>
                    </a:solidFill>
                  </a:tcPr>
                </a:tc>
              </a:tr>
              <a:tr h="833400">
                <a:tc>
                  <a:txBody>
                    <a:bodyPr lIns="90000" rIns="90000" tIns="3060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ASTOS TOTAIS EM EDUCAÇÃO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9efee">
                        <a:alpha val="-4900000"/>
                      </a:srgbClr>
                    </a:solidFill>
                  </a:tcPr>
                </a:tc>
                <a:tc>
                  <a:txBody>
                    <a:bodyPr lIns="90000" rIns="90000" tIns="3060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.991.367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9efee">
                        <a:alpha val="-490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04" name=""/>
          <p:cNvSpPr/>
          <p:nvPr/>
        </p:nvSpPr>
        <p:spPr>
          <a:xfrm>
            <a:off x="2700360" y="6154560"/>
            <a:ext cx="8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943600" y="6477120"/>
            <a:ext cx="268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1280" y="692280"/>
            <a:ext cx="66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Arial"/>
              </a:rPr>
              <a:t>Aplicação </a:t>
            </a:r>
            <a:r>
              <a:rPr b="1" lang="pt-BR" sz="4000" spc="-1" strike="noStrike" u="sng">
                <a:solidFill>
                  <a:srgbClr val="ffff00"/>
                </a:solidFill>
                <a:uFillTx/>
                <a:latin typeface="Arial"/>
              </a:rPr>
              <a:t>Funde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611280" y="1700280"/>
          <a:ext cx="7923240" cy="4276800"/>
        </p:xfrm>
        <a:graphic>
          <a:graphicData uri="http://schemas.openxmlformats.org/drawingml/2006/table">
            <a:tbl>
              <a:tblPr/>
              <a:tblGrid>
                <a:gridCol w="5473440"/>
                <a:gridCol w="2449800"/>
              </a:tblGrid>
              <a:tr h="576360">
                <a:tc>
                  <a:txBody>
                    <a:bodyPr lIns="90000" rIns="90000" tIns="3060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aldo em 31/12/2008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efee">
                        <a:alpha val="-4900000"/>
                      </a:srgbClr>
                    </a:solidFill>
                  </a:tcPr>
                </a:tc>
                <a:tc>
                  <a:txBody>
                    <a:bodyPr lIns="90000" rIns="90000" tIns="475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942.245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efee">
                        <a:alpha val="-4900000"/>
                      </a:srgbClr>
                    </a:solidFill>
                  </a:tcPr>
                </a:tc>
              </a:tr>
              <a:tr h="576000">
                <a:tc>
                  <a:txBody>
                    <a:bodyPr lIns="90000" rIns="90000" tIns="3060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rrecadação + Rendimentos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efee">
                        <a:alpha val="-4900000"/>
                      </a:srgbClr>
                    </a:solidFill>
                  </a:tcPr>
                </a:tc>
                <a:tc>
                  <a:txBody>
                    <a:bodyPr lIns="90000" rIns="90000" tIns="475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5.365.42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efee">
                        <a:alpha val="-4900000"/>
                      </a:srgbClr>
                    </a:solidFill>
                  </a:tcPr>
                </a:tc>
              </a:tr>
              <a:tr h="820800">
                <a:tc>
                  <a:txBody>
                    <a:bodyPr lIns="90000" rIns="90000" tIns="3060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gamentos efetuados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efee">
                        <a:alpha val="-4900000"/>
                      </a:srgbClr>
                    </a:solidFill>
                  </a:tcPr>
                </a:tc>
                <a:tc>
                  <a:txBody>
                    <a:bodyPr lIns="90000" rIns="90000" tIns="475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5.957.055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efee">
                        <a:alpha val="-4900000"/>
                      </a:srgbClr>
                    </a:solidFill>
                  </a:tcPr>
                </a:tc>
              </a:tr>
              <a:tr h="1372320">
                <a:tc>
                  <a:txBody>
                    <a:bodyPr lIns="90000" rIns="90000" tIns="3060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 APLIC. EM PESSOAL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GISTÉRIO –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Mínimo de 60%)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efee">
                        <a:alpha val="-4900000"/>
                      </a:srgbClr>
                    </a:solidFill>
                  </a:tcPr>
                </a:tc>
                <a:tc>
                  <a:txBody>
                    <a:bodyPr lIns="90000" rIns="90000" tIns="475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9933"/>
                          </a:solidFill>
                          <a:latin typeface="Bookman Old Style"/>
                        </a:rPr>
                        <a:t>97,09%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efee">
                        <a:alpha val="-4900000"/>
                      </a:srgbClr>
                    </a:solidFill>
                  </a:tcPr>
                </a:tc>
              </a:tr>
              <a:tr h="931320">
                <a:tc>
                  <a:txBody>
                    <a:bodyPr lIns="90000" rIns="90000" tIns="3060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aldo Financeiro - 31/08/2009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9efee">
                        <a:alpha val="-4900000"/>
                      </a:srgbClr>
                    </a:solidFill>
                  </a:tcPr>
                </a:tc>
                <a:tc>
                  <a:txBody>
                    <a:bodyPr lIns="90000" rIns="90000" tIns="475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50.61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9efee">
                        <a:alpha val="-4900000"/>
                      </a:srgbClr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943600" y="6477120"/>
            <a:ext cx="268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608200" y="359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68360" y="2349360"/>
            <a:ext cx="8229600" cy="37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684360" y="2421000"/>
          <a:ext cx="7850160" cy="3451320"/>
        </p:xfrm>
        <a:graphic>
          <a:graphicData uri="http://schemas.openxmlformats.org/drawingml/2006/table">
            <a:tbl>
              <a:tblPr/>
              <a:tblGrid>
                <a:gridCol w="5281560"/>
                <a:gridCol w="2568600"/>
              </a:tblGrid>
              <a:tr h="689040">
                <a:tc>
                  <a:txBody>
                    <a:bodyPr lIns="90000" rIns="90000" tIns="3060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SE DE CÁLCULO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efee">
                        <a:alpha val="-4900000"/>
                      </a:srgbClr>
                    </a:solidFill>
                  </a:tcPr>
                </a:tc>
                <a:tc>
                  <a:txBody>
                    <a:bodyPr lIns="90000" rIns="90000" tIns="3060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2.338.514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efee">
                        <a:alpha val="-4900000"/>
                      </a:srgbClr>
                    </a:solidFill>
                  </a:tcPr>
                </a:tc>
              </a:tr>
              <a:tr h="696960">
                <a:tc>
                  <a:txBody>
                    <a:bodyPr lIns="90000" rIns="90000" tIns="3060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PLICAÇÃO MÍNIMA – </a:t>
                      </a:r>
                      <a:r>
                        <a:rPr b="1" lang="pt-BR" sz="2700" spc="-1" strike="noStrike">
                          <a:solidFill>
                            <a:srgbClr val="ff9933"/>
                          </a:solidFill>
                          <a:latin typeface="Tahoma"/>
                        </a:rPr>
                        <a:t>15%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efee">
                        <a:alpha val="-4900000"/>
                      </a:srgbClr>
                    </a:solidFill>
                  </a:tcPr>
                </a:tc>
                <a:tc>
                  <a:txBody>
                    <a:bodyPr lIns="90000" rIns="90000" tIns="3060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.350.777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efee">
                        <a:alpha val="-4900000"/>
                      </a:srgbClr>
                    </a:solidFill>
                  </a:tcPr>
                </a:tc>
              </a:tr>
              <a:tr h="685800">
                <a:tc>
                  <a:txBody>
                    <a:bodyPr lIns="90000" rIns="90000" tIns="3060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OR APLICADO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efee">
                        <a:alpha val="-4900000"/>
                      </a:srgbClr>
                    </a:solidFill>
                  </a:tcPr>
                </a:tc>
                <a:tc>
                  <a:txBody>
                    <a:bodyPr lIns="90000" rIns="90000" tIns="3060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947.737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efee">
                        <a:alpha val="-4900000"/>
                      </a:srgbClr>
                    </a:solidFill>
                  </a:tcPr>
                </a:tc>
              </a:tr>
              <a:tr h="690480">
                <a:tc>
                  <a:txBody>
                    <a:bodyPr lIns="90000" rIns="90000" tIns="3060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CENTUAL APLICADO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9efee">
                        <a:alpha val="-4900000"/>
                      </a:srgbClr>
                    </a:solidFill>
                  </a:tcPr>
                </a:tc>
                <a:tc>
                  <a:txBody>
                    <a:bodyPr lIns="90000" rIns="90000" tIns="3060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9933"/>
                          </a:solidFill>
                          <a:latin typeface="Tahoma"/>
                        </a:rPr>
                        <a:t>16,56%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9efee">
                        <a:alpha val="-4900000"/>
                      </a:srgbClr>
                    </a:solidFill>
                  </a:tcPr>
                </a:tc>
              </a:tr>
              <a:tr h="689040">
                <a:tc>
                  <a:txBody>
                    <a:bodyPr lIns="90000" rIns="90000" tIns="3060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ASTOS TOTAIS EM SAÚDE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9efee">
                        <a:alpha val="-4900000"/>
                      </a:srgbClr>
                    </a:solidFill>
                  </a:tcPr>
                </a:tc>
                <a:tc>
                  <a:txBody>
                    <a:bodyPr lIns="90000" rIns="90000" tIns="3060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.783.105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9efee">
                        <a:alpha val="-490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14" name=""/>
          <p:cNvSpPr/>
          <p:nvPr/>
        </p:nvSpPr>
        <p:spPr>
          <a:xfrm>
            <a:off x="755640" y="692280"/>
            <a:ext cx="698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Arial"/>
              </a:rPr>
              <a:t>Aplicação na Saú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6477120"/>
            <a:ext cx="268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127480" y="568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1280" y="3645000"/>
            <a:ext cx="8137440" cy="1800360"/>
          </a:xfrm>
          <a:prstGeom prst="rect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Times New Roman"/>
              </a:rPr>
              <a:t>Objetivo da </a:t>
            </a:r>
            <a:r>
              <a:rPr b="1" lang="pt-BR" sz="2800" spc="-1" strike="noStrike" u="sng">
                <a:solidFill>
                  <a:srgbClr val="ffff00"/>
                </a:solidFill>
                <a:uFillTx/>
                <a:latin typeface="Times New Roman"/>
              </a:rPr>
              <a:t>divulgação</a:t>
            </a:r>
            <a:r>
              <a:rPr b="1" lang="pt-BR" sz="2800" spc="-1" strike="noStrike">
                <a:solidFill>
                  <a:srgbClr val="ffff00"/>
                </a:solidFill>
                <a:latin typeface="Times New Roman"/>
              </a:rPr>
              <a:t> dos relatórios é permitir que a sociedade conheça, acompanhe e analise o desempenho da execução orçamentária e financeira dos Govern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32200" y="35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77520" y="401760"/>
            <a:ext cx="7932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00"/>
                </a:solidFill>
                <a:latin typeface="Garamond"/>
              </a:rPr>
              <a:t>PUBLICAÇÃO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"/>
          <p:cNvSpPr/>
          <p:nvPr/>
        </p:nvSpPr>
        <p:spPr>
          <a:xfrm>
            <a:off x="684360" y="1413000"/>
            <a:ext cx="792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RELATÓRIOS PUBLICADOS ATÉ 30 DI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PÓS ENCERRAMENTO DO BIMESTRE E QUADRIMEST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943600" y="6477120"/>
            <a:ext cx="268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5280" y="404640"/>
            <a:ext cx="83534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Tahoma"/>
              </a:rPr>
              <a:t>RELATÓRIO 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Tahoma"/>
              </a:rPr>
              <a:t>GESTÃO FISC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7164360" y="3357720"/>
          <a:ext cx="1305000" cy="163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4360" y="3357720"/>
                    <a:ext cx="1305000" cy="16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395280" y="2637000"/>
            <a:ext cx="8748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Instrumento imprescindível no acompanhamento das atividades financeiras e de gestã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ublicação por pode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Gastos com pessoal, dívida consolidada líquida, operações de crédi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943600" y="6477120"/>
            <a:ext cx="268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74560" y="476280"/>
            <a:ext cx="85694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Arial"/>
              </a:rPr>
              <a:t>Gastos com Pessoal – LRF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800" spc="-1" strike="noStrike" u="sng">
                <a:solidFill>
                  <a:srgbClr val="ffffff"/>
                </a:solidFill>
                <a:uFillTx/>
                <a:latin typeface="Arial"/>
              </a:rPr>
              <a:t>Execu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468360" y="3213000"/>
          <a:ext cx="8161200" cy="2952720"/>
        </p:xfrm>
        <a:graphic>
          <a:graphicData uri="http://schemas.openxmlformats.org/drawingml/2006/table">
            <a:tbl>
              <a:tblPr/>
              <a:tblGrid>
                <a:gridCol w="5761080"/>
                <a:gridCol w="2400120"/>
              </a:tblGrid>
              <a:tr h="863640">
                <a:tc>
                  <a:txBody>
                    <a:bodyPr lIns="90000" rIns="90000" tIns="3060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SE DE CÁLCULO - RCL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3060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7.163.16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68360">
                <a:tc>
                  <a:txBody>
                    <a:bodyPr lIns="90000" rIns="90000" tIns="2844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ASTOS COM PESSOAL –</a:t>
                      </a: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pt-BR" sz="27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37,80%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ÚLTIMOS 12 MESES – DESPESA LÍQUIDA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3060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7.156.214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3060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IMITE PRUDENCIAL – 51,30%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3060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1.924.70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132000" y="1341360"/>
            <a:ext cx="3810240" cy="137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6477120"/>
            <a:ext cx="268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74560" y="476280"/>
            <a:ext cx="85694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Arial"/>
              </a:rPr>
              <a:t>Gastos com Pessoal – LRF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800" spc="-1" strike="noStrike" u="sng">
                <a:solidFill>
                  <a:srgbClr val="ffffff"/>
                </a:solidFill>
                <a:uFillTx/>
                <a:latin typeface="Arial"/>
              </a:rPr>
              <a:t>Legisla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468360" y="3213000"/>
          <a:ext cx="8161200" cy="2952720"/>
        </p:xfrm>
        <a:graphic>
          <a:graphicData uri="http://schemas.openxmlformats.org/drawingml/2006/table">
            <a:tbl>
              <a:tblPr/>
              <a:tblGrid>
                <a:gridCol w="5761080"/>
                <a:gridCol w="2400120"/>
              </a:tblGrid>
              <a:tr h="863640">
                <a:tc>
                  <a:txBody>
                    <a:bodyPr lIns="90000" rIns="90000" tIns="3060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SE DE CÁLCULO - RCL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3060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7.163.16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68360">
                <a:tc>
                  <a:txBody>
                    <a:bodyPr lIns="90000" rIns="90000" tIns="2844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ASTOS COM PESSOAL –</a:t>
                      </a: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pt-BR" sz="27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1,47%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1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ÚLTIMOS 12 MESES – DESPESA LÍQUIDA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3060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873.895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3060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IMITE PRUDENCIAL – 5,70%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3060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.658.30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492360" y="1341360"/>
            <a:ext cx="1814760" cy="15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943600" y="6477120"/>
            <a:ext cx="268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4000" y="404640"/>
            <a:ext cx="73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Arial"/>
              </a:rPr>
              <a:t>Dívida Consolidada Líquid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826920" y="1844640"/>
          <a:ext cx="7345440" cy="3311640"/>
        </p:xfrm>
        <a:graphic>
          <a:graphicData uri="http://schemas.openxmlformats.org/drawingml/2006/table">
            <a:tbl>
              <a:tblPr/>
              <a:tblGrid>
                <a:gridCol w="4824720"/>
                <a:gridCol w="2520720"/>
              </a:tblGrid>
              <a:tr h="822240">
                <a:tc>
                  <a:txBody>
                    <a:bodyPr lIns="90000" rIns="90000" tIns="3060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ívida Consolidada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3060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.510.46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8480">
                <a:tc>
                  <a:txBody>
                    <a:bodyPr lIns="90000" rIns="90000" tIns="3060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isponibilidades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3060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9.484.499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0640">
                <a:tc>
                  <a:txBody>
                    <a:bodyPr lIns="90000" rIns="90000" tIns="3060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ívida Consolidada Líquida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3060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0.974.039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tIns="3060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rcentual sobre a RCL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3060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31,49%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943600" y="6477120"/>
            <a:ext cx="268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39640" y="692280"/>
            <a:ext cx="59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Arial"/>
              </a:rPr>
              <a:t>Operações de Crédit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611280" y="1844640"/>
          <a:ext cx="7634160" cy="2430360"/>
        </p:xfrm>
        <a:graphic>
          <a:graphicData uri="http://schemas.openxmlformats.org/drawingml/2006/table">
            <a:tbl>
              <a:tblPr/>
              <a:tblGrid>
                <a:gridCol w="5473440"/>
                <a:gridCol w="2160720"/>
              </a:tblGrid>
              <a:tr h="905040">
                <a:tc>
                  <a:txBody>
                    <a:bodyPr lIns="90000" rIns="90000" tIns="3060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perações Créditos Internas: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3060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135.905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3060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% sobre a RCL: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3060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,44%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30600" bIns="46800" anchor="ctr">
                      <a:noAutofit/>
                    </a:bodyPr>
                    <a:p>
                      <a:pPr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imite definido pelo Senado: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30600" bIns="46800" anchor="ctr">
                      <a:noAutofit/>
                    </a:bodyPr>
                    <a:p>
                      <a:pPr algn="r">
                        <a:lnSpc>
                          <a:spcPct val="91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,00%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943600" y="6477120"/>
            <a:ext cx="268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39640" y="69228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Arial"/>
              </a:rPr>
              <a:t>Publicações dos Relatórios LRF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4000" y="2276640"/>
            <a:ext cx="85690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cc66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3400" spc="-1" strike="noStrike">
                <a:solidFill>
                  <a:srgbClr val="ffffff"/>
                </a:solidFill>
                <a:latin typeface="Arial"/>
              </a:rPr>
              <a:t>Jornal O Atlântico em 30/09/09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66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3400" spc="-1" strike="noStrike">
                <a:solidFill>
                  <a:srgbClr val="ffffff"/>
                </a:solidFill>
                <a:latin typeface="Arial"/>
              </a:rPr>
              <a:t>Site: www.balneariocamboriu.sc.gov.br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Link: Secretarias e Entidades - Contabilida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763640" y="4653000"/>
            <a:ext cx="2457360" cy="194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943600" y="6477120"/>
            <a:ext cx="268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23880" y="836640"/>
            <a:ext cx="82692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Garamond"/>
              </a:rPr>
              <a:t>Audiência Pública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Demonstração e Avaliação do Cumprimento d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Metas Fiscais: 2º Quadrimestre de 2009”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ffff00"/>
                </a:solidFill>
                <a:latin typeface="Tahoma"/>
              </a:rPr>
              <a:t>OBRIGADO PELA PRESENÇ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presentação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Yedon Emanoel Nunes – Secretário da Fazend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Liliane Maria Novaes – Contador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45720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00ff99"/>
                </a:solidFill>
                <a:uFillTx/>
                <a:latin typeface="Bookman Old Style"/>
                <a:hlinkClick r:id="rId2"/>
              </a:rPr>
              <a:t>LEI COMPLEMENTAR 101/2000 – LRF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" name=""/>
          <p:cNvSpPr/>
          <p:nvPr/>
        </p:nvSpPr>
        <p:spPr>
          <a:xfrm>
            <a:off x="755640" y="2492280"/>
            <a:ext cx="76834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pt-BR" sz="4000" spc="-1" strike="noStrike">
                <a:solidFill>
                  <a:srgbClr val="b9efee"/>
                </a:solidFill>
                <a:latin typeface="Bookman Old Style"/>
              </a:rPr>
              <a:t>“</a:t>
            </a:r>
            <a:r>
              <a:rPr b="0" lang="pt-BR" sz="4000" spc="-1" strike="noStrike">
                <a:solidFill>
                  <a:srgbClr val="b9efee"/>
                </a:solidFill>
                <a:latin typeface="Bookman Old Style"/>
              </a:rPr>
              <a:t>... o Poder Executivo demonstrará e avaliará o cumprimento das metas fiscais de cada quadrimestre, em audiência pública na Casa Legislativa Municipal...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64360" y="1700280"/>
            <a:ext cx="41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200" spc="-1" strike="noStrike">
                <a:solidFill>
                  <a:srgbClr val="b9efee"/>
                </a:solidFill>
                <a:latin typeface="Bookman Old Style"/>
              </a:rPr>
              <a:t>Parágrafo 4º, Art. 9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943600" y="6477120"/>
            <a:ext cx="268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27480" y="568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2133720"/>
            <a:ext cx="8064720" cy="3506760"/>
          </a:xfrm>
          <a:prstGeom prst="rect">
            <a:avLst/>
          </a:prstGeom>
          <a:solidFill>
            <a:srgbClr val="ffffcc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Maior transparência dos atos do Gover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Prestação de contas à populaçã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Facilitar o acesso às informaçõ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Divulgação dos resultados de forma mais clara e simplifica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32200" y="35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69720"/>
            <a:ext cx="823104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00"/>
                </a:solidFill>
                <a:latin typeface="Garamond"/>
              </a:rPr>
              <a:t>Audiência Pública</a:t>
            </a:r>
            <a:br>
              <a:rPr sz="3600"/>
            </a:br>
            <a:r>
              <a:rPr b="0" lang="pt-BR" sz="3600" spc="-1" strike="noStrike">
                <a:solidFill>
                  <a:srgbClr val="ffff00"/>
                </a:solidFill>
                <a:latin typeface="Garamond"/>
              </a:rPr>
              <a:t>Objetivos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943600" y="6477120"/>
            <a:ext cx="268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90240"/>
            <a:ext cx="8231040" cy="91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Garamond"/>
              </a:rPr>
              <a:t>             </a:t>
            </a:r>
            <a:r>
              <a:rPr b="0" lang="pt-BR" sz="3600" spc="-1" strike="noStrike">
                <a:solidFill>
                  <a:srgbClr val="ffff00"/>
                </a:solidFill>
                <a:latin typeface="Garamond"/>
              </a:rPr>
              <a:t>ABORDAGENS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16840" cy="40622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1280" indent="-341280">
              <a:spcBef>
                <a:spcPts val="1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Garamond"/>
              </a:rPr>
              <a:t>RELATÓRIO RESUMIDO DA EXECUÇÃO ORÇAMENTÁRI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spcBef>
                <a:spcPts val="1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Garamond"/>
              </a:rPr>
              <a:t>RELATÓRIO DE GESTÃO FISCAL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"/>
          <p:cNvSpPr/>
          <p:nvPr/>
        </p:nvSpPr>
        <p:spPr>
          <a:xfrm>
            <a:off x="5127480" y="568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943600" y="6477120"/>
            <a:ext cx="268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5280" y="476280"/>
            <a:ext cx="84247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Tahoma"/>
              </a:rPr>
              <a:t>RELATÓRIO RESUMI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Tahoma"/>
              </a:rPr>
              <a:t>DA EXECUÇÃO ORÇAMENTÁ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130880" y="4927680"/>
            <a:ext cx="2013120" cy="19303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176560" y="3522600"/>
            <a:ext cx="441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608200" y="32338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5280" y="2349360"/>
            <a:ext cx="8209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brange todas as Unidades Gestor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omparativo entre metas previstas e executad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quilíbrio entre receitas e despes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Demonstração de Result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943600" y="6477120"/>
            <a:ext cx="268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3640" y="108000"/>
            <a:ext cx="828036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pt-BR" sz="4400" spc="-1" strike="noStrike">
                <a:solidFill>
                  <a:srgbClr val="ffff00"/>
                </a:solidFill>
                <a:latin typeface="Garamond"/>
              </a:rPr>
              <a:t>Desempenho de Receit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539640" y="2060640"/>
          <a:ext cx="8139240" cy="3365280"/>
        </p:xfrm>
        <a:graphic>
          <a:graphicData uri="http://schemas.openxmlformats.org/drawingml/2006/table">
            <a:tbl>
              <a:tblPr/>
              <a:tblGrid>
                <a:gridCol w="2090880"/>
                <a:gridCol w="2165400"/>
                <a:gridCol w="2023920"/>
                <a:gridCol w="1859040"/>
              </a:tblGrid>
              <a:tr h="403920">
                <a:tc>
                  <a:txBody>
                    <a:bodyPr lIns="90000" rIns="90000" tIns="42480" bIns="4680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Receita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2480" bIns="4680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Prevista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2480" bIns="4680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Arrecadad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2480" bIns="4680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Diferenç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</a:tr>
              <a:tr h="830160">
                <a:tc>
                  <a:txBody>
                    <a:bodyPr lIns="90000" rIns="90000" tIns="42480" bIns="4680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Correntes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3.558.1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4.170.0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11.90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2480">
                <a:tc>
                  <a:txBody>
                    <a:bodyPr lIns="90000" rIns="90000" tIns="42480" bIns="4680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tra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rçamentár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.771.2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.003.70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32.47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0160">
                <a:tc>
                  <a:txBody>
                    <a:bodyPr lIns="90000" rIns="90000" tIns="42480" bIns="4680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api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.680.73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.135.90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4.544.82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0160">
                <a:tc>
                  <a:txBody>
                    <a:bodyPr lIns="90000" rIns="90000" tIns="42480" bIns="4680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7.010.08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3.309.6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3.700.4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656640" y="5970600"/>
            <a:ext cx="634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* Previsto para o quadrimestre conforme estimativa de arrecadaç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6477120"/>
            <a:ext cx="268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90240"/>
            <a:ext cx="8231040" cy="91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Garamond"/>
              </a:rPr>
              <a:t>Origem das Receitas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68360" y="1981080"/>
          <a:ext cx="7921440" cy="3392640"/>
        </p:xfrm>
        <a:graphic>
          <a:graphicData uri="http://schemas.openxmlformats.org/drawingml/2006/table">
            <a:tbl>
              <a:tblPr/>
              <a:tblGrid>
                <a:gridCol w="2374920"/>
                <a:gridCol w="2090520"/>
                <a:gridCol w="2087640"/>
                <a:gridCol w="1368360"/>
              </a:tblGrid>
              <a:tr h="658800">
                <a:tc>
                  <a:txBody>
                    <a:bodyPr lIns="90000" rIns="90000" tIns="42480" bIns="4680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Receita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2480" bIns="4680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Previst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2480" bIns="4680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Arrecadad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</a:tr>
              <a:tr h="928800">
                <a:tc>
                  <a:txBody>
                    <a:bodyPr lIns="90000" rIns="90000" tIns="42480" bIns="4680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PRÓPRIA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41.041.95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37.048.8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0,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2480" bIns="4680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UTRA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pt-BR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ONT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5.968.1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6.260.8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9,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2480" bIns="4680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7.010.08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3.309.6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0,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976680" y="5661000"/>
            <a:ext cx="72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ff00"/>
                </a:solidFill>
                <a:latin typeface="Arial"/>
              </a:rPr>
              <a:t>IMPORTANTE: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82,58% IPTU previsto foi arrecadado até o perío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43600" y="6477120"/>
            <a:ext cx="268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10920" y="-44280"/>
            <a:ext cx="7561080" cy="131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pt-BR" sz="4400" spc="-1" strike="noStrike">
                <a:solidFill>
                  <a:srgbClr val="ffff00"/>
                </a:solidFill>
                <a:latin typeface="Garamond"/>
              </a:rPr>
              <a:t>Desempenho de Despes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68360" y="1916280"/>
          <a:ext cx="8426520" cy="3693960"/>
        </p:xfrm>
        <a:graphic>
          <a:graphicData uri="http://schemas.openxmlformats.org/drawingml/2006/table">
            <a:tbl>
              <a:tblPr/>
              <a:tblGrid>
                <a:gridCol w="2109600"/>
                <a:gridCol w="2183040"/>
                <a:gridCol w="2043000"/>
                <a:gridCol w="2090880"/>
              </a:tblGrid>
              <a:tr h="403920">
                <a:tc>
                  <a:txBody>
                    <a:bodyPr lIns="90000" rIns="90000" tIns="42480" bIns="4680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Despes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lIns="90000" rIns="90000" tIns="42480" bIns="4680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Prevista*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2480" bIns="4680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Executad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2480" bIns="4680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Diferenç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"/>
                      <a:stretch/>
                    </a:blipFill>
                  </a:tcPr>
                </a:tc>
              </a:tr>
              <a:tr h="830160">
                <a:tc>
                  <a:txBody>
                    <a:bodyPr lIns="90000" rIns="90000" tIns="42480" bIns="4680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Correntes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7.567.2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19.024.0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8.543.2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2480" bIns="4680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api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7.178.36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3.089.2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34.089.12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2480">
                <a:tc>
                  <a:txBody>
                    <a:bodyPr lIns="90000" rIns="90000" tIns="42480" bIns="4680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tra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rçamentária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.158.9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.843.09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1.315.8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0160">
                <a:tc>
                  <a:txBody>
                    <a:bodyPr lIns="90000" rIns="90000" tIns="42480" bIns="4680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83.904.5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39.956.3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7"/>
                      <a:stretch/>
                    </a:blipFill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43.948.18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8"/>
                      <a:stretch/>
                    </a:blipFill>
                  </a:tcPr>
                </a:tc>
              </a:tr>
            </a:tbl>
          </a:graphicData>
        </a:graphic>
      </p:graphicFrame>
      <p:sp>
        <p:nvSpPr>
          <p:cNvPr id="169" name=""/>
          <p:cNvSpPr/>
          <p:nvPr/>
        </p:nvSpPr>
        <p:spPr>
          <a:xfrm>
            <a:off x="657720" y="5970600"/>
            <a:ext cx="648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* Previsto para o quadrimestre conforme cronograma de desembol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3T14:57:28Z</dcterms:created>
  <dc:creator>apoleza</dc:creator>
  <dc:description/>
  <dc:language>en-US</dc:language>
  <cp:lastModifiedBy>LILIANE MARIA NOVAES</cp:lastModifiedBy>
  <dcterms:modified xsi:type="dcterms:W3CDTF">2009-09-30T22:08:22Z</dcterms:modified>
  <cp:revision>124</cp:revision>
  <dc:subject/>
  <dc:title>AVALIAÇÃO DAS METAS  2º QUADRIMESTRE 2007</dc:title>
</cp:coreProperties>
</file>