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</p:sldIdLst>
  <p:sldSz cx="9144000" cy="6858000"/>
  <p:notesSz cx="6429375" cy="9813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429600" cy="981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786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3642840" y="-360"/>
            <a:ext cx="2786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763560" y="736560"/>
            <a:ext cx="4903920" cy="367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42960" y="4660920"/>
            <a:ext cx="51451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11"/>
          </p:nvPr>
        </p:nvSpPr>
        <p:spPr>
          <a:xfrm>
            <a:off x="-360" y="9321840"/>
            <a:ext cx="27860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12"/>
          </p:nvPr>
        </p:nvSpPr>
        <p:spPr>
          <a:xfrm>
            <a:off x="3642840" y="9321840"/>
            <a:ext cx="27860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B68C-91A2-48F5-83D1-063C9C6D37C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645000" y="9323280"/>
            <a:ext cx="2786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524C-9069-4472-9EB7-3F9ABE969CCC}" type="slidenum">
              <a:rPr b="0" lang="pt-B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755640" y="771480"/>
            <a:ext cx="4884840" cy="36640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857160" y="4660920"/>
            <a:ext cx="4716720" cy="442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F693-AEF4-4811-BA4D-4D1129E11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F86E-2711-4BE5-AD85-CF28DED3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F69B-7ACD-4ECF-A55F-C040885E5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526C-B5CE-4FE6-9298-88A36BFCD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725E-4BF4-47B3-8B0A-52A4A03A9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A496-6EA8-4958-A30A-AD8F49B4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DC56-ECBD-4922-A26D-943099BF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801D-BFEF-4BEA-8616-B349F5F5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2AFE-34A6-4ABC-93D9-5323C7F5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4CCA-D137-432B-A1A7-02730177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1EED-75C5-426E-B396-522BA803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A583-7539-4CC3-8B6C-24E52A15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E716-96BA-40AD-9401-E1BB10B4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6DD2-9BD3-459F-B7DB-1222479F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7DCA-5678-472E-A3F9-3788D1BF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C28E-71A0-4969-AF2C-A02CBF2FB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FAD3-0189-440D-88C8-10459DF69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9E609-4BF9-4341-8C9B-595C17DFD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133C4-99AE-40EF-9225-ADE0A06D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B92B0-D8AF-4C2A-A7A7-C1CB48F2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B7CA8-F713-4EF8-91A7-8CD3AB49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1D42F-2487-46CE-82A9-21612D9C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D156-014B-4559-968D-3D209EB8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83B57-1E0D-44BB-9F03-07FB4D9C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34A36-0432-40F6-9A2D-E883C7F5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05984-1BCF-410D-83C5-0878D036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97F00-2707-45EF-8551-E64AA155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AC936-EDE3-404C-8989-266D79A3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CEDF1-4F77-459A-B2AF-5757CE287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78EE7-BC3F-4C20-884D-58EE0B7B7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0380-FA5A-4ABB-ACA7-B69D3AF5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B0C8-CAD0-4FA9-9CEE-E1035F2C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F38E-E804-49F1-AB8D-CBAB8993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9B64-2CA1-4450-85E5-66AACBAB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1B54-21DE-48C2-8830-D1A6C256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EBD6-18F7-4CC2-A6D7-3E9DE521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B87A-4230-4C61-BC64-CBF7CFCD9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F8F0-A6E3-4C2F-A2B9-33053C5D52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EC55-0AC6-4412-A8DB-55B60683B8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8"/>
          <p:cNvSpPr/>
          <p:nvPr/>
        </p:nvSpPr>
        <p:spPr>
          <a:xfrm>
            <a:off x="900000" y="1851840"/>
            <a:ext cx="774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Black"/>
              </a:rPr>
              <a:t>P P 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Black"/>
              </a:rPr>
              <a:t>2010  A  20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b7"/>
                </a:solidFill>
                <a:latin typeface="Arial Black"/>
              </a:rPr>
              <a:t>AUDIÊNCIA PÚBLICA</a:t>
            </a:r>
            <a:br>
              <a:rPr sz="4800"/>
            </a:br>
            <a:r>
              <a:rPr b="1" lang="en-US" sz="2100" spc="-1" strike="noStrike">
                <a:solidFill>
                  <a:srgbClr val="ffffb7"/>
                </a:solidFill>
                <a:latin typeface="Bookman"/>
              </a:rPr>
              <a:t>29/05/2009</a:t>
            </a:r>
            <a:endParaRPr b="1" lang="en-US" sz="21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"/>
          <p:cNvSpPr/>
          <p:nvPr/>
        </p:nvSpPr>
        <p:spPr>
          <a:xfrm>
            <a:off x="3975120" y="301608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65160" y="4879800"/>
            <a:ext cx="785484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Plano de intenções e metas para remeter Balneá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"/>
              </a:rPr>
              <a:t>Camboriú rumo ao sucesso nos próximos quatro ano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Palatino"/>
              </a:rPr>
              <a:t>Edson Renato D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4360" y="1916280"/>
            <a:ext cx="80071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POSTAS D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ÇÕES E INVESTIMEN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OR PROGRAMAS DE GOVERN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1835280" y="0"/>
            <a:ext cx="59054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PA – 2010 A 2013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99640" y="1844280"/>
            <a:ext cx="80074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quisição de Mobiliários e equipamen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utenção da Rádio e TV Câma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utenção das atividades Administrativas e Legislativ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50920" y="907920"/>
            <a:ext cx="51120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LEGISLATIVO ATU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1834920" y="0"/>
            <a:ext cx="56163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PA – 2010 A 2013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4000"/>
                            </p:stCondLst>
                            <p:childTnLst>
                              <p:par>
                                <p:cTn id="32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mplantação de Unidades de Atendimento nos Bair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mplantação da Modernização da Adm. Públ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ormalização de convênios com entid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anutenção das diversas atividades administrativas exist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11280" y="692280"/>
            <a:ext cx="4464360" cy="9471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GESTÃO ADMINISTR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907640" y="0"/>
            <a:ext cx="54723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PA – 2010 A 2013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nstrução e Instalação da Central de Veículos e Central e Abastecim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nstrução do Paço Municip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enovação da Fro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mpliação e Verticalização do Cemitério da Bar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esapropriação de Á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411280" y="692280"/>
            <a:ext cx="4464360" cy="9471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ONSERVAÇÃO DO PATRIMÔNIO PÚBL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834920" y="0"/>
            <a:ext cx="53989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PA – 2010 A 2013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amento de Sentenças Judicia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utenção das atividades exist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700360" y="836640"/>
            <a:ext cx="388764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ÇÕES JUDICIÁ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1908000" y="0"/>
            <a:ext cx="5399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PA – 2010 A 2013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rnização do Sistema Tributá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amento da Dívida Públ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ibuição ao Pasep (1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utenção das atividades exist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11280" y="836640"/>
            <a:ext cx="439272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GESTÃO FINANCEI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1908000" y="0"/>
            <a:ext cx="5399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PA – 2010 A 2013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estauração do Patrimônio Histór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nstrução da Sede da FCBC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(Continuaçã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eformas e ampliações de espaços cultura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nstrução sede do Museu Mané Germa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mposição acervo bibliográf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anutenção das atividades exist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11280" y="836640"/>
            <a:ext cx="439272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CULTURA E AR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1835280" y="0"/>
            <a:ext cx="5472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PA – 2010 A 2013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mpliações e Reformas -  Creches e Unidades de Ensi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ovas Instalações - Construção de Creches e Unidades de Ensi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nstrução de Parques e Miniquadras - Creches e Unidades de Ensi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nformatização da Rede Esco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riação de Laboratórios de Arte nos N.E.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11280" y="836640"/>
            <a:ext cx="439272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EDUCAÇÃO EM 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1835280" y="0"/>
            <a:ext cx="5543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PA – 2010 A 2013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quisição de 2  Ônibus para o Transporte Escolar – sendo 1 adaptado para Educação Espe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nstrução da Sede do CE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quisição de Equipamentos para as Creches e Unidades de Ensi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nstrução de Quadras Poliesportivas Cobertas nas Unidades de Ensi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11280" y="836640"/>
            <a:ext cx="439272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EDUCAÇÃO EM 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763280" y="0"/>
            <a:ext cx="55436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PA – 2010 A 2013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826560" y="21333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ção continuada para Educad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utenção do  PNA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utenção das diversas atividades voltadas para a Educação no Municíp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11280" y="836640"/>
            <a:ext cx="4392720" cy="9471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EDUCAÇÃO DE QUAL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1834920" y="0"/>
            <a:ext cx="56163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PA – 2010 A 2013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35280" y="0"/>
            <a:ext cx="5472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PA – 2010 A 2013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2282400" y="907920"/>
            <a:ext cx="474048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PARTICIPAÇÃO POP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gundo Art. 48 da Lei de Responsabilidade Fisc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ão instrumentos de transparências da gestão fiscal, aos quais será dada ampla divulgação...: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s plan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orçamentos e leis de diretrizes orçamentárias..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ágrafo único: A transparência será assegurada também mediante incentivo à participação popular e realização de audiências públicas,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urante o processo de elaboração e de discussão dos plan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leis de diretrizes orçamentárias e orçamen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26560" y="21333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ansão  da Rede de Iluminação PÚbl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utenção e Melhorias do Sistema de Iluminação Públic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11280" y="836640"/>
            <a:ext cx="4392720" cy="9471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ALNEÁRIO CAMBORIÚ MAIS ILUMI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1835280" y="0"/>
            <a:ext cx="5472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PA – 2010 A 2013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826560" y="21333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ncentivo a Instalação de Cooperativas Produtiv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nstrução do Mercado do Pei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nstrução de Instalação de Centros Comunitá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nstrução do Centro de Recuperação e Reinclusão Social da Migr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ursos profissionalizantes á Comunid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anutenção das Atividades Exist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ntinuação do Projeto Leite Amigo P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1280" y="836640"/>
            <a:ext cx="4392720" cy="9471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DESENVOLVIMENTO E INCLUSÃO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1763280" y="0"/>
            <a:ext cx="55436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PA – 2010 A 2013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826560" y="2205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rução de C.R.A.S e C.R.E.A.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ção Social Básica e Especial: a Criança, ao Jovem, ao Idoso, ao Deficiente e a Famíli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plicação dos Programas do Ministério de Desenvolvimento Social e Combate a Fom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411280" y="836640"/>
            <a:ext cx="4392720" cy="9471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SSISTÊNCIA SOCIAL COMUNITÁ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1835280" y="0"/>
            <a:ext cx="5543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PA – 2010 A 2013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826560" y="2205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lização de Convênios com entidades da área da infâ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rução do Centro de Referência do Men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quisição de Equipamen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utenção do Conselho Tutelar e Conselho de Direitos da Crianç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enção a Criança e ao Adolesc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24000" y="765000"/>
            <a:ext cx="5040360" cy="9471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SSISTÊNCIA A CRIANÇA E AO ADOLESC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1835280" y="0"/>
            <a:ext cx="5543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PA – 2010 A 2013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826560" y="2205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ificações e Adequações do Sistema Viá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rnização da Sinalização de Trânsi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oio as Polícias: Civil e Milit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utenção do FUMTR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56000" y="765000"/>
            <a:ext cx="417672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POIO AO TRÂN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1763280" y="0"/>
            <a:ext cx="55436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PA – 2010 A 2013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826560" y="2205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ipamentos diversos para o Corpo de Bombei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rução do Quart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utenção das Atividades existentes do Corpo de Bombeiros Milit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050920" y="836640"/>
            <a:ext cx="51120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PREVENÇÃO DE SIN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1763640" y="0"/>
            <a:ext cx="5616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PA – 2010 A 2013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826560" y="2205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utenção das Atividades existentes do Fundo de Defesa dos Direitos do Consumi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050920" y="836640"/>
            <a:ext cx="51120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POIO AO CONSUM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1835280" y="0"/>
            <a:ext cx="5543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PA – 2010 A 2013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826560" y="2205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ução de Passarela suspensa em área de restin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ução da Sede de Educação Ambien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antação de Parques de Monitoramento Ambien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estruturação de Unidades Ambient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uperação de Áreas de Encos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utenção das Atividades existentes de Proteção e Conservação do Meio Amb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71640" y="765000"/>
            <a:ext cx="3529080" cy="9471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MEIO 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E CIDAD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1835280" y="0"/>
            <a:ext cx="5472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PA – 2010 A 2013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826560" y="2205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rução do Centro Integrado de Turismo Praça Almirante Tamandar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rução do Centro de Desenvolvimento Turíst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ção e apoio ao Turismo Lo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268360" y="765000"/>
            <a:ext cx="4754880" cy="9471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BALNEÁRIO CAMBORI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 ROTA DO TUR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1834920" y="0"/>
            <a:ext cx="56163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PA – 2010 A 2013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826560" y="2205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nção  de Ocupação Irregular e Degradação ambien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utenção das Atividades da Defesa Civ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utenção do Trânsito e Engenh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rdenação das guardas patrimonial e municip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utenção das Atividades de Controle da Migr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68360" y="765000"/>
            <a:ext cx="4754880" cy="9471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EGURANÇA E INCOLUMIDADE PÚ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1908000" y="0"/>
            <a:ext cx="5399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PA – 2010 A 2013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RT. 165, § 1º e 4º</a:t>
            </a:r>
            <a:r>
              <a:rPr b="1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a CF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PA estabelecerá objetivos e metas d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dministração pública para despesas de capital e outras delas decorrentes e para as relativas aos programas de duração continu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ART. 166, § 3º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1" lang="pt-BR" sz="2800" spc="-1" strike="noStrike" u="sng">
                <a:solidFill>
                  <a:srgbClr val="ffffff"/>
                </a:solidFill>
                <a:uFillTx/>
                <a:latin typeface="Arial"/>
              </a:rPr>
              <a:t> 4º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da C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mendas a LDO e LOA soment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ão  realizadas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quando compatíveis com o PPA.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s planos e programas da administração serão elaborados em consonância com o PP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95880" y="907920"/>
            <a:ext cx="43884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FUNDAMENTOS LEG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0"/>
            <a:ext cx="83851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PA – 2010 A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1136160" y="2133360"/>
            <a:ext cx="800748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quisição de Imóvel para instalações da sede do Funserv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nstrução e Instalação do Consultório Odontológ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dministração do Programa Saúde para o Servi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411280" y="692280"/>
            <a:ext cx="4537080" cy="9471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PLANO DE SAÚDE PARA O SERV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1907640" y="0"/>
            <a:ext cx="55436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PA – 2010 A 2013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826560" y="2060280"/>
            <a:ext cx="800748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amento de Benefícios Previdenciá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rva para pagamento de benefícios futu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ração do BCPREV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411280" y="692280"/>
            <a:ext cx="4537080" cy="9471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PREVIDÊNCIA SOCIAL DO SERVI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1907640" y="0"/>
            <a:ext cx="54723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PA – 2010 A 2013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826560" y="2060280"/>
            <a:ext cx="800748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poluição da praia cent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gagem e construção de galer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pliação e Melhorias – rede esgo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rução de novas Estação de Tratamento de Esgo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rução de Reservatório para Água Trat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horias na Captação de Água Bru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uperação de Áreas Ambienta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antação do Projeto Água e Saú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411280" y="692280"/>
            <a:ext cx="4537080" cy="9471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ANEAMENTO E QUALIDADE DE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1907640" y="0"/>
            <a:ext cx="54723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PA – 2010 A 2013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826560" y="2565000"/>
            <a:ext cx="800748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evitalização de espaços  espor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nstrução de praças esportiv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nstrução do Complexo Multi-even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mplantação do Projeto ‘Onda Perfeita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anutenção e Reforma de Complexos Espor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11280" y="692280"/>
            <a:ext cx="4608720" cy="9471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ESPORTE BALNEÁRIO CAMBORIÚ EM 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1907640" y="0"/>
            <a:ext cx="55436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PA – 2010 A 2013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136160" y="2492280"/>
            <a:ext cx="800748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quisição de Terreno p/ Construção de Unidades Habitaciona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rução de Unidades Habitaciona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antação do Projeto ‘Minha Casa Minha Vida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95640" y="836640"/>
            <a:ext cx="4608360" cy="9471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HABITAÇÃO DE INTERESSE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1763280" y="0"/>
            <a:ext cx="55436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PA – 2010 A 2013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1136160" y="26668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mplantação e Manutenção de Software de Gestão Públ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mplantação e Manutenção Setor de Ouvidoria Dig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mplantação do Escritório de Proje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riação do Distrito Industrial Várzea do Ranchin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763640" y="981000"/>
            <a:ext cx="6265800" cy="9471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MODERNIZAÇÃO E GERAÇÃO DE OPORTUN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1835280" y="0"/>
            <a:ext cx="5688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PA – 2010 A 2013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largamento da Faixa de Areia e Revitalização da Av. Atlân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nstrução do Molhe da Barra Nor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nstrução de Ponte sobre o Rio Cambori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vitalização do Calçadão da Avenida Cent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mplantação de Espaços Públicos de La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ragagem e Desobstrução do Rio Cambori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impeza e Desassoreamento do Canal Maramba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mpliação do Leito do Rio Pero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195640" y="692280"/>
            <a:ext cx="4967280" cy="9471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OBRAS E BENFEITORIAS URB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1979280" y="0"/>
            <a:ext cx="55436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PA – 2010 A 2013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719280" y="1773000"/>
            <a:ext cx="8424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ução Via Expressa Nor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urbanização da 5ª Avenid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ontinuaçã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urbanização da Avenida do Estad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ontinuaçã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ação das Obras do Binári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ontinuaçã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ução de Ciclov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ução do Trajeto Rio das Ost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lhorias e Manutenção do Sistema de Drenagem Pluv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utenção e Melhorias do Sistema Viá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1979640" y="0"/>
            <a:ext cx="5472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PA – 2010 A 2013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1" name=""/>
          <p:cNvSpPr/>
          <p:nvPr/>
        </p:nvSpPr>
        <p:spPr>
          <a:xfrm>
            <a:off x="2195640" y="692280"/>
            <a:ext cx="496728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INFRA-ESTRUTURA VIÁ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826560" y="2492280"/>
            <a:ext cx="8007480" cy="32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ução de Unidade 24 Horas - UP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ução do Centro Administrativo do Fundo Saú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antação de Unidades de Saúde Descentraliza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ução de Novas Unidades de Saú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ormas e Melhorias em Unidades de Saú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1907640" y="0"/>
            <a:ext cx="54723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PA – 2010 A 2013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4" name=""/>
          <p:cNvSpPr/>
          <p:nvPr/>
        </p:nvSpPr>
        <p:spPr>
          <a:xfrm>
            <a:off x="2268360" y="907920"/>
            <a:ext cx="4967640" cy="9471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REESTRUTURAÇÃO DA SAÚDE PÚB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826560" y="2133720"/>
            <a:ext cx="800748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utenção dos Blocos de Saúde Públic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úde da Famíl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ntes Comunitá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enção Bás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úde Bu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rmácia Popular e Assistência Farmacêu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1834920" y="0"/>
            <a:ext cx="56163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PA – 2010 A 2013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"/>
          <p:cNvSpPr/>
          <p:nvPr/>
        </p:nvSpPr>
        <p:spPr>
          <a:xfrm>
            <a:off x="2050920" y="907920"/>
            <a:ext cx="496728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AÚDE PARA TO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ganizar em programas as ações de que resultem oferta de bens ou serviços que atendam as demandas da sociedad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r com clareza as metas e prioridades da administr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belecer a necessária relação entre os programas a serem executados e a orientação estratégica do governo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6840" y="907920"/>
            <a:ext cx="22122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0"/>
            <a:ext cx="83851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PA – 2010 A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826560" y="2133720"/>
            <a:ext cx="800748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anutenção dos Blocos de Saúde Públic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HIV/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pidemia e Controle de Doenç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Gestão Plena – M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erviços Hospitalares e Ambulatoriais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am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1907640" y="0"/>
            <a:ext cx="55436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PA – 2010 A 2013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0" name=""/>
          <p:cNvSpPr/>
          <p:nvPr/>
        </p:nvSpPr>
        <p:spPr>
          <a:xfrm>
            <a:off x="2124000" y="907920"/>
            <a:ext cx="496728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VIGILÂNCIA EM SAÚ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1506600" cy="33116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2124000" y="3645000"/>
            <a:ext cx="1069920" cy="2351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3924360" y="260280"/>
            <a:ext cx="2759040" cy="62197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5"/>
          <a:stretch/>
        </p:blipFill>
        <p:spPr>
          <a:xfrm>
            <a:off x="7236000" y="260280"/>
            <a:ext cx="1515960" cy="33307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476360" y="6329520"/>
            <a:ext cx="59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itstream Vera Sans Mono"/>
              </a:rPr>
              <a:t>DE ONDE VEM OS RECURS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050920" y="259920"/>
            <a:ext cx="588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PA – 2010 A 2013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189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ceita de impostos, taxas contribuições, serviços, etc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ceitas de transferências: da União e do Estado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ceitas da dívida ativa, de multas e juros, entre outr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763640" y="1125360"/>
            <a:ext cx="597528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S FONTES DE RECUR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6372360" y="5167440"/>
            <a:ext cx="277164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55436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PA – 2010 A 2013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99640" y="2421000"/>
            <a:ext cx="7550280" cy="30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itstream Vera Sans"/>
              </a:rPr>
              <a:t>CONVÊNIOS COM A ESFERA FEDERAL E ESTA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itstream Vera Sans"/>
              </a:rPr>
              <a:t>TRANSFERÊNCIAS DE PESSOAS E INSTITUIÇÕES PRIV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itstream Vera Sans"/>
              </a:rPr>
              <a:t>OPERAÇÕES DE CRÉDI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itstream Vera Sans"/>
              </a:rPr>
              <a:t>ALIENAÇÕES DE B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763640" y="1125360"/>
            <a:ext cx="597528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DEMAIS FONTES DE RECUR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6372360" y="4365720"/>
          <a:ext cx="2411280" cy="196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4365720"/>
                    <a:ext cx="2411280" cy="19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468360" y="0"/>
            <a:ext cx="83851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Black"/>
              </a:rPr>
              <a:t>PPA – 2010 A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547640" y="2060640"/>
            <a:ext cx="6409080" cy="4365720"/>
          </a:xfrm>
          <a:prstGeom prst="beve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56000" y="2637000"/>
            <a:ext cx="453708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lain" startAt="20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$ 305 Milhõ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11- R$ 338 Milhõ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12 - R$ 376 Milhõ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13 - R$ 416 Milhõ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69480" y="5950080"/>
            <a:ext cx="395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OTAL ESTIMADO: R$ 1.435 B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42920" y="83664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Lucida Console"/>
              </a:rPr>
              <a:t>VALOR ESTIMADO PARA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Lucida Console"/>
              </a:rPr>
              <a:t>RECEITAS DE CARÁTER PERMANENTE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12680" y="6521400"/>
            <a:ext cx="523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Não foram consideradas as demais fontes de recur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500"/>
                            </p:stCondLst>
                            <p:childTnLst>
                              <p:par>
                                <p:cTn id="9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5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6500"/>
                            </p:stCondLst>
                            <p:childTnLst>
                              <p:par>
                                <p:cTn id="9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979640" y="0"/>
            <a:ext cx="554364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PA – 2010 A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476360" y="1700280"/>
          <a:ext cx="6649920" cy="3806640"/>
        </p:xfrm>
        <a:graphic>
          <a:graphicData uri="http://schemas.openxmlformats.org/drawingml/2006/table">
            <a:tbl>
              <a:tblPr/>
              <a:tblGrid>
                <a:gridCol w="1943280"/>
                <a:gridCol w="2449440"/>
                <a:gridCol w="2257200"/>
              </a:tblGrid>
              <a:tr h="77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% DE CRESCI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8.466.8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3.312.1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5.747.0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4.526.1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8.00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"/>
          <p:cNvSpPr/>
          <p:nvPr/>
        </p:nvSpPr>
        <p:spPr>
          <a:xfrm>
            <a:off x="1187280" y="981000"/>
            <a:ext cx="72723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Arial Black"/>
              </a:rPr>
              <a:t>COMPARATIVO DAS RECEI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677600" y="6040440"/>
            <a:ext cx="512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  2009 – Valor previsto em 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* 2010 – Valor aproximado no PPA (em análi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9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2000"/>
                            </p:stCondLst>
                            <p:childTnLst>
                              <p:par>
                                <p:cTn id="9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3" dur="5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8007480" cy="18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cc"/>
                </a:solidFill>
                <a:latin typeface="Bitstream Vera Sans"/>
              </a:rPr>
              <a:t>OBRIGADA PELA PARTICIPAÇÃ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042920" y="260280"/>
            <a:ext cx="7265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laboraçã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missão de Planejamento</a:t>
            </a:r>
            <a:br>
              <a:rPr sz="3600"/>
            </a:b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Decreto 5.366 de 24/03/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524600" y="4600440"/>
            <a:ext cx="434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aeaea"/>
                </a:solidFill>
                <a:latin typeface="Arial"/>
              </a:rPr>
              <a:t>Presidente: Claudir Mac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aeaea"/>
                </a:solidFill>
                <a:latin typeface="Arial"/>
              </a:rPr>
              <a:t>Membros:   Rubens Ricardo Fran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aeaea"/>
                </a:solidFill>
                <a:latin typeface="Arial"/>
              </a:rPr>
              <a:t>                    </a:t>
            </a:r>
            <a:r>
              <a:rPr b="1" lang="pt-BR" sz="1800" spc="-1" strike="noStrike">
                <a:solidFill>
                  <a:srgbClr val="eaeaea"/>
                </a:solidFill>
                <a:latin typeface="Arial"/>
              </a:rPr>
              <a:t>Yedon Emanoel Nu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aeaea"/>
                </a:solidFill>
                <a:latin typeface="Arial"/>
              </a:rPr>
              <a:t>                    </a:t>
            </a:r>
            <a:r>
              <a:rPr b="1" lang="pt-BR" sz="1800" spc="-1" strike="noStrike">
                <a:solidFill>
                  <a:srgbClr val="eaeaea"/>
                </a:solidFill>
                <a:latin typeface="Arial"/>
              </a:rPr>
              <a:t>Marcos Weissheim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aeaea"/>
                </a:solidFill>
                <a:latin typeface="Arial"/>
              </a:rPr>
              <a:t>                    </a:t>
            </a:r>
            <a:r>
              <a:rPr b="1" lang="pt-BR" sz="1800" spc="-1" strike="noStrike">
                <a:solidFill>
                  <a:srgbClr val="eaeaea"/>
                </a:solidFill>
                <a:latin typeface="Arial"/>
              </a:rPr>
              <a:t>Liliane Maria Nova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aeaea"/>
                </a:solidFill>
                <a:latin typeface="Arial"/>
              </a:rPr>
              <a:t>                    </a:t>
            </a:r>
            <a:r>
              <a:rPr b="1" lang="pt-BR" sz="1800" spc="-1" strike="noStrike">
                <a:solidFill>
                  <a:srgbClr val="eaeaea"/>
                </a:solidFill>
                <a:latin typeface="Arial"/>
              </a:rPr>
              <a:t>Sahionara Adriana Savar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7" dur="2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1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755640" y="1916280"/>
            <a:ext cx="78897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nortear a alocação de recursos nos orçamentos anuais compatível com as metas e recursos do plan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r transparência à aplicação de recursos e resultados obtid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grar ações desenvolvidas pela União, Estados e Municíp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0"/>
            <a:ext cx="83851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PA – 2010 A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26840" y="907920"/>
            <a:ext cx="221220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3"/>
          <p:cNvSpPr/>
          <p:nvPr/>
        </p:nvSpPr>
        <p:spPr>
          <a:xfrm>
            <a:off x="5715000" y="4648320"/>
            <a:ext cx="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4"/>
          <p:cNvGrpSpPr/>
          <p:nvPr/>
        </p:nvGrpSpPr>
        <p:grpSpPr>
          <a:xfrm>
            <a:off x="324000" y="3284640"/>
            <a:ext cx="8568720" cy="533160"/>
            <a:chOff x="324000" y="3284640"/>
            <a:chExt cx="8568720" cy="533160"/>
          </a:xfrm>
        </p:grpSpPr>
        <p:sp>
          <p:nvSpPr>
            <p:cNvPr id="163" name="Line 5"/>
            <p:cNvSpPr/>
            <p:nvPr/>
          </p:nvSpPr>
          <p:spPr>
            <a:xfrm>
              <a:off x="399240" y="3512880"/>
              <a:ext cx="8493480" cy="144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4280" bIns="-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6"/>
            <p:cNvSpPr/>
            <p:nvPr/>
          </p:nvSpPr>
          <p:spPr>
            <a:xfrm>
              <a:off x="324000" y="3284640"/>
              <a:ext cx="1080" cy="45684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7"/>
            <p:cNvSpPr/>
            <p:nvPr/>
          </p:nvSpPr>
          <p:spPr>
            <a:xfrm>
              <a:off x="2052720" y="3284640"/>
              <a:ext cx="1440" cy="45684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8"/>
            <p:cNvSpPr/>
            <p:nvPr/>
          </p:nvSpPr>
          <p:spPr>
            <a:xfrm>
              <a:off x="3707640" y="3284640"/>
              <a:ext cx="1440" cy="45684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9"/>
            <p:cNvSpPr/>
            <p:nvPr/>
          </p:nvSpPr>
          <p:spPr>
            <a:xfrm>
              <a:off x="5361480" y="3284640"/>
              <a:ext cx="1080" cy="53316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0"/>
            <p:cNvSpPr/>
            <p:nvPr/>
          </p:nvSpPr>
          <p:spPr>
            <a:xfrm>
              <a:off x="6940080" y="3284640"/>
              <a:ext cx="1080" cy="45684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1"/>
            <p:cNvSpPr/>
            <p:nvPr/>
          </p:nvSpPr>
          <p:spPr>
            <a:xfrm>
              <a:off x="8593920" y="3284640"/>
              <a:ext cx="1080" cy="45684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24000" y="2636640"/>
            <a:ext cx="1523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5508720" y="2708280"/>
            <a:ext cx="1523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7093080" y="2708280"/>
            <a:ext cx="1523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9933"/>
                </a:solidFill>
                <a:latin typeface="Arial"/>
              </a:rPr>
              <a:t>20</a:t>
            </a: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1</a:t>
            </a:r>
            <a:r>
              <a:rPr b="1" lang="pt-BR" sz="3600" spc="-1" strike="noStrike">
                <a:solidFill>
                  <a:srgbClr val="ff9933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2195640" y="2637000"/>
            <a:ext cx="1523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468360" y="2637000"/>
            <a:ext cx="1523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250920" y="429264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ABOR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8"/>
          <p:cNvSpPr/>
          <p:nvPr/>
        </p:nvSpPr>
        <p:spPr>
          <a:xfrm>
            <a:off x="3924360" y="4365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GÊ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9"/>
          <p:cNvSpPr/>
          <p:nvPr/>
        </p:nvSpPr>
        <p:spPr>
          <a:xfrm rot="16177200">
            <a:off x="1141920" y="3331440"/>
            <a:ext cx="455760" cy="1371600"/>
          </a:xfrm>
          <a:custGeom>
            <a:avLst/>
            <a:gdLst>
              <a:gd name="textAreaLeft" fmla="*/ 291240 w 455760"/>
              <a:gd name="textAreaRight" fmla="*/ 456120 w 45576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85000"/>
              </a:lnSpc>
              <a:spcBef>
                <a:spcPts val="1800"/>
              </a:spcBef>
              <a:buClr>
                <a:srgbClr val="ff0000"/>
              </a:buClr>
              <a:buSzPct val="6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0"/>
          <p:cNvSpPr/>
          <p:nvPr/>
        </p:nvSpPr>
        <p:spPr>
          <a:xfrm rot="16201800">
            <a:off x="5422680" y="921600"/>
            <a:ext cx="303480" cy="6326280"/>
          </a:xfrm>
          <a:custGeom>
            <a:avLst/>
            <a:gdLst>
              <a:gd name="textAreaLeft" fmla="*/ 194040 w 303480"/>
              <a:gd name="textAreaRight" fmla="*/ 303840 w 303480"/>
              <a:gd name="textAreaTop" fmla="*/ 164880 h 6326280"/>
              <a:gd name="textAreaBottom" fmla="*/ 6161400 h 6326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85000"/>
              </a:lnSpc>
              <a:spcBef>
                <a:spcPts val="1800"/>
              </a:spcBef>
              <a:buClr>
                <a:srgbClr val="ff0000"/>
              </a:buClr>
              <a:buSzPct val="6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21"/>
          <p:cNvSpPr/>
          <p:nvPr/>
        </p:nvSpPr>
        <p:spPr>
          <a:xfrm rot="5401200">
            <a:off x="3298680" y="-842760"/>
            <a:ext cx="304920" cy="6400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66680 h 6400800"/>
              <a:gd name="textAreaBottom" fmla="*/ 6234120 h 6400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5000"/>
              </a:lnSpc>
              <a:spcBef>
                <a:spcPts val="1800"/>
              </a:spcBef>
              <a:buClr>
                <a:srgbClr val="ff0000"/>
              </a:buClr>
              <a:buSzPct val="6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826920" y="1700280"/>
            <a:ext cx="5257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D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3"/>
          <p:cNvSpPr/>
          <p:nvPr/>
        </p:nvSpPr>
        <p:spPr>
          <a:xfrm rot="16177200">
            <a:off x="7950960" y="3794400"/>
            <a:ext cx="230040" cy="1371600"/>
          </a:xfrm>
          <a:custGeom>
            <a:avLst/>
            <a:gdLst>
              <a:gd name="textAreaLeft" fmla="*/ 146880 w 230040"/>
              <a:gd name="textAreaRight" fmla="*/ 230400 w 2300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85000"/>
              </a:lnSpc>
              <a:spcBef>
                <a:spcPts val="1800"/>
              </a:spcBef>
              <a:buClr>
                <a:srgbClr val="ff0000"/>
              </a:buClr>
              <a:buSzPct val="6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4"/>
          <p:cNvSpPr/>
          <p:nvPr/>
        </p:nvSpPr>
        <p:spPr>
          <a:xfrm>
            <a:off x="6732720" y="4653000"/>
            <a:ext cx="241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ELABO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91920" y="836640"/>
            <a:ext cx="435348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Elaboração e Vigência P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0"/>
            <a:ext cx="83851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PA – 2010 A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763640" y="1413000"/>
            <a:ext cx="5904000" cy="482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2492280"/>
            <a:ext cx="3024000" cy="24480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 ATEN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À FAMÍ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56360" y="5013360"/>
            <a:ext cx="2521080" cy="1008000"/>
          </a:xfrm>
          <a:prstGeom prst="flowChartAlternateProcess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IZ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 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4941720"/>
            <a:ext cx="2521080" cy="1008360"/>
          </a:xfrm>
          <a:prstGeom prst="flowChartAlternateProcess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ENVOLV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ÓCIO-ECONÔ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19640" y="981000"/>
            <a:ext cx="2808000" cy="1008000"/>
          </a:xfrm>
          <a:prstGeom prst="flowChartAlternateProcess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STÃO PÚB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OV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0"/>
            <a:ext cx="83851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PA – 2010 A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55436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PA – 2010 A 2013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"/>
          <p:cNvSpPr/>
          <p:nvPr/>
        </p:nvSpPr>
        <p:spPr>
          <a:xfrm>
            <a:off x="468360" y="2565360"/>
            <a:ext cx="3311640" cy="2089080"/>
          </a:xfrm>
          <a:custGeom>
            <a:avLst/>
            <a:gdLst>
              <a:gd name="textAreaLeft" fmla="*/ 0 w 3311640"/>
              <a:gd name="textAreaRight" fmla="*/ 3312000 w 3311640"/>
              <a:gd name="textAreaTop" fmla="*/ 0 h 2089080"/>
              <a:gd name="textAreaBottom" fmla="*/ 208944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PRINCÍP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DA GEST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DE GOVE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24360" y="1125360"/>
            <a:ext cx="576360" cy="4969080"/>
          </a:xfrm>
          <a:custGeom>
            <a:avLst/>
            <a:gdLst>
              <a:gd name="textAreaLeft" fmla="*/ 368280 w 576360"/>
              <a:gd name="textAreaRight" fmla="*/ 576720 w 576360"/>
              <a:gd name="textAreaTop" fmla="*/ 129600 h 4969080"/>
              <a:gd name="textAreaBottom" fmla="*/ 4839480 h 496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787640" y="1483920"/>
            <a:ext cx="3995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apacitação Técn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fissionaliza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elacionamento Hum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Gestão Participat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mocra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espeito Constitu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É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lanejam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ustentabilidade Ambi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espeito ao Cidad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nsibilidade com o cidad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5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50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50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700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050560" y="0"/>
            <a:ext cx="54723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dddd"/>
                </a:solidFill>
                <a:latin typeface="Arial Black"/>
              </a:rPr>
              <a:t>PPA – 2010 A 2013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" name=""/>
          <p:cNvSpPr/>
          <p:nvPr/>
        </p:nvSpPr>
        <p:spPr>
          <a:xfrm>
            <a:off x="1835280" y="1484280"/>
            <a:ext cx="5903640" cy="4392720"/>
          </a:xfrm>
          <a:custGeom>
            <a:avLst/>
            <a:gdLst>
              <a:gd name="textAreaLeft" fmla="*/ 1476000 w 5903640"/>
              <a:gd name="textAreaRight" fmla="*/ 4428000 w 5903640"/>
              <a:gd name="textAreaTop" fmla="*/ 1098000 h 4392720"/>
              <a:gd name="textAreaBottom" fmla="*/ 3294720 h 439272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PROGRA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Verdana"/>
              </a:rPr>
              <a:t>ESTRATÉ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9065600">
            <a:off x="2556000" y="1844280"/>
            <a:ext cx="1198440" cy="1081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3422600">
            <a:off x="2484360" y="4365720"/>
            <a:ext cx="1324080" cy="12240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2400000">
            <a:off x="5724000" y="1844640"/>
            <a:ext cx="1225800" cy="1081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8081400">
            <a:off x="5794200" y="4365000"/>
            <a:ext cx="1225440" cy="1079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76360" y="112536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Melhoria da Saúde da Famí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754040" y="328464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Seguranç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do Cidad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449040" y="1341360"/>
            <a:ext cx="20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Desenvolv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Econô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24360" y="6021360"/>
            <a:ext cx="216036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Desenvolv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08080" y="2997360"/>
            <a:ext cx="17046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Moderniz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da Gest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dos Serviç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Públ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44440" y="5734080"/>
            <a:ext cx="166680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Planej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Urb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912720" y="5373720"/>
            <a:ext cx="165276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Humaniz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da 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83600" y="836640"/>
            <a:ext cx="20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Desenvolv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0"/>
                            </p:stCondLst>
                            <p:childTnLst>
                              <p:par>
                                <p:cTn id="25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7000"/>
                            </p:stCondLst>
                            <p:childTnLst>
                              <p:par>
                                <p:cTn id="27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9:06:37Z</dcterms:created>
  <dc:creator>adeline</dc:creator>
  <dc:description/>
  <dc:language>en-US</dc:language>
  <cp:lastModifiedBy>apoleza</cp:lastModifiedBy>
  <dcterms:modified xsi:type="dcterms:W3CDTF">2009-05-29T16:08:37Z</dcterms:modified>
  <cp:revision>160</cp:revision>
  <dc:subject/>
  <dc:title>AUDIÊNCIA PÚBLICA 29/09/2005</dc:title>
</cp:coreProperties>
</file>