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DF02-B137-434F-8AF2-0A86B3AECF6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8DE6-27F7-4BA9-B6EC-583D55D317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F4C2-902C-4666-B4EE-7FA25BA791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634F-CBEB-45FC-AE27-1CBBF049FF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2B9E-E68F-4839-9ECB-6C5FE10824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0E16-2FA1-4060-BC48-4D3307E7C5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7AA5-C7EE-4B76-A90E-2BF2EED13A6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BE7A-FD4E-4149-AB8E-BA770DD33C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08FF-EDFF-491A-9BF9-D76309800B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4A0E-0657-4F28-A197-CFBFE3F7F7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6429-F456-4967-B5F6-63DE192FF9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EA9E-B3B4-486C-BB4A-77A4AB4012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bra a sua apresentação com um incidente chamativo. Escolha um incidente ao qual seu público esteja relacionado. A incidência será a evidência que dará suporte à ação e prova o benefício. Iniciar com um incidente motivadora irá preparar seu público para a etapa de ação segui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64B2-9EC1-4FF3-BE3D-7D2F3C7A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EB7D-7AAB-4D94-AB8C-2520F9B8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C7070-9716-448A-8389-4552041A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DBA6-4188-4CE6-9F58-7F15EAB6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C5D1C-567E-4550-B0EF-8818DA86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D7042-A98C-463E-8A73-80B42F15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889C1-6FCA-4491-B3EA-DC7C8360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453B4-BC5A-486A-95E7-82B94EEF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593B3-8912-4E2A-A8CD-C8CB5A1A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400" y="0"/>
            <a:ext cx="8172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5044C-0FE7-4DD4-83C4-6F0EB2A0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6BCC9-7384-4541-961A-DF3550AB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B5F3-EB3E-4194-86E5-D033A73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B9558-9809-4E02-AD88-22941F08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36BD8-3230-492A-AA4A-2F212365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73718-D780-42BB-A014-A2831742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702AA-5A23-418E-9406-DA18E899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392004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56530-74DE-4B22-BCF1-C63C5F31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A122-2425-4D62-ACB8-56ED9704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8FC95-7F0D-45ED-9D6C-FE625856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9B67-7F34-4550-9EE0-E1595E40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400" y="0"/>
            <a:ext cx="81727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91CC8-0C23-4C0C-B0A1-2CFFCD64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C174-065B-48C6-8F3F-F1D91D0B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39200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287C-A88A-4E2E-8A12-E9261661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392004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48D0-961B-4F6C-AB00-30FAF770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24816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A72F-892C-4C16-8471-D383262BC2E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07696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24816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B847-8BB7-4BDE-877B-66FA39C9403B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2481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4076280"/>
            <a:ext cx="648036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AVALIAÇÃO DAS METAS</a:t>
            </a: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3º QUADRIMESTRE 2008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5877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83040" y="189000"/>
            <a:ext cx="4787640" cy="14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mic Sans MS"/>
              </a:rPr>
              <a:t>Município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mic Sans MS"/>
              </a:rPr>
              <a:t>BALNEÁRIO CAMBORI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mic Sans MS"/>
              </a:rPr>
              <a:t>CAPITAL CATARINENSE DO 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1484280"/>
            <a:ext cx="64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00"/>
                </a:solidFill>
                <a:latin typeface="Comic Sans MS"/>
              </a:rPr>
              <a:t>Audiência Públ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8880" y="21337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27/02/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43000" y="1790640"/>
            <a:ext cx="7532640" cy="40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PREVISÃO PARA O EXERCÍCIO 2008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$ 210.064.84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EALIZADA NOS ÚLTIMOS 12 MES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ff"/>
                </a:solidFill>
                <a:latin typeface="Tahoma"/>
              </a:rPr>
              <a:t>R$ 247.158.816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76500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03280" y="4869000"/>
            <a:ext cx="1874880" cy="1792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21040" y="5300640"/>
            <a:ext cx="32911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VALOR EXCED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R$ 37.093.9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76500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ultado Previdenci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00000" y="1844640"/>
          <a:ext cx="7272360" cy="3514680"/>
        </p:xfrm>
        <a:graphic>
          <a:graphicData uri="http://schemas.openxmlformats.org/drawingml/2006/table">
            <a:tbl>
              <a:tblPr/>
              <a:tblGrid>
                <a:gridCol w="4121280"/>
                <a:gridCol w="315108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2.395.8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.485.0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ult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14.910.8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/12/20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4.036.7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03280" y="5877000"/>
            <a:ext cx="633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PASSIVO ATUARIAL: R$ 55.223.2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36000" y="0"/>
            <a:ext cx="1584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ultado Nomi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02920" y="1916280"/>
            <a:ext cx="676908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FIXADA NA LDO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-3.343.5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REALIZADA ATÉ O QUADRIME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11.183.44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16720" y="2602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1280" y="62064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ultado Primár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1280" y="2133720"/>
            <a:ext cx="770400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FIXADA NA LDO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-6.023.25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Palatino"/>
              </a:rPr>
              <a:t>META REALIZADA ATÉ O QUADRIMEST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Palatino"/>
              </a:rPr>
              <a:t>R$ 2.558.58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29852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4360" y="692280"/>
            <a:ext cx="74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16000" y="2276640"/>
          <a:ext cx="7461360" cy="2447640"/>
        </p:xfrm>
        <a:graphic>
          <a:graphicData uri="http://schemas.openxmlformats.org/drawingml/2006/table">
            <a:tbl>
              <a:tblPr/>
              <a:tblGrid>
                <a:gridCol w="3921120"/>
                <a:gridCol w="3540240"/>
              </a:tblGrid>
              <a:tr h="11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Saldo 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31/12/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A Pagar em 31/12/200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31.807.474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0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2.331.140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1835280" y="5013360"/>
            <a:ext cx="568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GOS ATÉ O PERÍ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ahoma"/>
              </a:rPr>
              <a:t>R$   29.476.33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917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9640" y="692280"/>
            <a:ext cx="719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Aplicação na Educação Bás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349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205000"/>
          <a:ext cx="8137440" cy="3635280"/>
        </p:xfrm>
        <a:graphic>
          <a:graphicData uri="http://schemas.openxmlformats.org/drawingml/2006/table">
            <a:tbl>
              <a:tblPr/>
              <a:tblGrid>
                <a:gridCol w="5138640"/>
                <a:gridCol w="299880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6.809.7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0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.202.43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.197.27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7,92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EDUCAÇÃ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.096.10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700360" y="61545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034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4360" y="692280"/>
            <a:ext cx="431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Funde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916280"/>
          <a:ext cx="7842240" cy="4295520"/>
        </p:xfrm>
        <a:graphic>
          <a:graphicData uri="http://schemas.openxmlformats.org/drawingml/2006/table">
            <a:tbl>
              <a:tblPr/>
              <a:tblGrid>
                <a:gridCol w="5254560"/>
                <a:gridCol w="2587680"/>
              </a:tblGrid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em 31/12/2007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90.3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recadação + Rendiment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20.179.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gamentos efetuado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20.227.5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2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APLIC. EM PESSOAL  MAGISTÉRIO – (Mínimo de 60%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9,5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aldo Financeiro - 31/12/200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Bookman Old Style"/>
                        </a:rPr>
                        <a:t>942.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820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349360"/>
            <a:ext cx="82296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6920" y="1916280"/>
          <a:ext cx="7534440" cy="3767040"/>
        </p:xfrm>
        <a:graphic>
          <a:graphicData uri="http://schemas.openxmlformats.org/drawingml/2006/table">
            <a:tbl>
              <a:tblPr/>
              <a:tblGrid>
                <a:gridCol w="5069160"/>
                <a:gridCol w="24652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6.809.72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ÇÃO MÍNIMA – </a:t>
                      </a:r>
                      <a:r>
                        <a:rPr b="0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15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.521.45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ALOR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9.412.31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APLICADO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21,4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TOTAIS EM SAÚDE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.250.2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755640" y="692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1724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964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Operações de Créd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2637000"/>
          <a:ext cx="8231040" cy="2736720"/>
        </p:xfrm>
        <a:graphic>
          <a:graphicData uri="http://schemas.openxmlformats.org/drawingml/2006/table">
            <a:tbl>
              <a:tblPr/>
              <a:tblGrid>
                <a:gridCol w="6121440"/>
                <a:gridCol w="210960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ções Créditos Contraídas (I)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06.8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pesas de Capital Liquidadas (II)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75.699.89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ra de Ouro (I-II)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71.593.04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0160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9640" y="6922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Arial"/>
              </a:rPr>
              <a:t>Alienação de Ativ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11280" y="2421000"/>
          <a:ext cx="8231040" cy="3095640"/>
        </p:xfrm>
        <a:graphic>
          <a:graphicData uri="http://schemas.openxmlformats.org/drawingml/2006/table">
            <a:tbl>
              <a:tblPr/>
              <a:tblGrid>
                <a:gridCol w="5553000"/>
                <a:gridCol w="267804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Saldo Financeiro 2007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104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recadado 2008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8.93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licação de Recurso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.483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Saldo Financeiro 2008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7.551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208764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792000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ágrafo 4º, Art. 9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o Poder Executivo demonstrará e avaliará o cumprimento das metas fiscais de cada quadrimestre, em audiência pública na Casa Legislativa Municipal.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7650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Garamond"/>
              </a:rPr>
              <a:t>LEI COMPLEMENTAR 101/2000 – LR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76960" y="5342040"/>
            <a:ext cx="1967040" cy="1515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400536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Objetivo da divulgação: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</a:rPr>
              <a:t> é permitir que a sociedade conheça, acompanhe e analise o desempenho da execução orçamentária e financeira dos Governos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63640" y="1773360"/>
            <a:ext cx="5905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ahoma"/>
              </a:rPr>
              <a:t>GESTÃ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ahoma"/>
              </a:rPr>
              <a:t>FISC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3357720"/>
          <a:ext cx="199548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19954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372360" y="3500280"/>
            <a:ext cx="2411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74560" y="54936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Gastos com Pessoal -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3213000"/>
          <a:ext cx="8159760" cy="2735280"/>
        </p:xfrm>
        <a:graphic>
          <a:graphicData uri="http://schemas.openxmlformats.org/drawingml/2006/table">
            <a:tbl>
              <a:tblPr/>
              <a:tblGrid>
                <a:gridCol w="5904000"/>
                <a:gridCol w="22557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SE DE CÁLCULO -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7.158.81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TOS COM PESSOAL – </a:t>
                      </a:r>
                      <a:r>
                        <a:rPr b="1" lang="pt-BR" sz="27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34,1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ÚLTIMOS 12 MESE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.277.88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PRUDENCIAL – 51,3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3.465.76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9640" y="692280"/>
            <a:ext cx="68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Dívida Consolidada Líqui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42920" y="2421000"/>
          <a:ext cx="7128000" cy="3311640"/>
        </p:xfrm>
        <a:graphic>
          <a:graphicData uri="http://schemas.openxmlformats.org/drawingml/2006/table">
            <a:tbl>
              <a:tblPr/>
              <a:tblGrid>
                <a:gridCol w="4392720"/>
                <a:gridCol w="2735280"/>
              </a:tblGrid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144.87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s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52.099.51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ívida Consolidada Líqui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41.954.639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ual sobre a RCL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16,9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5825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9640" y="69228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Operações de Crédi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4360" y="2781360"/>
          <a:ext cx="8135640" cy="2430360"/>
        </p:xfrm>
        <a:graphic>
          <a:graphicData uri="http://schemas.openxmlformats.org/drawingml/2006/table">
            <a:tbl>
              <a:tblPr/>
              <a:tblGrid>
                <a:gridCol w="5792760"/>
                <a:gridCol w="234288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erações Créditos Interna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106.84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sobre a RCL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66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mite definido pelo Senado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,00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732720" y="592200"/>
            <a:ext cx="19429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9640" y="692280"/>
            <a:ext cx="57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Disponibilidade de Caix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4360" y="2781360"/>
          <a:ext cx="8135640" cy="2430360"/>
        </p:xfrm>
        <a:graphic>
          <a:graphicData uri="http://schemas.openxmlformats.org/drawingml/2006/table">
            <a:tbl>
              <a:tblPr/>
              <a:tblGrid>
                <a:gridCol w="5975280"/>
                <a:gridCol w="216036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 Financeira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5.416.1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igações a Pagar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.797.18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ficiente em 31/12/2008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.618.965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3492360" y="1628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66"/>
                </a:solidFill>
                <a:latin typeface="Arial"/>
              </a:rPr>
              <a:t>Exceto RR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588000" y="404640"/>
            <a:ext cx="21528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9640" y="69228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66"/>
                </a:solidFill>
                <a:latin typeface="Garamond"/>
              </a:rPr>
              <a:t>Disponibilidade de Caixa - R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4360" y="2781360"/>
          <a:ext cx="8135640" cy="2430360"/>
        </p:xfrm>
        <a:graphic>
          <a:graphicData uri="http://schemas.openxmlformats.org/drawingml/2006/table">
            <a:tbl>
              <a:tblPr/>
              <a:tblGrid>
                <a:gridCol w="5975280"/>
                <a:gridCol w="216036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sponibilidade Financeira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4.036.78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brigações a Pagar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4.95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ficiente em 31/12/2008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.961.838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9640" y="692280"/>
            <a:ext cx="640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cc66"/>
                </a:solidFill>
                <a:latin typeface="Garamond"/>
              </a:rPr>
              <a:t>Restos a Pagar - Poder Executiv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4360" y="2492280"/>
          <a:ext cx="8135640" cy="3497400"/>
        </p:xfrm>
        <a:graphic>
          <a:graphicData uri="http://schemas.openxmlformats.org/drawingml/2006/table">
            <a:tbl>
              <a:tblPr/>
              <a:tblGrid>
                <a:gridCol w="5792760"/>
                <a:gridCol w="2342880"/>
              </a:tblGrid>
              <a:tr h="90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os a Pagar - Ex. Anteriores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331.140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os a Pagar Processados - do Exercício 2008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475.42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stos a Pagar Não Processados - do Exercício 2008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.185.106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7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TOS A PAGAR TOTAL: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7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22.991.672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748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39640" y="692280"/>
            <a:ext cx="68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Garamond"/>
              </a:rPr>
              <a:t>Publicações dos Relatórios LR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2276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Jornal: O Atlân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Site: www.camboriu.sc.gov.b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Link: Secretarias e Entidades - Contabilid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27640" y="4724280"/>
            <a:ext cx="23050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23880" y="836640"/>
            <a:ext cx="82692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monstração e Avaliação do Cumprimento das Metas Fiscais: 3º Quadrimestre de 2008”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Tahoma"/>
              </a:rPr>
              <a:t>OBRIGADO PELA PRESENÇ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Apresentação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Yedon Emanoel Nunes – Secretário da Fazen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Liliane Maria Novaes – Contado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cc66"/>
                </a:solidFill>
                <a:latin typeface="Garamond"/>
              </a:rPr>
              <a:t>             </a:t>
            </a: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Abordagens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2920" y="2492280"/>
            <a:ext cx="753264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XECUÇÃO ORÇAMENTÁ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GESTÃO FISC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7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9080" y="0"/>
            <a:ext cx="2317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63640" y="1773360"/>
            <a:ext cx="59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cc66"/>
                </a:solidFill>
                <a:latin typeface="Tahoma"/>
              </a:rPr>
              <a:t>EXECUÇÃO ORÇAMENTÁ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71640" y="3357720"/>
          <a:ext cx="199548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357720"/>
                    <a:ext cx="19954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372360" y="3500280"/>
            <a:ext cx="241128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Meta de Receit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9640" y="2060640"/>
          <a:ext cx="8137800" cy="3529080"/>
        </p:xfrm>
        <a:graphic>
          <a:graphicData uri="http://schemas.openxmlformats.org/drawingml/2006/table">
            <a:tbl>
              <a:tblPr/>
              <a:tblGrid>
                <a:gridCol w="2090880"/>
                <a:gridCol w="2163600"/>
                <a:gridCol w="2024280"/>
                <a:gridCol w="18590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Receit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Previs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Arrecad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9.802.0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67.831.2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8.029.1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.680.8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.915.8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765.0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38.482.8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75.747.0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37.264.1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670120" cy="1149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62760" y="5803920"/>
            <a:ext cx="613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oram arrecadados a maior que as m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evistas o montante de </a:t>
            </a:r>
            <a:r>
              <a:rPr b="1" lang="pt-BR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R$ 37.264.16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Origem da Receit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4360" y="2060640"/>
          <a:ext cx="7488000" cy="3684600"/>
        </p:xfrm>
        <a:graphic>
          <a:graphicData uri="http://schemas.openxmlformats.org/drawingml/2006/table">
            <a:tbl>
              <a:tblPr/>
              <a:tblGrid>
                <a:gridCol w="3671640"/>
                <a:gridCol w="2521080"/>
                <a:gridCol w="129528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Fonte de Recurso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Valor Arrecadad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esouro Municipal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8.991.9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2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utras Font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6.755.0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75.747.0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100%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6701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0"/>
            <a:ext cx="81727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BR" sz="4000" spc="-1" strike="noStrike">
                <a:solidFill>
                  <a:srgbClr val="ffcc66"/>
                </a:solidFill>
                <a:latin typeface="Garamond"/>
              </a:rPr>
              <a:t>Meta de Despes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95280" y="1700280"/>
          <a:ext cx="8445600" cy="3976560"/>
        </p:xfrm>
        <a:graphic>
          <a:graphicData uri="http://schemas.openxmlformats.org/drawingml/2006/table">
            <a:tbl>
              <a:tblPr/>
              <a:tblGrid>
                <a:gridCol w="1873080"/>
                <a:gridCol w="2108520"/>
                <a:gridCol w="2303280"/>
                <a:gridCol w="2160720"/>
              </a:tblGrid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espes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Fixad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Atualizad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Empenhad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iferenç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Correntes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99.807.1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85.369.4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14.437.7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it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.308.40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5.699.8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19.608.5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95.115.5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61.069.3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- 34.046.2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32720" y="146160"/>
            <a:ext cx="172692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738440" y="5803920"/>
            <a:ext cx="60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Foram executadas a menor que as m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evistas o valor de </a:t>
            </a:r>
            <a:r>
              <a:rPr b="1" lang="pt-BR" sz="2400" spc="-1" strike="noStrike">
                <a:solidFill>
                  <a:srgbClr val="ffcc66"/>
                </a:solidFill>
                <a:latin typeface="Tahoma"/>
                <a:ea typeface="Times New Roman"/>
              </a:rPr>
              <a:t>R$ 34.046.2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200720" cy="75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aramond"/>
              </a:rPr>
              <a:t>Despesa por Categoria Econômica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11280" y="1700280"/>
          <a:ext cx="8064360" cy="4897440"/>
        </p:xfrm>
        <a:graphic>
          <a:graphicData uri="http://schemas.openxmlformats.org/drawingml/2006/table">
            <a:tbl>
              <a:tblPr/>
              <a:tblGrid>
                <a:gridCol w="4722840"/>
                <a:gridCol w="1868400"/>
                <a:gridCol w="1473120"/>
              </a:tblGrid>
              <a:tr h="23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SOAL E ENCARGOS PESSOAIS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ROS E ENCARGOS DA DÍVIDA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UTRAS DESPESAS CORRENTES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TOTAL.............................................</a:t>
                      </a: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86.717.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.173.4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96.478.7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85.369.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3,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0,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37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1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19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MENTOS............................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MORTIZAÇÃO DA DÍVIDA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TOTAL.............................................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0.467.8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5.232.0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75.699.8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7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9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261.069.3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7905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6551640" cy="82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Garamond"/>
              </a:rPr>
              <a:t>RESUMO - Receitas e Despesas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11280" y="2565360"/>
          <a:ext cx="7964280" cy="3456000"/>
        </p:xfrm>
        <a:graphic>
          <a:graphicData uri="http://schemas.openxmlformats.org/drawingml/2006/table">
            <a:tbl>
              <a:tblPr/>
              <a:tblGrid>
                <a:gridCol w="2611440"/>
                <a:gridCol w="2674800"/>
                <a:gridCol w="267804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Descriçã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Previ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600" spc="-1" strike="noStrike">
                          <a:solidFill>
                            <a:srgbClr val="003366"/>
                          </a:solidFill>
                          <a:latin typeface="Garamond"/>
                          <a:ea typeface="Times New Roman"/>
                        </a:rPr>
                        <a:t>Realizad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6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CEI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38.482.8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75.747.0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SPES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95.115.5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261.069.35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RESULT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3366"/>
                          </a:solidFill>
                          <a:latin typeface="Tahoma"/>
                        </a:rPr>
                        <a:t>APURA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-56.632.7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3200" spc="-1" strike="noStrike">
                          <a:solidFill>
                            <a:srgbClr val="003366"/>
                          </a:solidFill>
                          <a:latin typeface="Garamond"/>
                        </a:rPr>
                        <a:t>14.677.6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5001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5:59:12Z</dcterms:created>
  <dc:creator>adeline</dc:creator>
  <dc:description/>
  <dc:language>en-US</dc:language>
  <cp:lastModifiedBy>lnovaes</cp:lastModifiedBy>
  <dcterms:modified xsi:type="dcterms:W3CDTF">2009-03-12T22:29:39Z</dcterms:modified>
  <cp:revision>135</cp:revision>
  <dc:subject/>
  <dc:title> FUNDE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