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3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4.wmf" ContentType="image/x-wmf"/>
  <Override PartName="/ppt/media/image20.png" ContentType="image/png"/>
  <Override PartName="/ppt/media/image2.jpeg" ContentType="image/jpe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1E8C2-0B8D-4A58-9D30-AAAA809BEA8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17555-C665-45F2-913C-0FE9DAC61ADC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749D6-86CE-4397-9965-2C30A681828B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B4E4E-B73C-4A86-B5B9-1AA60706A5E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701B8-6EA5-42D5-9DE3-F5F23471520F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37129-B012-48B8-82A9-F8E042CF3A3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214EF-E02F-4019-B4C2-74EF4901B6A2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6D202-41BE-4CCE-86EA-61A9383D07EC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F77EA-7E93-4E83-AF33-0ACCAFDB5E7E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D363D-D768-4AAA-B3F5-1A05C8E051EA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A59A1-B605-419D-95E0-4FCC3F295CD9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50652-EB17-412A-BDA1-F618DECF7D86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CB7C9-1806-439F-AD46-8F83BD8E24A8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F4E4F-10AC-467B-8DF6-24D380503BBA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15C5B-5895-4E31-AE15-8BCA819706C2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7B946-CCC6-4656-A1BC-A5BF8B5BF913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A2E9F-4253-46BB-9114-1C42C0312A11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1FBBC-D189-43A7-8C76-F60828519D8F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B39FF-7CF6-4E46-89C8-8480BB1E33FB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E8347-773F-4688-A826-BFC03376AEF0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proveitar e falar sobre a lei de acesso a informação públ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4C5AA-EC45-4A36-ACE7-159B3877EBA1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44CCA-C7E2-4030-83CD-75E8D49E0F4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8FAA9-7E00-4844-A847-CD25C8D27D6F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3007D-4B74-4548-A44E-0A2AF4D69CD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2DC53-AD93-489E-96C1-F1DBA6614A0C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D9DEC-BDA6-419F-B354-787D4C7544C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8D24-19A8-41DC-A7A8-002A73B2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F334-7934-4E43-AAB5-FE9198BF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1EBC-70C1-4B96-BE69-202CD186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EBFB-17EA-43B5-A029-DAF1423B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D835-133A-469F-B21C-714259D2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5184-9AFA-4726-B04B-6E035A17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FA08-5A94-4EB2-9F01-0DA335B4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8D29-195F-4F1E-A87E-405F41FD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67F6-C4DC-467E-BB0B-2DD93FDE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D2A7-5B09-45FC-8B27-42CE1777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1101-FB71-47E4-BE13-5C908345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3CBB-667B-4561-B824-1D131B1F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A008-D49B-401A-9615-32C650F8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1087-F28F-404D-8A7E-FF55C5A8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31A1-AE9D-4B0A-9235-EE55E3A1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0F1A-3F0E-4463-A88F-6570FC74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0D79-7C51-4DF8-AD15-F676B5B5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2E62-EF79-44FD-BA72-4AEA9DF3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3991-F1AC-40B8-BFDE-BD3555CF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61A5-7D2E-4D3B-979A-A49FAF1C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AB7A-0130-4CDD-9CD4-7BCC25D0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F985-F147-4A13-9337-FE4A88D0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6E14-A155-4DBA-A897-BEAC29CE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FE8B-6373-4D67-B6C0-A08E72F1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2D535A-AB53-442C-80F5-38F8F13B4F47}" type="slidenum">
              <a:rPr b="0" lang="pt-B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51848D-FEB9-45A8-B50F-6CDA7FAB16C0}" type="slidenum">
              <a:rPr b="0" lang="pt-B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8.wmf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alneariocamboriu.sc.gov.br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00720" y="5877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004760" y="65160"/>
            <a:ext cx="71676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900" spc="-1" strike="noStrike">
                <a:solidFill>
                  <a:srgbClr val="ffc000"/>
                </a:solidFill>
                <a:latin typeface="Tahoma"/>
              </a:rPr>
              <a:t>Município d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900" spc="-1" strike="noStrike">
                <a:solidFill>
                  <a:srgbClr val="ffc000"/>
                </a:solidFill>
                <a:latin typeface="Tahoma"/>
              </a:rPr>
              <a:t>BALNEÁRIO CAMBORIÚ – SC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77720" y="1484280"/>
            <a:ext cx="8280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Tahoma"/>
                <a:ea typeface="Lucida Sans Unicode"/>
              </a:rPr>
              <a:t>Audiência Pública</a:t>
            </a:r>
            <a:br>
              <a:rPr sz="5000"/>
            </a:br>
            <a:r>
              <a:rPr b="1" lang="pt-BR" sz="2000" spc="-1" strike="noStrike">
                <a:solidFill>
                  <a:srgbClr val="000000"/>
                </a:solidFill>
                <a:latin typeface="Tahoma"/>
                <a:ea typeface="Lucida Sans Unicode"/>
              </a:rPr>
              <a:t>30/05/2014</a:t>
            </a:r>
            <a:br>
              <a:rPr sz="3800"/>
            </a:br>
            <a:br>
              <a:rPr sz="3800"/>
            </a:b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monstração e Avaliação do Cumprimento das Metas Fisca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r>
              <a:rPr b="1" lang="pt-BR" sz="4200" spc="-1" strike="noStrike">
                <a:solidFill>
                  <a:srgbClr val="000000"/>
                </a:solidFill>
                <a:latin typeface="Arial"/>
                <a:ea typeface="Lucida Sans Unicode"/>
              </a:rPr>
              <a:t>1º Quadrimestre de 201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Imagem 2" descr="nova-bandeira-e-brasao.jpg"/>
          <p:cNvPicPr/>
          <p:nvPr/>
        </p:nvPicPr>
        <p:blipFill>
          <a:blip r:embed="rId1"/>
          <a:stretch/>
        </p:blipFill>
        <p:spPr>
          <a:xfrm>
            <a:off x="324000" y="146160"/>
            <a:ext cx="1363680" cy="655560"/>
          </a:xfrm>
          <a:prstGeom prst="rect">
            <a:avLst/>
          </a:prstGeom>
          <a:ln w="0">
            <a:noFill/>
          </a:ln>
        </p:spPr>
      </p:pic>
      <p:pic>
        <p:nvPicPr>
          <p:cNvPr id="102" name="Imagem 2" descr="nova-bandeira-e-brasao.jpg"/>
          <p:cNvPicPr/>
          <p:nvPr/>
        </p:nvPicPr>
        <p:blipFill>
          <a:blip r:embed="rId2"/>
          <a:stretch/>
        </p:blipFill>
        <p:spPr>
          <a:xfrm>
            <a:off x="7489800" y="147600"/>
            <a:ext cx="1363680" cy="65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0920" y="-44280"/>
            <a:ext cx="626436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t-BR" sz="3600" spc="-1" strike="noStrike">
                <a:solidFill>
                  <a:srgbClr val="002060"/>
                </a:solidFill>
                <a:latin typeface="Palatino Linotype"/>
              </a:rPr>
              <a:t>Desempenho da Despesa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814320" y="2060640"/>
          <a:ext cx="7778880" cy="2824200"/>
        </p:xfrm>
        <a:graphic>
          <a:graphicData uri="http://schemas.openxmlformats.org/drawingml/2006/table">
            <a:tbl>
              <a:tblPr/>
              <a:tblGrid>
                <a:gridCol w="1947960"/>
                <a:gridCol w="2014560"/>
                <a:gridCol w="1886040"/>
                <a:gridCol w="1930320"/>
              </a:tblGrid>
              <a:tr h="717480">
                <a:tc>
                  <a:txBody>
                    <a:bodyPr tIns="4248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spe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tIns="4248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rograma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tIns="4248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xecuta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tIns="4248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ferenç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644400">
                <a:tc>
                  <a:txBody>
                    <a:bodyPr tIns="4248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rrente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28.195.5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16.236.0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-11.959.46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tIns="4248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api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3.235.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9.641.0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-13.593.9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tIns="4248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51.430.5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25.877.0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-25.552.4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51" name="Objeto 1"/>
          <p:cNvGraphicFramePr/>
          <p:nvPr/>
        </p:nvGraphicFramePr>
        <p:xfrm>
          <a:off x="7284960" y="189000"/>
          <a:ext cx="1546200" cy="1482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Objeto 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84960" y="189000"/>
                    <a:ext cx="1546200" cy="14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3" name="CaixaDeTexto 6"/>
          <p:cNvGrpSpPr/>
          <p:nvPr/>
        </p:nvGrpSpPr>
        <p:grpSpPr>
          <a:xfrm>
            <a:off x="1206360" y="5675400"/>
            <a:ext cx="6840720" cy="596880"/>
            <a:chOff x="1206360" y="5675400"/>
            <a:chExt cx="6840720" cy="596880"/>
          </a:xfrm>
        </p:grpSpPr>
        <p:pic>
          <p:nvPicPr>
            <p:cNvPr id="154" name="CaixaDeTexto 6" descr=""/>
            <p:cNvPicPr/>
            <p:nvPr/>
          </p:nvPicPr>
          <p:blipFill>
            <a:blip r:embed="rId11"/>
            <a:stretch/>
          </p:blipFill>
          <p:spPr>
            <a:xfrm>
              <a:off x="1206360" y="5675400"/>
              <a:ext cx="68407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1258920" y="5732640"/>
              <a:ext cx="67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Palatino Linotype"/>
                </a:rPr>
                <a:t>Média mensal despesa CORRENTE executada:  29.059.0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7092720" cy="982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Palatino Linotype"/>
              </a:rPr>
              <a:t> </a:t>
            </a:r>
            <a:r>
              <a:rPr b="0" lang="pt-BR" sz="4000" spc="-1" strike="noStrike">
                <a:solidFill>
                  <a:srgbClr val="002060"/>
                </a:solidFill>
                <a:latin typeface="Palatino Linotype"/>
              </a:rPr>
              <a:t>Aplicação da Despesa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14240" y="1500120"/>
          <a:ext cx="8001000" cy="4071960"/>
        </p:xfrm>
        <a:graphic>
          <a:graphicData uri="http://schemas.openxmlformats.org/drawingml/2006/table">
            <a:tbl>
              <a:tblPr/>
              <a:tblGrid>
                <a:gridCol w="4800600"/>
                <a:gridCol w="1865520"/>
                <a:gridCol w="1334880"/>
              </a:tblGrid>
              <a:tr h="2049480">
                <a:tc>
                  <a:txBody>
                    <a:bodyPr lIns="90000" rIns="90000" tIns="2268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846648"/>
                          </a:solidFill>
                          <a:latin typeface="Tahoma"/>
                        </a:rPr>
                        <a:t>DESPESAS CORREN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PESSOAL E ENCARGOS SOCIAIS..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JUROS E ENCARGOS DA DÍVIDA..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OUTRAS DESPESAS CORRENTES..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268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846648"/>
                          </a:solidFill>
                          <a:latin typeface="Tahoma"/>
                        </a:rPr>
                        <a:t>116.236.0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70.623.9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1.037.2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44.574.8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268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846648"/>
                          </a:solidFill>
                          <a:latin typeface="Tahoma"/>
                        </a:rPr>
                        <a:t>92,3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56,1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0,8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35,4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676520">
                <a:tc>
                  <a:txBody>
                    <a:bodyPr lIns="90000" rIns="90000" tIns="2268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846648"/>
                          </a:solidFill>
                          <a:latin typeface="Tahoma"/>
                        </a:rPr>
                        <a:t>DESPESAS DE CAPI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        </a:t>
                      </a:r>
                      <a:r>
                        <a:rPr b="1" lang="pt-BR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INVESTIMENTOS.............................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AMORTIZAÇÃO DA DÍVIDA..........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268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846648"/>
                          </a:solidFill>
                          <a:latin typeface="Tahoma"/>
                        </a:rPr>
                        <a:t>9.641.0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7.081.23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2.559.7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268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846648"/>
                          </a:solidFill>
                          <a:latin typeface="Tahoma"/>
                        </a:rPr>
                        <a:t>7,6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5,6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2,0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45960">
                <a:tc>
                  <a:txBody>
                    <a:bodyPr lIns="90000" rIns="90000" tIns="2268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846648"/>
                          </a:solidFill>
                          <a:latin typeface="Tahoma"/>
                        </a:rPr>
                        <a:t>TOTAL GE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268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846648"/>
                          </a:solidFill>
                          <a:latin typeface="Tahoma"/>
                        </a:rPr>
                        <a:t>125.877.0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268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846648"/>
                          </a:solidFill>
                          <a:latin typeface="Tahoma"/>
                        </a:rPr>
                        <a:t>100,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25560"/>
            <a:ext cx="7777440" cy="62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Palatino Linotype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Palatino Linotype"/>
              </a:rPr>
              <a:t>Gráfico da evolução da despesa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2" name="CaixaDeTexto 1"/>
          <p:cNvSpPr/>
          <p:nvPr/>
        </p:nvSpPr>
        <p:spPr>
          <a:xfrm>
            <a:off x="1113840" y="549360"/>
            <a:ext cx="6810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500" spc="-1" strike="noStrike">
                <a:solidFill>
                  <a:srgbClr val="002060"/>
                </a:solidFill>
                <a:latin typeface="Palatino Linotype"/>
              </a:rPr>
              <a:t>Percentual aplicado -1º Quadrimestre – por exercício – despesa liquidad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Gráfico 6" descr=""/>
          <p:cNvPicPr/>
          <p:nvPr/>
        </p:nvPicPr>
        <p:blipFill>
          <a:blip r:embed="rId1"/>
          <a:stretch/>
        </p:blipFill>
        <p:spPr>
          <a:xfrm>
            <a:off x="743040" y="1023840"/>
            <a:ext cx="7851600" cy="546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2200" y="260280"/>
            <a:ext cx="7777080" cy="72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2060"/>
                </a:solidFill>
                <a:latin typeface="Palatino Linotype"/>
              </a:rPr>
              <a:t>RESULTADO DA EXECUÇÃO ORÇAMENTÁRIA</a:t>
            </a:r>
            <a:endParaRPr b="0" lang="en-US" sz="25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22160" y="1916280"/>
          <a:ext cx="7715520" cy="3179520"/>
        </p:xfrm>
        <a:graphic>
          <a:graphicData uri="http://schemas.openxmlformats.org/drawingml/2006/table">
            <a:tbl>
              <a:tblPr/>
              <a:tblGrid>
                <a:gridCol w="2629080"/>
                <a:gridCol w="2557440"/>
                <a:gridCol w="2529000"/>
              </a:tblGrid>
              <a:tr h="541080">
                <a:tc>
                  <a:txBody>
                    <a:bodyPr lIns="90000" rIns="90000" bIns="468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criçã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897"/>
                    </a:solidFill>
                  </a:tcPr>
                </a:tc>
                <a:tc>
                  <a:txBody>
                    <a:bodyPr lIns="90000" rIns="90000" bIns="468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visã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897"/>
                    </a:solidFill>
                  </a:tcPr>
                </a:tc>
                <a:tc>
                  <a:txBody>
                    <a:bodyPr lIns="90000" rIns="90000" bIns="468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ecuçã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897"/>
                    </a:solidFill>
                  </a:tcPr>
                </a:tc>
              </a:tr>
              <a:tr h="880920">
                <a:tc>
                  <a:txBody>
                    <a:bodyPr lIns="90000" rIns="90000" tIns="31680" bIns="468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CEI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97d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5.961.457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97d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4.615.0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97d3"/>
                    </a:solidFill>
                  </a:tcPr>
                </a:tc>
              </a:tr>
              <a:tr h="813960">
                <a:tc>
                  <a:txBody>
                    <a:bodyPr lIns="90000" rIns="90000" tIns="31680" bIns="468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ES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97d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1.430.5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97d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5.877.0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97d3"/>
                    </a:solidFill>
                  </a:tcPr>
                </a:tc>
              </a:tr>
              <a:tr h="943920">
                <a:tc>
                  <a:txBody>
                    <a:bodyPr lIns="90000" rIns="90000" tIns="31680" bIns="468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sulta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perávi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97d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4.530.95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97d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.737.99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97d3"/>
                    </a:solidFill>
                  </a:tcPr>
                </a:tc>
              </a:tr>
            </a:tbl>
          </a:graphicData>
        </a:graphic>
      </p:graphicFrame>
      <p:sp>
        <p:nvSpPr>
          <p:cNvPr id="168" name="CaixaDeTexto 1"/>
          <p:cNvSpPr/>
          <p:nvPr/>
        </p:nvSpPr>
        <p:spPr>
          <a:xfrm>
            <a:off x="2603880" y="907920"/>
            <a:ext cx="39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Palatino Linotype"/>
              </a:rPr>
              <a:t>Receitas e Despes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18640" y="1980720"/>
            <a:ext cx="753300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ahoma"/>
              </a:rPr>
              <a:t>PREVISÃO PARA O EXERCÍCIO 2014: </a:t>
            </a:r>
            <a:endParaRPr b="0" lang="en-US" sz="3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255600" algn="ctr">
              <a:lnSpc>
                <a:spcPct val="100000"/>
              </a:lnSpc>
              <a:spcBef>
                <a:spcPts val="850"/>
              </a:spcBef>
              <a:buClr>
                <a:srgbClr val="7f7f7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400" spc="-1" strike="noStrike">
                <a:solidFill>
                  <a:srgbClr val="7f7f7f"/>
                </a:solidFill>
                <a:latin typeface="Tahoma"/>
              </a:rPr>
              <a:t> </a:t>
            </a:r>
            <a:r>
              <a:rPr b="0" lang="pt-BR" sz="3400" spc="-1" strike="noStrike">
                <a:solidFill>
                  <a:srgbClr val="ff0000"/>
                </a:solidFill>
                <a:latin typeface="Tahoma"/>
              </a:rPr>
              <a:t>R$ 444.057.389</a:t>
            </a:r>
            <a:endParaRPr b="0" lang="en-US" sz="3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3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ahoma"/>
              </a:rPr>
              <a:t>REALIZADA ATÉ ABRIL DE 2014</a:t>
            </a:r>
            <a:endParaRPr b="0" lang="en-US" sz="3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255600" algn="ctr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400" spc="-1" strike="noStrike">
                <a:solidFill>
                  <a:srgbClr val="ff0000"/>
                </a:solidFill>
                <a:latin typeface="Tahoma"/>
              </a:rPr>
              <a:t>R$ 507.155.633</a:t>
            </a:r>
            <a:endParaRPr b="0" lang="en-US" sz="3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684360" y="765000"/>
            <a:ext cx="67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pt-BR" sz="4000" spc="-1" strike="noStrike">
                <a:solidFill>
                  <a:srgbClr val="002060"/>
                </a:solidFill>
                <a:latin typeface="Century Gothic"/>
              </a:rPr>
              <a:t>Receita Corrente Líqui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18640" y="1980720"/>
            <a:ext cx="753300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ahoma"/>
              </a:rPr>
              <a:t>Meta LDO</a:t>
            </a:r>
            <a:endParaRPr b="0" lang="en-US" sz="3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255600" algn="ctr">
              <a:lnSpc>
                <a:spcPct val="100000"/>
              </a:lnSpc>
              <a:spcBef>
                <a:spcPts val="850"/>
              </a:spcBef>
              <a:buClr>
                <a:srgbClr val="7f7f7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400" spc="-1" strike="noStrike">
                <a:solidFill>
                  <a:srgbClr val="7f7f7f"/>
                </a:solidFill>
                <a:latin typeface="Tahoma"/>
              </a:rPr>
              <a:t> </a:t>
            </a:r>
            <a:r>
              <a:rPr b="0" lang="pt-BR" sz="3400" spc="-1" strike="noStrike">
                <a:solidFill>
                  <a:srgbClr val="ff0000"/>
                </a:solidFill>
                <a:latin typeface="Tahoma"/>
              </a:rPr>
              <a:t>R$ 17.119.000</a:t>
            </a:r>
            <a:endParaRPr b="0" lang="en-US" sz="3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3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ahoma"/>
              </a:rPr>
              <a:t>Meta Realizada até 04/2014</a:t>
            </a:r>
            <a:endParaRPr b="0" lang="en-US" sz="3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255600" algn="ctr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400" spc="-1" strike="noStrike">
                <a:solidFill>
                  <a:srgbClr val="ff0000"/>
                </a:solidFill>
                <a:latin typeface="Tahoma"/>
              </a:rPr>
              <a:t>R$ -69.824.936</a:t>
            </a:r>
            <a:endParaRPr b="0" lang="en-US" sz="3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84360" y="765000"/>
            <a:ext cx="67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pt-BR" sz="4000" spc="-1" strike="noStrike">
                <a:solidFill>
                  <a:srgbClr val="002060"/>
                </a:solidFill>
                <a:latin typeface="Century Gothic"/>
              </a:rPr>
              <a:t>Resultado Nomi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18640" y="1980720"/>
            <a:ext cx="753300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ahoma"/>
              </a:rPr>
              <a:t>Meta LDO</a:t>
            </a:r>
            <a:endParaRPr b="0" lang="en-US" sz="3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255600" algn="ctr">
              <a:lnSpc>
                <a:spcPct val="100000"/>
              </a:lnSpc>
              <a:spcBef>
                <a:spcPts val="850"/>
              </a:spcBef>
              <a:buClr>
                <a:srgbClr val="7f7f7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400" spc="-1" strike="noStrike">
                <a:solidFill>
                  <a:srgbClr val="7f7f7f"/>
                </a:solidFill>
                <a:latin typeface="Tahoma"/>
              </a:rPr>
              <a:t> </a:t>
            </a:r>
            <a:r>
              <a:rPr b="0" lang="pt-BR" sz="3400" spc="-1" strike="noStrike">
                <a:solidFill>
                  <a:srgbClr val="ff0000"/>
                </a:solidFill>
                <a:latin typeface="Tahoma"/>
              </a:rPr>
              <a:t>R$ -35.063.555</a:t>
            </a:r>
            <a:endParaRPr b="0" lang="en-US" sz="3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3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ahoma"/>
              </a:rPr>
              <a:t>Meta Realizada até 04/2014</a:t>
            </a:r>
            <a:endParaRPr b="0" lang="en-US" sz="3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255600" algn="ctr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400" spc="-1" strike="noStrike">
                <a:solidFill>
                  <a:srgbClr val="ff0000"/>
                </a:solidFill>
                <a:latin typeface="Tahoma"/>
              </a:rPr>
              <a:t>R$ 73.945.252</a:t>
            </a:r>
            <a:endParaRPr b="0" lang="en-US" sz="3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684360" y="765000"/>
            <a:ext cx="67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pt-BR" sz="4000" spc="-1" strike="noStrike">
                <a:solidFill>
                  <a:srgbClr val="002060"/>
                </a:solidFill>
                <a:latin typeface="Century Gothic"/>
              </a:rPr>
              <a:t>Resultado Primár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900000" y="68580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entury Gothic"/>
              </a:rPr>
              <a:t>Restos a Pag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57200" y="1928880"/>
          <a:ext cx="6096240" cy="3186000"/>
        </p:xfrm>
        <a:graphic>
          <a:graphicData uri="http://schemas.openxmlformats.org/drawingml/2006/table">
            <a:tbl>
              <a:tblPr/>
              <a:tblGrid>
                <a:gridCol w="4151520"/>
                <a:gridCol w="1944720"/>
              </a:tblGrid>
              <a:tr h="85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RESTOS A PAGAR EM 31/12/201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76b4"/>
                      </a:solidFill>
                    </a:lnL>
                    <a:lnR w="5760">
                      <a:solidFill>
                        <a:srgbClr val="6076b4"/>
                      </a:solidFill>
                    </a:lnR>
                    <a:lnT w="5760">
                      <a:solidFill>
                        <a:srgbClr val="6076b4"/>
                      </a:solidFill>
                    </a:lnT>
                    <a:lnB w="12240">
                      <a:solidFill>
                        <a:srgbClr val="6076b4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42.138.37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76b4"/>
                      </a:solidFill>
                    </a:lnL>
                    <a:lnR w="5760">
                      <a:solidFill>
                        <a:srgbClr val="6076b4"/>
                      </a:solidFill>
                    </a:lnR>
                    <a:lnT w="5760">
                      <a:solidFill>
                        <a:srgbClr val="6076b4"/>
                      </a:solidFill>
                    </a:lnT>
                    <a:lnB w="12240">
                      <a:solidFill>
                        <a:srgbClr val="6076b4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3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RESTOS CANCELADOS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76b4"/>
                      </a:solidFill>
                    </a:lnL>
                    <a:lnR w="5760">
                      <a:solidFill>
                        <a:srgbClr val="6076b4"/>
                      </a:solidFill>
                    </a:lnR>
                    <a:lnT w="12240">
                      <a:solidFill>
                        <a:srgbClr val="6076b4"/>
                      </a:solidFill>
                    </a:lnT>
                    <a:lnB w="5760">
                      <a:solidFill>
                        <a:srgbClr val="6076b4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844.20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76b4"/>
                      </a:solidFill>
                    </a:lnL>
                    <a:lnR w="5760">
                      <a:solidFill>
                        <a:srgbClr val="6076b4"/>
                      </a:solidFill>
                    </a:lnR>
                    <a:lnT w="12240">
                      <a:solidFill>
                        <a:srgbClr val="6076b4"/>
                      </a:solidFill>
                    </a:lnT>
                    <a:lnB w="5760">
                      <a:solidFill>
                        <a:srgbClr val="6076b4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5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RESTOS PAGOS ATÉ O PERÍODO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76b4"/>
                      </a:solidFill>
                    </a:lnL>
                    <a:lnR w="5760">
                      <a:solidFill>
                        <a:srgbClr val="6076b4"/>
                      </a:solidFill>
                    </a:lnR>
                    <a:lnT w="5760">
                      <a:solidFill>
                        <a:srgbClr val="6076b4"/>
                      </a:solidFill>
                    </a:lnT>
                    <a:lnB w="5760">
                      <a:solidFill>
                        <a:srgbClr val="6076b4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20.166.76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76b4"/>
                      </a:solidFill>
                    </a:lnL>
                    <a:lnR w="5760">
                      <a:solidFill>
                        <a:srgbClr val="6076b4"/>
                      </a:solidFill>
                    </a:lnR>
                    <a:lnT w="5760">
                      <a:solidFill>
                        <a:srgbClr val="6076b4"/>
                      </a:solidFill>
                    </a:lnT>
                    <a:lnB w="5760">
                      <a:solidFill>
                        <a:srgbClr val="6076b4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3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SALDO EM 30/04/2014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76b4"/>
                      </a:solidFill>
                    </a:lnL>
                    <a:lnR w="5760">
                      <a:solidFill>
                        <a:srgbClr val="6076b4"/>
                      </a:solidFill>
                    </a:lnR>
                    <a:lnT w="5760">
                      <a:solidFill>
                        <a:srgbClr val="6076b4"/>
                      </a:solidFill>
                    </a:lnT>
                    <a:lnB w="5760">
                      <a:solidFill>
                        <a:srgbClr val="6076b4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21.127.41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76b4"/>
                      </a:solidFill>
                    </a:lnL>
                    <a:lnR w="5760">
                      <a:solidFill>
                        <a:srgbClr val="6076b4"/>
                      </a:solidFill>
                    </a:lnR>
                    <a:lnT w="5760">
                      <a:solidFill>
                        <a:srgbClr val="6076b4"/>
                      </a:solidFill>
                    </a:lnT>
                    <a:lnB w="5760">
                      <a:solidFill>
                        <a:srgbClr val="6076b4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500040" y="285840"/>
            <a:ext cx="76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entury Gothic"/>
                <a:ea typeface="Lucida Sans Unicode"/>
              </a:rPr>
              <a:t>Aplicação na Educação Bás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60820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44"/>
          <p:cNvSpPr/>
          <p:nvPr/>
        </p:nvSpPr>
        <p:spPr>
          <a:xfrm>
            <a:off x="2700360" y="615456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70120" y="2257560"/>
          <a:ext cx="7313400" cy="3036600"/>
        </p:xfrm>
        <a:graphic>
          <a:graphicData uri="http://schemas.openxmlformats.org/drawingml/2006/table">
            <a:tbl>
              <a:tblPr/>
              <a:tblGrid>
                <a:gridCol w="4719600"/>
                <a:gridCol w="2593800"/>
              </a:tblGrid>
              <a:tr h="48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 DE CÁLCU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4.137.93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08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LICAÇÃO MÍNIMA – 2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.034.48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APLICA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.962.80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CENTUAL  DE APLICAÇÃ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,69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4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STOS TOTAIS EM EDUCAÇÃO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– Rec. de impostos e vinculad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.188.657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90" name="Picture 68" descr="MCj04136380000[1]"/>
          <p:cNvPicPr/>
          <p:nvPr/>
        </p:nvPicPr>
        <p:blipFill>
          <a:blip r:embed="rId1"/>
          <a:stretch/>
        </p:blipFill>
        <p:spPr>
          <a:xfrm>
            <a:off x="7667640" y="85680"/>
            <a:ext cx="12034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71680" y="357120"/>
            <a:ext cx="66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entury Gothic"/>
              </a:rPr>
              <a:t>Aplicação Funde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71680" y="2421000"/>
          <a:ext cx="7675560" cy="2981160"/>
        </p:xfrm>
        <a:graphic>
          <a:graphicData uri="http://schemas.openxmlformats.org/drawingml/2006/table">
            <a:tbl>
              <a:tblPr/>
              <a:tblGrid>
                <a:gridCol w="5081400"/>
                <a:gridCol w="2594160"/>
              </a:tblGrid>
              <a:tr h="673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DO ANTERIOR – DEZ 20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333.67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ECADAÇÃO + RENDIMENT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318.39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54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PESAS PAG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947.72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DO FINANCEIRO 30/04/20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4.34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APLIC EM PESSOAL MAGISTÉRIO (Mínimo de 60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pic>
        <p:nvPicPr>
          <p:cNvPr id="194" name="Picture 107" descr="MCj04348100000[1]"/>
          <p:cNvPicPr/>
          <p:nvPr/>
        </p:nvPicPr>
        <p:blipFill>
          <a:blip r:embed="rId1"/>
          <a:stretch/>
        </p:blipFill>
        <p:spPr>
          <a:xfrm>
            <a:off x="6838920" y="312840"/>
            <a:ext cx="1109520" cy="11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127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832200" y="35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816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2060"/>
                </a:solidFill>
                <a:latin typeface="Palatino Linotype"/>
              </a:rPr>
              <a:t>Fundamento Legal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500120" y="1785960"/>
            <a:ext cx="61930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Times New Roman"/>
              </a:rPr>
              <a:t>LC 101/2000, art. 9º, § 4° - Até o final dos meses de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Times New Roman"/>
              </a:rPr>
              <a:t>maio</a:t>
            </a:r>
            <a:r>
              <a:rPr b="1" lang="pt-BR" sz="3000" spc="-1" strike="noStrike">
                <a:solidFill>
                  <a:srgbClr val="000000"/>
                </a:solidFill>
                <a:latin typeface="Times New Roman"/>
              </a:rPr>
              <a:t>, setembro e fevereiro, o    Poder Executivo     demonstrará   e    avaliará o cumprimento das    metas fiscais de cada quadrimestre, em audiência     pública 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60820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43"/>
          <p:cNvSpPr/>
          <p:nvPr/>
        </p:nvSpPr>
        <p:spPr>
          <a:xfrm>
            <a:off x="755640" y="69228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entury Gothic"/>
              </a:rPr>
              <a:t>Aplicação na Saú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611280" y="1986120"/>
          <a:ext cx="7673760" cy="3214440"/>
        </p:xfrm>
        <a:graphic>
          <a:graphicData uri="http://schemas.openxmlformats.org/drawingml/2006/table">
            <a:tbl>
              <a:tblPr/>
              <a:tblGrid>
                <a:gridCol w="5032440"/>
                <a:gridCol w="2641320"/>
              </a:tblGrid>
              <a:tr h="585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 DE CÁLCU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4.137.93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03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LICAÇÃO MÍNIMA – 1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620.69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20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APLICAÇÃ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049.74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94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CENTUAL  DE APLICAÇÃ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,35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10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STOS TOTAIS COM SAÚ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.768.44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200" name="Picture 31" descr="j0196374"/>
          <p:cNvPicPr/>
          <p:nvPr/>
        </p:nvPicPr>
        <p:blipFill>
          <a:blip r:embed="rId1"/>
          <a:stretch/>
        </p:blipFill>
        <p:spPr>
          <a:xfrm>
            <a:off x="6686640" y="415800"/>
            <a:ext cx="1197000" cy="12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74560" y="476280"/>
            <a:ext cx="8569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entury Gothic"/>
              </a:rPr>
              <a:t>Gastos com Pessoal – LR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000" spc="-1" strike="noStrike" u="sng">
                <a:solidFill>
                  <a:srgbClr val="002060"/>
                </a:solidFill>
                <a:uFillTx/>
                <a:latin typeface="Century Gothic"/>
              </a:rPr>
              <a:t>Executiv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60520" y="2492280"/>
          <a:ext cx="8161200" cy="3241800"/>
        </p:xfrm>
        <a:graphic>
          <a:graphicData uri="http://schemas.openxmlformats.org/drawingml/2006/table">
            <a:tbl>
              <a:tblPr/>
              <a:tblGrid>
                <a:gridCol w="5761080"/>
                <a:gridCol w="2400120"/>
              </a:tblGrid>
              <a:tr h="947880">
                <a:tc>
                  <a:txBody>
                    <a:bodyPr lIns="90000" rIns="90000"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 DE CÁLCULO - RCL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7.155.63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503360">
                <a:tc>
                  <a:txBody>
                    <a:bodyPr lIns="90000" rIns="90000" tIns="2844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STOS COM PESSOAL –</a:t>
                      </a: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pt-BR" sz="2700" spc="-1" strike="noStrike">
                          <a:solidFill>
                            <a:srgbClr val="00b050"/>
                          </a:solidFill>
                          <a:latin typeface="Tahoma"/>
                        </a:rPr>
                        <a:t>38,97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ÚLTIMOS 12 MESES – DESPESA LÍQUID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7.652.76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0560">
                <a:tc>
                  <a:txBody>
                    <a:bodyPr lIns="90000" rIns="90000"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MITE PRUDENCIAL – 51,30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0.170.84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205" name="Picture 28" descr=""/>
          <p:cNvPicPr/>
          <p:nvPr/>
        </p:nvPicPr>
        <p:blipFill>
          <a:blip r:embed="rId1"/>
          <a:stretch/>
        </p:blipFill>
        <p:spPr>
          <a:xfrm>
            <a:off x="5464080" y="1341360"/>
            <a:ext cx="27352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539640" y="69228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entury Gothic"/>
              </a:rPr>
              <a:t>Dívida Públ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61960" y="1989000"/>
          <a:ext cx="7777080" cy="313848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3138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Saldo da dívida em 30/04/2014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Saldo da Dívida: – R$ 53.692.23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DCL  - 198.960.58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Percentual   DCL/RCL      - 39,2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tângulo de cantos arredondados 1"/>
          <p:cNvSpPr/>
          <p:nvPr/>
        </p:nvSpPr>
        <p:spPr>
          <a:xfrm>
            <a:off x="1042920" y="836640"/>
            <a:ext cx="7129440" cy="4392720"/>
          </a:xfrm>
          <a:prstGeom prst="roundRect">
            <a:avLst>
              <a:gd name="adj" fmla="val 16667"/>
            </a:avLst>
          </a:prstGeom>
          <a:solidFill>
            <a:srgbClr val="bfc8e1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Palatino Linotype"/>
              </a:rPr>
              <a:t>Os números apresentados apontam para o cumprimento das metas estabelecidas e a manutenção do equilíbrio fisc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Imagem 2" descr="nova-bandeira-e-brasao.jpg"/>
          <p:cNvPicPr/>
          <p:nvPr/>
        </p:nvPicPr>
        <p:blipFill>
          <a:blip r:embed="rId1"/>
          <a:stretch/>
        </p:blipFill>
        <p:spPr>
          <a:xfrm>
            <a:off x="3276720" y="5465880"/>
            <a:ext cx="2396880" cy="11509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3"/>
          <p:cNvSpPr/>
          <p:nvPr/>
        </p:nvSpPr>
        <p:spPr>
          <a:xfrm>
            <a:off x="1332000" y="306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Century Gothic"/>
              </a:rPr>
              <a:t>Audiência Pública LRF - 1º Quadrimestre de 20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539640" y="692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entury Gothic"/>
              </a:rPr>
              <a:t>Publicaçõ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57120" y="1571760"/>
            <a:ext cx="8569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3400" spc="-1" strike="noStrike">
                <a:solidFill>
                  <a:srgbClr val="002060"/>
                </a:solidFill>
                <a:latin typeface="Arial"/>
              </a:rPr>
              <a:t>Site: </a:t>
            </a:r>
            <a:r>
              <a:rPr b="0" lang="pt-BR" sz="34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www.balneariocamboriu.sc.gov.br</a:t>
            </a:r>
            <a:r>
              <a:rPr b="0" lang="pt-BR" sz="3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002060"/>
                </a:solidFill>
                <a:latin typeface="Arial"/>
              </a:rPr>
              <a:t>   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3400" spc="-1" strike="noStrike">
                <a:solidFill>
                  <a:srgbClr val="002060"/>
                </a:solidFill>
                <a:latin typeface="Arial"/>
              </a:rPr>
              <a:t>Jornal Diarinho do Litoral - 30/05/2014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00206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623880" y="836640"/>
            <a:ext cx="8269200" cy="54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Garamond"/>
              </a:rPr>
              <a:t>Audiência Pública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404040"/>
                </a:solidFill>
                <a:latin typeface="Tahoma"/>
              </a:rPr>
              <a:t>“</a:t>
            </a:r>
            <a:r>
              <a:rPr b="0" lang="pt-BR" sz="2600" spc="-1" strike="noStrike">
                <a:solidFill>
                  <a:srgbClr val="404040"/>
                </a:solidFill>
                <a:latin typeface="Tahoma"/>
              </a:rPr>
              <a:t>Demonstração e Avaliação do Cumprimento das Metas Fiscais: 1º Quadrimestre de 2014”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b050"/>
                </a:solidFill>
                <a:latin typeface="Tahoma"/>
              </a:rPr>
              <a:t>OBRIGADO PELA PRESENÇ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Apresentaçã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Secretaria da Fazen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Liliane Maria Novaes – Assessora Contáb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Imagem 2" descr="nova-bandeira-e-brasao.jpg"/>
          <p:cNvPicPr/>
          <p:nvPr/>
        </p:nvPicPr>
        <p:blipFill>
          <a:blip r:embed="rId1"/>
          <a:stretch/>
        </p:blipFill>
        <p:spPr>
          <a:xfrm>
            <a:off x="5942160" y="549360"/>
            <a:ext cx="239688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5127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Text Box 4"/>
          <p:cNvGrpSpPr/>
          <p:nvPr/>
        </p:nvGrpSpPr>
        <p:grpSpPr>
          <a:xfrm>
            <a:off x="1712880" y="3949560"/>
            <a:ext cx="6577200" cy="2511720"/>
            <a:chOff x="1712880" y="3949560"/>
            <a:chExt cx="6577200" cy="2511720"/>
          </a:xfrm>
        </p:grpSpPr>
        <p:pic>
          <p:nvPicPr>
            <p:cNvPr id="113" name="Text Box 4" descr=""/>
            <p:cNvPicPr/>
            <p:nvPr/>
          </p:nvPicPr>
          <p:blipFill>
            <a:blip r:embed="rId1"/>
            <a:stretch/>
          </p:blipFill>
          <p:spPr>
            <a:xfrm>
              <a:off x="1712880" y="3949560"/>
              <a:ext cx="6577200" cy="251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000160" y="4214880"/>
              <a:ext cx="600084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000" spc="-1" strike="noStrike">
                  <a:solidFill>
                    <a:srgbClr val="ffffff"/>
                  </a:solidFill>
                  <a:latin typeface="Times New Roman"/>
                </a:rPr>
                <a:t>PERMITIR QUE A SOCIEDADE CONHEÇA, ACOMPANHE E ANALISE O DESEMPENHO DOS SEUS GOVERNANTES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Text Box 5"/>
          <p:cNvSpPr/>
          <p:nvPr/>
        </p:nvSpPr>
        <p:spPr>
          <a:xfrm>
            <a:off x="3832200" y="35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7264440" cy="73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2060"/>
                </a:solidFill>
                <a:latin typeface="Palatino Linotype"/>
              </a:rPr>
              <a:t>OBJETIVOS DA AUDIÊNCIA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7" name="Picture 20" descr="C:\Documents and Settings\apoleza\Configurações locais\Temporary Internet Files\Content.IE5\T4KPIBYH\MC900297143[1].wmf"/>
          <p:cNvPicPr/>
          <p:nvPr/>
        </p:nvPicPr>
        <p:blipFill>
          <a:blip r:embed="rId2"/>
          <a:stretch/>
        </p:blipFill>
        <p:spPr>
          <a:xfrm rot="391800">
            <a:off x="0" y="1428840"/>
            <a:ext cx="1854360" cy="1824120"/>
          </a:xfrm>
          <a:prstGeom prst="rect">
            <a:avLst/>
          </a:prstGeom>
          <a:ln w="0">
            <a:noFill/>
          </a:ln>
        </p:spPr>
      </p:pic>
      <p:sp>
        <p:nvSpPr>
          <p:cNvPr id="118" name="Retângulo 10"/>
          <p:cNvSpPr/>
          <p:nvPr/>
        </p:nvSpPr>
        <p:spPr>
          <a:xfrm>
            <a:off x="1928880" y="928800"/>
            <a:ext cx="6286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aior transparência dos atos do Govern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estação de contas à populaçã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cilitar o acesso às informações públic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ivulgação dos resultados de forma mais clara e simplifica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80680" y="178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2060"/>
                </a:solidFill>
                <a:latin typeface="Palatino Linotype"/>
              </a:rPr>
              <a:t>ABORDAGENS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127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908000" y="1557360"/>
          <a:ext cx="2664000" cy="1235160"/>
        </p:xfrm>
        <a:graphic>
          <a:graphicData uri="http://schemas.openxmlformats.org/drawingml/2006/table">
            <a:tbl>
              <a:tblPr/>
              <a:tblGrid>
                <a:gridCol w="2664000"/>
              </a:tblGrid>
              <a:tr h="12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ORÇAMENTO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c525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127480" y="1773360"/>
          <a:ext cx="2808360" cy="158436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58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RECEITAS E DESPESAS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bd95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826920" y="3141720"/>
          <a:ext cx="2953080" cy="2276280"/>
        </p:xfrm>
        <a:graphic>
          <a:graphicData uri="http://schemas.openxmlformats.org/drawingml/2006/table">
            <a:tbl>
              <a:tblPr/>
              <a:tblGrid>
                <a:gridCol w="2953080"/>
              </a:tblGrid>
              <a:tr h="2276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1160"/>
                          <a:tab algn="l" pos="1825560"/>
                          <a:tab algn="l" pos="2739960"/>
                          <a:tab algn="l" pos="3654360"/>
                          <a:tab algn="l" pos="4568760"/>
                          <a:tab algn="l" pos="5483160"/>
                          <a:tab algn="l" pos="6397560"/>
                          <a:tab algn="l" pos="7311960"/>
                          <a:tab algn="l" pos="8226360"/>
                          <a:tab algn="l" pos="9140760"/>
                          <a:tab algn="l" pos="1005516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1160"/>
                          <a:tab algn="l" pos="1825560"/>
                          <a:tab algn="l" pos="2739960"/>
                          <a:tab algn="l" pos="3654360"/>
                          <a:tab algn="l" pos="4568760"/>
                          <a:tab algn="l" pos="5483160"/>
                          <a:tab algn="l" pos="6397560"/>
                          <a:tab algn="l" pos="7311960"/>
                          <a:tab algn="l" pos="8226360"/>
                          <a:tab algn="l" pos="9140760"/>
                          <a:tab algn="l" pos="1005516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METAS PREVISTAS E EXECUTADAS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5560"/>
                          <a:tab algn="l" pos="2739960"/>
                          <a:tab algn="l" pos="3654360"/>
                          <a:tab algn="l" pos="4568760"/>
                          <a:tab algn="l" pos="5483160"/>
                          <a:tab algn="l" pos="6397560"/>
                          <a:tab algn="l" pos="7311960"/>
                          <a:tab algn="l" pos="8226360"/>
                          <a:tab algn="l" pos="9140760"/>
                          <a:tab algn="l" pos="1005516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532400" y="4076640"/>
          <a:ext cx="2735280" cy="1440000"/>
        </p:xfrm>
        <a:graphic>
          <a:graphicData uri="http://schemas.openxmlformats.org/drawingml/2006/table">
            <a:tbl>
              <a:tblPr/>
              <a:tblGrid>
                <a:gridCol w="2735280"/>
              </a:tblGrid>
              <a:tr h="1440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1160"/>
                          <a:tab algn="l" pos="1825560"/>
                          <a:tab algn="l" pos="2739960"/>
                          <a:tab algn="l" pos="3654360"/>
                          <a:tab algn="l" pos="4568760"/>
                          <a:tab algn="l" pos="5483160"/>
                          <a:tab algn="l" pos="6397560"/>
                          <a:tab algn="l" pos="7311960"/>
                          <a:tab algn="l" pos="8226360"/>
                          <a:tab algn="l" pos="9140760"/>
                          <a:tab algn="l" pos="1005516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1160"/>
                          <a:tab algn="l" pos="1825560"/>
                          <a:tab algn="l" pos="2739960"/>
                          <a:tab algn="l" pos="3654360"/>
                          <a:tab algn="l" pos="4568760"/>
                          <a:tab algn="l" pos="5483160"/>
                          <a:tab algn="l" pos="6397560"/>
                          <a:tab algn="l" pos="7311960"/>
                          <a:tab algn="l" pos="8226360"/>
                          <a:tab algn="l" pos="9140760"/>
                          <a:tab algn="l" pos="1005516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GESTÃO FISCAL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3640" y="108000"/>
            <a:ext cx="828036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t-BR" sz="3600" spc="-1" strike="noStrike">
                <a:solidFill>
                  <a:srgbClr val="002060"/>
                </a:solidFill>
                <a:latin typeface="Palatino Linotype"/>
              </a:rPr>
              <a:t>Desempenho da Receita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9640" y="2060640"/>
          <a:ext cx="8139240" cy="2612880"/>
        </p:xfrm>
        <a:graphic>
          <a:graphicData uri="http://schemas.openxmlformats.org/drawingml/2006/table">
            <a:tbl>
              <a:tblPr/>
              <a:tblGrid>
                <a:gridCol w="2090880"/>
                <a:gridCol w="2165400"/>
                <a:gridCol w="2023920"/>
                <a:gridCol w="1859040"/>
              </a:tblGrid>
              <a:tr h="506520"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ceit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revis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rrecada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ferenç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  <a:tr h="71244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rrente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90.961.45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07.165.89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6.204.4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api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5.000.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7.449.1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-7.550.83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05.961.45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14.605.0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8.653.6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130" name="Object 40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1514520" cy="1428840"/>
          </a:xfrm>
          <a:prstGeom prst="rect">
            <a:avLst/>
          </a:prstGeom>
          <a:ln w="0">
            <a:noFill/>
          </a:ln>
        </p:spPr>
      </p:pic>
      <p:grpSp>
        <p:nvGrpSpPr>
          <p:cNvPr id="131" name="CaixaDeTexto 9"/>
          <p:cNvGrpSpPr/>
          <p:nvPr/>
        </p:nvGrpSpPr>
        <p:grpSpPr>
          <a:xfrm>
            <a:off x="1652760" y="5241960"/>
            <a:ext cx="6242040" cy="641160"/>
            <a:chOff x="1652760" y="5241960"/>
            <a:chExt cx="6242040" cy="641160"/>
          </a:xfrm>
        </p:grpSpPr>
        <p:pic>
          <p:nvPicPr>
            <p:cNvPr id="132" name="CaixaDeTexto 9" descr=""/>
            <p:cNvPicPr/>
            <p:nvPr/>
          </p:nvPicPr>
          <p:blipFill>
            <a:blip r:embed="rId2"/>
            <a:stretch/>
          </p:blipFill>
          <p:spPr>
            <a:xfrm>
              <a:off x="1652760" y="5241960"/>
              <a:ext cx="624204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708200" y="5300640"/>
              <a:ext cx="613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pt-BR" sz="2000" spc="-1" strike="noStrike">
                  <a:solidFill>
                    <a:srgbClr val="002060"/>
                  </a:solidFill>
                  <a:latin typeface="Palatino Linotype"/>
                </a:rPr>
                <a:t>Média mensal de arrecadação:     53.653.76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3640" y="108000"/>
            <a:ext cx="85690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2060"/>
                </a:solidFill>
                <a:latin typeface="Palatino Linotype"/>
              </a:rPr>
              <a:t>Gráfico Comparativo da Receita</a:t>
            </a:r>
            <a:br>
              <a:rPr sz="3600"/>
            </a:br>
            <a:r>
              <a:rPr b="0" lang="pt-BR" sz="2800" spc="-1" strike="noStrike">
                <a:solidFill>
                  <a:srgbClr val="002060"/>
                </a:solidFill>
                <a:latin typeface="Palatino Linotype"/>
              </a:rPr>
              <a:t>1º Quadrimestre de 2014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5" name="CaixaDeTexto 3"/>
          <p:cNvSpPr/>
          <p:nvPr/>
        </p:nvSpPr>
        <p:spPr>
          <a:xfrm>
            <a:off x="1692360" y="5011560"/>
            <a:ext cx="5904000" cy="10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200" spc="-1" strike="noStrike">
                <a:solidFill>
                  <a:srgbClr val="002060"/>
                </a:solidFill>
                <a:latin typeface="Arial"/>
              </a:rPr>
              <a:t>Valor do Orçamento:     R$ 655.583.25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200" spc="-1" strike="noStrike">
                <a:solidFill>
                  <a:srgbClr val="002060"/>
                </a:solidFill>
                <a:latin typeface="Arial"/>
              </a:rPr>
              <a:t>Valor Arrecadado:         R$ 214.615.05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200" spc="-1" strike="noStrike">
                <a:solidFill>
                  <a:srgbClr val="002060"/>
                </a:solidFill>
                <a:latin typeface="Arial"/>
              </a:rPr>
              <a:t>Valor a Arrecadar:         R$ 440.968.19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Gráfico 5" descr=""/>
          <p:cNvPicPr/>
          <p:nvPr/>
        </p:nvPicPr>
        <p:blipFill>
          <a:blip r:embed="rId1"/>
          <a:stretch/>
        </p:blipFill>
        <p:spPr>
          <a:xfrm>
            <a:off x="1695600" y="1268280"/>
            <a:ext cx="5900760" cy="37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2060"/>
                </a:solidFill>
                <a:latin typeface="Palatino Linotype"/>
              </a:rPr>
              <a:t>Evolução da Receita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8" name="CaixaDeTexto 2"/>
          <p:cNvSpPr/>
          <p:nvPr/>
        </p:nvSpPr>
        <p:spPr>
          <a:xfrm>
            <a:off x="691200" y="6714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ilhõ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Gráfico 4" descr=""/>
          <p:cNvPicPr/>
          <p:nvPr/>
        </p:nvPicPr>
        <p:blipFill>
          <a:blip r:embed="rId1"/>
          <a:stretch/>
        </p:blipFill>
        <p:spPr>
          <a:xfrm>
            <a:off x="682560" y="1017720"/>
            <a:ext cx="7632720" cy="47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08056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Palatino Linotype"/>
              </a:rPr>
              <a:t>Origem das Receitas – Até Abril/14 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71640" y="681120"/>
          <a:ext cx="7129440" cy="5578560"/>
        </p:xfrm>
        <a:graphic>
          <a:graphicData uri="http://schemas.openxmlformats.org/drawingml/2006/table">
            <a:tbl>
              <a:tblPr/>
              <a:tblGrid>
                <a:gridCol w="3673440"/>
                <a:gridCol w="2232000"/>
                <a:gridCol w="1224000"/>
              </a:tblGrid>
              <a:tr h="443520">
                <a:tc>
                  <a:txBody>
                    <a:bodyPr lIns="9360" rIns="9360" tIns="108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ceita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108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rrecadad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108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43520">
                <a:tc>
                  <a:txBody>
                    <a:bodyPr lIns="85680" rIns="9360" tIns="108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ributo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08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4.734.58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08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4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85680" rIns="9360" tIns="108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ntribuiçõe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08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.822.55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08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85680" rIns="9360" tIns="108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ndas Patrimoniai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08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.411.43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08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85680" rIns="9360" tIns="108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erviço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08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.640.5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08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85680" rIns="9360" tIns="108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ransf. da Uniã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08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.442.43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08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85680" rIns="9360" tIns="108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ransf. do Estad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08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.777.74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08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85680" rIns="9360" tIns="108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undeb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08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.239.35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08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85680" rIns="9360" tIns="108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nvênios e Operação Cred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08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778.19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08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85680" rIns="9360" tIns="108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per Urbana e Solo Criad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08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.426.58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08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85680" rIns="9360" tIns="108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mais Receita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08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.341.60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08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85680" rIns="9360" tIns="108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85680" tIns="108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4.615.05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108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,0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08056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2060"/>
                </a:solidFill>
                <a:latin typeface="Palatino Linotype"/>
              </a:rPr>
              <a:t>Tributos Arrecadados – </a:t>
            </a:r>
            <a:r>
              <a:rPr b="0" lang="pt-BR" sz="3300" spc="-1" strike="noStrike">
                <a:solidFill>
                  <a:srgbClr val="002060"/>
                </a:solidFill>
                <a:latin typeface="Palatino Linotype"/>
              </a:rPr>
              <a:t>Até Abril/14 </a:t>
            </a:r>
            <a:endParaRPr b="0" lang="en-US" sz="33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835280" y="4797360"/>
          <a:ext cx="5867280" cy="754200"/>
        </p:xfrm>
        <a:graphic>
          <a:graphicData uri="http://schemas.openxmlformats.org/drawingml/2006/table">
            <a:tbl>
              <a:tblPr/>
              <a:tblGrid>
                <a:gridCol w="1172880"/>
                <a:gridCol w="1173240"/>
                <a:gridCol w="1174680"/>
                <a:gridCol w="1173240"/>
                <a:gridCol w="1173240"/>
              </a:tblGrid>
              <a:tr h="382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IPTU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IRRF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ITB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IS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TAXA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60.780.08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.454.63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3.488.49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2.227.74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5.624.31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146" name="CaixaDeTexto 1"/>
          <p:cNvSpPr/>
          <p:nvPr/>
        </p:nvSpPr>
        <p:spPr>
          <a:xfrm>
            <a:off x="1284480" y="5996160"/>
            <a:ext cx="67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s tributos representam 44% do total arrecadado no perío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Gráfico 7" descr=""/>
          <p:cNvPicPr/>
          <p:nvPr/>
        </p:nvPicPr>
        <p:blipFill>
          <a:blip r:embed="rId1"/>
          <a:stretch/>
        </p:blipFill>
        <p:spPr>
          <a:xfrm>
            <a:off x="1603440" y="476280"/>
            <a:ext cx="5692680" cy="424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4:57:28Z</dcterms:created>
  <dc:creator>apoleza</dc:creator>
  <dc:description/>
  <dc:language>en-US</dc:language>
  <cp:lastModifiedBy>Adeline Poleza</cp:lastModifiedBy>
  <dcterms:modified xsi:type="dcterms:W3CDTF">2014-05-28T21:38:38Z</dcterms:modified>
  <cp:revision>370</cp:revision>
  <dc:subject/>
  <dc:title>AVALIAÇÃO DAS METAS  2º QUADRIMESTRE 2007</dc:title>
</cp:coreProperties>
</file>